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Notizenplatzhalter 4"/>
          <p:cNvSpPr/>
          <p:nvPr/>
        </p:nvSpPr>
        <p:spPr>
          <a:xfrm>
            <a:off x="685800" y="357120"/>
            <a:ext cx="5486400" cy="810108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Nachteilsausgleich</a:t>
            </a:r>
            <a:endParaRPr b="0" lang="en-US" sz="2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rtbildungsveranstaltung:</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gasthenie: Weiterführende Ausbildung A</a:t>
            </a:r>
            <a:endParaRPr b="0" lang="en-US" sz="14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r Legasthenietandems</a:t>
            </a: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atliche Realschule Memmingen</a:t>
            </a: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ntag, 03.Mai 2010</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ent: RSL, German Heindl (Legastheniebeauftragter)</a:t>
            </a: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hteck 5"/>
          <p:cNvSpPr/>
          <p:nvPr/>
        </p:nvSpPr>
        <p:spPr>
          <a:xfrm>
            <a:off x="714240" y="3500280"/>
            <a:ext cx="557244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ische Maßnahmen zum Nachteilsausgle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schreib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ungsschwerpunkte mit Eltern besprechen, Empfehlung von Fördermaterial (z. B. Lernkartei, PC-Programme, geeignetes Lerntra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zur Erledigung von Hausaufgaben mit dem Compu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in Absprache mit den Eltern (z. B. PC-Programme, Lesefenster, Lesep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ate als Leseanrei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emdspra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pfehlung von Fördermaterial (z. B. CD zum Buch, PC-Programme,Rechtschreibtrainer, Schulaufgabentrainer, Lernkartei, Vokabelprogram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geme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laubnis mit dem Bleistift zu schrei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einen bestimmten Teil der Hausaufgabe „in Schönschrift“ anzuferti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einbarung mit dem Schüler, jeweils eine Zeile frei zu lass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wendung technischer Hilfsmittel (z. B. P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pien von Overhead-Folien/Tafelanschriften zugänglich mach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tzung methodisch-didaktischer Hilfen (z.B. Lesepfe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hteck 6"/>
          <p:cNvSpPr/>
          <p:nvPr/>
        </p:nvSpPr>
        <p:spPr>
          <a:xfrm>
            <a:off x="714240" y="642960"/>
            <a:ext cx="5000760" cy="31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MBek 16.11.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1200" spc="-1" strike="noStrike">
                <a:solidFill>
                  <a:srgbClr val="000000"/>
                </a:solidFill>
                <a:latin typeface="Arial"/>
              </a:rPr>
              <a:t>Zeitzuschlags</a:t>
            </a:r>
            <a:r>
              <a:rPr b="0" lang="de-DE" sz="1200" spc="-1" strike="noStrike">
                <a:solidFill>
                  <a:srgbClr val="000000"/>
                </a:solidFill>
                <a:latin typeface="Arial"/>
              </a:rPr>
              <a:t> richtet sich nach Art und Ausmaß der Störung. </a:t>
            </a:r>
            <a:r>
              <a:rPr b="1" lang="de-DE" sz="1200" spc="-1" strike="noStrike">
                <a:solidFill>
                  <a:srgbClr val="000000"/>
                </a:solidFill>
                <a:latin typeface="Arial"/>
              </a:rPr>
              <a:t>Er wird auf Empfehlung der fachlich zuständigen Lehrkräfte vom Schulleiter festgeleg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hteck 6"/>
          <p:cNvSpPr/>
          <p:nvPr/>
        </p:nvSpPr>
        <p:spPr>
          <a:xfrm>
            <a:off x="785880" y="857160"/>
            <a:ext cx="55720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nzentr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gungsmöglichkeiten während des Unterrichts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Ordnung am Arbeitsplatz ach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platz im näheren Umfeld der Lehrkräf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lare Strukturierung von Arbeitsblättern  (z. B. keine Bilder, Hintergründe)</a:t>
            </a:r>
            <a:endParaRPr b="0" lang="en-US" sz="1200" spc="-1" strike="noStrike">
              <a:solidFill>
                <a:srgbClr val="000000"/>
              </a:solidFill>
              <a:latin typeface="Arial"/>
            </a:endParaRPr>
          </a:p>
        </p:txBody>
      </p:sp>
      <p:sp>
        <p:nvSpPr>
          <p:cNvPr id="86" name="Rechteck 8"/>
          <p:cNvSpPr/>
          <p:nvPr/>
        </p:nvSpPr>
        <p:spPr>
          <a:xfrm>
            <a:off x="785880" y="2351160"/>
            <a:ext cx="528624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üfungsangst/Vermeidungsverhalten</a:t>
            </a:r>
            <a:r>
              <a:rPr b="1"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dividuelle Fortschritte hervorheb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b &amp; Ermunterung auch bei kleinen Leistungsfortschritt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tragung kleinerer Aufgaben innerhalb der Klasse zur Stärkung des     Selbstvertraue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sondere Hervorhebung der Problematik innerhalb der Klasse</a:t>
            </a:r>
            <a:endParaRPr b="0" lang="en-US" sz="1200" spc="-1" strike="noStrike">
              <a:solidFill>
                <a:srgbClr val="000000"/>
              </a:solidFill>
              <a:latin typeface="Arial"/>
            </a:endParaRPr>
          </a:p>
        </p:txBody>
      </p:sp>
      <p:sp>
        <p:nvSpPr>
          <p:cNvPr id="87" name="Rechteck 9"/>
          <p:cNvSpPr/>
          <p:nvPr/>
        </p:nvSpPr>
        <p:spPr>
          <a:xfrm>
            <a:off x="785880" y="3929040"/>
            <a:ext cx="492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s für die Praxis </a:t>
            </a:r>
            <a:r>
              <a:rPr b="1" lang="de-DE" sz="1800" spc="-1" strike="noStrike">
                <a:solidFill>
                  <a:srgbClr val="000000"/>
                </a:solidFill>
                <a:latin typeface="Symbol"/>
                <a:ea typeface="Symbol"/>
              </a:rPr>
              <a:t></a:t>
            </a:r>
            <a:r>
              <a:rPr b="1" lang="de-DE" sz="1800" spc="-1" strike="noStrike">
                <a:solidFill>
                  <a:srgbClr val="000000"/>
                </a:solidFill>
                <a:latin typeface="Arial"/>
              </a:rPr>
              <a:t> NTA</a:t>
            </a:r>
            <a:endParaRPr b="0" lang="en-US" sz="1800" spc="-1" strike="noStrike">
              <a:solidFill>
                <a:srgbClr val="000000"/>
              </a:solidFill>
              <a:latin typeface="Arial"/>
            </a:endParaRPr>
          </a:p>
        </p:txBody>
      </p:sp>
      <p:sp>
        <p:nvSpPr>
          <p:cNvPr id="88" name="Rechteck 10"/>
          <p:cNvSpPr/>
          <p:nvPr/>
        </p:nvSpPr>
        <p:spPr>
          <a:xfrm>
            <a:off x="785880" y="4429080"/>
            <a:ext cx="5500800" cy="386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riftliche Aufgab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lagen vergrößer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üfungstexte als Hörtext präsentie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as Weglassen von Teilaufgaben (-&gt; Textarbei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Term statt Textaufgab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in) animieren Zeitzuschlag zu nu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jeder Arbeit vermerken wenn Zeitzuschlag nicht genutzt wurd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chübergreifend im gleichen Umfang gewähr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aufgaben  vor bzw. nach Pause ansetz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 (Störung bei Verlassen des Rau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allgeme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zordn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parater  Raum (Vorlesen der Angab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prüfung Fremdsprach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örverständn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x. 50% Zeitzuschlag im Voraus (Lesen der Aufgabenstell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 Zeitzuschlag im Anschluss (KMS 26.04.2005)</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hteck 6"/>
          <p:cNvSpPr/>
          <p:nvPr/>
        </p:nvSpPr>
        <p:spPr>
          <a:xfrm>
            <a:off x="857160" y="714240"/>
            <a:ext cx="50720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ögliche Maßnahme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zuschla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lesen der Aufgabenstellunge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ündliche Aufgabenstellung statt schriftlicher Erarbeitu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fferenzierte Aufgabenstellung (z.B. Reduzierung des Aufgabenbereichs), die dem individuellen Lernstand angepasst si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Maßnahmen müssen bei Bedarf kombiniert und addie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rden, um einen tatsächlichen Ausgleich des Nachteils z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reic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hteck 7"/>
          <p:cNvSpPr/>
          <p:nvPr/>
        </p:nvSpPr>
        <p:spPr>
          <a:xfrm>
            <a:off x="907920" y="334476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Maßnahmen</a:t>
            </a:r>
            <a:endParaRPr b="0" lang="en-US" sz="1600" spc="-1" strike="noStrike">
              <a:solidFill>
                <a:srgbClr val="000000"/>
              </a:solidFill>
              <a:latin typeface="Arial"/>
            </a:endParaRPr>
          </a:p>
        </p:txBody>
      </p:sp>
      <p:sp>
        <p:nvSpPr>
          <p:cNvPr id="91" name="Rechteck 8"/>
          <p:cNvSpPr/>
          <p:nvPr/>
        </p:nvSpPr>
        <p:spPr>
          <a:xfrm>
            <a:off x="928800" y="3693960"/>
            <a:ext cx="46432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legen eines NTA-Blatts im Legasthenieordn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der Eltern von Schülern, deren NTA ausläuf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 von Kollegen über Maßnahmen zum NTA</a:t>
            </a:r>
            <a:endParaRPr b="0" lang="en-US" sz="1200" spc="-1" strike="noStrike">
              <a:solidFill>
                <a:srgbClr val="000000"/>
              </a:solidFill>
              <a:latin typeface="Arial"/>
            </a:endParaRPr>
          </a:p>
        </p:txBody>
      </p:sp>
      <p:sp>
        <p:nvSpPr>
          <p:cNvPr id="92" name="Rechteck 9"/>
          <p:cNvSpPr/>
          <p:nvPr/>
        </p:nvSpPr>
        <p:spPr>
          <a:xfrm>
            <a:off x="928800" y="4944960"/>
            <a:ext cx="5214960" cy="44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rrektur schriftlicher Arbeite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keine einheitliche und damit verbindliche oder allgemeingültige  Korrekturschablo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tale Objektivität in der Korrektur ist nicht möglic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hlereinschätzung und Bewertung hängen auch vom Problembewusstsein des Lehrers ab.</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eder Fall muss </a:t>
            </a:r>
            <a:r>
              <a:rPr b="1" lang="de-DE" sz="1200" spc="-1" strike="noStrike" u="sng">
                <a:solidFill>
                  <a:srgbClr val="000000"/>
                </a:solidFill>
                <a:uFillTx/>
                <a:latin typeface="Arial"/>
              </a:rPr>
              <a:t>individuell</a:t>
            </a:r>
            <a:r>
              <a:rPr b="1" lang="de-DE" sz="1200" spc="-1" strike="noStrike">
                <a:solidFill>
                  <a:srgbClr val="000000"/>
                </a:solidFill>
                <a:latin typeface="Arial"/>
              </a:rPr>
              <a:t> korrigiert werd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ädagogischen Freiraum nutz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pfehlungen zur Korrekt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kennbare Strukturprobleme, z.B. falsche Zeiten sind zu wert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töße gegen erlernbare Regeln sind zu werten, z.B. Pluralbild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und Eltern müssen eindeutig nachvollziehen können, wel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hler aufgrund der Legasthenie nicht gewertet wu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785880" y="357120"/>
          <a:ext cx="5715000" cy="714600"/>
        </p:xfrm>
        <a:graphic>
          <a:graphicData uri="http://schemas.openxmlformats.org/drawingml/2006/table">
            <a:tbl>
              <a:tblPr/>
              <a:tblGrid>
                <a:gridCol w="5715000"/>
              </a:tblGrid>
              <a:tr h="71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tenberechnung laut Nachtrag zum KMS vom 28.05.200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94" name="Rechteck 6"/>
          <p:cNvSpPr/>
          <p:nvPr/>
        </p:nvSpPr>
        <p:spPr>
          <a:xfrm>
            <a:off x="857160" y="1479600"/>
            <a:ext cx="5786640" cy="734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Fremdsprachen </a:t>
            </a:r>
            <a:r>
              <a:rPr b="0" lang="de-DE" sz="14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Engli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einfa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6+4+5+4+3+1+5+4+1+3+2+5+3+2+4+3 = 5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55:16 = 3,44 = Not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ie </a:t>
            </a:r>
            <a:r>
              <a:rPr b="1" lang="de-DE" sz="1400" spc="-1" strike="noStrike">
                <a:solidFill>
                  <a:srgbClr val="000000"/>
                </a:solidFill>
                <a:latin typeface="Arial"/>
              </a:rPr>
              <a:t>nichtfremdsprachlichen Fächer </a:t>
            </a:r>
            <a:r>
              <a:rPr b="0" lang="de-DE" sz="14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Deut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aufgaben: </a:t>
            </a:r>
            <a:r>
              <a:rPr b="1" lang="de-DE" sz="1400" spc="-1" strike="noStrike">
                <a:solidFill>
                  <a:srgbClr val="000000"/>
                </a:solidFill>
                <a:latin typeface="Arial"/>
              </a:rPr>
              <a:t>	</a:t>
            </a:r>
            <a:r>
              <a:rPr b="1" lang="de-DE" sz="1400" spc="-1" strike="noStrike">
                <a:solidFill>
                  <a:srgbClr val="000000"/>
                </a:solidFill>
                <a:latin typeface="Arial"/>
              </a:rPr>
              <a:t>6/4/5/4 (zählen dopp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greifaufgaben: </a:t>
            </a:r>
            <a:r>
              <a:rPr b="1" lang="de-DE" sz="1400" spc="-1" strike="noStrike">
                <a:solidFill>
                  <a:srgbClr val="000000"/>
                </a:solidFill>
                <a:latin typeface="Arial"/>
              </a:rPr>
              <a:t>	</a:t>
            </a:r>
            <a:r>
              <a:rPr b="1" lang="de-DE" sz="1400" spc="-1" strike="noStrike">
                <a:solidFill>
                  <a:srgbClr val="000000"/>
                </a:solidFill>
                <a:latin typeface="Arial"/>
              </a:rPr>
              <a:t>3/1/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ündliche Noten: </a:t>
            </a:r>
            <a:r>
              <a:rPr b="1" lang="de-DE" sz="1400" spc="-1" strike="noStrike">
                <a:solidFill>
                  <a:srgbClr val="000000"/>
                </a:solidFill>
                <a:latin typeface="Arial"/>
              </a:rPr>
              <a:t>	</a:t>
            </a:r>
            <a:r>
              <a:rPr b="1" lang="de-DE" sz="1400" spc="-1" strike="noStrike">
                <a:solidFill>
                  <a:srgbClr val="000000"/>
                </a:solidFill>
                <a:latin typeface="Arial"/>
              </a:rPr>
              <a:t>1/3/2/5/3/2/4/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amtnote: </a:t>
            </a:r>
            <a:r>
              <a:rPr b="1" lang="de-DE" sz="1400" spc="-1" strike="noStrike">
                <a:solidFill>
                  <a:srgbClr val="000000"/>
                </a:solidFill>
                <a:latin typeface="Arial"/>
              </a:rPr>
              <a:t>	</a:t>
            </a:r>
            <a:r>
              <a:rPr b="1" lang="de-DE" sz="1400" spc="-1" strike="noStrike">
                <a:solidFill>
                  <a:srgbClr val="000000"/>
                </a:solidFill>
                <a:latin typeface="Arial"/>
              </a:rPr>
              <a:t>12+8+10+8+3+1+5+4+1+3+2+5+3+2+4+3 = 7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74:20 = 3,70 = Note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5C576-E7C5-4C4D-9F5A-151C6A7A7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FA103-0BA8-48C7-A287-71356CC8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2E187-19EC-4D3C-ADC3-BEFCA851B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CC2A-562C-41BD-BB86-00182B14D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5282-6427-4532-8117-65AC77F3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33A0B-EA12-4E54-86B4-F37D96D2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541C9-8226-48A0-83F9-76CA0C969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32A57-1B06-4581-93AD-0D121529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AA11-3167-4773-A727-1359C570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F350-CFA6-443A-839A-F2394BD9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7BAB-DB8A-40E6-BCCE-068B31630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834D-A578-4164-82E0-67379482D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3776-FD1C-413A-A1CE-5858CDABCE2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752120" y="274680"/>
            <a:ext cx="5627880" cy="706320"/>
          </a:xfrm>
          <a:prstGeom prst="rect">
            <a:avLst/>
          </a:prstGeom>
          <a:solidFill>
            <a:srgbClr val="cc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Gliederung</a:t>
            </a:r>
            <a:endParaRPr b="0" lang="en-US" sz="4000" spc="-1" strike="noStrike">
              <a:solidFill>
                <a:srgbClr val="000000"/>
              </a:solidFill>
              <a:latin typeface="Arial"/>
            </a:endParaRPr>
          </a:p>
        </p:txBody>
      </p:sp>
      <p:sp>
        <p:nvSpPr>
          <p:cNvPr id="45" name="PlaceHolder 2"/>
          <p:cNvSpPr>
            <a:spLocks noGrp="1"/>
          </p:cNvSpPr>
          <p:nvPr>
            <p:ph/>
          </p:nvPr>
        </p:nvSpPr>
        <p:spPr>
          <a:xfrm>
            <a:off x="457200" y="1956960"/>
            <a:ext cx="8229600" cy="2971800"/>
          </a:xfrm>
          <a:prstGeom prst="rect">
            <a:avLst/>
          </a:prstGeom>
          <a:solidFill>
            <a:srgbClr val="ff9933"/>
          </a:solidFill>
          <a:ln w="1584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achteilsausgleich</a:t>
            </a: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ische Maßnahmen zum Nachteilsausgleich</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ipps für die Praxi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rrektur schriftlicher Arbeit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otenberechnun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ögliche Maßnahmen</a:t>
            </a:r>
            <a:endParaRPr b="0" lang="en-US" sz="3600" spc="-1" strike="noStrike">
              <a:solidFill>
                <a:srgbClr val="000000"/>
              </a:solidFill>
              <a:latin typeface="Arial"/>
            </a:endParaRPr>
          </a:p>
        </p:txBody>
      </p:sp>
      <p:sp>
        <p:nvSpPr>
          <p:cNvPr id="64"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eitzuschla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lesen der Aufgabenstellung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lassung technischer und didaktisch-methodischer Hilfsmittel, wie Laptop, Rechtschreibprogramme, Vorleseprogramme, Lesehilfen, spezifisch gestalteter Arbeitsblätter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ündliche Aufgabenstellung statt schriftlicher Erarbeitu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zierte Aufgabenstellung (z.B. Reduzierung des Aufgabenbereichs), die dem individuellen Lernstand angepasst sin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e Maßnahmen müssen bei Bedarf kombiniert und addier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erden, um einen tatsächlichen Ausgleich des Nachteils zu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reich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Weitere Maßnahmen</a:t>
            </a:r>
            <a:endParaRPr b="0" lang="en-US" sz="3600" spc="-1" strike="noStrike">
              <a:solidFill>
                <a:srgbClr val="000000"/>
              </a:solidFill>
              <a:latin typeface="Arial"/>
            </a:endParaRPr>
          </a:p>
        </p:txBody>
      </p:sp>
      <p:sp>
        <p:nvSpPr>
          <p:cNvPr id="66" name=""/>
          <p:cNvSpPr txBox="1"/>
          <p:nvPr/>
        </p:nvSpPr>
        <p:spPr>
          <a:xfrm>
            <a:off x="457200" y="3100320"/>
            <a:ext cx="8229600" cy="1471680"/>
          </a:xfrm>
          <a:prstGeom prst="rect">
            <a:avLst/>
          </a:prstGeom>
          <a:solidFill>
            <a:srgbClr val="ff9900"/>
          </a:solidFill>
          <a:ln w="15840">
            <a:solidFill>
              <a:srgbClr val="000000"/>
            </a:solidFill>
            <a:miter/>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legen eines NTA-Blatts in Legasthenieordn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der Eltern von Schülern, deren NTA ausläuf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 von Kollegen über Maßnahmen zum N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512440" y="136440"/>
            <a:ext cx="4722120" cy="459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ektur schriftlicher Arbeiten</a:t>
            </a:r>
            <a:endParaRPr b="0" lang="en-US" sz="2400" spc="-1" strike="noStrike">
              <a:solidFill>
                <a:srgbClr val="000000"/>
              </a:solidFill>
              <a:latin typeface="Arial"/>
            </a:endParaRPr>
          </a:p>
        </p:txBody>
      </p:sp>
      <p:graphicFrame>
        <p:nvGraphicFramePr>
          <p:cNvPr id="68" name=""/>
          <p:cNvGraphicFramePr/>
          <p:nvPr/>
        </p:nvGraphicFramePr>
        <p:xfrm>
          <a:off x="179280" y="765000"/>
          <a:ext cx="8785440" cy="2195640"/>
        </p:xfrm>
        <a:graphic>
          <a:graphicData uri="http://schemas.openxmlformats.org/drawingml/2006/table">
            <a:tbl>
              <a:tblPr/>
              <a:tblGrid>
                <a:gridCol w="8785440"/>
              </a:tblGrid>
              <a:tr h="2195640">
                <a:tc>
                  <a:txBody>
                    <a:bodyPr lIns="90000" rIns="90000" tIns="46800" bIns="4680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 gibt keine einheitliche und damit verbindliche oder allgemeingültige  Korrekturschablone.</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otale Objektivität in der Korrektur ist nicht möglich.</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ehlereinschätzung und Bewertung hängen auch vom Problembewusstsein des Lehrers ab.</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69" name="Text Box 9"/>
          <p:cNvSpPr/>
          <p:nvPr/>
        </p:nvSpPr>
        <p:spPr>
          <a:xfrm>
            <a:off x="179280" y="3368880"/>
            <a:ext cx="878544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 </a:t>
            </a:r>
            <a:r>
              <a:rPr b="1" lang="de-DE" sz="2400" spc="-1" strike="noStrike">
                <a:solidFill>
                  <a:srgbClr val="000000"/>
                </a:solidFill>
                <a:latin typeface="Arial"/>
              </a:rPr>
              <a:t>pädagogischen Freiraum nutzen!!</a:t>
            </a:r>
            <a:endParaRPr b="0" lang="en-US" sz="2400" spc="-1" strike="noStrike">
              <a:solidFill>
                <a:srgbClr val="000000"/>
              </a:solidFill>
              <a:latin typeface="Arial"/>
            </a:endParaRPr>
          </a:p>
        </p:txBody>
      </p:sp>
      <p:sp>
        <p:nvSpPr>
          <p:cNvPr id="70" name="Text Box 10"/>
          <p:cNvSpPr/>
          <p:nvPr/>
        </p:nvSpPr>
        <p:spPr>
          <a:xfrm>
            <a:off x="179280" y="2864160"/>
            <a:ext cx="8785440" cy="45972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Jeder Fall muss </a:t>
            </a:r>
            <a:r>
              <a:rPr b="1" lang="de-DE" sz="2400" spc="-1" strike="noStrike" u="sng">
                <a:solidFill>
                  <a:srgbClr val="000000"/>
                </a:solidFill>
                <a:uFillTx/>
                <a:latin typeface="Arial"/>
              </a:rPr>
              <a:t>individuell</a:t>
            </a:r>
            <a:r>
              <a:rPr b="1" lang="de-DE" sz="2400" spc="-1" strike="noStrike">
                <a:solidFill>
                  <a:srgbClr val="000000"/>
                </a:solidFill>
                <a:latin typeface="Arial"/>
              </a:rPr>
              <a:t> korrigiert werden!!</a:t>
            </a:r>
            <a:endParaRPr b="0" lang="en-US" sz="2400" spc="-1" strike="noStrike">
              <a:solidFill>
                <a:srgbClr val="000000"/>
              </a:solidFill>
              <a:latin typeface="Arial"/>
            </a:endParaRPr>
          </a:p>
        </p:txBody>
      </p:sp>
      <p:sp>
        <p:nvSpPr>
          <p:cNvPr id="71" name="Text Box 11"/>
          <p:cNvSpPr/>
          <p:nvPr/>
        </p:nvSpPr>
        <p:spPr>
          <a:xfrm>
            <a:off x="3060720" y="2851560"/>
            <a:ext cx="3024000" cy="4597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000"/>
                </a:solidFill>
                <a:uFillTx/>
                <a:latin typeface="Arial"/>
              </a:rPr>
              <a:t>individuell</a:t>
            </a:r>
            <a:endParaRPr b="0" lang="en-US" sz="2400" spc="-1" strike="noStrike">
              <a:solidFill>
                <a:srgbClr val="000000"/>
              </a:solidFill>
              <a:latin typeface="Arial"/>
            </a:endParaRPr>
          </a:p>
        </p:txBody>
      </p:sp>
      <p:sp>
        <p:nvSpPr>
          <p:cNvPr id="72" name="Text Box 12"/>
          <p:cNvSpPr/>
          <p:nvPr/>
        </p:nvSpPr>
        <p:spPr>
          <a:xfrm>
            <a:off x="179280" y="3860640"/>
            <a:ext cx="8785440" cy="2288520"/>
          </a:xfrm>
          <a:prstGeom prst="rect">
            <a:avLst/>
          </a:prstGeom>
          <a:solidFill>
            <a:srgbClr val="00ccff"/>
          </a:solidFill>
          <a:ln w="255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mpfehlungen zur Korrektu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3"/>
          <p:cNvSpPr/>
          <p:nvPr/>
        </p:nvSpPr>
        <p:spPr>
          <a:xfrm>
            <a:off x="167400" y="4265640"/>
            <a:ext cx="7632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erkennbare Strukturprobleme, z.B. falsche Zeiten sind zu werten</a:t>
            </a:r>
            <a:endParaRPr b="0" lang="en-US" sz="2000" spc="-1" strike="noStrike">
              <a:solidFill>
                <a:srgbClr val="000000"/>
              </a:solidFill>
              <a:latin typeface="Arial"/>
            </a:endParaRPr>
          </a:p>
        </p:txBody>
      </p:sp>
      <p:sp>
        <p:nvSpPr>
          <p:cNvPr id="74" name="Text Box 14"/>
          <p:cNvSpPr/>
          <p:nvPr/>
        </p:nvSpPr>
        <p:spPr>
          <a:xfrm>
            <a:off x="169920" y="4626000"/>
            <a:ext cx="8127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Verstöße gegen erlernbare Regeln sind zu werten, z.B. Pluralbildung</a:t>
            </a:r>
            <a:endParaRPr b="0" lang="en-US" sz="2000" spc="-1" strike="noStrike">
              <a:solidFill>
                <a:srgbClr val="000000"/>
              </a:solidFill>
              <a:latin typeface="Arial"/>
            </a:endParaRPr>
          </a:p>
        </p:txBody>
      </p:sp>
      <p:sp>
        <p:nvSpPr>
          <p:cNvPr id="75" name="Text Box 15"/>
          <p:cNvSpPr/>
          <p:nvPr/>
        </p:nvSpPr>
        <p:spPr>
          <a:xfrm>
            <a:off x="179280" y="5013360"/>
            <a:ext cx="8640720" cy="764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000" spc="-1" strike="noStrike">
                <a:solidFill>
                  <a:srgbClr val="000000"/>
                </a:solidFill>
                <a:latin typeface="Arial"/>
              </a:rPr>
              <a:t>Schüler und Eltern müssen eindeutig nachvollziehen können, wel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ehler aufgrund der Legasthenie nicht gewertet wu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7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7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72"/>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73"/>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74"/>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11280" y="4681440"/>
            <a:ext cx="8064360" cy="18313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Englis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einf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3+1+5+4+1+3+2+5+3+2+4+3 = 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55:16 = 3,44 = Note 3</a:t>
            </a:r>
            <a:endParaRPr b="0" lang="en-US" sz="1800" spc="-1" strike="noStrike">
              <a:solidFill>
                <a:srgbClr val="000000"/>
              </a:solidFill>
              <a:latin typeface="Arial"/>
            </a:endParaRPr>
          </a:p>
        </p:txBody>
      </p:sp>
      <p:sp>
        <p:nvSpPr>
          <p:cNvPr id="77" name="Rectangle 6"/>
          <p:cNvSpPr/>
          <p:nvPr/>
        </p:nvSpPr>
        <p:spPr>
          <a:xfrm>
            <a:off x="611280" y="1789200"/>
            <a:ext cx="8064360" cy="2562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Fremdsprachen </a:t>
            </a:r>
            <a:r>
              <a:rPr b="0" lang="de-DE" sz="1800" spc="-1" strike="noStrike">
                <a:solidFill>
                  <a:srgbClr val="000000"/>
                </a:solidFill>
                <a:latin typeface="Arial"/>
              </a:rPr>
              <a:t>gilt bei Schülern mit gutachterlich festgestellter Legasthenie die Gewichtung schriftlicher und mündlicher Leistungen im Verhältnis 1: 1 (Notenschutz). Die Festsetzung von mündlichen Noten erfolgt auf der Basis von rein mündlichen Leistungsnachweisen, je nach Schulart in angemessener Anz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en mündlichen Noten ein der Sachlage angemessenes Gewicht zukommen zu lassen (die Stegreifaufgaben gehören wegen des überwiegenden Charakters des Leistungsnachweises zu den schriftlichen Noten!), ist für eine entsprechend hohe Anzahl mündlicher Noten zu sorgen.</a:t>
            </a:r>
            <a:endParaRPr b="0" lang="en-US" sz="1800" spc="-1" strike="noStrike">
              <a:solidFill>
                <a:srgbClr val="000000"/>
              </a:solidFill>
              <a:latin typeface="Arial"/>
            </a:endParaRPr>
          </a:p>
        </p:txBody>
      </p:sp>
      <p:graphicFrame>
        <p:nvGraphicFramePr>
          <p:cNvPr id="78" name=""/>
          <p:cNvGraphicFramePr/>
          <p:nvPr/>
        </p:nvGraphicFramePr>
        <p:xfrm>
          <a:off x="611280" y="476280"/>
          <a:ext cx="8064360" cy="1008000"/>
        </p:xfrm>
        <a:graphic>
          <a:graphicData uri="http://schemas.openxmlformats.org/drawingml/2006/table">
            <a:tbl>
              <a:tblPr/>
              <a:tblGrid>
                <a:gridCol w="8064360"/>
              </a:tblGrid>
              <a:tr h="100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539640" y="2016000"/>
            <a:ext cx="7993080" cy="20142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ie </a:t>
            </a:r>
            <a:r>
              <a:rPr b="1" lang="de-DE" sz="1800" spc="-1" strike="noStrike">
                <a:solidFill>
                  <a:srgbClr val="000000"/>
                </a:solidFill>
                <a:latin typeface="Arial"/>
              </a:rPr>
              <a:t>nichtfremdsprachlichen Fächer </a:t>
            </a:r>
            <a:r>
              <a:rPr b="0" lang="de-DE" sz="1800" spc="-1" strike="noStrike">
                <a:solidFill>
                  <a:srgbClr val="000000"/>
                </a:solidFill>
                <a:latin typeface="Arial"/>
              </a:rPr>
              <a:t>(auch für Deutsch) ist bei der Berechnung der Gesamtnote zwar auch die Summe aus den Einzelnoten zu bilden, allerdings geht dabei die Gewichtung der Einzelnoten nach § 55 (2) Satz 3 („Die Noten aus den Schulaufgaben und den gegebenenfalls an ihre Stelle tretenden Leistungsnachweisen haben doppeltes Gewicht“) in den Zähler und in den Nenner mit 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
          <p:cNvGraphicFramePr/>
          <p:nvPr/>
        </p:nvGraphicFramePr>
        <p:xfrm>
          <a:off x="611280" y="476280"/>
          <a:ext cx="7921440" cy="1095480"/>
        </p:xfrm>
        <a:graphic>
          <a:graphicData uri="http://schemas.openxmlformats.org/drawingml/2006/table">
            <a:tbl>
              <a:tblPr/>
              <a:tblGrid>
                <a:gridCol w="7921440"/>
              </a:tblGrid>
              <a:tr h="109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nberechnung laut Nachtrag zum KMS vom 28.05.200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808080"/>
                    </a:solidFill>
                  </a:tcPr>
                </a:tc>
              </a:tr>
            </a:tbl>
          </a:graphicData>
        </a:graphic>
      </p:graphicFrame>
      <p:sp>
        <p:nvSpPr>
          <p:cNvPr id="81" name="Rectangle 12"/>
          <p:cNvSpPr/>
          <p:nvPr/>
        </p:nvSpPr>
        <p:spPr>
          <a:xfrm>
            <a:off x="539640" y="4568760"/>
            <a:ext cx="7993080" cy="1739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spiel Deut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ulaufgaben: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6/4/5/4 (zählen dopp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greifaufgaben: </a:t>
            </a:r>
            <a:r>
              <a:rPr b="1" lang="de-DE" sz="1800" spc="-1" strike="noStrike">
                <a:solidFill>
                  <a:srgbClr val="000000"/>
                </a:solidFill>
                <a:latin typeface="Arial"/>
              </a:rPr>
              <a:t>	</a:t>
            </a:r>
            <a:r>
              <a:rPr b="1" lang="de-DE" sz="1800" spc="-1" strike="noStrike">
                <a:solidFill>
                  <a:srgbClr val="000000"/>
                </a:solidFill>
                <a:latin typeface="Arial"/>
              </a:rPr>
              <a:t>3/1/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ündliche Noten: </a:t>
            </a:r>
            <a:r>
              <a:rPr b="1" lang="de-DE" sz="1800" spc="-1" strike="noStrike">
                <a:solidFill>
                  <a:srgbClr val="000000"/>
                </a:solidFill>
                <a:latin typeface="Arial"/>
              </a:rPr>
              <a:t>	</a:t>
            </a:r>
            <a:r>
              <a:rPr b="1" lang="de-DE" sz="1800" spc="-1" strike="noStrike">
                <a:solidFill>
                  <a:srgbClr val="000000"/>
                </a:solidFill>
                <a:latin typeface="Arial"/>
              </a:rPr>
              <a:t>1/3/2/5/3/2/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amtnote: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12+8+10+8+3+1+5+4+1+3+2+5+3+2+4+3 = 74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74:20 = 3,70 = Not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814400" y="274320"/>
            <a:ext cx="5114880" cy="646200"/>
          </a:xfrm>
          <a:prstGeom prst="rect">
            <a:avLst/>
          </a:prstGeom>
          <a:solidFill>
            <a:srgbClr val="ff0000"/>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KMBek 16.11.99</a:t>
            </a:r>
            <a:endParaRPr b="0" lang="en-US" sz="3600" spc="-1" strike="noStrike">
              <a:solidFill>
                <a:srgbClr val="000000"/>
              </a:solidFill>
              <a:latin typeface="Arial"/>
            </a:endParaRPr>
          </a:p>
        </p:txBody>
      </p:sp>
      <p:sp>
        <p:nvSpPr>
          <p:cNvPr id="47" name=""/>
          <p:cNvSpPr txBox="1"/>
          <p:nvPr/>
        </p:nvSpPr>
        <p:spPr>
          <a:xfrm>
            <a:off x="457200" y="1600200"/>
            <a:ext cx="8229600" cy="4400640"/>
          </a:xfrm>
          <a:prstGeom prst="rect">
            <a:avLst/>
          </a:prstGeom>
          <a:solidFill>
            <a:srgbClr val="ff9933"/>
          </a:solidFill>
          <a:ln w="12600">
            <a:solidFill>
              <a:srgbClr val="000000"/>
            </a:solidFill>
            <a:miter/>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üler mit gutachterlich festgestellter Legasthenie müssen, Schüler mit einer Lese- und Rechtschreibschwäche können bei schriftlichen Leistungsfeststellungen in Proben, Schulaufgaben und Prüfungen in allen Fächern einen Zeitzuschlag bis zur Hälfte der regulären Arbeitszeit erhalten. Die Dauer des </a:t>
            </a:r>
            <a:r>
              <a:rPr b="1" lang="de-DE" sz="2000" spc="-1" strike="noStrike">
                <a:solidFill>
                  <a:srgbClr val="000000"/>
                </a:solidFill>
                <a:latin typeface="Arial"/>
              </a:rPr>
              <a:t>Zeitzuschlags</a:t>
            </a:r>
            <a:r>
              <a:rPr b="0" lang="de-DE" sz="2000" spc="-1" strike="noStrike">
                <a:solidFill>
                  <a:srgbClr val="000000"/>
                </a:solidFill>
                <a:latin typeface="Arial"/>
              </a:rPr>
              <a:t> richtet sich nach Art und Ausmaß der Störung. </a:t>
            </a:r>
            <a:r>
              <a:rPr b="1" lang="de-DE" sz="2000" spc="-1" strike="noStrike">
                <a:solidFill>
                  <a:srgbClr val="000000"/>
                </a:solidFill>
                <a:latin typeface="Arial"/>
              </a:rPr>
              <a:t>Er wird auf Empfehlung der fachlich zuständigen Lehrkräfte vom Schulleiter festgeleg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ere Möglichkeiten der Hilfestellung insbesondere bei Stegreifaufgaben bestehen z.B. darin, dem betreffenden Schüler eine schriftlich gestellte Aufgabe zusätzlich vorzulesen oder die Leistungsfeststellung mit dem Schüler mündlich durchzuführen. In geeigneten Fällen und bei entsprechender Ausstattung der Schule können auch technische Hilfsmittel eingesetzt werden.</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82904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utsch</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tschreib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ungsschwerpunkte mit Eltern besprechen, Empfehlung von Fördermaterial (z. B. Lernkartei, PC-Programme, geeignetes Lern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zur Erledigung von Hausaufgaben mit dem Compu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in Absprache mit den Eltern (z. B. PC-Programme, Lesefenster, Lesep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ferate als Leseanreiz</a:t>
            </a:r>
            <a:endParaRPr b="0" lang="en-US" sz="2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028600"/>
            <a:ext cx="8229600" cy="19717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remdsprache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pfehlung von Fördermaterial (z. B. CD zum Buch, PC-Programme, Rechtschreibtrainer, Schulaufgabentrainer, Lernkartei, Vokabelprogramm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itel 1"/>
          <p:cNvSpPr/>
          <p:nvPr/>
        </p:nvSpPr>
        <p:spPr>
          <a:xfrm>
            <a:off x="428760" y="357120"/>
            <a:ext cx="8229600" cy="114300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504360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gemeines</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laubnis mit dem Bleistift zu schrei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einen bestimmten Teil der Hausaufgabe „in Schönschrift“ anzufert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mit dem Schüler, jeweils eine Zeile frei zu las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wendung technischer Hilfsmittel (z. B.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pien von Overhead-Folien/Tafelanschriften zugänglich mach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tzung methodisch-didaktischer Hilfen (z.B. Lesepfeil)</a:t>
            </a:r>
            <a:endParaRPr b="0" lang="en-US" sz="2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599840"/>
            <a:ext cx="8229600" cy="3328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zentration</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wegungsmöglichkeiten während des Unterrichts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Ordnung am Arbeitsplatz ach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platz im näheren Umfeld der Lehrkräf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re Strukturierung von Arbeitsblättern </a:t>
            </a:r>
            <a:br>
              <a:rPr sz="2400"/>
            </a:br>
            <a:r>
              <a:rPr b="0" lang="de-DE" sz="2400" spc="-1" strike="noStrike">
                <a:solidFill>
                  <a:srgbClr val="000000"/>
                </a:solidFill>
                <a:latin typeface="Arial"/>
              </a:rPr>
              <a:t>(z. B. keine Bilder, Hintergründe)</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
        <p:nvSpPr>
          <p:cNvPr id="56" name="Textfeld 6"/>
          <p:cNvSpPr/>
          <p:nvPr/>
        </p:nvSpPr>
        <p:spPr>
          <a:xfrm>
            <a:off x="428760" y="5143680"/>
            <a:ext cx="8215200" cy="15570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ämtliche Maßnahmen müssen bei Bedarf kombiniert und addiert werden, um einen tatsächlichen Ausgleich des Nachteils zu erreic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solidFill>
            <a:srgbClr val="ff9900"/>
          </a:solidFill>
          <a:ln w="1584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üfungsangst/Vermeidungsverhalten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viduelle Fortschritte hervorheb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b &amp; Ermunterung auch bei kleinen Leistungsfortschrit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rtragung kleinerer Aufgaben innerhalb der Klasse zur Stärkung des Selbstvertraue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besondere Hervorhebung der Problematik innerhalb der Klasse</a:t>
            </a:r>
            <a:br>
              <a:rPr sz="2400"/>
            </a:br>
            <a:r>
              <a:rPr b="1" lang="de-DE" sz="2400" spc="-1" strike="noStrike">
                <a:solidFill>
                  <a:srgbClr val="000000"/>
                </a:solidFill>
                <a:latin typeface="Arial"/>
              </a:rPr>
              <a:t> </a:t>
            </a:r>
            <a:endParaRPr b="0" lang="en-US" sz="2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chulische Maßnahmen zum Nachteilsausglei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0" name=""/>
          <p:cNvSpPr txBox="1"/>
          <p:nvPr/>
        </p:nvSpPr>
        <p:spPr>
          <a:xfrm>
            <a:off x="357120" y="1499760"/>
            <a:ext cx="8501040" cy="525780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iftliche Aufgabe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lagen vergröß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üfungstexte als Hörtext präsentie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 das Weglassen von Teilaufgaben (-&gt; Textarbe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fferenzierte Aufgabenstellung (z.B. Reduzierung des Aufgabenbereichs, Term statt Textaufga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üler(in) animieren Zeitzuschlag zu nu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jeder Arbeit vermerken wenn Zeitzuschlag nicht genutzt wur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übergreifend im gleichen Umfang gewähr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aufgaben  vor bzw. nach Pause ansetz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 (Störung bei Verlassen des Rau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ff6600"/>
          </a:solidFill>
          <a:ln w="158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Tipps für die Praxis </a:t>
            </a:r>
            <a:r>
              <a:rPr b="1" lang="de-DE" sz="3600" spc="-1" strike="noStrike">
                <a:solidFill>
                  <a:srgbClr val="000000"/>
                </a:solidFill>
                <a:latin typeface="Symbol"/>
                <a:ea typeface="Symbol"/>
              </a:rPr>
              <a:t></a:t>
            </a:r>
            <a:r>
              <a:rPr b="1" lang="de-DE" sz="3600" spc="-1" strike="noStrike">
                <a:solidFill>
                  <a:srgbClr val="000000"/>
                </a:solidFill>
                <a:latin typeface="Arial"/>
              </a:rPr>
              <a:t> NTA</a:t>
            </a:r>
            <a:endParaRPr b="0" lang="en-US" sz="3600" spc="-1" strike="noStrike">
              <a:solidFill>
                <a:srgbClr val="000000"/>
              </a:solidFill>
              <a:latin typeface="Arial"/>
            </a:endParaRPr>
          </a:p>
        </p:txBody>
      </p:sp>
      <p:sp>
        <p:nvSpPr>
          <p:cNvPr id="62" name=""/>
          <p:cNvSpPr txBox="1"/>
          <p:nvPr/>
        </p:nvSpPr>
        <p:spPr>
          <a:xfrm>
            <a:off x="357120" y="1599840"/>
            <a:ext cx="8501040" cy="4971960"/>
          </a:xfrm>
          <a:prstGeom prst="rect">
            <a:avLst/>
          </a:prstGeom>
          <a:solidFill>
            <a:srgbClr val="ff9900"/>
          </a:solidFill>
          <a:ln w="15840">
            <a:solidFill>
              <a:srgbClr val="00000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allgemei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eitzuschla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tzordn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parater  Raum (Vorlesen der Angaben)</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schlussprüfung Fremdsprache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	</a:t>
            </a:r>
            <a:r>
              <a:rPr b="1" lang="de-DE" sz="2400" spc="-1" strike="noStrike">
                <a:solidFill>
                  <a:srgbClr val="000000"/>
                </a:solidFill>
                <a:latin typeface="Arial"/>
              </a:rPr>
              <a:t>Hör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x. 50% Zeitzuschlag im Voraus (Lesen der Aufgabenstellu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 Zeitzuschlag im Anschluss (KMS 26.04.20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verständn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8:14:16Z</dcterms:created>
  <dc:creator>German Heindl</dc:creator>
  <dc:description/>
  <dc:language>en-US</dc:language>
  <cp:lastModifiedBy>BIE</cp:lastModifiedBy>
  <dcterms:modified xsi:type="dcterms:W3CDTF">2010-05-01T13:52:03Z</dcterms:modified>
  <cp:revision>179</cp:revision>
  <dc:subject/>
  <dc:title>Folie 1</dc:title>
</cp:coreProperties>
</file>