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15B-1EC1-4A2A-9585-B62D24EC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DEA-4136-4229-AC62-98D37D5A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EC1-FCEC-4B93-B65E-9EA4E842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013-E2F8-4ECB-8E76-C5241373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30E-6626-468A-ABD6-5827FF9B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126-26DD-45F1-B797-24356835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5573-ADD4-485D-B3CF-FA2ADEAE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B65-A21E-4615-A6AB-8DFCF489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FFE-65FF-4BD6-A1B4-883007B6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854-4B26-4FFA-9346-25A9F6D6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550-B30F-4D8C-A86C-6C3A6921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CBC-4797-4272-90B9-3BAE65EB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C84C-BCB4-4100-B0DE-CBAA383C0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2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ale Lehrerfortbildung in Schw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00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im Fach Informationstechnolog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ben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27543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71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schreibung des Verfahrens mit Wort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81080" y="1752480"/>
            <a:ext cx="2361960" cy="2590560"/>
            <a:chOff x="1981080" y="1752480"/>
            <a:chExt cx="2361960" cy="2590560"/>
          </a:xfrm>
        </p:grpSpPr>
        <p:sp>
          <p:nvSpPr>
            <p:cNvPr id="175" name=""/>
            <p:cNvSpPr/>
            <p:nvPr/>
          </p:nvSpPr>
          <p:spPr>
            <a:xfrm>
              <a:off x="2057040" y="1752480"/>
              <a:ext cx="2286000" cy="2590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1080" y="2133360"/>
              <a:ext cx="13716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9 : 2 = 5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4 : 2 = 2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7 : 2 = 1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 : 2 = 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 : 2 = 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: 2 =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: 2 =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5640" y="3809880"/>
              <a:ext cx="1905120" cy="336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9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1101101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28640" y="2133360"/>
              <a:ext cx="83844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952880" y="16765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ie Dezimalzahl wird durch die Zahl 2 geteilt und der Rest der Division gebilde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250344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er entstehende Quotient wird solange durch die Zahl 2 geteilt bis dieser den Wert 0 erreicht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3476520"/>
            <a:ext cx="335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ie dabei auftretenden Restzahlen ergeben in umgekehrter Reihenfolge als Ziffern die zur ursprünglichen Dezimalzahl zugehörige Dualzahl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85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s Datenflussdiagram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98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981080" y="121932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rstellung der Variablenbelegu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m Beispiel der Umwandlu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r Dezimalzahl 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791320" y="990720"/>
            <a:ext cx="3057480" cy="3200400"/>
          </a:xfrm>
          <a:prstGeom prst="rect">
            <a:avLst/>
          </a:prstGeom>
          <a:ln w="0">
            <a:noFill/>
          </a:ln>
        </p:spPr>
      </p:pic>
      <p:pic>
        <p:nvPicPr>
          <p:cNvPr id="202" name="modl-b29" descr=""/>
          <p:cNvPicPr/>
          <p:nvPr/>
        </p:nvPicPr>
        <p:blipFill>
          <a:blip r:embed="rId3"/>
          <a:stretch/>
        </p:blipFill>
        <p:spPr>
          <a:xfrm>
            <a:off x="2438280" y="4495680"/>
            <a:ext cx="64008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206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14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rf-tab061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58006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f-tab01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6189840" cy="3098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215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221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insesz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14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676520"/>
            <a:ext cx="6172200" cy="73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 einer Tabelle soll die Entwicklung eines angelegten Kapitals sowie der jährlich anfallende Zins innerhalb einer vorgegebenen Laufzeit wiedergegeben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332160" y="3338640"/>
            <a:ext cx="3297240" cy="1385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057400" y="2606760"/>
            <a:ext cx="6172200" cy="52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eispiel einer solchen Tabelle bei einem Kapital von 1.000 €, einem Zinssatz von 2,5% und einer Laufzeit von 5 Jahr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231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insesz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s Datenflussdiagra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14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3477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239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insesz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e 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14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zins-tab02" descr=""/>
          <p:cNvPicPr/>
          <p:nvPr/>
        </p:nvPicPr>
        <p:blipFill>
          <a:blip r:embed="rId2"/>
          <a:stretch/>
        </p:blipFill>
        <p:spPr>
          <a:xfrm>
            <a:off x="2308320" y="1635120"/>
            <a:ext cx="452592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002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ionale Lehrerfortbildung in Schw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47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ezug zum Lehr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720" y="15048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447920"/>
            <a:ext cx="114300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T 8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4720" y="198108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924200"/>
            <a:ext cx="11430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IT 9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4720" y="2514600"/>
            <a:ext cx="1143000" cy="38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457360"/>
            <a:ext cx="11430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T 9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4720" y="35622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505320"/>
            <a:ext cx="1143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NF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300024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943360"/>
            <a:ext cx="11430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87640" y="1438200"/>
            <a:ext cx="59896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62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ezug zum Lehr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087640" y="1442880"/>
            <a:ext cx="5989680" cy="425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4720" y="15048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447920"/>
            <a:ext cx="11430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IT 8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4720" y="198108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924200"/>
            <a:ext cx="114300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T 9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4720" y="2514600"/>
            <a:ext cx="1143000" cy="38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457360"/>
            <a:ext cx="11430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 9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4720" y="35622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3505320"/>
            <a:ext cx="1143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NF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4720" y="300024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43360"/>
            <a:ext cx="1143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T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77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ezug zum Lehr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720" y="15048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447920"/>
            <a:ext cx="11430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IT 8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4720" y="198108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905120"/>
            <a:ext cx="11430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IT 9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2514600"/>
            <a:ext cx="1143000" cy="38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457360"/>
            <a:ext cx="11430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 9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4720" y="35622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505320"/>
            <a:ext cx="1143000" cy="3808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F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4720" y="300024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943360"/>
            <a:ext cx="11430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85840" y="1442880"/>
            <a:ext cx="60008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92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enflussdia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371600"/>
            <a:ext cx="365760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e eignen sich besond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ur Darstellung von Abläufen (Prozess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952880" y="1981080"/>
            <a:ext cx="3657600" cy="2300400"/>
            <a:chOff x="4952880" y="1981080"/>
            <a:chExt cx="3657600" cy="2300400"/>
          </a:xfrm>
        </p:grpSpPr>
        <p:sp>
          <p:nvSpPr>
            <p:cNvPr id="97" name=""/>
            <p:cNvSpPr/>
            <p:nvPr/>
          </p:nvSpPr>
          <p:spPr>
            <a:xfrm>
              <a:off x="4952880" y="1981080"/>
              <a:ext cx="3657600" cy="3812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e ähneln einem Aktivitätsdiagram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aktivitaetsdia" descr=""/>
            <p:cNvPicPr/>
            <p:nvPr/>
          </p:nvPicPr>
          <p:blipFill>
            <a:blip r:embed="rId2"/>
            <a:stretch/>
          </p:blipFill>
          <p:spPr>
            <a:xfrm>
              <a:off x="4952880" y="2467080"/>
              <a:ext cx="3657600" cy="18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4952880" y="4419720"/>
            <a:ext cx="3657600" cy="609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e stellen aber den Informationsflus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ährend des Prozesses in den Vordergrun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447920" y="1901880"/>
            <a:ext cx="3120840" cy="3222720"/>
            <a:chOff x="1447920" y="1901880"/>
            <a:chExt cx="3120840" cy="3222720"/>
          </a:xfrm>
        </p:grpSpPr>
        <p:pic>
          <p:nvPicPr>
            <p:cNvPr id="101" name="diagramm-00" descr=""/>
            <p:cNvPicPr/>
            <p:nvPr/>
          </p:nvPicPr>
          <p:blipFill>
            <a:blip r:embed="rId3"/>
            <a:stretch/>
          </p:blipFill>
          <p:spPr>
            <a:xfrm>
              <a:off x="1447920" y="1901880"/>
              <a:ext cx="3120840" cy="32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911320" y="4981680"/>
              <a:ext cx="108000" cy="1080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04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enflussdia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1600200"/>
            <a:ext cx="3962520" cy="304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r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Startpunk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ird durch einen Punkt marki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11430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egeln für das Erstellen eines Datenflussdiagramm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1981080"/>
            <a:ext cx="3962520" cy="304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e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Ablaufricht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ird durch Pfeile festgeleg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362320"/>
            <a:ext cx="3962520" cy="457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Rechtecke mit je einem Halbkre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 den Seit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ellen Aktivitäten d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2895480"/>
            <a:ext cx="3962520" cy="990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ine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Raut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bedeutet eine Verzweigung, wobei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e Richtung des weiteren Datenflusses durch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n Wahrheitsgehalt einer Bool´schen Variable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estimmt wir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3962520"/>
            <a:ext cx="3962520" cy="304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r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Endpunk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st ein umkreister Punk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343400"/>
            <a:ext cx="396252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Zuweisung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von Werten an Variablen werd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en Doppelpunkt vor dem Gleichheit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eichen dargestell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5181480"/>
            <a:ext cx="3962520" cy="457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Operation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erden klein geschrieben und di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rameter in Klammern gesetz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47920" y="1901880"/>
            <a:ext cx="3120840" cy="3222720"/>
            <a:chOff x="1447920" y="1901880"/>
            <a:chExt cx="3120840" cy="3222720"/>
          </a:xfrm>
        </p:grpSpPr>
        <p:pic>
          <p:nvPicPr>
            <p:cNvPr id="116" name="diagramm-00" descr=""/>
            <p:cNvPicPr/>
            <p:nvPr/>
          </p:nvPicPr>
          <p:blipFill>
            <a:blip r:embed="rId2"/>
            <a:stretch/>
          </p:blipFill>
          <p:spPr>
            <a:xfrm>
              <a:off x="1447920" y="1901880"/>
              <a:ext cx="3120840" cy="32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11320" y="4981680"/>
              <a:ext cx="108000" cy="1080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19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enflussdia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114300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Beispiel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Berechnung des Volumens einer Kugel mit dem Radius 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2438280"/>
            <a:ext cx="1295280" cy="1295280"/>
            <a:chOff x="457200" y="2438280"/>
            <a:chExt cx="1295280" cy="1295280"/>
          </a:xfrm>
        </p:grpSpPr>
        <p:sp>
          <p:nvSpPr>
            <p:cNvPr id="124" name=""/>
            <p:cNvSpPr/>
            <p:nvPr/>
          </p:nvSpPr>
          <p:spPr>
            <a:xfrm>
              <a:off x="457200" y="243828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04840" y="3066840"/>
              <a:ext cx="64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95280" y="2742840"/>
              <a:ext cx="22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898720" y="1984320"/>
            <a:ext cx="3502080" cy="4264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897280" y="1982880"/>
            <a:ext cx="3502080" cy="4263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897280" y="1982880"/>
            <a:ext cx="3502080" cy="4263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897280" y="1982880"/>
            <a:ext cx="3502080" cy="4263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2897280" y="1982880"/>
            <a:ext cx="3502080" cy="4263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2897280" y="1982880"/>
            <a:ext cx="3502080" cy="426384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609480" y="3886200"/>
            <a:ext cx="1027080" cy="571680"/>
            <a:chOff x="609480" y="3886200"/>
            <a:chExt cx="1027080" cy="571680"/>
          </a:xfrm>
        </p:grpSpPr>
        <p:sp>
          <p:nvSpPr>
            <p:cNvPr id="134" name=""/>
            <p:cNvSpPr/>
            <p:nvPr/>
          </p:nvSpPr>
          <p:spPr>
            <a:xfrm>
              <a:off x="647640" y="3924360"/>
              <a:ext cx="988920" cy="53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8"/>
            <a:stretch/>
          </p:blipFill>
          <p:spPr>
            <a:xfrm>
              <a:off x="609480" y="3886200"/>
              <a:ext cx="9907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FF094" descr=""/>
          <p:cNvPicPr/>
          <p:nvPr/>
        </p:nvPicPr>
        <p:blipFill>
          <a:blip r:embed="rId2"/>
          <a:stretch/>
        </p:blipFill>
        <p:spPr>
          <a:xfrm>
            <a:off x="3505320" y="2362320"/>
            <a:ext cx="2068560" cy="25905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38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enflussdia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14300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Beispiel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Berechnung der Fläche einer Raute mit den Diagonalenlängen e und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895480" y="1981080"/>
            <a:ext cx="3505320" cy="3657600"/>
            <a:chOff x="2895480" y="1981080"/>
            <a:chExt cx="3505320" cy="3657600"/>
          </a:xfrm>
        </p:grpSpPr>
        <p:sp>
          <p:nvSpPr>
            <p:cNvPr id="143" name=""/>
            <p:cNvSpPr/>
            <p:nvPr/>
          </p:nvSpPr>
          <p:spPr>
            <a:xfrm>
              <a:off x="2895480" y="1981080"/>
              <a:ext cx="3505320" cy="3657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diagramm-raute" descr=""/>
            <p:cNvPicPr/>
            <p:nvPr/>
          </p:nvPicPr>
          <p:blipFill>
            <a:blip r:embed="rId3"/>
            <a:stretch/>
          </p:blipFill>
          <p:spPr>
            <a:xfrm>
              <a:off x="2976480" y="2198520"/>
              <a:ext cx="3189240" cy="32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743040" y="2133720"/>
            <a:ext cx="1619280" cy="1079280"/>
            <a:chOff x="743040" y="2133720"/>
            <a:chExt cx="1619280" cy="1079280"/>
          </a:xfrm>
        </p:grpSpPr>
        <p:sp>
          <p:nvSpPr>
            <p:cNvPr id="146" name=""/>
            <p:cNvSpPr/>
            <p:nvPr/>
          </p:nvSpPr>
          <p:spPr>
            <a:xfrm>
              <a:off x="743040" y="2133720"/>
              <a:ext cx="1619280" cy="1079280"/>
            </a:xfrm>
            <a:prstGeom prst="diamond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3040" y="2673360"/>
              <a:ext cx="161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52680" y="2133720"/>
              <a:ext cx="0" cy="10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47960" y="23940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05160" y="222264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066680" y="3333600"/>
            <a:ext cx="1038240" cy="554040"/>
            <a:chOff x="1066680" y="3333600"/>
            <a:chExt cx="1038240" cy="554040"/>
          </a:xfrm>
        </p:grpSpPr>
        <p:sp>
          <p:nvSpPr>
            <p:cNvPr id="152" name=""/>
            <p:cNvSpPr/>
            <p:nvPr/>
          </p:nvSpPr>
          <p:spPr>
            <a:xfrm>
              <a:off x="1116000" y="3333600"/>
              <a:ext cx="988920" cy="554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4"/>
            <a:stretch/>
          </p:blipFill>
          <p:spPr>
            <a:xfrm>
              <a:off x="1066680" y="3352680"/>
              <a:ext cx="989280" cy="48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57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933560" y="1969920"/>
            <a:ext cx="1600200" cy="1306440"/>
            <a:chOff x="1933560" y="1969920"/>
            <a:chExt cx="1600200" cy="1306440"/>
          </a:xfrm>
        </p:grpSpPr>
        <p:pic>
          <p:nvPicPr>
            <p:cNvPr id="160" name="EDU005" descr=""/>
            <p:cNvPicPr/>
            <p:nvPr/>
          </p:nvPicPr>
          <p:blipFill>
            <a:blip r:embed="rId2"/>
            <a:stretch/>
          </p:blipFill>
          <p:spPr>
            <a:xfrm>
              <a:off x="1933560" y="1969920"/>
              <a:ext cx="1523880" cy="13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085840" y="21222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9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mwandlung von Dezimalzahlen in Dualzah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19720" y="2057400"/>
            <a:ext cx="2361960" cy="2590560"/>
            <a:chOff x="4419720" y="2057400"/>
            <a:chExt cx="2361960" cy="2590560"/>
          </a:xfrm>
        </p:grpSpPr>
        <p:sp>
          <p:nvSpPr>
            <p:cNvPr id="164" name=""/>
            <p:cNvSpPr/>
            <p:nvPr/>
          </p:nvSpPr>
          <p:spPr>
            <a:xfrm>
              <a:off x="4495680" y="2057400"/>
              <a:ext cx="2286000" cy="2590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19720" y="2438280"/>
              <a:ext cx="13716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9 : 2 = 5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4 : 2 = 2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7 : 2 = 1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 : 2 = 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 : 2 = 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: 2 =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: 2 =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280" y="4114800"/>
              <a:ext cx="1905120" cy="336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9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1101101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67280" y="2438280"/>
              <a:ext cx="83844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8:29:44Z</dcterms:created>
  <dc:creator>Peter Hausladen</dc:creator>
  <dc:description/>
  <dc:language>en-US</dc:language>
  <cp:lastModifiedBy>Peter Hausladen</cp:lastModifiedBy>
  <dcterms:modified xsi:type="dcterms:W3CDTF">2006-04-01T15:12:02Z</dcterms:modified>
  <cp:revision>23</cp:revision>
  <dc:subject/>
  <dc:title>PowerPoint-Präsentation</dc:title>
</cp:coreProperties>
</file>