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993-F23A-49E6-AD83-9BDC0A9B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D8E-8099-4C46-A046-048E0FD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608-42EB-48F9-832C-2D06D125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45F-DA3F-4392-B1F4-20F49CAC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E0E-AA14-478F-8259-2C39C63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1E2-65C3-4F0A-B139-BE2785F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C04-98C4-440A-B935-3D6FD2B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227-94C7-4672-A2B3-5C3EDD6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B86-A127-4A0B-A19C-CC3DED6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2CA-C45F-4165-B680-BB646EE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5AD-7CB8-4679-880E-2F45C64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8B2-9DA5-470E-8A52-857E936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E50-5DD5-4D7B-AA87-73E268080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2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im Fach Informationstechnolog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ben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7543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7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schreibung des Verfahrens mit Wor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1752480"/>
            <a:ext cx="2361960" cy="2590560"/>
            <a:chOff x="1981080" y="1752480"/>
            <a:chExt cx="2361960" cy="2590560"/>
          </a:xfrm>
        </p:grpSpPr>
        <p:sp>
          <p:nvSpPr>
            <p:cNvPr id="175" name=""/>
            <p:cNvSpPr/>
            <p:nvPr/>
          </p:nvSpPr>
          <p:spPr>
            <a:xfrm>
              <a:off x="2057040" y="1752480"/>
              <a:ext cx="2286000" cy="259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213336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5640" y="380988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8640" y="213336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952880" y="1676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ezimalzahl wird durch die Zahl 2 geteilt und der Rest der Division gebilde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50344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er entstehende Quotient wird solange durch die Zahl 2 geteilt bis dieser den Wert 0 erreicht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476520"/>
            <a:ext cx="335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abei auftretenden Restzahlen ergeben in umgekehrter Reihenfolge als Ziffern die zur ursprünglichen Dezimalzahl zugehörige Dualzahl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8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9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1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rstellung der Variablenbeleg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 Beispiel der Umwandl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r Dezimalzahl 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05748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modl-b29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64008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06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f-tab06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800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f-tab0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6189840" cy="3098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1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2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676520"/>
            <a:ext cx="617220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einer Tabelle soll die Entwicklung eines angelegten Kapitals sowie der jährlich anfallende Zins innerhalb einer vorgegebenen Laufzeit wiedergegeb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32160" y="3338640"/>
            <a:ext cx="3297240" cy="138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7400" y="2606760"/>
            <a:ext cx="617220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einer solchen Tabelle bei einem Kapital von 1.000 €, einem Zinssatz von 2,5% und einer Laufzeit von 5 Jahr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477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e 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zins-tab02" descr=""/>
          <p:cNvPicPr/>
          <p:nvPr/>
        </p:nvPicPr>
        <p:blipFill>
          <a:blip r:embed="rId2"/>
          <a:stretch/>
        </p:blipFill>
        <p:spPr>
          <a:xfrm>
            <a:off x="2308320" y="1635120"/>
            <a:ext cx="45259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4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87640" y="1438200"/>
            <a:ext cx="5989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6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87640" y="1442880"/>
            <a:ext cx="5989680" cy="425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7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051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85840" y="1442880"/>
            <a:ext cx="60008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9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371600"/>
            <a:ext cx="365760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eignen sich besond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ur Darstellung von Abläufen (Prozess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952880" y="1981080"/>
            <a:ext cx="3657600" cy="2300400"/>
            <a:chOff x="4952880" y="1981080"/>
            <a:chExt cx="3657600" cy="2300400"/>
          </a:xfrm>
        </p:grpSpPr>
        <p:sp>
          <p:nvSpPr>
            <p:cNvPr id="97" name=""/>
            <p:cNvSpPr/>
            <p:nvPr/>
          </p:nvSpPr>
          <p:spPr>
            <a:xfrm>
              <a:off x="4952880" y="1981080"/>
              <a:ext cx="3657600" cy="381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ähneln einem Aktivitätsdiagram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aktivitaetsdia" descr=""/>
            <p:cNvPicPr/>
            <p:nvPr/>
          </p:nvPicPr>
          <p:blipFill>
            <a:blip r:embed="rId2"/>
            <a:stretch/>
          </p:blipFill>
          <p:spPr>
            <a:xfrm>
              <a:off x="4952880" y="2467080"/>
              <a:ext cx="3657600" cy="18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4952880" y="4419720"/>
            <a:ext cx="3657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stellen aber den Informationsflus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ährend des Prozesses in den Vordergrun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01" name="diagramm-00" descr=""/>
            <p:cNvPicPr/>
            <p:nvPr/>
          </p:nvPicPr>
          <p:blipFill>
            <a:blip r:embed="rId3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04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60020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Start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einen Punkt mark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1430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egeln für das Erstellen eines Datenflussdiagramm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98108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blaufricht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Pfeile festgele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36232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echtecke mit je einem Halbkre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 den Seit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ellen Aktivitäten 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895480"/>
            <a:ext cx="3962520" cy="990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ine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au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edeutet eine Verzweigung, wobei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Richtung des weiteren Datenflusses durch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n Wahrheitsgehalt einer Bool´schen Variabl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962520"/>
            <a:ext cx="3962520" cy="304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End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st ein umkreister Punk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343400"/>
            <a:ext cx="396252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Zuweisun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Werten an Variablen werd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en Doppelpunkt vor dem Gleichheit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ichen dargestell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18148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ion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erden klein geschrieben und d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 in Klammern gesetz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16" name="diagramm-00" descr=""/>
            <p:cNvPicPr/>
            <p:nvPr/>
          </p:nvPicPr>
          <p:blipFill>
            <a:blip r:embed="rId2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1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14300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s Volumens einer Kugel mit dem Radius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438280"/>
            <a:ext cx="1295280" cy="1295280"/>
            <a:chOff x="457200" y="2438280"/>
            <a:chExt cx="1295280" cy="1295280"/>
          </a:xfrm>
        </p:grpSpPr>
        <p:sp>
          <p:nvSpPr>
            <p:cNvPr id="124" name=""/>
            <p:cNvSpPr/>
            <p:nvPr/>
          </p:nvSpPr>
          <p:spPr>
            <a:xfrm>
              <a:off x="457200" y="24382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840" y="3066840"/>
              <a:ext cx="64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2742840"/>
              <a:ext cx="22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98720" y="1984320"/>
            <a:ext cx="3502080" cy="426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09480" y="3886200"/>
            <a:ext cx="1027080" cy="571680"/>
            <a:chOff x="609480" y="3886200"/>
            <a:chExt cx="1027080" cy="571680"/>
          </a:xfrm>
        </p:grpSpPr>
        <p:sp>
          <p:nvSpPr>
            <p:cNvPr id="134" name=""/>
            <p:cNvSpPr/>
            <p:nvPr/>
          </p:nvSpPr>
          <p:spPr>
            <a:xfrm>
              <a:off x="647640" y="3924360"/>
              <a:ext cx="988920" cy="53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609480" y="3886200"/>
              <a:ext cx="9907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FF094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0685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3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1430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r Fläche einer Raute mit den Diagonalenlängen e und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1981080"/>
            <a:ext cx="3505320" cy="3657600"/>
            <a:chOff x="2895480" y="1981080"/>
            <a:chExt cx="3505320" cy="3657600"/>
          </a:xfrm>
        </p:grpSpPr>
        <p:sp>
          <p:nvSpPr>
            <p:cNvPr id="143" name=""/>
            <p:cNvSpPr/>
            <p:nvPr/>
          </p:nvSpPr>
          <p:spPr>
            <a:xfrm>
              <a:off x="2895480" y="1981080"/>
              <a:ext cx="3505320" cy="3657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diagramm-raute" descr=""/>
            <p:cNvPicPr/>
            <p:nvPr/>
          </p:nvPicPr>
          <p:blipFill>
            <a:blip r:embed="rId3"/>
            <a:stretch/>
          </p:blipFill>
          <p:spPr>
            <a:xfrm>
              <a:off x="2976480" y="2198520"/>
              <a:ext cx="3189240" cy="32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43040" y="2133720"/>
            <a:ext cx="1619280" cy="1079280"/>
            <a:chOff x="743040" y="2133720"/>
            <a:chExt cx="1619280" cy="1079280"/>
          </a:xfrm>
        </p:grpSpPr>
        <p:sp>
          <p:nvSpPr>
            <p:cNvPr id="146" name=""/>
            <p:cNvSpPr/>
            <p:nvPr/>
          </p:nvSpPr>
          <p:spPr>
            <a:xfrm>
              <a:off x="743040" y="2133720"/>
              <a:ext cx="1619280" cy="1079280"/>
            </a:xfrm>
            <a:prstGeom prst="diamond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3040" y="2673360"/>
              <a:ext cx="16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2680" y="213372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7960" y="23940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5160" y="22226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66680" y="3333600"/>
            <a:ext cx="1038240" cy="554040"/>
            <a:chOff x="1066680" y="3333600"/>
            <a:chExt cx="1038240" cy="554040"/>
          </a:xfrm>
        </p:grpSpPr>
        <p:sp>
          <p:nvSpPr>
            <p:cNvPr id="152" name=""/>
            <p:cNvSpPr/>
            <p:nvPr/>
          </p:nvSpPr>
          <p:spPr>
            <a:xfrm>
              <a:off x="1116000" y="3333600"/>
              <a:ext cx="988920" cy="55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1066680" y="3352680"/>
              <a:ext cx="989280" cy="48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5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933560" y="1969920"/>
            <a:ext cx="1600200" cy="1306440"/>
            <a:chOff x="1933560" y="1969920"/>
            <a:chExt cx="1600200" cy="1306440"/>
          </a:xfrm>
        </p:grpSpPr>
        <p:pic>
          <p:nvPicPr>
            <p:cNvPr id="160" name="EDU005" descr=""/>
            <p:cNvPicPr/>
            <p:nvPr/>
          </p:nvPicPr>
          <p:blipFill>
            <a:blip r:embed="rId2"/>
            <a:stretch/>
          </p:blipFill>
          <p:spPr>
            <a:xfrm>
              <a:off x="1933560" y="1969920"/>
              <a:ext cx="152388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085840" y="21222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wandlung von Dezimalzahlen in Dualza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2057400"/>
            <a:ext cx="2361960" cy="2590560"/>
            <a:chOff x="4419720" y="2057400"/>
            <a:chExt cx="2361960" cy="2590560"/>
          </a:xfrm>
        </p:grpSpPr>
        <p:sp>
          <p:nvSpPr>
            <p:cNvPr id="164" name=""/>
            <p:cNvSpPr/>
            <p:nvPr/>
          </p:nvSpPr>
          <p:spPr>
            <a:xfrm>
              <a:off x="4495680" y="2057400"/>
              <a:ext cx="2286000" cy="259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43828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411480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67280" y="243828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8:29:44Z</dcterms:created>
  <dc:creator>Peter Hausladen</dc:creator>
  <dc:description/>
  <dc:language>en-US</dc:language>
  <cp:lastModifiedBy>Peter Hausladen</cp:lastModifiedBy>
  <dcterms:modified xsi:type="dcterms:W3CDTF">2006-04-01T15:12:02Z</dcterms:modified>
  <cp:revision>23</cp:revision>
  <dc:subject/>
  <dc:title>PowerPoint-Präsentation</dc:title>
</cp:coreProperties>
</file>