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347F-9693-4A9C-ABF0-5E0504245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E0B7-EA50-491F-9040-C725FFC24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3766-057F-48B3-AD77-898E3207C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9A8E-2E63-42DF-AC81-D4D0A3362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1F7BC-42F7-4336-B7F8-1C68764A1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FF93A-014D-4BCE-82CD-21A3C7E74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BA45E-E68D-4FB3-ACE5-45B2BFD3F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9F4A0-16E2-423B-95F8-94B65D20E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A41DA-77D4-429C-B784-90F30374C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26DC8-E619-49A3-A95A-3C0427CFF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1551E-DE51-4D7C-99A5-330FAEFB0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E081-9767-4FFF-9FB8-B25086184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0050A-7DC4-4051-A9E9-4E3A5A312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D266C-8926-4503-9356-65B58F7A8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F44B4-C2C6-41F7-A80A-6CB845704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6B81F-DBFD-4A68-A77C-83D1AC785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281CB-A6DE-43FC-BCD8-CBDFAF022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FFCC-6E59-4341-9724-C11E69CED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09DF-CC1B-4E53-A31A-9A7761165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D796-A9A1-4005-928C-E9D30BD6C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4DA2-91A9-4148-88C0-3D2623874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9DF6-6DCB-4BE1-80D8-F8906185A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A02C-AC62-4B49-A1B8-DE606290F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B86A-C1AD-4424-9F0D-7A325E13B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9FF12-7241-4A23-B45A-A65C24EE7A6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360C2-C5ED-447A-86EF-2CF27DDD2DF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67360" y="4480200"/>
            <a:ext cx="979920" cy="1159560"/>
            <a:chOff x="7767360" y="448020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62680" y="482220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37480" y="480096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05600" y="478476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67360" y="4480200"/>
              <a:ext cx="979920" cy="1159560"/>
              <a:chOff x="7767360" y="448020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886160" y="522540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27760" y="481284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05680" y="491940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484120" y="472284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23400" y="492336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22144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788000" y="475920"/>
            <a:ext cx="4356000" cy="2133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600" spc="-1" strike="noStrike">
                <a:solidFill>
                  <a:srgbClr val="ff0000"/>
                </a:solidFill>
                <a:latin typeface="Comic Sans MS"/>
              </a:rPr>
              <a:t>EVA</a:t>
            </a:r>
            <a:endParaRPr b="0" lang="en-US" sz="9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00000" y="2708280"/>
            <a:ext cx="662472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Programm fü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de-DE" sz="40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de-DE" sz="4000" spc="-1" strike="noStrike">
                <a:solidFill>
                  <a:srgbClr val="000000"/>
                </a:solidFill>
                <a:latin typeface="Comic Sans MS"/>
              </a:rPr>
              <a:t>igenverantwortliche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de-DE" sz="4000" spc="-1" strike="noStrike">
                <a:solidFill>
                  <a:srgbClr val="ff0000"/>
                </a:solidFill>
                <a:latin typeface="Comic Sans MS"/>
              </a:rPr>
              <a:t>V</a:t>
            </a:r>
            <a:r>
              <a:rPr b="0" lang="de-DE" sz="4000" spc="-1" strike="noStrike">
                <a:solidFill>
                  <a:srgbClr val="000000"/>
                </a:solidFill>
                <a:latin typeface="Comic Sans MS"/>
              </a:rPr>
              <a:t>erhaltens-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de-DE" sz="40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de-DE" sz="4000" spc="-1" strike="noStrike">
                <a:solidFill>
                  <a:srgbClr val="000000"/>
                </a:solidFill>
                <a:latin typeface="Comic Sans MS"/>
              </a:rPr>
              <a:t>enderun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omic Sans MS"/>
              </a:rPr>
              <a:t>Das EVA-Programm ist ein pädagogisches Instrumen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23640" y="1844280"/>
            <a:ext cx="828036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Das EVA-Programm nimmt die Konflikte aus dem Klassenzimmer und schützt die Lernbereit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Das EVA-Programm soll helfen, zu einem sozialverträglichen Verhalten zurückzukehren und Spannungen abzubau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Es ist keine Ordnungmaßnahme nach RS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Es schließt letztere jedoch in schwer-wiegenden Fällen nicht au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omic Sans MS"/>
              </a:rPr>
              <a:t>Der Schüler / die Schülerin muss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1280" y="2349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das Verhalten änder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versäumten Unterrichtsstoff selbstständig nachlerne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sich über die Hausaufgaben kundig machen und diese bis zur nächsten Stunde anfertige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omic Sans MS"/>
              </a:rPr>
              <a:t>Wenn EVA keinen Erfolg zeigt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3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Nach der 3. Anwesenheit im EVA-Raum muss davon ausgegangen werden, dass auf diesem Weg eine Verhaltensänderung nicht erreicht werden kann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Es folgt dann ein </a:t>
            </a:r>
            <a:r>
              <a:rPr b="1" lang="de-DE" sz="2800" spc="-1" strike="noStrike">
                <a:solidFill>
                  <a:srgbClr val="000000"/>
                </a:solidFill>
                <a:latin typeface="Comic Sans MS"/>
              </a:rPr>
              <a:t>Krisengespräch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 mit dem Kind, beiden Elternteilen, betroffenen Lehrkräften und der Schulleitung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826920" y="1330200"/>
            <a:ext cx="7345440" cy="38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omic Sans MS"/>
              </a:rPr>
              <a:t>Ausgangspunkt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918560" cy="34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Jeder Schüler hat das Recht, ungestört zu lerne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Jeder Lehrer hat das Recht, ungestört zu lehre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Jeder muss die Rechte der anderen akzeptieren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Jeder ist für sein eigenes Verhalten verantwortlic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omic Sans MS"/>
              </a:rPr>
              <a:t>Wir wollen mit dem Programm 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4360" y="2349000"/>
            <a:ext cx="7696080" cy="39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mic Sans MS"/>
              </a:rPr>
              <a:t>lernbereite Schüler schützen und unterstützen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mic Sans MS"/>
              </a:rPr>
              <a:t>einen entspannteren und erfolgreicheren Unterricht ermöglichen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mic Sans MS"/>
              </a:rPr>
              <a:t>häufig störenden Schülern und Schülerinnen soziale Schlüsselqualifikationen vermittel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omic Sans MS"/>
              </a:rPr>
              <a:t>7 Regeln für den Unterrich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1280" y="1700280"/>
            <a:ext cx="7989840" cy="44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mic Sans MS"/>
              </a:rPr>
              <a:t>Vor Beginn jeder Unterrichtsstunde lege ich alle notwendigen Materialien auf meinen Platz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mic Sans MS"/>
              </a:rPr>
              <a:t>Sollte ich mich ausnahmsweise verspäten, entschuldige ich mich und setze mich leise hin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mic Sans MS"/>
              </a:rPr>
              <a:t>Im Unterricht…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1" lang="de-DE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Comic Sans MS"/>
              </a:rPr>
              <a:t>rede ich nur bei Gruppen- bzw. Partnerarbeit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Comic Sans MS"/>
              </a:rPr>
              <a:t>mit anderen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de-DE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Comic Sans MS"/>
              </a:rPr>
              <a:t>melde ich mich und warte, bis ich aufgerufen 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Comic Sans MS"/>
              </a:rPr>
              <a:t>werde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de-DE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Comic Sans MS"/>
              </a:rPr>
              <a:t>höre ich zu, wenn andere sprechen und lasse 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Comic Sans MS"/>
              </a:rPr>
              <a:t>sie ohne Kommentar ausrede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989840" cy="41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Ich halte mich an die Anweisungen der Lehrkraft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Ich achte auf das Eigentum anderer und das der Schule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Ich beachte unsere Schulverfassung und die Hausordnung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Ich esse nicht im Unterricht und kaue keinen Kaugummi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Zwischen den Stunden verlasse ich das Klassenzimmer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nur zum Wechsel in die Fachräume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Ich habe mein Handy ausgeschaltet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Die Lehrkraft beendet den Unterricht – nicht der Gong!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Erst nachdem ich meine Hausaufgaben notiert habe,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packe ich meine Sachen ein und ziehe mich a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omic Sans MS"/>
              </a:rPr>
              <a:t>7 Regeln für den Unterrich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24000" y="343080"/>
            <a:ext cx="2303280" cy="12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In der 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Unterrichts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stun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"/>
          <p:cNvSpPr/>
          <p:nvPr/>
        </p:nvSpPr>
        <p:spPr>
          <a:xfrm>
            <a:off x="3149640" y="1143000"/>
            <a:ext cx="1828800" cy="2858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ahoma"/>
              </a:rPr>
              <a:t>Kein Einlenke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5384880" y="1771560"/>
            <a:ext cx="1422360" cy="2858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ahoma"/>
              </a:rPr>
              <a:t>2. Störun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/>
          <p:nvPr/>
        </p:nvSpPr>
        <p:spPr>
          <a:xfrm>
            <a:off x="5384880" y="1143000"/>
            <a:ext cx="1779480" cy="4856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ahoma"/>
              </a:rPr>
              <a:t>Einlenken, 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Tahoma"/>
              </a:rPr>
              <a:t>Namen an die Tafel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3149640" y="3714840"/>
            <a:ext cx="3657600" cy="1714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EVA-Rau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5013360"/>
            <a:ext cx="2133720" cy="1158840"/>
          </a:xfrm>
          <a:prstGeom prst="rect">
            <a:avLst/>
          </a:prstGeom>
          <a:solidFill>
            <a:srgbClr val="ffef66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ahoma"/>
              </a:rPr>
              <a:t>Bespreche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Tahoma"/>
              </a:rPr>
              <a:t> des EVA-Protokolls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Tahoma"/>
              </a:rPr>
              <a:t>mit der betreuenden 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Tahoma"/>
              </a:rPr>
              <a:t>Lehrkraf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711360" y="2800440"/>
            <a:ext cx="1844640" cy="120492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ahoma"/>
              </a:rPr>
              <a:t>Das EVA-Protokoll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Tahoma"/>
              </a:rPr>
              <a:t>wird angenommen 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Tahoma"/>
              </a:rPr>
              <a:t>und es erfolgt 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Tahoma"/>
              </a:rPr>
              <a:t>die Rückkehr 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Tahoma"/>
              </a:rPr>
              <a:t>in die Klass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"/>
          <p:cNvSpPr/>
          <p:nvPr/>
        </p:nvSpPr>
        <p:spPr>
          <a:xfrm>
            <a:off x="7315200" y="4514760"/>
            <a:ext cx="1320840" cy="400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ahoma"/>
              </a:rPr>
              <a:t>Fragen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Tahoma"/>
              </a:rPr>
              <a:t>stelle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/>
          <p:nvPr/>
        </p:nvSpPr>
        <p:spPr>
          <a:xfrm>
            <a:off x="7315200" y="3086280"/>
            <a:ext cx="1320840" cy="3999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ahoma"/>
              </a:rPr>
              <a:t>Keine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Tahoma"/>
              </a:rPr>
              <a:t>Einsich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/>
          <p:nvPr/>
        </p:nvSpPr>
        <p:spPr>
          <a:xfrm>
            <a:off x="7518240" y="285840"/>
            <a:ext cx="1117800" cy="839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ahoma"/>
              </a:rPr>
              <a:t>Gespräch 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Tahoma"/>
              </a:rPr>
              <a:t>mit den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Tahoma"/>
              </a:rPr>
              <a:t>Elter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/>
          <p:nvPr/>
        </p:nvSpPr>
        <p:spPr>
          <a:xfrm>
            <a:off x="7315200" y="5429160"/>
            <a:ext cx="1320840" cy="2858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ahoma"/>
              </a:rPr>
              <a:t>Einlenke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/>
          <p:nvPr/>
        </p:nvSpPr>
        <p:spPr>
          <a:xfrm>
            <a:off x="3276720" y="4005360"/>
            <a:ext cx="1800000" cy="1368360"/>
          </a:xfrm>
          <a:prstGeom prst="rect">
            <a:avLst/>
          </a:prstGeom>
          <a:solidFill>
            <a:srgbClr val="ffef66"/>
          </a:solidFill>
          <a:ln w="255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ahoma"/>
              </a:rPr>
              <a:t>Bereitschaft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Tahoma"/>
              </a:rPr>
              <a:t>zur eigenverant-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Tahoma"/>
              </a:rPr>
              <a:t>wortliche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Tahoma"/>
              </a:rPr>
              <a:t>Verhaltensänderung</a:t>
            </a:r>
            <a:br>
              <a:rPr sz="1200"/>
            </a:b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Tahoma"/>
              </a:rPr>
              <a:t>Erstellen eines 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Tahoma"/>
              </a:rPr>
              <a:t>EVA-Protokol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/>
          <p:nvPr/>
        </p:nvSpPr>
        <p:spPr>
          <a:xfrm>
            <a:off x="5276880" y="4005360"/>
            <a:ext cx="1455840" cy="1309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ahoma"/>
              </a:rPr>
              <a:t>Störung/ke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ahoma"/>
              </a:rPr>
              <a:t>Bereitschaft 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Tahoma"/>
              </a:rPr>
              <a:t>zur Mitarbe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ahoma"/>
              </a:rPr>
              <a:t>Planerstellun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ahoma"/>
              </a:rPr>
              <a:t>wird verweiger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0" y="260280"/>
            <a:ext cx="2376360" cy="752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Tahoma"/>
              </a:rPr>
              <a:t>Was machst du?“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Tahoma"/>
              </a:rPr>
              <a:t>„Welche Regel hast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Tahoma"/>
              </a:rPr>
              <a:t> du gebrochen?“etc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/>
          <p:nvPr/>
        </p:nvSpPr>
        <p:spPr>
          <a:xfrm>
            <a:off x="3759120" y="2514600"/>
            <a:ext cx="2468520" cy="843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Tahoma"/>
              </a:rPr>
              <a:t>Du hast dich also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Tahoma"/>
              </a:rPr>
              <a:t>entschieden in den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Tahoma"/>
              </a:rPr>
              <a:t>EVA-Raum zu gehen.“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"/>
          <p:cNvSpPr/>
          <p:nvPr/>
        </p:nvSpPr>
        <p:spPr>
          <a:xfrm>
            <a:off x="2946240" y="343080"/>
            <a:ext cx="1320840" cy="28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ahoma"/>
              </a:rPr>
              <a:t>1. Störun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946240" y="5943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3860640" y="5315040"/>
            <a:ext cx="0" cy="62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/>
          <p:nvPr/>
        </p:nvSpPr>
        <p:spPr>
          <a:xfrm>
            <a:off x="7924680" y="5715000"/>
            <a:ext cx="0" cy="39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4571640" y="611496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4572000" y="5315040"/>
            <a:ext cx="0" cy="799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"/>
          <p:cNvSpPr/>
          <p:nvPr/>
        </p:nvSpPr>
        <p:spPr>
          <a:xfrm>
            <a:off x="6502320" y="474336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7924680" y="3485880"/>
            <a:ext cx="0" cy="102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7924680" y="1268280"/>
            <a:ext cx="32040" cy="181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/>
          <p:nvPr/>
        </p:nvSpPr>
        <p:spPr>
          <a:xfrm>
            <a:off x="2641680" y="4572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457200"/>
            <a:ext cx="203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/>
          <p:nvPr/>
        </p:nvSpPr>
        <p:spPr>
          <a:xfrm>
            <a:off x="579132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"/>
          <p:cNvSpPr/>
          <p:nvPr/>
        </p:nvSpPr>
        <p:spPr>
          <a:xfrm>
            <a:off x="5892840" y="142884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/>
          <p:nvPr/>
        </p:nvSpPr>
        <p:spPr>
          <a:xfrm>
            <a:off x="4064040" y="1428840"/>
            <a:ext cx="0" cy="108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266720" y="981000"/>
            <a:ext cx="304920" cy="16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/>
          <p:nvPr/>
        </p:nvSpPr>
        <p:spPr>
          <a:xfrm>
            <a:off x="5867280" y="981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6502320" y="1268280"/>
            <a:ext cx="1022400" cy="244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1619280" y="1557000"/>
            <a:ext cx="0" cy="12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4978440" y="3357720"/>
            <a:ext cx="2520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1619280" y="414936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/>
          <p:nvPr/>
        </p:nvSpPr>
        <p:spPr>
          <a:xfrm>
            <a:off x="8026560" y="497196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omic Sans MS"/>
              </a:rPr>
              <a:t>Laufzettel </a:t>
            </a:r>
            <a:br>
              <a:rPr sz="4400"/>
            </a:br>
            <a:r>
              <a:rPr b="0" lang="de-DE" sz="4400" spc="-1" strike="noStrike">
                <a:solidFill>
                  <a:srgbClr val="000000"/>
                </a:solidFill>
                <a:latin typeface="Comic Sans MS"/>
              </a:rPr>
              <a:t>zum EVA-Rau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9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Datum: _________      Std. _________      Fach: _________      Lehrkraft ____________________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Schüler(in) _______________________    ________________________   Kl. ________________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                       </a:t>
            </a: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Zuname</a:t>
            </a: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     Vornam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Comic Sans MS"/>
              </a:rPr>
              <a:t>Kurze Benennung der Unterrichtsstörung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Comic Sans MS"/>
              </a:rPr>
              <a:t>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Entlasszeit  Unterricht:</a:t>
            </a: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__________________      </a:t>
            </a:r>
            <a:r>
              <a:rPr b="0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     Ankunft  EVA-Raum :__________________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Entlasszeit   EVA-Raum: </a:t>
            </a: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__________________ </a:t>
            </a: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     Ankunkft  Unterricht :_________________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Unterschrift unterrichtende Lehrkr.</a:t>
            </a: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Unterschrift EVA - Lehrkraft</a:t>
            </a: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____________________________</a:t>
            </a: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mic Sans MS"/>
              </a:rPr>
              <a:t>____________________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omic Sans MS"/>
              </a:rPr>
              <a:t>Leitlinien für die Lehrkraft im EVA-Rau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94920" y="1699920"/>
            <a:ext cx="8209080" cy="515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1. Begrüßen Sie den Schüler freundlich.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2. Erfragen Sie die Bereitschaft des Schülers zur Mitarbei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3. Achten Sie auf seine Gefühle und sprechen Sie diese an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4. Stellen Sie Ihre Fragen ruhig und sachlich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5. Lassen Sie den Schüler möglichst genau die Störungssituation schildern.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6. Versuchen Sie, den Schüler in seiner Absicht zu verstehen.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7. Lassen Sie den Schüler die Regel nennen, gegen die er verstoßen hat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8. Sprechen Sie mit dem Schüler nur über 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Comic Sans MS"/>
              </a:rPr>
              <a:t>sein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 Störverhalten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9. Gesprächsthema ist das zurückliegende und das zukünftige Verhalten des Schülers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10. Bringen Sie den Schüler bei Ausflüchten zum Thema seines Verhaltens zurück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11. Lassen Sie den Schüler selbst nach alternativem Verhalten suchen!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12. Helfen Sie ihm, Entscheidungen zu treffen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13. Geben Sie ihm Zeit, sich »durch den Lösungsprozess zu kämpfen«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14. Helfen Sie ihm bei der Erstellung des EVA-Protokoll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0000"/>
                </a:solidFill>
                <a:latin typeface="Comic Sans MS"/>
              </a:rPr>
              <a:t>EVA</a:t>
            </a:r>
            <a:r>
              <a:rPr b="0" lang="de-DE" sz="4400" spc="-1" strike="noStrike">
                <a:solidFill>
                  <a:srgbClr val="000000"/>
                </a:solidFill>
                <a:latin typeface="Comic Sans MS"/>
              </a:rPr>
              <a:t>-Protoko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353440" cy="431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76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Ein guter Plan ist verständlich, überprüfbar, erfüllbar, begründet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76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und führt zur</a:t>
            </a:r>
            <a:r>
              <a:rPr b="0" lang="de-DE" sz="2000" spc="-1" strike="noStrike">
                <a:solidFill>
                  <a:srgbClr val="ff0000"/>
                </a:solidFill>
                <a:latin typeface="Comic Sans MS"/>
              </a:rPr>
              <a:t> E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igenverantwortlichen </a:t>
            </a:r>
            <a:r>
              <a:rPr b="0" lang="de-DE" sz="2000" spc="-1" strike="noStrike">
                <a:solidFill>
                  <a:srgbClr val="ff0000"/>
                </a:solidFill>
                <a:latin typeface="Comic Sans MS"/>
              </a:rPr>
              <a:t>V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erhaltens</a:t>
            </a:r>
            <a:r>
              <a:rPr b="0" lang="de-DE" sz="20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enderu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76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76920" indent="-376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Beschreibe so genau wie möglich, was du gemacht has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76920" indent="-376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Schreibe die Regel(n) auf, gegen die du verstoßen has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76920" indent="-376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Schreibe auf, welche Folgen deine Störung für dich, für deine Mitschüler und für den Lehrer hat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76920" indent="-376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Was kann ich besser machen (mein Ziel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76920" indent="-376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Mein Plan, wie ich das schaffen kan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76920" indent="-376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Durch deine Störungen hast du Unterrichtsinhalte nicht mitbekommen, die du selbstständig nacharbeiten musst. Wen fragst du nach versäumten Unterrichtsstoff und Hausaufgaben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76920" indent="-376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Mit meiner Unterschrift bestätige ich meinen Rückkehrplan und dass ich den versäumten Unterrichtsstoff selbständig nacharbei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0T13:31:12Z</dcterms:created>
  <dc:creator>Breuer</dc:creator>
  <dc:description/>
  <dc:language>en-US</dc:language>
  <cp:lastModifiedBy>Lehrer</cp:lastModifiedBy>
  <dcterms:modified xsi:type="dcterms:W3CDTF">2005-11-25T07:07:31Z</dcterms:modified>
  <cp:revision>22</cp:revision>
  <dc:subject/>
  <dc:title>EV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