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8E3-25E7-4463-84A2-1C0A066D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BC1-548F-49EC-96E2-DDF8788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46D-3742-46F5-80FD-D2B824A4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4AD-5D1E-4163-9DB0-6E8C3B87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1A05-18B0-4A56-90A6-272ACCE0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C43D-D22D-40CF-92B9-E888B646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6B75-71FD-49A4-AD3C-DC1B4F82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CF5C-B8FF-4C4F-94CE-7B07F88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F79-9DB4-45B0-8BAB-6063BE0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4005-9ABE-47AB-8466-A28796A5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1C0-EDF8-409F-A50F-BD500C1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6B3-83B1-4CED-9D10-7DC9A9CC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56F-EFA0-4314-A003-FBF7DBF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0CF9-E20A-48C1-9FF7-800C8AD5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374-8768-407F-B270-B4E85414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7B4-BCA2-47CC-BEB7-E11D9D8C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602D-F6DE-4F3D-9374-FC74456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AAB-3FDD-4690-AE97-09B9562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DEB-8A8F-45DA-A4A7-E94CD52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893-91F0-4526-A4D3-81005A9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72B-36F5-4A36-9D7A-0ECA005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424-70FD-46EC-8B81-F86CEC5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61A-83C0-447B-A497-3680827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581-310F-4798-94CB-1260469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56E-9741-4BD2-9F08-2A630D411C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553-54D3-4E34-A5AC-94F5B11C8C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80200"/>
            <a:ext cx="979920" cy="1159560"/>
            <a:chOff x="7767360" y="448020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2220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80096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8476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80200"/>
              <a:ext cx="979920" cy="1159560"/>
              <a:chOff x="7767360" y="448020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2540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81284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9194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2284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2336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22144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4356000" cy="213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Comic Sans MS"/>
              </a:rPr>
              <a:t>EVA</a:t>
            </a:r>
            <a:endParaRPr b="0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6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Programm fü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igenverantwortlic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erhalten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ende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Das EVA-Programm ist ein pädagogisches Instru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28036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VA-Programm nimmt die Konflikte aus dem Klassenzimmer und schützt die Lernberei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VA-Programm soll helfen, zu einem sozialverträglichen Verhalten zurückzukehren und Spannungen abzubau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keine Ordnungmaßnahme nach R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schließt letztere jedoch in schwer-wiegenden Fällen nicht au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Der Schüler / die Schülerin mus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das Verhalten änd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äumten Unterrichtsstoff selbstständig nachlern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ich über die Hausaufgaben kundig machen und diese bis zur nächsten Stunde anfertig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enn EVA keinen Erfolg zeig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Nach der 3. Anwesenheit im EVA-Raum muss davon ausgegangen werden, dass auf diesem Weg eine Verhaltensänderung nicht erreicht werden kan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folgt dann ein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Krisengespräch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mit dem Kind, beiden Elternteilen, betroffenen Lehrkräften und der Schulleitu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330200"/>
            <a:ext cx="73454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Ausgangspunk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Schüler hat das Recht, ungestört zu lern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Lehrer hat das Recht, ungestört zu lehr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muss die Rechte der anderen akzeptiere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ist für sein eigenes Verhalten verantwortli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ir wollen mit dem Programm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696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lernbereite Schüler schützen und unterstützen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einen entspannteren und erfolgreicheren Unterricht ermöglichen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häufig störenden Schülern und Schülerinnen soziale Schlüsselqualifikationen vermittel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7 Regeln für den Unterric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8984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Vor Beginn jeder Unterrichtsstunde lege ich alle notwendigen Materialien auf meinen Platz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ollte ich mich ausnahmsweise verspäten, entschuldige ich mich und setze mich leise hi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m Unterricht…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rede ich nur bei Gruppen- bzw. Partnerarbei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it ander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elde ich mich und warte, bis ich aufgeruf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wer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höre ich zu, wenn andere sprechen und lasse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ie ohne Kommentar ausre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989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halte mich an die Anweisungen der Lehrkraf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achte auf das Eigentum anderer und das der Schul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beachte unsere Schulverfassung und die Hausordn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esse nicht im Unterricht und kaue keinen Kaugummi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Zwischen den Stunden verlasse ich das Klassenzimm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nur zum Wechsel in die Fachräum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habe mein Handy ausgeschalte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ie Lehrkraft beendet den Unterricht – nicht der Gong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Erst nachdem ich meine Hausaufgaben notiert habe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packe ich meine Sachen ein und ziehe mich 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7 Regeln für den Unterric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43080"/>
            <a:ext cx="2303280" cy="12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d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terrichts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un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149640" y="1143000"/>
            <a:ext cx="1828800" cy="28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Kein Einlenk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384880" y="1771560"/>
            <a:ext cx="1422360" cy="28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2. Störu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384880" y="1143000"/>
            <a:ext cx="1779480" cy="48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lenken,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Namen an die Taf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149640" y="3714840"/>
            <a:ext cx="3657600" cy="1714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VA-Ra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013360"/>
            <a:ext cx="2133720" cy="1158840"/>
          </a:xfrm>
          <a:prstGeom prst="rect">
            <a:avLst/>
          </a:prstGeom>
          <a:solidFill>
            <a:srgbClr val="ffef66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sprec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 des EVA-Protokoll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mit der betreuen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Lehrkra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2800440"/>
            <a:ext cx="1844640" cy="12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as EVA-Protoko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wird angenomm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und es erfolgt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ie Rückkehr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in die Klas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4514760"/>
            <a:ext cx="1320840" cy="40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Frag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tell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086280"/>
            <a:ext cx="132084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Kein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sich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518240" y="285840"/>
            <a:ext cx="1117800" cy="83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Gespräch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mit d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lter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5429160"/>
            <a:ext cx="1320840" cy="285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lenk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005360"/>
            <a:ext cx="1800000" cy="1368360"/>
          </a:xfrm>
          <a:prstGeom prst="rect">
            <a:avLst/>
          </a:prstGeom>
          <a:solidFill>
            <a:srgbClr val="ffef66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reitschaf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zur eigenvera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wortlic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Verhaltensänder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Erstellen eines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EVA-Protoko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276880" y="4005360"/>
            <a:ext cx="1455840" cy="13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Störung/ke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reitschaft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zur Mitarbe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Planerstellu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wird verweig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0280"/>
            <a:ext cx="2376360" cy="75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Was machst du?“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Welche Regel has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 du gebrochen?“et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759120" y="2514600"/>
            <a:ext cx="2468520" cy="843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u hast dich also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ntschieden in d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VA-Raum zu gehen.“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46240" y="343080"/>
            <a:ext cx="1320840" cy="28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1. Störu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4624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60640" y="53150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57150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71640" y="6114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72000" y="53150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502320" y="4743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924680" y="348588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924680" y="1268280"/>
            <a:ext cx="32040" cy="181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641680" y="457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7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5892840" y="142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064040" y="142884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266720" y="981000"/>
            <a:ext cx="30492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502320" y="1268280"/>
            <a:ext cx="1022400" cy="244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19280" y="1557000"/>
            <a:ext cx="0" cy="12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78440" y="3357720"/>
            <a:ext cx="252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19280" y="41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8026560" y="4971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Laufzettel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zum EVA-Ra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Datum: _________      Std. _________      Fach: _________      Lehrkraft 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chüler(in) _______________________    ________________________   Kl. 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Zuname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Vor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omic Sans MS"/>
              </a:rPr>
              <a:t>Kurze Benennung der Unterrichtsstörung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lasszeit  Unterricht: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    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Ankunft  EVA-Raum :__________________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lasszeit   EVA-Raum: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Ankunkft  Unterricht :_________________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Unterschrift unterrichtende Lehrkr.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Unterschrift EVA - Lehrkraft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Leitlinien für die Lehrkraft im EVA-Ra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0908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. Begrüßen Sie den Schüler freundlich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2. Erfragen Sie die Bereitschaft des Schülers zur Mitarbe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3. Achten Sie auf seine Gefühle und sprechen Sie diese a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4. Stellen Sie Ihre Fragen ruhig und sachlich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5. Lassen Sie den Schüler möglichst genau die Störungssituation schilder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6. Versuchen Sie, den Schüler in seiner Absicht zu verstehe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7. Lassen Sie den Schüler die Regel nennen, gegen die er verstoßen ha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8. Sprechen Sie mit dem Schüler nur üb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sein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Störverhalt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9. Gesprächsthema ist das zurückliegende und das zukünftige Verhalten des Schül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0. Bringen Sie den Schüler bei Ausflüchten zum Thema seines Verhaltens zurück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1. Lassen Sie den Schüler selbst nach alternativem Verhalten suchen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2. Helfen Sie ihm, Entscheidungen zu treff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3. Geben Sie ihm Zeit, sich »durch den Lösungsprozess zu kämpfen«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4. Helfen Sie ihm bei der Erstellung des EVA-Protokoll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EVA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-Protoko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5344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 guter Plan ist verständlich, überprüfbar, erfüllbar, begründ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und führt zur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genverantwortlichen 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haltens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nd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reibe so genau wie möglich, was du gemacht h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chreibe die Regel(n) auf, gegen die du verstoßen h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chreibe auf, welche Folgen deine Störung für dich, für deine Mitschüler und für den Lehrer hat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s kann ich besser machen (mein Zi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in Plan, wie ich das schaffen kan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Durch deine Störungen hast du Unterrichtsinhalte nicht mitbekommen, die du selbstständig nacharbeiten musst. Wen fragst du nach versäumten Unterrichtsstoff und Hausaufgab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it meiner Unterschrift bestätige ich meinen Rückkehrplan und dass ich den versäumten Unterrichtsstoff selbständig nacharbe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3:31:12Z</dcterms:created>
  <dc:creator>Breuer</dc:creator>
  <dc:description/>
  <dc:language>en-US</dc:language>
  <cp:lastModifiedBy>Lehrer</cp:lastModifiedBy>
  <dcterms:modified xsi:type="dcterms:W3CDTF">2005-11-25T07:07:31Z</dcterms:modified>
  <cp:revision>22</cp:revision>
  <dc:subject/>
  <dc:title>E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