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B13D-326D-4D8D-89B6-63FFCE3F3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21C2-FAB3-492D-94CD-8D95425F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9646-995A-40DB-A135-00F467C35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4937-1C88-4D24-B881-995A2BD69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15C4-F378-4AF2-A9BF-5D5821B22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0D14-11C1-4D8C-A20E-164971EF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D5B4-36C9-41B8-88CC-D5D7D331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4310F-5397-43B7-A252-712CE408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C176-AB45-447C-BF89-9D8317A9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A5D9-3890-4117-BAD5-1042DA34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EFFF-1ADF-49B3-8DC5-9C736688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40EB-4C03-4E75-9FAA-B431361F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4291-25E3-4658-84B8-D3CB4F87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8175-98C8-4650-9B9E-3F422837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0154-83DB-4BAA-99E4-297D3160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BF43-E547-4F0E-9B41-2603E13C3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5B99-EC2F-4EE1-813C-7294D9DF3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8353-7FBE-4BEB-914B-83917082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FA72-7679-4D1C-831C-A473A997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A393-C14E-447D-8D48-B04FBCB7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3901-E40D-44D6-BF88-1A9160B7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634F-B746-4ACC-97B4-0EE4E349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4677-4B23-4804-AD23-1584270D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845F-7C7B-492F-9999-BD5F3B48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DBF5-C8C2-48E2-95C6-CBC7EA22CD3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8AAF-24CD-4DF0-BB3D-D748217DD4F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67360" y="4480200"/>
            <a:ext cx="979920" cy="1159560"/>
            <a:chOff x="7767360" y="448020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62680" y="482220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37480" y="480096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05600" y="478476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67360" y="4480200"/>
              <a:ext cx="979920" cy="1159560"/>
              <a:chOff x="7767360" y="448020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886160" y="522540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27760" y="481284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05680" y="491940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484120" y="472284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23400" y="492336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22144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788000" y="475920"/>
            <a:ext cx="4356000" cy="2133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ff0000"/>
                </a:solidFill>
                <a:latin typeface="Comic Sans MS"/>
              </a:rPr>
              <a:t>EVA</a:t>
            </a:r>
            <a:endParaRPr b="0" lang="en-US" sz="9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00000" y="2708280"/>
            <a:ext cx="662472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Programm fü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de-DE" sz="40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de-DE" sz="4000" spc="-1" strike="noStrike">
                <a:solidFill>
                  <a:srgbClr val="000000"/>
                </a:solidFill>
                <a:latin typeface="Comic Sans MS"/>
              </a:rPr>
              <a:t>igenverantwortliche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de-DE" sz="40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de-DE" sz="4000" spc="-1" strike="noStrike">
                <a:solidFill>
                  <a:srgbClr val="000000"/>
                </a:solidFill>
                <a:latin typeface="Comic Sans MS"/>
              </a:rPr>
              <a:t>erhaltens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de-DE" sz="40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de-DE" sz="4000" spc="-1" strike="noStrike">
                <a:solidFill>
                  <a:srgbClr val="000000"/>
                </a:solidFill>
                <a:latin typeface="Comic Sans MS"/>
              </a:rPr>
              <a:t>enderu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omic Sans MS"/>
              </a:rPr>
              <a:t>Das EVA-Programm ist ein pädagogisches Instrumen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828036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Das EVA-Programm nimmt die Konflikte aus dem Klassenzimmer und schützt die Lernbereit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Das EVA-Programm soll helfen, zu einem sozialverträglichen Verhalten zurückzukehren und Spannungen abzubau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Es ist keine Ordnungmaßnahme nach RS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Es schließt letztere jedoch in schwer-wiegenden Fällen nicht au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Der Schüler / die Schülerin mus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1280" y="2349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das Verhalten änder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versäumten Unterrichtsstoff selbstständig nachlern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sich über die Hausaufgaben kundig machen und diese bis zur nächsten Stunde anfertig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Wenn EVA keinen Erfolg zeigt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Nach der 3. Anwesenheit im EVA-Raum muss davon ausgegangen werden, dass auf diesem Weg eine Verhaltensänderung nicht erreicht werden kann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Es folgt dann ein </a:t>
            </a:r>
            <a:r>
              <a:rPr b="1" lang="de-DE" sz="2800" spc="-1" strike="noStrike">
                <a:solidFill>
                  <a:srgbClr val="000000"/>
                </a:solidFill>
                <a:latin typeface="Comic Sans MS"/>
              </a:rPr>
              <a:t>Krisengespräch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mit dem Kind, beiden Elternteilen, betroffenen Lehrkräften und der Schulleitung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826920" y="1330200"/>
            <a:ext cx="7345440" cy="38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Ausgangspunkt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918560" cy="34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Jeder Schüler hat das Recht, ungestört zu lern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Jeder Lehrer hat das Recht, ungestört zu lehr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Jeder muss die Rechte der anderen akzeptieren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Jeder ist für sein eigenes Verhalten verantwortli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Wir wollen mit dem Programm 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2349000"/>
            <a:ext cx="769608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lernbereite Schüler schützen und unterstützen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einen entspannteren und erfolgreicheren Unterricht ermöglichen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häufig störenden Schülern und Schülerinnen soziale Schlüsselqualifikationen vermittel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7 Regeln für den Unterrich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98984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Vor Beginn jeder Unterrichtsstunde lege ich alle notwendigen Materialien auf meinen Platz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Sollte ich mich ausnahmsweise verspäten, entschuldige ich mich und setze mich leise hin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Im Unterricht…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rede ich nur bei Gruppen- bzw. Partnerarbeit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mit anderen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melde ich mich und warte, bis ich aufgerufen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werde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höre ich zu, wenn andere sprechen und lasse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sie ohne Kommentar ausred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98984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Ich halte mich an die Anweisungen der Lehrkraft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Ich achte auf das Eigentum anderer und das der Schul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Ich beachte unsere Schulverfassung und die Hausordnung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Ich esse nicht im Unterricht und kaue keinen Kaugummi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Zwischen den Stunden verlasse ich das Klassenzimme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nur zum Wechsel in die Fachräum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Ich habe mein Handy ausgeschaltet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Die Lehrkraft beendet den Unterricht – nicht der Gong!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Erst nachdem ich meine Hausaufgaben notiert habe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packe ich meine Sachen ein und ziehe mich a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7 Regeln für den Unterrich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24000" y="343080"/>
            <a:ext cx="2303280" cy="12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n der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Unterrichts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tun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3149640" y="1143000"/>
            <a:ext cx="1828800" cy="285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Kein Einlenke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5384880" y="1771560"/>
            <a:ext cx="1422360" cy="285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2. Störu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5384880" y="1143000"/>
            <a:ext cx="1779480" cy="48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Einlenken,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Namen an die Tafe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3149640" y="3714840"/>
            <a:ext cx="3657600" cy="1714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VA-Rau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5013360"/>
            <a:ext cx="2133720" cy="1158840"/>
          </a:xfrm>
          <a:prstGeom prst="rect">
            <a:avLst/>
          </a:prstGeom>
          <a:solidFill>
            <a:srgbClr val="ffef66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ahoma"/>
              </a:rPr>
              <a:t>Besprech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Tahoma"/>
              </a:rPr>
              <a:t> des EVA-Protokolls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Tahoma"/>
              </a:rPr>
              <a:t>mit der betreuenden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Tahoma"/>
              </a:rPr>
              <a:t>Lehrkraf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711360" y="2800440"/>
            <a:ext cx="1844640" cy="120492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Das EVA-Protokoll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wird angenommen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und es erfolgt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die Rückkehr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in die Klass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7315200" y="4514760"/>
            <a:ext cx="1320840" cy="400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Fragen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stelle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7315200" y="3086280"/>
            <a:ext cx="1320840" cy="399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Keine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Einsich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7518240" y="285840"/>
            <a:ext cx="1117800" cy="839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Gespräch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mit den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Elter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7315200" y="5429160"/>
            <a:ext cx="1320840" cy="2858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Einlenke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4005360"/>
            <a:ext cx="1800000" cy="1368360"/>
          </a:xfrm>
          <a:prstGeom prst="rect">
            <a:avLst/>
          </a:prstGeom>
          <a:solidFill>
            <a:srgbClr val="ffef66"/>
          </a:solidFill>
          <a:ln w="255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ahoma"/>
              </a:rPr>
              <a:t>Bereitschaft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Tahoma"/>
              </a:rPr>
              <a:t>zur eigenverant-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Tahoma"/>
              </a:rPr>
              <a:t>wortlich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Tahoma"/>
              </a:rPr>
              <a:t>Verhaltensänderung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Tahoma"/>
              </a:rPr>
              <a:t>Erstellen eines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Tahoma"/>
              </a:rPr>
              <a:t>EVA-Protoko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5276880" y="4005360"/>
            <a:ext cx="1455840" cy="1309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ahoma"/>
              </a:rPr>
              <a:t>Störung/ke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ahoma"/>
              </a:rPr>
              <a:t>Bereitschaft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Tahoma"/>
              </a:rPr>
              <a:t>zur Mitarbe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ahoma"/>
              </a:rPr>
              <a:t>Planerstellu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ahoma"/>
              </a:rPr>
              <a:t>wird verweige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260280"/>
            <a:ext cx="2376360" cy="752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Was machst du?“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„Welche Regel hast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 du gebrochen?“etc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3759120" y="2514600"/>
            <a:ext cx="2468520" cy="843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Du hast dich also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entschieden in den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EVA-Raum zu gehen.“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2946240" y="343080"/>
            <a:ext cx="1320840" cy="28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1. Störu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46240" y="5943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860640" y="5315040"/>
            <a:ext cx="0" cy="62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7924680" y="571500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571640" y="611496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572000" y="5315040"/>
            <a:ext cx="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6502320" y="474336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7924680" y="3485880"/>
            <a:ext cx="0" cy="102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7924680" y="1268280"/>
            <a:ext cx="32040" cy="181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2641680" y="457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457200"/>
            <a:ext cx="20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579132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5892840" y="142884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4064040" y="1428840"/>
            <a:ext cx="0" cy="10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266720" y="981000"/>
            <a:ext cx="304920" cy="16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5867280" y="981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502320" y="1268280"/>
            <a:ext cx="1022400" cy="244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1619280" y="1557000"/>
            <a:ext cx="0" cy="12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978440" y="3357720"/>
            <a:ext cx="2520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619280" y="4149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8026560" y="49719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Laufzettel </a:t>
            </a:r>
            <a:br>
              <a:rPr sz="4400"/>
            </a:b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zum EVA-Rau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Datum: _________      Std. _________      Fach: _________      Lehrkraft ____________________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Schüler(in) _______________________    ________________________   Kl. ________________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Zuname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    Vorna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Comic Sans MS"/>
              </a:rPr>
              <a:t>Kurze Benennung der Unterrichtsstörung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Comic Sans MS"/>
              </a:rPr>
              <a:t>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Entlasszeit  Unterricht: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__________________     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    Ankunft  EVA-Raum :__________________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Entlasszeit   EVA-Raum: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__________________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    Ankunkft  Unterricht :_________________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Unterschrift unterrichtende Lehrkr.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Unterschrift EVA - Lehrkraft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____________________________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____________________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Leitlinien für die Lehrkraft im EVA-Rau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209080" cy="515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1. Begrüßen Sie den Schüler freundlich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2. Erfragen Sie die Bereitschaft des Schülers zur Mitarbei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3. Achten Sie auf seine Gefühle und sprechen Sie diese an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4. Stellen Sie Ihre Fragen ruhig und sachlich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5. Lassen Sie den Schüler möglichst genau die Störungssituation schildern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6. Versuchen Sie, den Schüler in seiner Absicht zu verstehen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7. Lassen Sie den Schüler die Regel nennen, gegen die er verstoßen hat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8. Sprechen Sie mit dem Schüler nur über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Comic Sans MS"/>
              </a:rPr>
              <a:t>sein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Störverhalten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9. Gesprächsthema ist das zurückliegende und das zukünftige Verhalten des Schülers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10. Bringen Sie den Schüler bei Ausflüchten zum Thema seines Verhaltens zurück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11. Lassen Sie den Schüler selbst nach alternativem Verhalten suchen!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12. Helfen Sie ihm, Entscheidungen zu treffen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13. Geben Sie ihm Zeit, sich »durch den Lösungsprozess zu kämpfen«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14. Helfen Sie ihm bei der Erstellung des EVA-Protokoll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EVA</a:t>
            </a: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-Protoko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353440" cy="431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Ein guter Plan ist verständlich, überprüfbar, erfüllbar, begründe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und führt zur</a:t>
            </a:r>
            <a:r>
              <a:rPr b="0" lang="de-DE" sz="2000" spc="-1" strike="noStrike">
                <a:solidFill>
                  <a:srgbClr val="ff0000"/>
                </a:solidFill>
                <a:latin typeface="Comic Sans MS"/>
              </a:rPr>
              <a:t> E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igenverantwortlichen </a:t>
            </a:r>
            <a:r>
              <a:rPr b="0" lang="de-DE" sz="20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erhaltens</a:t>
            </a:r>
            <a:r>
              <a:rPr b="0" lang="de-DE" sz="20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enderu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Beschreibe so genau wie möglich, was du gemacht ha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Schreibe die Regel(n) auf, gegen die du verstoßen ha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Schreibe auf, welche Folgen deine Störung für dich, für deine Mitschüler und für den Lehrer hat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Was kann ich besser machen (mein Ziel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Mein Plan, wie ich das schaffen kan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Durch deine Störungen hast du Unterrichtsinhalte nicht mitbekommen, die du selbstständig nacharbeiten musst. Wen fragst du nach versäumten Unterrichtsstoff und Hausaufgaben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Mit meiner Unterschrift bestätige ich meinen Rückkehrplan und dass ich den versäumten Unterrichtsstoff selbständig nacharbei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13:31:12Z</dcterms:created>
  <dc:creator>Breuer</dc:creator>
  <dc:description/>
  <dc:language>en-US</dc:language>
  <cp:lastModifiedBy>Lehrer</cp:lastModifiedBy>
  <dcterms:modified xsi:type="dcterms:W3CDTF">2005-11-25T07:07:31Z</dcterms:modified>
  <cp:revision>22</cp:revision>
  <dc:subject/>
  <dc:title>E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