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5.png" ContentType="image/png"/>
  <Override PartName="/ppt/media/image2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A8AB-E5DF-46B2-B970-0F87A6FF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5EA-F79F-4D61-9B27-C38EAC03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34AD-87EF-4ECC-926E-EA7BB98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48C-6055-48FA-8CF8-DD1FFFA97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FD15A-D63D-4DA2-8446-196D86A6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1C1E-6134-4379-8F9D-7082B6A0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87C0-C6DE-49E6-BE2A-81218894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225A-157E-4EB7-A36D-24F4067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1C85-B77A-41B7-9951-3843640F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CDE7-119A-4E27-9672-C87DE2B6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40266-C714-41EF-BC6A-D81DD71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B57-E781-4918-B6FB-061E65E7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6C27-8FDE-49B0-9F23-AEC21140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0466-B650-4FC2-BCEC-0D3FE3F7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85773-1EB0-4AFE-9FCD-E19EAFB9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128B-75B8-4580-8239-B9458C6F0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B8CE-0ABD-4FFC-B6D7-03DAE3E8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D9CD-602A-42F2-8A7F-D5821C56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5898-952F-42CD-8A08-4DCB8D1D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EE8-F7A1-4A69-8B24-09874887F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769-6059-4E99-A79C-22308A7B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3A9-E5DA-41B5-BAC7-721765EE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BFB9-D457-4576-9448-4CA385CF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BFD8-3658-4612-A593-6BE60FA5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E460-A031-4A56-A868-00D04AE19DA7}" type="slidenum">
              <a:rPr b="0" lang="de-DE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2" name="ARTBANNA" descr=""/>
            <p:cNvPicPr/>
            <p:nvPr/>
          </p:nvPicPr>
          <p:blipFill>
            <a:blip r:embed="rId2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Arthsepa" descr=""/>
            <p:cNvPicPr/>
            <p:nvPr/>
          </p:nvPicPr>
          <p:blipFill>
            <a:blip r:embed="rId3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A3BB-671E-4DDF-86DE-35F3FCFEAC75}" type="slidenum">
              <a:rPr b="0" lang="de-DE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Ein paar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990720"/>
            <a:ext cx="7010280" cy="4572000"/>
          </a:xfrm>
          <a:prstGeom prst="cloudCallout">
            <a:avLst>
              <a:gd name="adj1" fmla="val -46148"/>
              <a:gd name="adj2" fmla="val 64166"/>
            </a:avLst>
          </a:prstGeom>
          <a:solidFill>
            <a:srgbClr val="99ccff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25146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000000"/>
                </a:solidFill>
                <a:latin typeface="Comic Sans MS"/>
              </a:rPr>
              <a:t>    … </a:t>
            </a:r>
            <a:r>
              <a:rPr b="1" lang="de-DE" sz="6000" spc="-1" strike="noStrike">
                <a:solidFill>
                  <a:srgbClr val="000000"/>
                </a:solidFill>
                <a:latin typeface="Comic Sans MS"/>
              </a:rPr>
              <a:t>Anregungen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1" descr=""/>
          <p:cNvPicPr/>
          <p:nvPr/>
        </p:nvPicPr>
        <p:blipFill>
          <a:blip r:embed="rId1"/>
          <a:stretch/>
        </p:blipFill>
        <p:spPr>
          <a:xfrm>
            <a:off x="3733920" y="380880"/>
            <a:ext cx="5154480" cy="609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05720" y="1143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3200" spc="-1" strike="noStrike">
                <a:solidFill>
                  <a:srgbClr val="000000"/>
                </a:solidFill>
                <a:latin typeface="Times New Roman"/>
              </a:rPr>
              <a:t>G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80" y="37836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ie GoB‘s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403640"/>
            <a:ext cx="3505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Bereits in 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7. Jahrgangsstufe ist auf eine saubere Arbeits-weise zu achten!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Comic Sans MS"/>
              </a:rPr>
              <a:t>=&gt; Grundsätze ordnungsmäßiger Buchführung (GoB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960" y="3783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enn doch, dann …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1371600"/>
            <a:ext cx="5181480" cy="22885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ne Arbeit weist eine Reihe von Verstößen gegen die äußere Form auf. Wegen der mangelhaften äußeren Form wird deshalb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im nächsten Ma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ine Note um eine Notenstufe herabgesetzt (vgl. § 53 Abs. 2 RSO)!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4038480"/>
            <a:ext cx="5562720" cy="2266560"/>
          </a:xfrm>
          <a:prstGeom prst="rect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ne Arbeit weist eine Reihe von Verstößen gegen die äußere Form auf. Wegen der mangelhaften äußeren Form wird deshalb deine Note um eine Noten-stufe herabgesetzt (vgl. § 53 Abs. 2 RSO)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2362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gibt’s einen Aufkleber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280" y="22608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ebenrechnungen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5112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chten Sie bitte, dass …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…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i Berechnungen jeweils alle notwendigen Lösungsschritte      und Nebenrechnungen anzugeben sin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3062160"/>
            <a:ext cx="868680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z.B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Rechnungsbetrag          4.188,80 €   ↓   100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Times New Roman"/>
                <a:ea typeface="Courier New"/>
              </a:rPr>
              <a:t>- Brutto-Skonto               104,72 €          2,5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Überweisungsbetrag     4.084,08 €   ↑  97,5%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Netto-Skonto = 104,72 : 1,19 = 88,00 €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auch: Zeitliche Abgrenzung (Aufteilen des Betrages mit Hilfe eines Zeitstrahls), Anpassung der Wertberichtigungen, teilweiser Ausfall einer Forderung, …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863640" indent="-8636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Übung macht den Meister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9" name="2" descr=""/>
          <p:cNvPicPr/>
          <p:nvPr/>
        </p:nvPicPr>
        <p:blipFill>
          <a:blip r:embed="rId1"/>
          <a:stretch/>
        </p:blipFill>
        <p:spPr>
          <a:xfrm>
            <a:off x="6095880" y="1219320"/>
            <a:ext cx="2905200" cy="4038480"/>
          </a:xfrm>
          <a:prstGeom prst="rect">
            <a:avLst/>
          </a:prstGeom>
          <a:ln w="0">
            <a:noFill/>
          </a:ln>
        </p:spPr>
      </p:pic>
      <p:pic>
        <p:nvPicPr>
          <p:cNvPr id="130" name="3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3081240" cy="4343400"/>
          </a:xfrm>
          <a:prstGeom prst="rect">
            <a:avLst/>
          </a:prstGeom>
          <a:ln w="0">
            <a:noFill/>
          </a:ln>
        </p:spPr>
      </p:pic>
      <p:pic>
        <p:nvPicPr>
          <p:cNvPr id="131" name="4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3124080" y="838080"/>
            <a:ext cx="2524320" cy="3505320"/>
          </a:xfrm>
          <a:prstGeom prst="rect">
            <a:avLst/>
          </a:prstGeom>
          <a:ln w="0">
            <a:noFill/>
          </a:ln>
        </p:spPr>
      </p:pic>
      <p:pic>
        <p:nvPicPr>
          <p:cNvPr id="132" name="1" descr=""/>
          <p:cNvPicPr/>
          <p:nvPr/>
        </p:nvPicPr>
        <p:blipFill>
          <a:blip r:embed="rId4"/>
          <a:stretch/>
        </p:blipFill>
        <p:spPr>
          <a:xfrm>
            <a:off x="4419720" y="3124080"/>
            <a:ext cx="2523960" cy="3570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5960" y="3024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Wichtige Internetadressen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295280"/>
            <a:ext cx="853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reuz und quer durch BwR/WiR (umfassende Materialsammlung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manfred-jahreis.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hrpläne, Materialien, Publikationen und Abschlussprüfung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isb.bayern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errichtsmateriali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bildungsserver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info-wr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lehrer-online.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rechnungswesen-unterri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wirtschaftre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wr-unterricht.d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zum.d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tuelles von den Fachmitarbeiter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ww.realschule.bayern.de/uf/beratung/fachmitarbei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183360" y="2666880"/>
            <a:ext cx="242712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otenanzahl RSO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724040"/>
            <a:ext cx="9144000" cy="46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§ 51   Kleine Leistungsnachwei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6) </a:t>
            </a:r>
            <a:r>
              <a:rPr b="0" lang="de-DE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e Zahl der Kurzarbeiten und Stegreifaufgaben sowie der mündlichen und praktischen Leistungsnachweise bestimmt die Lehrkraft des betreffenden Fachs. </a:t>
            </a:r>
            <a:r>
              <a:rPr b="1" lang="de-DE" sz="2400" spc="-1" strike="noStrike" baseline="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 jedem Schulhalbjahr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ind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je Fach insgesamt mindestens zwei,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n mehr als zweistündigen Fächern mindestens drei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eistungsnachweis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ch Satz 1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zu fordern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,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dav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zwei- und mehrstündigen Vorrückungsfächern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mindestens ein Leistungsnachweis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im Sinn von Absatz 4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[§ 51 (4) … Rechenschaftsablagen, Referate und Unterrichtsbeiträge]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280" y="30240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Sinnvolle Verteilung der SA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1671480"/>
          <a:ext cx="6096240" cy="41954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hrgangs-stuf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Halbjah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Halbjah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Klass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gr_p086207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858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845751A1" descr=""/>
          <p:cNvPicPr/>
          <p:nvPr/>
        </p:nvPicPr>
        <p:blipFill>
          <a:blip r:embed="rId2"/>
          <a:stretch/>
        </p:blipFill>
        <p:spPr>
          <a:xfrm>
            <a:off x="5867280" y="1828800"/>
            <a:ext cx="2924280" cy="3848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280" y="304560"/>
            <a:ext cx="86378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er Anfa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4" name="000" descr=""/>
          <p:cNvPicPr/>
          <p:nvPr/>
        </p:nvPicPr>
        <p:blipFill>
          <a:blip r:embed="rId3"/>
          <a:stretch/>
        </p:blipFill>
        <p:spPr>
          <a:xfrm>
            <a:off x="228600" y="2743200"/>
            <a:ext cx="2841480" cy="3962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905120" y="1736640"/>
            <a:ext cx="236196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66"/>
                </a:solidFill>
                <a:latin typeface="Lucida Handwriting"/>
              </a:rPr>
              <a:t>BW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Lucida Handwriting"/>
              </a:rPr>
              <a:t>Bert  Buchhalter,  Kl. 7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66"/>
                </a:solidFill>
                <a:latin typeface="Lucida Handwriting"/>
              </a:rPr>
              <a:t>Frau  Leyd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5280" y="37836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Zielvereinbaru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371600"/>
            <a:ext cx="8305920" cy="4876920"/>
          </a:xfrm>
          <a:prstGeom prst="verticalScroll">
            <a:avLst>
              <a:gd name="adj" fmla="val 12500"/>
            </a:avLst>
          </a:prstGeom>
          <a:solidFill>
            <a:srgbClr val="ffff00">
              <a:alpha val="50000"/>
            </a:srgbClr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                                                        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                                                               </a:t>
            </a:r>
            <a:r>
              <a:rPr b="1" lang="de-DE" sz="1600" spc="-1" strike="noStrike">
                <a:solidFill>
                  <a:srgbClr val="000000"/>
                </a:solidFill>
                <a:latin typeface="Lucida Handwriting"/>
              </a:rPr>
              <a:t>Hösbach, 14.09.2007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Ich  verpflichte mich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meine BwR-Materialien mitzubringen 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den behandelten Unterrichtsstoff selbst-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ständig im Buch nachzubereiten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alle Hausaufgaben zu erledigen ,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immer sauber und ordentlich zu arbeiten 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Lucida Handwriting"/>
              </a:rPr>
              <a:t>   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Lucida Handwriting"/>
              </a:rPr>
              <a:t>                      </a:t>
            </a:r>
            <a:r>
              <a:rPr b="1" lang="de-DE" sz="2800" spc="-1" strike="noStrike">
                <a:solidFill>
                  <a:srgbClr val="000000"/>
                </a:solidFill>
                <a:latin typeface="Lucida Handwriting"/>
              </a:rPr>
              <a:t>Sarah Lieb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96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45468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ie Ausstattung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99" name="geodreieck_gedreht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4572000" cy="2405160"/>
          </a:xfrm>
          <a:prstGeom prst="rect">
            <a:avLst/>
          </a:prstGeom>
          <a:ln w="0">
            <a:noFill/>
          </a:ln>
        </p:spPr>
      </p:pic>
      <p:pic>
        <p:nvPicPr>
          <p:cNvPr id="100" name="pelikanjunior-feder" descr=""/>
          <p:cNvPicPr/>
          <p:nvPr/>
        </p:nvPicPr>
        <p:blipFill>
          <a:blip r:embed="rId2"/>
          <a:stretch/>
        </p:blipFill>
        <p:spPr>
          <a:xfrm>
            <a:off x="4876920" y="9334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01" name="url" descr=""/>
          <p:cNvPicPr/>
          <p:nvPr/>
        </p:nvPicPr>
        <p:blipFill>
          <a:blip r:embed="rId3"/>
          <a:stretch/>
        </p:blipFill>
        <p:spPr>
          <a:xfrm>
            <a:off x="1676520" y="1905120"/>
            <a:ext cx="2925720" cy="593640"/>
          </a:xfrm>
          <a:prstGeom prst="rect">
            <a:avLst/>
          </a:prstGeom>
          <a:ln w="0">
            <a:noFill/>
          </a:ln>
        </p:spPr>
      </p:pic>
      <p:pic>
        <p:nvPicPr>
          <p:cNvPr id="102" name="bleistift" descr=""/>
          <p:cNvPicPr/>
          <p:nvPr/>
        </p:nvPicPr>
        <p:blipFill>
          <a:blip r:embed="rId4"/>
          <a:stretch/>
        </p:blipFill>
        <p:spPr>
          <a:xfrm>
            <a:off x="838080" y="2971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03" name="000" descr=""/>
          <p:cNvPicPr/>
          <p:nvPr/>
        </p:nvPicPr>
        <p:blipFill>
          <a:blip r:embed="rId5"/>
          <a:stretch/>
        </p:blipFill>
        <p:spPr>
          <a:xfrm>
            <a:off x="2057400" y="15238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4" name="000" descr=""/>
          <p:cNvPicPr/>
          <p:nvPr/>
        </p:nvPicPr>
        <p:blipFill>
          <a:blip r:embed="rId6"/>
          <a:stretch/>
        </p:blipFill>
        <p:spPr>
          <a:xfrm>
            <a:off x="3657600" y="5029200"/>
            <a:ext cx="2057400" cy="1273320"/>
          </a:xfrm>
          <a:prstGeom prst="rect">
            <a:avLst/>
          </a:prstGeom>
          <a:ln w="0">
            <a:noFill/>
          </a:ln>
        </p:spPr>
      </p:pic>
      <p:pic>
        <p:nvPicPr>
          <p:cNvPr id="105" name="000" descr=""/>
          <p:cNvPicPr/>
          <p:nvPr/>
        </p:nvPicPr>
        <p:blipFill>
          <a:blip r:embed="rId7"/>
          <a:stretch/>
        </p:blipFill>
        <p:spPr>
          <a:xfrm>
            <a:off x="4648320" y="228600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454680"/>
            <a:ext cx="8637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Nicht erwünscht …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7" name="rapid" descr=""/>
          <p:cNvPicPr/>
          <p:nvPr/>
        </p:nvPicPr>
        <p:blipFill>
          <a:blip r:embed="rId1"/>
          <a:stretch/>
        </p:blipFill>
        <p:spPr>
          <a:xfrm>
            <a:off x="205740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08" name="000" descr=""/>
          <p:cNvPicPr/>
          <p:nvPr/>
        </p:nvPicPr>
        <p:blipFill>
          <a:blip r:embed="rId2"/>
          <a:stretch/>
        </p:blipFill>
        <p:spPr>
          <a:xfrm>
            <a:off x="3846600" y="533520"/>
            <a:ext cx="4078080" cy="4572000"/>
          </a:xfrm>
          <a:prstGeom prst="rect">
            <a:avLst/>
          </a:prstGeom>
          <a:ln w="0">
            <a:noFill/>
          </a:ln>
        </p:spPr>
      </p:pic>
      <p:pic>
        <p:nvPicPr>
          <p:cNvPr id="109" name="000" descr=""/>
          <p:cNvPicPr/>
          <p:nvPr/>
        </p:nvPicPr>
        <p:blipFill>
          <a:blip r:embed="rId3"/>
          <a:stretch/>
        </p:blipFill>
        <p:spPr>
          <a:xfrm>
            <a:off x="4952880" y="2895480"/>
            <a:ext cx="3810240" cy="3810240"/>
          </a:xfrm>
          <a:prstGeom prst="rect">
            <a:avLst/>
          </a:prstGeom>
          <a:ln w="0">
            <a:noFill/>
          </a:ln>
        </p:spPr>
      </p:pic>
      <p:pic>
        <p:nvPicPr>
          <p:cNvPr id="110" name="000" descr=""/>
          <p:cNvPicPr/>
          <p:nvPr/>
        </p:nvPicPr>
        <p:blipFill>
          <a:blip r:embed="rId4"/>
          <a:stretch/>
        </p:blipFill>
        <p:spPr>
          <a:xfrm>
            <a:off x="380880" y="388620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960" y="37836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dafür aber das!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940040"/>
            <a:ext cx="47246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§ 48   Hausaufgaben (RSO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Arial"/>
              </a:rPr>
              <a:t>(2) Die Schülerinnen und Schüler führen ein Aufgabenheft, in das alle schriftlichen, mündlichen und gegebenenfalls praktischen Auf-gaben einzutragen sin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7404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80" y="378720"/>
            <a:ext cx="863784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omic Sans MS"/>
              </a:rPr>
              <a:t>Immer auf dem Tisch …</a:t>
            </a:r>
            <a:br>
              <a:rPr sz="4400"/>
            </a:b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(ab Jahrgangsstufe 8)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5" name="000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482920" cy="4648320"/>
          </a:xfrm>
          <a:prstGeom prst="rect">
            <a:avLst/>
          </a:prstGeom>
          <a:ln w="0">
            <a:noFill/>
          </a:ln>
        </p:spPr>
      </p:pic>
      <p:pic>
        <p:nvPicPr>
          <p:cNvPr id="116" name="000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5181480" cy="3686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7T16:32:21Z</dcterms:created>
  <dc:creator>Bendel Michael</dc:creator>
  <dc:description/>
  <dc:language>en-US</dc:language>
  <cp:lastModifiedBy>Michael Bendel</cp:lastModifiedBy>
  <dcterms:modified xsi:type="dcterms:W3CDTF">2007-11-25T14:27:15Z</dcterms:modified>
  <cp:revision>137</cp:revision>
  <dc:subject/>
  <dc:title>Finanzierungsmöglichkeiten &amp; Kapitalanlage</dc:title>
</cp:coreProperties>
</file>