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AC4-3F0F-494F-BDA1-CE4FF650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9FD-71C2-40E5-8B1D-4C9ADFD6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3BA-2FEF-4FE7-A476-A17104AE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AE3-45A5-44AF-B9D0-502F6D90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58C6-71BC-4A35-8D28-B8E39730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8C51-E1D1-4780-8C25-C988734C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058B-89A5-40CA-A7C9-463AA563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FD37-4BB2-429B-943C-B136EA8D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6D22-2022-4F74-BCAB-A2A63931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FD6B-A2EE-41CE-AD02-B0B83E3F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FE3F-BC58-4B6E-8870-61F8D192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7E54-6396-4929-9E75-09851B12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1BC8-5926-4D5B-855F-81A5139B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909A-FC5D-44C6-82E0-6F1E5768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E48A-2112-4AC6-8617-5AA2934B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31E4-B244-4DC9-9BF3-4CF70F79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7FF3-1B95-4FCD-82B4-D1A769E0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E96-2914-4E7E-AECA-0BE771E2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C19-7D72-49DD-BA6B-FDFF0EF4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1D1-B867-4B75-94B9-1DCDB46B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E7C-3895-41FC-8F84-D70B1931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492-9160-4EC3-A40A-C99B1397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F9C-6FD3-4C11-94DF-E305D093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F39-3CEA-4216-A540-D5945E01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174D-8296-4347-B22E-C644619312F0}" type="slidenum">
              <a:rPr b="0" lang="de-DE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2" name="ARTBANNA" descr="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Arthsepa" descr="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27CA-B179-457D-BCB7-376558B1CFFE}" type="slidenum">
              <a:rPr b="0" lang="de-DE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280" y="30240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Ein paar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990720"/>
            <a:ext cx="7010280" cy="4572000"/>
          </a:xfrm>
          <a:prstGeom prst="cloudCallout">
            <a:avLst>
              <a:gd name="adj1" fmla="val -46148"/>
              <a:gd name="adj2" fmla="val 64166"/>
            </a:avLst>
          </a:prstGeom>
          <a:solidFill>
            <a:srgbClr val="99ccff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514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Comic Sans MS"/>
              </a:rPr>
              <a:t>    … </a:t>
            </a:r>
            <a:r>
              <a:rPr b="1" lang="de-DE" sz="6000" spc="-1" strike="noStrike">
                <a:solidFill>
                  <a:srgbClr val="000000"/>
                </a:solidFill>
                <a:latin typeface="Comic Sans MS"/>
              </a:rPr>
              <a:t>Anregunge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1" descr=""/>
          <p:cNvPicPr/>
          <p:nvPr/>
        </p:nvPicPr>
        <p:blipFill>
          <a:blip r:embed="rId1"/>
          <a:stretch/>
        </p:blipFill>
        <p:spPr>
          <a:xfrm>
            <a:off x="3733920" y="380880"/>
            <a:ext cx="5154480" cy="609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05720" y="1143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Times New Roman"/>
              </a:rPr>
              <a:t>G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80" y="37836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Die GoB‘s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403640"/>
            <a:ext cx="3505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Bereits in 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7. Jahrgangsstufe ist auf eine saubere Arbeits-weise zu achten!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=&gt; Grundsätze ordnungsmäßiger Buchführung (GoB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960" y="3783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Wenn doch, dann …</a:t>
            </a: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371600"/>
            <a:ext cx="5181480" cy="22885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ne Arbeit weist eine Reihe von Verstößen gegen die äußere Form auf. Wegen der mangelhaften äußeren Form wird deshalb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m nächsten Ma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ine Note um eine Notenstufe herabgesetzt (vgl. § 53 Abs. 2 RSO)!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4038480"/>
            <a:ext cx="5562720" cy="22665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ne Arbeit weist eine Reihe von Verstößen gegen die äußere Form auf. Wegen der mangelhaften äußeren Form wird deshalb deine Note um eine Noten-stufe herabgesetzt (vgl. § 53 Abs. 2 RSO)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2362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ibt’s einen Aufkleber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280" y="22608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Nebenrechnungen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11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chten Sie bitte, dass …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…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i Berechnungen jeweils alle notwendigen Lösungsschritte      und Nebenrechnungen anzugeben sind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3062160"/>
            <a:ext cx="8686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z.B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chnungsbetrag          4.188,80 €   ↓   10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- Brutto-Skonto               104,72 €          2,5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Überweisungsbetrag     4.084,08 €   ↑  97,5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etto-Skonto = 104,72 : 1,19 = 88,00 €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uch: Zeitliche Abgrenzung (Aufteilen des Betrages mit Hilfe eines Zeitstrahls), Anpassung der Wertberichtigungen, teilweiser Ausfall einer Forderung, …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Übung macht den Meister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" name="2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905200" cy="4038480"/>
          </a:xfrm>
          <a:prstGeom prst="rect">
            <a:avLst/>
          </a:prstGeom>
          <a:ln w="0">
            <a:noFill/>
          </a:ln>
        </p:spPr>
      </p:pic>
      <p:pic>
        <p:nvPicPr>
          <p:cNvPr id="130" name="3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081240" cy="4343400"/>
          </a:xfrm>
          <a:prstGeom prst="rect">
            <a:avLst/>
          </a:prstGeom>
          <a:ln w="0">
            <a:noFill/>
          </a:ln>
        </p:spPr>
      </p:pic>
      <p:pic>
        <p:nvPicPr>
          <p:cNvPr id="131" name="4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124080" y="838080"/>
            <a:ext cx="2524320" cy="3505320"/>
          </a:xfrm>
          <a:prstGeom prst="rect">
            <a:avLst/>
          </a:prstGeom>
          <a:ln w="0">
            <a:noFill/>
          </a:ln>
        </p:spPr>
      </p:pic>
      <p:pic>
        <p:nvPicPr>
          <p:cNvPr id="132" name="1" descr=""/>
          <p:cNvPicPr/>
          <p:nvPr/>
        </p:nvPicPr>
        <p:blipFill>
          <a:blip r:embed="rId4"/>
          <a:stretch/>
        </p:blipFill>
        <p:spPr>
          <a:xfrm>
            <a:off x="4419720" y="3124080"/>
            <a:ext cx="2523960" cy="3570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960" y="3024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Wichtige Internetadressen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295280"/>
            <a:ext cx="8534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euz und quer durch BwR/WiR (umfassende Materialsammlung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manfred-jahreis.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hrpläne, Materialien, Publikationen und Abschlussprüfung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isb.bayern.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errichtsmateriali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bildungsserver.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info-wr.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lehrer-online.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rechnungswesen-unterricht.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wirtschaftrecht.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wr-unterricht.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zum.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tuelles von den Fachmitarbeiter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realschule.bayern.de/uf/beratung/fachmitarbei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83360" y="2666880"/>
            <a:ext cx="24271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280" y="30240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Notenanzahl RSO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724040"/>
            <a:ext cx="914400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§ 51   Kleine Leistungsnachwei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6) 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e Zahl der Kurzarbeiten und Stegreifaufgaben sowie der mündlichen und praktischen Leistungsnachweise bestimmt die Lehrkraft des betreffenden Fachs. </a:t>
            </a:r>
            <a:r>
              <a:rPr b="1" lang="de-DE" sz="24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 jedem Schulhalbjahr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ind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e Fach insgesamt mindestens zwei,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 mehr als zweistündigen Fächern mindestens drei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Leistungsnachweis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ch Satz 1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zu fordern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,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av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zwei- und mehrstündigen Vorrückungsfächern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mindestens ein Leistungsnachweis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m Sinn von Absatz 4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§ 51 (4) … Rechenschaftsablagen, Referate und Unterrichtsbeiträge]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280" y="30240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Sinnvolle Verteilung der SA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1671480"/>
          <a:ext cx="6096240" cy="41954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gangs-stuf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Halbjah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albjah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Klass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Klass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Klass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Klass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gr_p086207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845751A1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2924280" cy="3848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280" y="304560"/>
            <a:ext cx="86378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Der Anfang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4" name="000" descr=""/>
          <p:cNvPicPr/>
          <p:nvPr/>
        </p:nvPicPr>
        <p:blipFill>
          <a:blip r:embed="rId3"/>
          <a:stretch/>
        </p:blipFill>
        <p:spPr>
          <a:xfrm>
            <a:off x="228600" y="2743200"/>
            <a:ext cx="2841480" cy="3962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05120" y="1736640"/>
            <a:ext cx="236196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Lucida Handwriting"/>
              </a:rPr>
              <a:t>BW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Lucida Handwriting"/>
              </a:rPr>
              <a:t>Bert  Buchhalter,  Kl. 7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Lucida Handwriting"/>
              </a:rPr>
              <a:t>Frau  Leyd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280" y="37836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Zielvereinbarung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371600"/>
            <a:ext cx="8305920" cy="4876920"/>
          </a:xfrm>
          <a:prstGeom prst="verticalScroll">
            <a:avLst>
              <a:gd name="adj" fmla="val 12500"/>
            </a:avLst>
          </a:prstGeom>
          <a:solidFill>
            <a:srgbClr val="ffff0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Handwriting"/>
              </a:rPr>
              <a:t>                                                      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Handwriting"/>
              </a:rPr>
              <a:t>                                            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Lucida Handwriting"/>
              </a:rPr>
              <a:t>Hösbach, 14.09.2007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Lucida Handwriting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Ich  verpflichte mich 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meine BwR-Materialien mitzubringen 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den behandelten Unterrichtsstoff selbst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ständig im Buch nachzubereiten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alle Hausaufgaben zu erledigen 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immer sauber und ordentlich zu arbeiten !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  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Lucida Handwriting"/>
              </a:rPr>
              <a:t>                      </a:t>
            </a:r>
            <a:r>
              <a:rPr b="1" lang="de-DE" sz="2800" spc="-1" strike="noStrike">
                <a:solidFill>
                  <a:srgbClr val="000000"/>
                </a:solidFill>
                <a:latin typeface="Lucida Handwriting"/>
              </a:rPr>
              <a:t>Sarah Liebl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4546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Die Ausstattung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9" name="geodreieck_gedreht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4572000" cy="2405160"/>
          </a:xfrm>
          <a:prstGeom prst="rect">
            <a:avLst/>
          </a:prstGeom>
          <a:ln w="0">
            <a:noFill/>
          </a:ln>
        </p:spPr>
      </p:pic>
      <p:pic>
        <p:nvPicPr>
          <p:cNvPr id="100" name="pelikanjunior-feder" descr=""/>
          <p:cNvPicPr/>
          <p:nvPr/>
        </p:nvPicPr>
        <p:blipFill>
          <a:blip r:embed="rId2"/>
          <a:stretch/>
        </p:blipFill>
        <p:spPr>
          <a:xfrm>
            <a:off x="4876920" y="9334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1" name="url" descr=""/>
          <p:cNvPicPr/>
          <p:nvPr/>
        </p:nvPicPr>
        <p:blipFill>
          <a:blip r:embed="rId3"/>
          <a:stretch/>
        </p:blipFill>
        <p:spPr>
          <a:xfrm>
            <a:off x="1676520" y="1905120"/>
            <a:ext cx="2925720" cy="593640"/>
          </a:xfrm>
          <a:prstGeom prst="rect">
            <a:avLst/>
          </a:prstGeom>
          <a:ln w="0">
            <a:noFill/>
          </a:ln>
        </p:spPr>
      </p:pic>
      <p:pic>
        <p:nvPicPr>
          <p:cNvPr id="102" name="bleistift" descr=""/>
          <p:cNvPicPr/>
          <p:nvPr/>
        </p:nvPicPr>
        <p:blipFill>
          <a:blip r:embed="rId4"/>
          <a:stretch/>
        </p:blipFill>
        <p:spPr>
          <a:xfrm>
            <a:off x="838080" y="2971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000" descr=""/>
          <p:cNvPicPr/>
          <p:nvPr/>
        </p:nvPicPr>
        <p:blipFill>
          <a:blip r:embed="rId5"/>
          <a:stretch/>
        </p:blipFill>
        <p:spPr>
          <a:xfrm>
            <a:off x="2057400" y="1523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000" descr=""/>
          <p:cNvPicPr/>
          <p:nvPr/>
        </p:nvPicPr>
        <p:blipFill>
          <a:blip r:embed="rId6"/>
          <a:stretch/>
        </p:blipFill>
        <p:spPr>
          <a:xfrm>
            <a:off x="3657600" y="5029200"/>
            <a:ext cx="2057400" cy="1273320"/>
          </a:xfrm>
          <a:prstGeom prst="rect">
            <a:avLst/>
          </a:prstGeom>
          <a:ln w="0">
            <a:noFill/>
          </a:ln>
        </p:spPr>
      </p:pic>
      <p:pic>
        <p:nvPicPr>
          <p:cNvPr id="105" name="000" descr=""/>
          <p:cNvPicPr/>
          <p:nvPr/>
        </p:nvPicPr>
        <p:blipFill>
          <a:blip r:embed="rId7"/>
          <a:stretch/>
        </p:blipFill>
        <p:spPr>
          <a:xfrm>
            <a:off x="4648320" y="228600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45468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Nicht erwünscht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7" name="rapid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000" descr=""/>
          <p:cNvPicPr/>
          <p:nvPr/>
        </p:nvPicPr>
        <p:blipFill>
          <a:blip r:embed="rId2"/>
          <a:stretch/>
        </p:blipFill>
        <p:spPr>
          <a:xfrm>
            <a:off x="3846600" y="533520"/>
            <a:ext cx="4078080" cy="4572000"/>
          </a:xfrm>
          <a:prstGeom prst="rect">
            <a:avLst/>
          </a:prstGeom>
          <a:ln w="0">
            <a:noFill/>
          </a:ln>
        </p:spPr>
      </p:pic>
      <p:pic>
        <p:nvPicPr>
          <p:cNvPr id="109" name="000" descr=""/>
          <p:cNvPicPr/>
          <p:nvPr/>
        </p:nvPicPr>
        <p:blipFill>
          <a:blip r:embed="rId3"/>
          <a:stretch/>
        </p:blipFill>
        <p:spPr>
          <a:xfrm>
            <a:off x="4952880" y="289548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110" name="000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267516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960" y="3783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dafür aber das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940040"/>
            <a:ext cx="4724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§ 48   Hausaufgaben (RS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2) Die Schülerinnen und Schüler führen ein Aufgabenheft, in das alle schriftlichen, mündlichen und gegebenenfalls praktischen Auf-gaben einzutragen sin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7404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80" y="378720"/>
            <a:ext cx="863784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Immer auf dem Tisch …</a:t>
            </a:r>
            <a:br>
              <a:rPr sz="44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(ab Jahrgangsstufe 8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000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482920" cy="4648320"/>
          </a:xfrm>
          <a:prstGeom prst="rect">
            <a:avLst/>
          </a:prstGeom>
          <a:ln w="0">
            <a:noFill/>
          </a:ln>
        </p:spPr>
      </p:pic>
      <p:pic>
        <p:nvPicPr>
          <p:cNvPr id="116" name="000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5181480" cy="3686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7T16:32:21Z</dcterms:created>
  <dc:creator>Bendel Michael</dc:creator>
  <dc:description/>
  <dc:language>en-US</dc:language>
  <cp:lastModifiedBy>Michael Bendel</cp:lastModifiedBy>
  <dcterms:modified xsi:type="dcterms:W3CDTF">2007-11-25T14:27:15Z</dcterms:modified>
  <cp:revision>137</cp:revision>
  <dc:subject/>
  <dc:title>Finanzierungsmöglichkeiten &amp; Kapitalanlage</dc:title>
</cp:coreProperties>
</file>