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6FA-FF23-43D8-9FC0-FEBB5729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B5F-782B-4870-B086-9F4699C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2D3-8A1C-46A1-86E4-1C6C3B4E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7DE-CB99-40F1-B00A-76630E22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2E0-9507-4619-8FF4-84A2124F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62D-81B9-4468-9C81-D59166A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AE3-E8D4-4AD9-A317-992E11A7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FD5-3423-4A65-8CB3-5CC70D21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30F-B450-4A02-B14C-3A9BDBD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B29-980F-41F8-9D40-A438F8E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4F5-5963-4C7C-B7AF-8FA22F0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FA5-8943-4ED3-ADDF-271FB70D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09FB-8246-4308-89A0-AD8CE399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981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en von Projekten und Präse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5318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Schulinterne Lehrerfort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02080" y="65390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er Hauslade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553080" cy="417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83664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32040" y="1351080"/>
            <a:ext cx="6530760" cy="1012680"/>
            <a:chOff x="932040" y="1351080"/>
            <a:chExt cx="6530760" cy="1012680"/>
          </a:xfrm>
        </p:grpSpPr>
        <p:sp>
          <p:nvSpPr>
            <p:cNvPr id="193" name=""/>
            <p:cNvSpPr/>
            <p:nvPr/>
          </p:nvSpPr>
          <p:spPr>
            <a:xfrm>
              <a:off x="932040" y="13986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2920" y="1351080"/>
              <a:ext cx="38862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vigation (Link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utlich erkennbar, schlüssig, einheitlich und keine Sackgass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6458040" y="1494000"/>
              <a:ext cx="100476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1316160" y="2502000"/>
            <a:ext cx="67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e für die Organisation der Reihenfolge der 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16160" y="2862360"/>
            <a:ext cx="3214080" cy="977760"/>
            <a:chOff x="1316160" y="2862360"/>
            <a:chExt cx="3214080" cy="977760"/>
          </a:xfrm>
        </p:grpSpPr>
        <p:sp>
          <p:nvSpPr>
            <p:cNvPr id="198" name=""/>
            <p:cNvSpPr/>
            <p:nvPr/>
          </p:nvSpPr>
          <p:spPr>
            <a:xfrm>
              <a:off x="1316160" y="2862360"/>
              <a:ext cx="21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lineare Struk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1388880" y="3294000"/>
              <a:ext cx="314136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1316160" y="4014720"/>
            <a:ext cx="2620800" cy="1790640"/>
            <a:chOff x="1316160" y="4014720"/>
            <a:chExt cx="2620800" cy="1790640"/>
          </a:xfrm>
        </p:grpSpPr>
        <p:sp>
          <p:nvSpPr>
            <p:cNvPr id="201" name=""/>
            <p:cNvSpPr/>
            <p:nvPr/>
          </p:nvSpPr>
          <p:spPr>
            <a:xfrm>
              <a:off x="1316160" y="4014720"/>
              <a:ext cx="26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hierarchische Struk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1387440" y="4360680"/>
              <a:ext cx="231264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4729320" y="4005360"/>
            <a:ext cx="4105080" cy="1805040"/>
            <a:chOff x="4729320" y="4005360"/>
            <a:chExt cx="4105080" cy="1805040"/>
          </a:xfrm>
        </p:grpSpPr>
        <p:sp>
          <p:nvSpPr>
            <p:cNvPr id="204" name=""/>
            <p:cNvSpPr/>
            <p:nvPr/>
          </p:nvSpPr>
          <p:spPr>
            <a:xfrm>
              <a:off x="4729320" y="4005360"/>
              <a:ext cx="41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e hierarchische Struktur mit Weiterlei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5395680" y="4365720"/>
              <a:ext cx="2312640" cy="144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08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43600" cy="51116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6516720" y="2708280"/>
            <a:ext cx="2233440" cy="720720"/>
            <a:chOff x="6516720" y="2708280"/>
            <a:chExt cx="2233440" cy="720720"/>
          </a:xfrm>
        </p:grpSpPr>
        <p:sp>
          <p:nvSpPr>
            <p:cNvPr id="212" name=""/>
            <p:cNvSpPr/>
            <p:nvPr/>
          </p:nvSpPr>
          <p:spPr>
            <a:xfrm>
              <a:off x="6659640" y="2708280"/>
              <a:ext cx="2016000" cy="289080"/>
            </a:xfrm>
            <a:prstGeom prst="rect">
              <a:avLst/>
            </a:prstGeom>
            <a:solidFill>
              <a:srgbClr val="99cc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wertung mit Abstufung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6720" y="3141720"/>
              <a:ext cx="22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+                   -                    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16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19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475272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2000" y="2492280"/>
            <a:ext cx="22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                  30%                    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25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28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31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3640" y="2630520"/>
            <a:ext cx="5638680" cy="2743200"/>
            <a:chOff x="3203640" y="2630520"/>
            <a:chExt cx="5638680" cy="274320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3203640" y="2630520"/>
              <a:ext cx="5638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886360" y="3059280"/>
              <a:ext cx="576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348000" y="3500280"/>
            <a:ext cx="5648400" cy="2752920"/>
            <a:chOff x="3348000" y="3500280"/>
            <a:chExt cx="5648400" cy="275292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3348000" y="3500280"/>
              <a:ext cx="5648400" cy="27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507000" y="3924360"/>
              <a:ext cx="576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41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44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47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71640" y="2349360"/>
            <a:ext cx="6356160" cy="337320"/>
            <a:chOff x="971640" y="2349360"/>
            <a:chExt cx="6356160" cy="337320"/>
          </a:xfrm>
        </p:grpSpPr>
        <p:sp>
          <p:nvSpPr>
            <p:cNvPr id="250" name=""/>
            <p:cNvSpPr/>
            <p:nvPr/>
          </p:nvSpPr>
          <p:spPr>
            <a:xfrm>
              <a:off x="1258920" y="23493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r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71640" y="24033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64000" y="2951280"/>
            <a:ext cx="5119560" cy="1114200"/>
            <a:chOff x="3564000" y="2951280"/>
            <a:chExt cx="5119560" cy="1114200"/>
          </a:xfrm>
        </p:grpSpPr>
        <p:sp>
          <p:nvSpPr>
            <p:cNvPr id="253" name=""/>
            <p:cNvSpPr/>
            <p:nvPr/>
          </p:nvSpPr>
          <p:spPr>
            <a:xfrm>
              <a:off x="3564000" y="2951280"/>
              <a:ext cx="35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xtdokument mit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7883640" y="2951280"/>
              <a:ext cx="7999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3564000" y="4127400"/>
            <a:ext cx="5075280" cy="2254320"/>
            <a:chOff x="3564000" y="4127400"/>
            <a:chExt cx="5075280" cy="225432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012000" y="4679640"/>
              <a:ext cx="26272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64000" y="412740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ellennachweis als eigene Webse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oje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60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Arbeitsproze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263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Schüler bewerten 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71640" y="1994040"/>
            <a:ext cx="6356160" cy="337320"/>
            <a:chOff x="971640" y="1994040"/>
            <a:chExt cx="6356160" cy="337320"/>
          </a:xfrm>
        </p:grpSpPr>
        <p:sp>
          <p:nvSpPr>
            <p:cNvPr id="266" name=""/>
            <p:cNvSpPr/>
            <p:nvPr/>
          </p:nvSpPr>
          <p:spPr>
            <a:xfrm>
              <a:off x="1258920" y="199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werten des Projektergebni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71640" y="204768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71640" y="2349360"/>
            <a:ext cx="6356160" cy="337320"/>
            <a:chOff x="971640" y="2349360"/>
            <a:chExt cx="6356160" cy="337320"/>
          </a:xfrm>
        </p:grpSpPr>
        <p:sp>
          <p:nvSpPr>
            <p:cNvPr id="269" name=""/>
            <p:cNvSpPr/>
            <p:nvPr/>
          </p:nvSpPr>
          <p:spPr>
            <a:xfrm>
              <a:off x="1258920" y="23493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Der Quellennachwe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71640" y="24033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71640" y="2732040"/>
            <a:ext cx="6356160" cy="337320"/>
            <a:chOff x="971640" y="2732040"/>
            <a:chExt cx="6356160" cy="337320"/>
          </a:xfrm>
        </p:grpSpPr>
        <p:sp>
          <p:nvSpPr>
            <p:cNvPr id="272" name=""/>
            <p:cNvSpPr/>
            <p:nvPr/>
          </p:nvSpPr>
          <p:spPr>
            <a:xfrm>
              <a:off x="1258920" y="2732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Benot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71640" y="278604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692360" y="3233880"/>
            <a:ext cx="7127640" cy="3219480"/>
            <a:chOff x="1692360" y="3233880"/>
            <a:chExt cx="7127640" cy="32194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3390840" y="3233880"/>
              <a:ext cx="5429160" cy="321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"/>
            <p:cNvGrpSpPr/>
            <p:nvPr/>
          </p:nvGrpSpPr>
          <p:grpSpPr>
            <a:xfrm>
              <a:off x="1692360" y="3284640"/>
              <a:ext cx="1511280" cy="498240"/>
              <a:chOff x="1692360" y="3284640"/>
              <a:chExt cx="1511280" cy="4982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92360" y="3284640"/>
                <a:ext cx="1054080" cy="49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2627280" y="3284640"/>
                <a:ext cx="576360" cy="288720"/>
              </a:xfrm>
              <a:prstGeom prst="rightArrow">
                <a:avLst>
                  <a:gd name="adj1" fmla="val 50000"/>
                  <a:gd name="adj2" fmla="val 49906"/>
                </a:avLst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281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116000" y="1700280"/>
            <a:ext cx="7919640" cy="4105080"/>
            <a:chOff x="1116000" y="1700280"/>
            <a:chExt cx="7919640" cy="4105080"/>
          </a:xfrm>
        </p:grpSpPr>
        <p:grpSp>
          <p:nvGrpSpPr>
            <p:cNvPr id="284" name=""/>
            <p:cNvGrpSpPr/>
            <p:nvPr/>
          </p:nvGrpSpPr>
          <p:grpSpPr>
            <a:xfrm>
              <a:off x="1258920" y="1755720"/>
              <a:ext cx="7776720" cy="3906360"/>
              <a:chOff x="1258920" y="1755720"/>
              <a:chExt cx="7776720" cy="39063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58920" y="182736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47640" y="175572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örpersprache vermittelt Botschaften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47640" y="219060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erschränkte Arme oder in die Seiten gestützte Hände halten das Publikum auf Distanz und erwecken den Eindruck der Einschüchterung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47640" y="288144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öflichkeit und Freundlichkeit in Form der Begrüßung, des Bedankens und der Wertschätzung von eventuellen Beiträgen aus dem Publikum werden geschätz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8560" y="3611520"/>
                <a:ext cx="748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lickkontakt zum gesamten Publikum auch zu einzelnen Personen wirken vertrauenswürdig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8560" y="413208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ouveränes und sicheres Auftreten steigern die Aufmerksamkei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28560" y="4606920"/>
                <a:ext cx="748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s äußere Erscheinungsbild schafft Vertrauen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8560" y="5111640"/>
                <a:ext cx="74880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der Gruppe wirkt ein „Zuspielen des Balls“ zwischen den Teammitgliedern souverän. Jedes Gruppenmitglied ist beim Vortrag gleichberechtig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58920" y="224316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58920" y="293544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58920" y="370044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58920" y="42274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58920" y="46990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58920" y="5183280"/>
                <a:ext cx="288720" cy="198360"/>
              </a:xfrm>
              <a:prstGeom prst="rightArrow">
                <a:avLst>
                  <a:gd name="adj1" fmla="val 50000"/>
                  <a:gd name="adj2" fmla="val 36388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116000" y="1700280"/>
              <a:ext cx="7848720" cy="4105080"/>
            </a:xfrm>
            <a:prstGeom prst="rect">
              <a:avLst/>
            </a:prstGeom>
            <a:solidFill>
              <a:srgbClr val="99ccff">
                <a:alpha val="1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302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305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obachten des Vortr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6488280" cy="387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wertung von Präs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310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Richtlinien für das Auftre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52560" y="1652760"/>
            <a:ext cx="6356160" cy="337320"/>
            <a:chOff x="952560" y="1652760"/>
            <a:chExt cx="6356160" cy="337320"/>
          </a:xfrm>
        </p:grpSpPr>
        <p:sp>
          <p:nvSpPr>
            <p:cNvPr id="313" name=""/>
            <p:cNvSpPr/>
            <p:nvPr/>
          </p:nvSpPr>
          <p:spPr>
            <a:xfrm>
              <a:off x="1239840" y="16527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c0c0"/>
                  </a:solidFill>
                  <a:latin typeface="Arial"/>
                </a:rPr>
                <a:t>Beobachten des Vortr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52560" y="170640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52560" y="2013120"/>
            <a:ext cx="6356160" cy="337320"/>
            <a:chOff x="952560" y="2013120"/>
            <a:chExt cx="6356160" cy="337320"/>
          </a:xfrm>
        </p:grpSpPr>
        <p:sp>
          <p:nvSpPr>
            <p:cNvPr id="316" name=""/>
            <p:cNvSpPr/>
            <p:nvPr/>
          </p:nvSpPr>
          <p:spPr>
            <a:xfrm>
              <a:off x="1239840" y="201312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wertung des Präsentationsdok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52560" y="2066760"/>
              <a:ext cx="287280" cy="229680"/>
            </a:xfrm>
            <a:prstGeom prst="rightArrow">
              <a:avLst>
                <a:gd name="adj1" fmla="val 50000"/>
                <a:gd name="adj2" fmla="val 312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157560" y="2532240"/>
            <a:ext cx="5591160" cy="3849480"/>
            <a:chOff x="3157560" y="2532240"/>
            <a:chExt cx="5591160" cy="384948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3157560" y="2532240"/>
              <a:ext cx="5591160" cy="38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59880" y="3673440"/>
              <a:ext cx="431640" cy="289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03960" y="3664080"/>
              <a:ext cx="43164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64600" y="3645000"/>
              <a:ext cx="360360" cy="3603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76360" y="1628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 N D 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02080" y="653904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er Hauslade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553080" cy="417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692360" y="1197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en von Projekten und Präse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8366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rüberle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52560" y="1316160"/>
            <a:ext cx="6356160" cy="337320"/>
            <a:chOff x="952560" y="1316160"/>
            <a:chExt cx="6356160" cy="337320"/>
          </a:xfrm>
        </p:grpSpPr>
        <p:sp>
          <p:nvSpPr>
            <p:cNvPr id="47" name=""/>
            <p:cNvSpPr/>
            <p:nvPr/>
          </p:nvSpPr>
          <p:spPr>
            <a:xfrm>
              <a:off x="1239840" y="131616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2560" y="137016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52560" y="1724040"/>
            <a:ext cx="6356160" cy="337320"/>
            <a:chOff x="952560" y="1724040"/>
            <a:chExt cx="6356160" cy="337320"/>
          </a:xfrm>
        </p:grpSpPr>
        <p:sp>
          <p:nvSpPr>
            <p:cNvPr id="50" name=""/>
            <p:cNvSpPr/>
            <p:nvPr/>
          </p:nvSpPr>
          <p:spPr>
            <a:xfrm>
              <a:off x="1239840" y="172404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kanntgabe der Richtlinien an die Schü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2560" y="177804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25560" y="2708280"/>
            <a:ext cx="7632720" cy="2089080"/>
            <a:chOff x="925560" y="2708280"/>
            <a:chExt cx="7632720" cy="2089080"/>
          </a:xfrm>
        </p:grpSpPr>
        <p:sp>
          <p:nvSpPr>
            <p:cNvPr id="53" name=""/>
            <p:cNvSpPr/>
            <p:nvPr/>
          </p:nvSpPr>
          <p:spPr>
            <a:xfrm>
              <a:off x="997200" y="2781360"/>
              <a:ext cx="7561080" cy="20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5560" y="2708280"/>
              <a:ext cx="7561440" cy="2012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§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ße Leistungsnachwe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) Durch Beschluss der Lehrerkonferenz, der zu Beginn des Schuljahres zu fassen ist,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ann in den Jahrgangsstufen 5 bis 9 in Fächern mit mehr als zwei Schulaufgaben eine der Schulaufgaben ersetzt werden durch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zwei Kurzarbeiten o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2. ein bewertetes Projekt (z. B. Dokumentation und Präsentation)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25560" y="4946760"/>
            <a:ext cx="7633800" cy="1218960"/>
            <a:chOff x="925560" y="4946760"/>
            <a:chExt cx="7633800" cy="1218960"/>
          </a:xfrm>
        </p:grpSpPr>
        <p:sp>
          <p:nvSpPr>
            <p:cNvPr id="56" name=""/>
            <p:cNvSpPr/>
            <p:nvPr/>
          </p:nvSpPr>
          <p:spPr>
            <a:xfrm>
              <a:off x="998280" y="5013360"/>
              <a:ext cx="7561080" cy="1152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5560" y="4946760"/>
              <a:ext cx="7561080" cy="115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§ 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leine Leistungsnachwe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4) Mündliche Leistungsnachweise sind Rechenschaftsablagen, </a:t>
              </a:r>
              <a:r>
                <a:rPr b="0" lang="de-DE" sz="1400" spc="-1" strike="noStrike">
                  <a:solidFill>
                    <a:srgbClr val="ff3300"/>
                  </a:solidFill>
                  <a:latin typeface="Arial"/>
                </a:rPr>
                <a:t>Referate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nd Unterrichts-beiträ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971640" y="2155680"/>
            <a:ext cx="6356160" cy="337320"/>
            <a:chOff x="971640" y="2155680"/>
            <a:chExt cx="6356160" cy="337320"/>
          </a:xfrm>
        </p:grpSpPr>
        <p:sp>
          <p:nvSpPr>
            <p:cNvPr id="59" name=""/>
            <p:cNvSpPr/>
            <p:nvPr/>
          </p:nvSpPr>
          <p:spPr>
            <a:xfrm>
              <a:off x="1258920" y="2155680"/>
              <a:ext cx="606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rechtlichen Grundla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71640" y="2209680"/>
              <a:ext cx="287280" cy="230040"/>
            </a:xfrm>
            <a:prstGeom prst="rightArrow">
              <a:avLst>
                <a:gd name="adj1" fmla="val 50000"/>
                <a:gd name="adj2" fmla="val 312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47880" y="1413000"/>
            <a:ext cx="6719760" cy="1268280"/>
            <a:chOff x="947880" y="1413000"/>
            <a:chExt cx="6719760" cy="1268280"/>
          </a:xfrm>
        </p:grpSpPr>
        <p:sp>
          <p:nvSpPr>
            <p:cNvPr id="64" name=""/>
            <p:cNvSpPr/>
            <p:nvPr/>
          </p:nvSpPr>
          <p:spPr>
            <a:xfrm>
              <a:off x="94788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6662880" y="1413000"/>
              <a:ext cx="10047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328760" y="1413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iteneinteilung (Anordnung der Objekt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onierung der Objekte zu einem einheitlichen Bi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947880" y="2556000"/>
            <a:ext cx="6719760" cy="863640"/>
            <a:chOff x="947880" y="2556000"/>
            <a:chExt cx="6719760" cy="86364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662880" y="2784600"/>
              <a:ext cx="1004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28760" y="2556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ordnung der Objek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sammengehörigkeit von Objek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7880" y="261936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947880" y="3673440"/>
            <a:ext cx="6719760" cy="769320"/>
            <a:chOff x="947880" y="3673440"/>
            <a:chExt cx="6719760" cy="769320"/>
          </a:xfrm>
        </p:grpSpPr>
        <p:sp>
          <p:nvSpPr>
            <p:cNvPr id="72" name=""/>
            <p:cNvSpPr/>
            <p:nvPr/>
          </p:nvSpPr>
          <p:spPr>
            <a:xfrm>
              <a:off x="1328760" y="367344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fi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flockerung, Erklär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6662880" y="3716280"/>
              <a:ext cx="1004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47880" y="371628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39960" y="1413000"/>
            <a:ext cx="5638680" cy="398880"/>
            <a:chOff x="939960" y="1413000"/>
            <a:chExt cx="5638680" cy="398880"/>
          </a:xfrm>
        </p:grpSpPr>
        <p:sp>
          <p:nvSpPr>
            <p:cNvPr id="77" name=""/>
            <p:cNvSpPr/>
            <p:nvPr/>
          </p:nvSpPr>
          <p:spPr>
            <a:xfrm>
              <a:off x="93996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20840" y="14130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ar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444680" y="1916280"/>
            <a:ext cx="1808280" cy="337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e Fa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3440" y="234792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ychologische Bedeutung und Kon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13360" y="2679840"/>
            <a:ext cx="1511280" cy="1512720"/>
            <a:chOff x="5013360" y="2679840"/>
            <a:chExt cx="1511280" cy="1512720"/>
          </a:xfrm>
        </p:grpSpPr>
        <p:sp>
          <p:nvSpPr>
            <p:cNvPr id="82" name=""/>
            <p:cNvSpPr/>
            <p:nvPr/>
          </p:nvSpPr>
          <p:spPr>
            <a:xfrm>
              <a:off x="501336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7960" y="3471840"/>
              <a:ext cx="1163520" cy="3373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7960" y="3040200"/>
              <a:ext cx="11635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48280" y="38322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stellfar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48280" y="26798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olltonfar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444680" y="2708280"/>
            <a:ext cx="1511280" cy="1484280"/>
            <a:chOff x="1444680" y="2708280"/>
            <a:chExt cx="1511280" cy="1484280"/>
          </a:xfrm>
        </p:grpSpPr>
        <p:sp>
          <p:nvSpPr>
            <p:cNvPr id="88" name=""/>
            <p:cNvSpPr/>
            <p:nvPr/>
          </p:nvSpPr>
          <p:spPr>
            <a:xfrm>
              <a:off x="144468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19280" y="3471840"/>
              <a:ext cx="1163520" cy="337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u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19280" y="3040200"/>
              <a:ext cx="1163520" cy="337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ädch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4680" y="2708280"/>
            <a:ext cx="1511280" cy="1484280"/>
            <a:chOff x="3244680" y="2708280"/>
            <a:chExt cx="1511280" cy="1484280"/>
          </a:xfrm>
        </p:grpSpPr>
        <p:sp>
          <p:nvSpPr>
            <p:cNvPr id="92" name=""/>
            <p:cNvSpPr/>
            <p:nvPr/>
          </p:nvSpPr>
          <p:spPr>
            <a:xfrm>
              <a:off x="3244680" y="270828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280" y="3471840"/>
              <a:ext cx="1163520" cy="3373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280" y="3040200"/>
              <a:ext cx="1163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44680" y="4392720"/>
            <a:ext cx="1511280" cy="1484280"/>
            <a:chOff x="1444680" y="4392720"/>
            <a:chExt cx="1511280" cy="1484280"/>
          </a:xfrm>
        </p:grpSpPr>
        <p:sp>
          <p:nvSpPr>
            <p:cNvPr id="96" name=""/>
            <p:cNvSpPr/>
            <p:nvPr/>
          </p:nvSpPr>
          <p:spPr>
            <a:xfrm>
              <a:off x="14446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19280" y="5156280"/>
              <a:ext cx="1163520" cy="337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ü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19280" y="4724280"/>
              <a:ext cx="1163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44680" y="4363920"/>
            <a:ext cx="1511280" cy="1513080"/>
            <a:chOff x="3244680" y="4363920"/>
            <a:chExt cx="1511280" cy="1513080"/>
          </a:xfrm>
        </p:grpSpPr>
        <p:sp>
          <p:nvSpPr>
            <p:cNvPr id="100" name=""/>
            <p:cNvSpPr/>
            <p:nvPr/>
          </p:nvSpPr>
          <p:spPr>
            <a:xfrm>
              <a:off x="32446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19280" y="5156280"/>
              <a:ext cx="1163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280" y="4724280"/>
              <a:ext cx="11635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9600" y="551664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ddhism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9600" y="436392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rist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06880" y="4392720"/>
            <a:ext cx="1511280" cy="1484280"/>
            <a:chOff x="5006880" y="4392720"/>
            <a:chExt cx="1511280" cy="1484280"/>
          </a:xfrm>
        </p:grpSpPr>
        <p:sp>
          <p:nvSpPr>
            <p:cNvPr id="106" name=""/>
            <p:cNvSpPr/>
            <p:nvPr/>
          </p:nvSpPr>
          <p:spPr>
            <a:xfrm>
              <a:off x="5006880" y="4392720"/>
              <a:ext cx="1511280" cy="1484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5156280"/>
              <a:ext cx="1163160" cy="337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lek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4724280"/>
              <a:ext cx="11631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684680" y="1916280"/>
            <a:ext cx="180828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8000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lte Fa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39960" y="1436760"/>
            <a:ext cx="5638680" cy="398880"/>
            <a:chOff x="939960" y="1436760"/>
            <a:chExt cx="5638680" cy="398880"/>
          </a:xfrm>
        </p:grpSpPr>
        <p:sp>
          <p:nvSpPr>
            <p:cNvPr id="112" name=""/>
            <p:cNvSpPr/>
            <p:nvPr/>
          </p:nvSpPr>
          <p:spPr>
            <a:xfrm>
              <a:off x="939960" y="14907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0840" y="143676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arb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27600" y="2300400"/>
            <a:ext cx="3815640" cy="1152000"/>
            <a:chOff x="4827600" y="2300400"/>
            <a:chExt cx="3815640" cy="1152000"/>
          </a:xfrm>
        </p:grpSpPr>
        <p:sp>
          <p:nvSpPr>
            <p:cNvPr id="115" name=""/>
            <p:cNvSpPr/>
            <p:nvPr/>
          </p:nvSpPr>
          <p:spPr>
            <a:xfrm>
              <a:off x="4827600" y="2300400"/>
              <a:ext cx="1109160" cy="518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Arial"/>
                </a:rPr>
                <a:t>Farb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27600" y="2934000"/>
              <a:ext cx="1109160" cy="518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Farb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0480" y="2300400"/>
              <a:ext cx="1109880" cy="518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Farb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1200" y="2300400"/>
              <a:ext cx="1109880" cy="51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cc"/>
                  </a:solidFill>
                  <a:latin typeface="Arial"/>
                </a:rPr>
                <a:t>Farb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0480" y="2934000"/>
              <a:ext cx="1109880" cy="518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Farb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34080" y="2934000"/>
              <a:ext cx="1109160" cy="51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arb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33440" y="1868400"/>
            <a:ext cx="4724640" cy="1635120"/>
            <a:chOff x="1333440" y="1868400"/>
            <a:chExt cx="4724640" cy="1635120"/>
          </a:xfrm>
        </p:grpSpPr>
        <p:sp>
          <p:nvSpPr>
            <p:cNvPr id="122" name=""/>
            <p:cNvSpPr/>
            <p:nvPr/>
          </p:nvSpPr>
          <p:spPr>
            <a:xfrm>
              <a:off x="1333440" y="1868400"/>
              <a:ext cx="472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omplementärfarben - Farbkontra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444680" y="2300400"/>
              <a:ext cx="3240000" cy="12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1444680" y="36687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rben, die sich im Farbkreis gegenüber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63600" y="4100400"/>
            <a:ext cx="3801960" cy="1727280"/>
            <a:chOff x="2163600" y="4100400"/>
            <a:chExt cx="3801960" cy="1727280"/>
          </a:xfrm>
        </p:grpSpPr>
        <p:grpSp>
          <p:nvGrpSpPr>
            <p:cNvPr id="126" name=""/>
            <p:cNvGrpSpPr/>
            <p:nvPr/>
          </p:nvGrpSpPr>
          <p:grpSpPr>
            <a:xfrm>
              <a:off x="2163600" y="4100400"/>
              <a:ext cx="1726920" cy="1727280"/>
              <a:chOff x="2163600" y="4100400"/>
              <a:chExt cx="1726920" cy="17272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636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027240" y="4279680"/>
                <a:ext cx="0" cy="136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27240" y="4316400"/>
              <a:ext cx="1138320" cy="1243080"/>
              <a:chOff x="4827240" y="4316400"/>
              <a:chExt cx="1138320" cy="12430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827240" y="4316400"/>
                <a:ext cx="1138320" cy="568440"/>
                <a:chOff x="4827240" y="4316400"/>
                <a:chExt cx="1138320" cy="568440"/>
              </a:xfrm>
            </p:grpSpPr>
            <p:pic>
              <p:nvPicPr>
                <p:cNvPr id="1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2724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"/>
                <p:cNvSpPr/>
                <p:nvPr/>
              </p:nvSpPr>
              <p:spPr>
                <a:xfrm>
                  <a:off x="492876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ff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827240" y="4991040"/>
                <a:ext cx="1138320" cy="568440"/>
                <a:chOff x="4827240" y="4991040"/>
                <a:chExt cx="1138320" cy="568440"/>
              </a:xfrm>
            </p:grpSpPr>
            <p:pic>
              <p:nvPicPr>
                <p:cNvPr id="1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2724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4927320" y="51069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6" name=""/>
          <p:cNvGrpSpPr/>
          <p:nvPr/>
        </p:nvGrpSpPr>
        <p:grpSpPr>
          <a:xfrm>
            <a:off x="2165400" y="4100400"/>
            <a:ext cx="5137200" cy="1727280"/>
            <a:chOff x="2165400" y="4100400"/>
            <a:chExt cx="5137200" cy="1727280"/>
          </a:xfrm>
        </p:grpSpPr>
        <p:grpSp>
          <p:nvGrpSpPr>
            <p:cNvPr id="137" name=""/>
            <p:cNvGrpSpPr/>
            <p:nvPr/>
          </p:nvGrpSpPr>
          <p:grpSpPr>
            <a:xfrm>
              <a:off x="6164280" y="4316400"/>
              <a:ext cx="1138320" cy="1243080"/>
              <a:chOff x="6164280" y="4316400"/>
              <a:chExt cx="1138320" cy="12430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164280" y="4316400"/>
                <a:ext cx="1138320" cy="568440"/>
                <a:chOff x="6164280" y="4316400"/>
                <a:chExt cx="1138320" cy="568440"/>
              </a:xfrm>
            </p:grpSpPr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6428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626580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ff00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164280" y="4991040"/>
                <a:ext cx="1138320" cy="568440"/>
                <a:chOff x="6164280" y="4991040"/>
                <a:chExt cx="1138320" cy="56844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6428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6265800" y="51069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00ff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2165400" y="4100400"/>
              <a:ext cx="1726920" cy="1727280"/>
              <a:chOff x="2165400" y="4100400"/>
              <a:chExt cx="1726920" cy="1727280"/>
            </a:xfrm>
          </p:grpSpPr>
          <p:pic>
            <p:nvPicPr>
              <p:cNvPr id="14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654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flipH="1">
                <a:off x="2344320" y="496404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2165400" y="4100400"/>
            <a:ext cx="6478560" cy="1727280"/>
            <a:chOff x="2165400" y="4100400"/>
            <a:chExt cx="6478560" cy="1727280"/>
          </a:xfrm>
        </p:grpSpPr>
        <p:grpSp>
          <p:nvGrpSpPr>
            <p:cNvPr id="148" name=""/>
            <p:cNvGrpSpPr/>
            <p:nvPr/>
          </p:nvGrpSpPr>
          <p:grpSpPr>
            <a:xfrm>
              <a:off x="7505640" y="4316400"/>
              <a:ext cx="1138320" cy="1243080"/>
              <a:chOff x="7505640" y="4316400"/>
              <a:chExt cx="1138320" cy="124308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7505640" y="4316400"/>
                <a:ext cx="1138320" cy="568440"/>
                <a:chOff x="7505640" y="4316400"/>
                <a:chExt cx="1138320" cy="56844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05640" y="431640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7605720" y="443232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Farb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7505640" y="4991040"/>
                <a:ext cx="1138320" cy="568440"/>
                <a:chOff x="7505640" y="4991040"/>
                <a:chExt cx="1138320" cy="56844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505640" y="4991040"/>
                  <a:ext cx="1138320" cy="56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7607520" y="510696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Farbe 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2165400" y="4100400"/>
              <a:ext cx="1726920" cy="1727280"/>
              <a:chOff x="2165400" y="4100400"/>
              <a:chExt cx="1726920" cy="172728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65400" y="410040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flipH="1" flipV="1">
                <a:off x="2424600" y="4642200"/>
                <a:ext cx="1207800" cy="6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603600" y="568476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e Anzahl der Farben sollte gering gehalten werd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32040" y="1413000"/>
            <a:ext cx="5638680" cy="398880"/>
            <a:chOff x="932040" y="1413000"/>
            <a:chExt cx="5638680" cy="398880"/>
          </a:xfrm>
        </p:grpSpPr>
        <p:sp>
          <p:nvSpPr>
            <p:cNvPr id="161" name=""/>
            <p:cNvSpPr/>
            <p:nvPr/>
          </p:nvSpPr>
          <p:spPr>
            <a:xfrm>
              <a:off x="932040" y="146700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2920" y="141300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staltungselement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36760" y="1987560"/>
            <a:ext cx="2950920" cy="1512720"/>
          </a:xfrm>
          <a:prstGeom prst="rect">
            <a:avLst/>
          </a:prstGeom>
          <a:solidFill>
            <a:srgbClr val="000099"/>
          </a:solidFill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cht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ach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glieder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vertrauenerwe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827680" y="1555920"/>
            <a:ext cx="2232000" cy="2232000"/>
            <a:chOff x="5827680" y="1555920"/>
            <a:chExt cx="2232000" cy="2232000"/>
          </a:xfrm>
        </p:grpSpPr>
        <p:sp>
          <p:nvSpPr>
            <p:cNvPr id="165" name=""/>
            <p:cNvSpPr/>
            <p:nvPr/>
          </p:nvSpPr>
          <p:spPr>
            <a:xfrm>
              <a:off x="5827680" y="1555920"/>
              <a:ext cx="2232000" cy="223200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6400" y="2105280"/>
              <a:ext cx="16560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Kre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2" charset="2"/>
                <a:buChar char="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emo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2" charset="2"/>
                <a:buChar char="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schütz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740040" y="3429000"/>
            <a:ext cx="3168720" cy="2087640"/>
            <a:chOff x="3740040" y="3429000"/>
            <a:chExt cx="3168720" cy="2087640"/>
          </a:xfrm>
        </p:grpSpPr>
        <p:sp>
          <p:nvSpPr>
            <p:cNvPr id="168" name=""/>
            <p:cNvSpPr/>
            <p:nvPr/>
          </p:nvSpPr>
          <p:spPr>
            <a:xfrm>
              <a:off x="3740040" y="3429000"/>
              <a:ext cx="3168720" cy="2087640"/>
            </a:xfrm>
            <a:prstGeom prst="flowChartExtract">
              <a:avLst/>
            </a:prstGeom>
            <a:solidFill>
              <a:srgbClr val="000099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6760" y="4221000"/>
              <a:ext cx="17287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Drei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3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arn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ffcc00"/>
                </a:buClr>
                <a:buFont typeface="Wingdings 3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aggress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34920" y="1420920"/>
            <a:ext cx="6705360" cy="769320"/>
            <a:chOff x="934920" y="1420920"/>
            <a:chExt cx="6705360" cy="769320"/>
          </a:xfrm>
        </p:grpSpPr>
        <p:sp>
          <p:nvSpPr>
            <p:cNvPr id="172" name=""/>
            <p:cNvSpPr/>
            <p:nvPr/>
          </p:nvSpPr>
          <p:spPr>
            <a:xfrm>
              <a:off x="934920" y="14684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15800" y="142092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hriftenwah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ahl der Schriftart, Anzahl begrenz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635520" y="1488960"/>
              <a:ext cx="100476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934920" y="2411280"/>
            <a:ext cx="6719760" cy="866880"/>
            <a:chOff x="934920" y="2411280"/>
            <a:chExt cx="6719760" cy="866880"/>
          </a:xfrm>
        </p:grpSpPr>
        <p:sp>
          <p:nvSpPr>
            <p:cNvPr id="176" name=""/>
            <p:cNvSpPr/>
            <p:nvPr/>
          </p:nvSpPr>
          <p:spPr>
            <a:xfrm>
              <a:off x="934920" y="245916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5800" y="241128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kturmitt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berschriften, Hervorhebungen, Unterlegunge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6649920" y="2428920"/>
              <a:ext cx="1004760" cy="84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934920" y="3436920"/>
            <a:ext cx="6703920" cy="1104840"/>
            <a:chOff x="934920" y="3436920"/>
            <a:chExt cx="6703920" cy="1104840"/>
          </a:xfrm>
        </p:grpSpPr>
        <p:sp>
          <p:nvSpPr>
            <p:cNvPr id="180" name=""/>
            <p:cNvSpPr/>
            <p:nvPr/>
          </p:nvSpPr>
          <p:spPr>
            <a:xfrm>
              <a:off x="934920" y="348444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5800" y="3436920"/>
              <a:ext cx="525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sricht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676920" y="3608280"/>
              <a:ext cx="961920" cy="933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26920" y="836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eln für die Gestaltung der Präsentation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r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34920" y="1413000"/>
            <a:ext cx="5638680" cy="769320"/>
            <a:chOff x="934920" y="1413000"/>
            <a:chExt cx="5638680" cy="769320"/>
          </a:xfrm>
        </p:grpSpPr>
        <p:sp>
          <p:nvSpPr>
            <p:cNvPr id="185" name=""/>
            <p:cNvSpPr/>
            <p:nvPr/>
          </p:nvSpPr>
          <p:spPr>
            <a:xfrm>
              <a:off x="934920" y="146052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15800" y="1413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mulier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rze und einfache Sätze, Fachbegriffe erklä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934920" y="2421000"/>
            <a:ext cx="6719760" cy="769320"/>
            <a:chOff x="934920" y="2421000"/>
            <a:chExt cx="6719760" cy="769320"/>
          </a:xfrm>
        </p:grpSpPr>
        <p:sp>
          <p:nvSpPr>
            <p:cNvPr id="188" name=""/>
            <p:cNvSpPr/>
            <p:nvPr/>
          </p:nvSpPr>
          <p:spPr>
            <a:xfrm>
              <a:off x="934920" y="245124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5800" y="2421000"/>
              <a:ext cx="525780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ordn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bersichtlichkeit, Hervorhebung von Wesentlich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6649920" y="2554200"/>
              <a:ext cx="1004760" cy="5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09:40:33Z</dcterms:created>
  <dc:creator>Peter</dc:creator>
  <dc:description/>
  <dc:language>en-US</dc:language>
  <cp:lastModifiedBy>Peter</cp:lastModifiedBy>
  <dcterms:modified xsi:type="dcterms:W3CDTF">2010-10-09T11:18:24Z</dcterms:modified>
  <cp:revision>43</cp:revision>
  <dc:subject/>
  <dc:title>Folie 1</dc:title>
</cp:coreProperties>
</file>