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44E0-ADF0-42E7-8E22-C4B36C50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CCAE-9FD6-4F97-8496-4262746D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F9A8-3620-4862-9B46-E8EE8C65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A5B-A4F5-44C9-8CEC-30067E4F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E522-6350-45EF-A524-897CC125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EF3D-0C74-408E-B416-6759C0DA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D087-8964-48F5-971C-2F370E28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446-966E-4BF0-BA5C-C8F49D89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7853-1B5C-4EFA-82ED-8ED4A11B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4A08-E228-488A-AB03-427AC730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9A9-C73C-467D-8A06-153B1438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5DC-66BE-417B-8FDE-C92BD200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F143-8615-4300-B77C-1E982315F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7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9810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ewerten von Projekten und Präsent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5318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Schulinterne Lehrerfortbil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02080" y="65390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ter Hauslade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6553080" cy="417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26920" y="83664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932040" y="1351080"/>
            <a:ext cx="6530760" cy="1012680"/>
            <a:chOff x="932040" y="1351080"/>
            <a:chExt cx="6530760" cy="1012680"/>
          </a:xfrm>
        </p:grpSpPr>
        <p:sp>
          <p:nvSpPr>
            <p:cNvPr id="193" name=""/>
            <p:cNvSpPr/>
            <p:nvPr/>
          </p:nvSpPr>
          <p:spPr>
            <a:xfrm>
              <a:off x="932040" y="139860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12920" y="1351080"/>
              <a:ext cx="38862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vigation (Link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utlich erkennbar, schlüssig, einheitlich und keine Sackgass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6458040" y="1494000"/>
              <a:ext cx="1004760" cy="7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/>
          <p:nvPr/>
        </p:nvSpPr>
        <p:spPr>
          <a:xfrm>
            <a:off x="1316160" y="2502000"/>
            <a:ext cx="672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ispiele für die Organisation der Reihenfolge der 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316160" y="2862360"/>
            <a:ext cx="3214080" cy="977760"/>
            <a:chOff x="1316160" y="2862360"/>
            <a:chExt cx="3214080" cy="977760"/>
          </a:xfrm>
        </p:grpSpPr>
        <p:sp>
          <p:nvSpPr>
            <p:cNvPr id="198" name=""/>
            <p:cNvSpPr/>
            <p:nvPr/>
          </p:nvSpPr>
          <p:spPr>
            <a:xfrm>
              <a:off x="1316160" y="2862360"/>
              <a:ext cx="21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e lineare Strukt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>
              <a:off x="1388880" y="3294000"/>
              <a:ext cx="314136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"/>
          <p:cNvGrpSpPr/>
          <p:nvPr/>
        </p:nvGrpSpPr>
        <p:grpSpPr>
          <a:xfrm>
            <a:off x="1316160" y="4014720"/>
            <a:ext cx="2620800" cy="1790640"/>
            <a:chOff x="1316160" y="4014720"/>
            <a:chExt cx="2620800" cy="1790640"/>
          </a:xfrm>
        </p:grpSpPr>
        <p:sp>
          <p:nvSpPr>
            <p:cNvPr id="201" name=""/>
            <p:cNvSpPr/>
            <p:nvPr/>
          </p:nvSpPr>
          <p:spPr>
            <a:xfrm>
              <a:off x="1316160" y="4014720"/>
              <a:ext cx="26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e hierarchische Strukt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4"/>
            <a:stretch/>
          </p:blipFill>
          <p:spPr>
            <a:xfrm>
              <a:off x="1387440" y="4360680"/>
              <a:ext cx="2312640" cy="144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4729320" y="4005360"/>
            <a:ext cx="4105080" cy="1805040"/>
            <a:chOff x="4729320" y="4005360"/>
            <a:chExt cx="4105080" cy="1805040"/>
          </a:xfrm>
        </p:grpSpPr>
        <p:sp>
          <p:nvSpPr>
            <p:cNvPr id="204" name=""/>
            <p:cNvSpPr/>
            <p:nvPr/>
          </p:nvSpPr>
          <p:spPr>
            <a:xfrm>
              <a:off x="4729320" y="4005360"/>
              <a:ext cx="410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e hierarchische Struktur mit Weiterlei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5"/>
            <a:stretch/>
          </p:blipFill>
          <p:spPr>
            <a:xfrm>
              <a:off x="5395680" y="4365720"/>
              <a:ext cx="2312640" cy="1444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ojek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208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obachten des Arbeitsproze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4143600" cy="511164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6516720" y="2708280"/>
            <a:ext cx="2233440" cy="720720"/>
            <a:chOff x="6516720" y="2708280"/>
            <a:chExt cx="2233440" cy="720720"/>
          </a:xfrm>
        </p:grpSpPr>
        <p:sp>
          <p:nvSpPr>
            <p:cNvPr id="212" name=""/>
            <p:cNvSpPr/>
            <p:nvPr/>
          </p:nvSpPr>
          <p:spPr>
            <a:xfrm>
              <a:off x="6659640" y="2708280"/>
              <a:ext cx="2016000" cy="289080"/>
            </a:xfrm>
            <a:prstGeom prst="rect">
              <a:avLst/>
            </a:prstGeom>
            <a:solidFill>
              <a:srgbClr val="99ccf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wertung mit Abstufung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16720" y="3141720"/>
              <a:ext cx="22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+                   -                    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ojek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216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Beobachten des Arbeitsproze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952560" y="1652760"/>
            <a:ext cx="6356160" cy="337320"/>
            <a:chOff x="952560" y="1652760"/>
            <a:chExt cx="6356160" cy="337320"/>
          </a:xfrm>
        </p:grpSpPr>
        <p:sp>
          <p:nvSpPr>
            <p:cNvPr id="219" name=""/>
            <p:cNvSpPr/>
            <p:nvPr/>
          </p:nvSpPr>
          <p:spPr>
            <a:xfrm>
              <a:off x="1239840" y="16527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chüler bewerten m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52560" y="170640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4752720" cy="1409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12000" y="2492280"/>
            <a:ext cx="223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%                   30%                    4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ojek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225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Beobachten des Arbeitsproze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952560" y="1652760"/>
            <a:ext cx="6356160" cy="337320"/>
            <a:chOff x="952560" y="1652760"/>
            <a:chExt cx="6356160" cy="337320"/>
          </a:xfrm>
        </p:grpSpPr>
        <p:sp>
          <p:nvSpPr>
            <p:cNvPr id="228" name=""/>
            <p:cNvSpPr/>
            <p:nvPr/>
          </p:nvSpPr>
          <p:spPr>
            <a:xfrm>
              <a:off x="1239840" y="16527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Schüler bewerten m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52560" y="170640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971640" y="1994040"/>
            <a:ext cx="6356160" cy="337320"/>
            <a:chOff x="971640" y="1994040"/>
            <a:chExt cx="6356160" cy="337320"/>
          </a:xfrm>
        </p:grpSpPr>
        <p:sp>
          <p:nvSpPr>
            <p:cNvPr id="231" name=""/>
            <p:cNvSpPr/>
            <p:nvPr/>
          </p:nvSpPr>
          <p:spPr>
            <a:xfrm>
              <a:off x="1258920" y="199404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werten des Projektergebni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71640" y="204768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203640" y="2630520"/>
            <a:ext cx="5638680" cy="2743200"/>
            <a:chOff x="3203640" y="2630520"/>
            <a:chExt cx="5638680" cy="274320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3203640" y="2630520"/>
              <a:ext cx="56386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886360" y="3059280"/>
              <a:ext cx="57636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348000" y="3500280"/>
            <a:ext cx="5648400" cy="2752920"/>
            <a:chOff x="3348000" y="3500280"/>
            <a:chExt cx="5648400" cy="2752920"/>
          </a:xfrm>
        </p:grpSpPr>
        <p:pic>
          <p:nvPicPr>
            <p:cNvPr id="237" name="" descr=""/>
            <p:cNvPicPr/>
            <p:nvPr/>
          </p:nvPicPr>
          <p:blipFill>
            <a:blip r:embed="rId3"/>
            <a:stretch/>
          </p:blipFill>
          <p:spPr>
            <a:xfrm>
              <a:off x="3348000" y="3500280"/>
              <a:ext cx="5648400" cy="27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507000" y="3924360"/>
              <a:ext cx="57636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ojek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241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Beobachten des Arbeitsproze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952560" y="1652760"/>
            <a:ext cx="6356160" cy="337320"/>
            <a:chOff x="952560" y="1652760"/>
            <a:chExt cx="6356160" cy="337320"/>
          </a:xfrm>
        </p:grpSpPr>
        <p:sp>
          <p:nvSpPr>
            <p:cNvPr id="244" name=""/>
            <p:cNvSpPr/>
            <p:nvPr/>
          </p:nvSpPr>
          <p:spPr>
            <a:xfrm>
              <a:off x="1239840" y="16527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Schüler bewerten m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52560" y="170640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971640" y="1994040"/>
            <a:ext cx="6356160" cy="337320"/>
            <a:chOff x="971640" y="1994040"/>
            <a:chExt cx="6356160" cy="337320"/>
          </a:xfrm>
        </p:grpSpPr>
        <p:sp>
          <p:nvSpPr>
            <p:cNvPr id="247" name=""/>
            <p:cNvSpPr/>
            <p:nvPr/>
          </p:nvSpPr>
          <p:spPr>
            <a:xfrm>
              <a:off x="1258920" y="199404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Bewerten des Projektergebni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71640" y="204768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971640" y="2349360"/>
            <a:ext cx="6356160" cy="337320"/>
            <a:chOff x="971640" y="2349360"/>
            <a:chExt cx="6356160" cy="337320"/>
          </a:xfrm>
        </p:grpSpPr>
        <p:sp>
          <p:nvSpPr>
            <p:cNvPr id="250" name=""/>
            <p:cNvSpPr/>
            <p:nvPr/>
          </p:nvSpPr>
          <p:spPr>
            <a:xfrm>
              <a:off x="1258920" y="23493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r Quellennachwe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71640" y="24033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564000" y="2951280"/>
            <a:ext cx="5119560" cy="1114200"/>
            <a:chOff x="3564000" y="2951280"/>
            <a:chExt cx="5119560" cy="1114200"/>
          </a:xfrm>
        </p:grpSpPr>
        <p:sp>
          <p:nvSpPr>
            <p:cNvPr id="253" name=""/>
            <p:cNvSpPr/>
            <p:nvPr/>
          </p:nvSpPr>
          <p:spPr>
            <a:xfrm>
              <a:off x="3564000" y="2951280"/>
              <a:ext cx="35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xtdokument mit Quellennachwe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7883640" y="2951280"/>
              <a:ext cx="799920" cy="111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3564000" y="4127400"/>
            <a:ext cx="5075280" cy="2254320"/>
            <a:chOff x="3564000" y="4127400"/>
            <a:chExt cx="5075280" cy="2254320"/>
          </a:xfrm>
        </p:grpSpPr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6012000" y="4679640"/>
              <a:ext cx="262728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564000" y="4127400"/>
              <a:ext cx="38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uellennachweis als eigene Webse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ojek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260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Beobachten des Arbeitsproze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952560" y="1652760"/>
            <a:ext cx="6356160" cy="337320"/>
            <a:chOff x="952560" y="1652760"/>
            <a:chExt cx="6356160" cy="337320"/>
          </a:xfrm>
        </p:grpSpPr>
        <p:sp>
          <p:nvSpPr>
            <p:cNvPr id="263" name=""/>
            <p:cNvSpPr/>
            <p:nvPr/>
          </p:nvSpPr>
          <p:spPr>
            <a:xfrm>
              <a:off x="1239840" y="16527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Schüler bewerten m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52560" y="170640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971640" y="1994040"/>
            <a:ext cx="6356160" cy="337320"/>
            <a:chOff x="971640" y="1994040"/>
            <a:chExt cx="6356160" cy="337320"/>
          </a:xfrm>
        </p:grpSpPr>
        <p:sp>
          <p:nvSpPr>
            <p:cNvPr id="266" name=""/>
            <p:cNvSpPr/>
            <p:nvPr/>
          </p:nvSpPr>
          <p:spPr>
            <a:xfrm>
              <a:off x="1258920" y="199404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Bewerten des Projektergebni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71640" y="204768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71640" y="2349360"/>
            <a:ext cx="6356160" cy="337320"/>
            <a:chOff x="971640" y="2349360"/>
            <a:chExt cx="6356160" cy="337320"/>
          </a:xfrm>
        </p:grpSpPr>
        <p:sp>
          <p:nvSpPr>
            <p:cNvPr id="269" name=""/>
            <p:cNvSpPr/>
            <p:nvPr/>
          </p:nvSpPr>
          <p:spPr>
            <a:xfrm>
              <a:off x="1258920" y="23493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Der Quellennachwe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71640" y="24033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971640" y="2732040"/>
            <a:ext cx="6356160" cy="337320"/>
            <a:chOff x="971640" y="2732040"/>
            <a:chExt cx="6356160" cy="337320"/>
          </a:xfrm>
        </p:grpSpPr>
        <p:sp>
          <p:nvSpPr>
            <p:cNvPr id="272" name=""/>
            <p:cNvSpPr/>
            <p:nvPr/>
          </p:nvSpPr>
          <p:spPr>
            <a:xfrm>
              <a:off x="1258920" y="273204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e Benot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71640" y="278604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692360" y="3233880"/>
            <a:ext cx="7127640" cy="3219480"/>
            <a:chOff x="1692360" y="3233880"/>
            <a:chExt cx="7127640" cy="3219480"/>
          </a:xfrm>
        </p:grpSpPr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3390840" y="3233880"/>
              <a:ext cx="5429160" cy="321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6" name=""/>
            <p:cNvGrpSpPr/>
            <p:nvPr/>
          </p:nvGrpSpPr>
          <p:grpSpPr>
            <a:xfrm>
              <a:off x="1692360" y="3284640"/>
              <a:ext cx="1511280" cy="498240"/>
              <a:chOff x="1692360" y="3284640"/>
              <a:chExt cx="1511280" cy="498240"/>
            </a:xfrm>
          </p:grpSpPr>
          <p:pic>
            <p:nvPicPr>
              <p:cNvPr id="2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92360" y="3284640"/>
                <a:ext cx="1054080" cy="49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2627280" y="3284640"/>
                <a:ext cx="576360" cy="288720"/>
              </a:xfrm>
              <a:prstGeom prst="rightArrow">
                <a:avLst>
                  <a:gd name="adj1" fmla="val 50000"/>
                  <a:gd name="adj2" fmla="val 49906"/>
                </a:avLst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zoom dir="out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äsent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281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ichtlinien für das Auftret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116000" y="1700280"/>
            <a:ext cx="7919640" cy="4105080"/>
            <a:chOff x="1116000" y="1700280"/>
            <a:chExt cx="7919640" cy="4105080"/>
          </a:xfrm>
        </p:grpSpPr>
        <p:grpSp>
          <p:nvGrpSpPr>
            <p:cNvPr id="284" name=""/>
            <p:cNvGrpSpPr/>
            <p:nvPr/>
          </p:nvGrpSpPr>
          <p:grpSpPr>
            <a:xfrm>
              <a:off x="1258920" y="1755720"/>
              <a:ext cx="7776720" cy="3906360"/>
              <a:chOff x="1258920" y="1755720"/>
              <a:chExt cx="7776720" cy="3906360"/>
            </a:xfrm>
          </p:grpSpPr>
          <p:sp>
            <p:nvSpPr>
              <p:cNvPr id="285" name=""/>
              <p:cNvSpPr/>
              <p:nvPr/>
            </p:nvSpPr>
            <p:spPr>
              <a:xfrm>
                <a:off x="1258920" y="1827360"/>
                <a:ext cx="288720" cy="198360"/>
              </a:xfrm>
              <a:prstGeom prst="rightArrow">
                <a:avLst>
                  <a:gd name="adj1" fmla="val 50000"/>
                  <a:gd name="adj2" fmla="val 36388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547640" y="1755720"/>
                <a:ext cx="748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Körpersprache vermittelt Botschaften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47640" y="2190600"/>
                <a:ext cx="74880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erschränkte Arme oder in die Seiten gestützte Hände halten das Publikum auf Distanz und erwecken den Eindruck der Einschüchterung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47640" y="2881440"/>
                <a:ext cx="74880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öflichkeit und Freundlichkeit in Form der Begrüßung, des Bedankens und der Wertschätzung von eventuellen Beiträgen aus dem Publikum werden geschätzt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528560" y="3611520"/>
                <a:ext cx="7488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lickkontakt zum gesamten Publikum auch zu einzelnen Personen wirken vertrauenswürdig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528560" y="4132080"/>
                <a:ext cx="748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ouveränes und sicheres Auftreten steigern die Aufmerksamkeit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528560" y="4606920"/>
                <a:ext cx="748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s äußere Erscheinungsbild schafft Vertrauen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8560" y="5111640"/>
                <a:ext cx="74880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 der Gruppe wirkt ein „Zuspielen des Balls“ zwischen den Teammitgliedern souverän. Jedes Gruppenmitglied ist beim Vortrag gleichberechtigt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258920" y="2243160"/>
                <a:ext cx="288720" cy="198360"/>
              </a:xfrm>
              <a:prstGeom prst="rightArrow">
                <a:avLst>
                  <a:gd name="adj1" fmla="val 50000"/>
                  <a:gd name="adj2" fmla="val 36388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258920" y="2935440"/>
                <a:ext cx="288720" cy="198360"/>
              </a:xfrm>
              <a:prstGeom prst="rightArrow">
                <a:avLst>
                  <a:gd name="adj1" fmla="val 50000"/>
                  <a:gd name="adj2" fmla="val 36388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258920" y="3700440"/>
                <a:ext cx="288720" cy="198360"/>
              </a:xfrm>
              <a:prstGeom prst="rightArrow">
                <a:avLst>
                  <a:gd name="adj1" fmla="val 50000"/>
                  <a:gd name="adj2" fmla="val 36388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258920" y="4227480"/>
                <a:ext cx="288720" cy="198360"/>
              </a:xfrm>
              <a:prstGeom prst="rightArrow">
                <a:avLst>
                  <a:gd name="adj1" fmla="val 50000"/>
                  <a:gd name="adj2" fmla="val 36388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258920" y="4699080"/>
                <a:ext cx="288720" cy="198360"/>
              </a:xfrm>
              <a:prstGeom prst="rightArrow">
                <a:avLst>
                  <a:gd name="adj1" fmla="val 50000"/>
                  <a:gd name="adj2" fmla="val 36388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258920" y="5183280"/>
                <a:ext cx="288720" cy="198360"/>
              </a:xfrm>
              <a:prstGeom prst="rightArrow">
                <a:avLst>
                  <a:gd name="adj1" fmla="val 50000"/>
                  <a:gd name="adj2" fmla="val 36388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1116000" y="1700280"/>
              <a:ext cx="7848720" cy="4105080"/>
            </a:xfrm>
            <a:prstGeom prst="rect">
              <a:avLst/>
            </a:prstGeom>
            <a:solidFill>
              <a:srgbClr val="99ccff">
                <a:alpha val="1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äsent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302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Richtlinien für das Auftret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952560" y="1652760"/>
            <a:ext cx="6356160" cy="337320"/>
            <a:chOff x="952560" y="1652760"/>
            <a:chExt cx="6356160" cy="337320"/>
          </a:xfrm>
        </p:grpSpPr>
        <p:sp>
          <p:nvSpPr>
            <p:cNvPr id="305" name=""/>
            <p:cNvSpPr/>
            <p:nvPr/>
          </p:nvSpPr>
          <p:spPr>
            <a:xfrm>
              <a:off x="1239840" y="16527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obachten des Vortr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52560" y="170640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1828800" y="2133720"/>
            <a:ext cx="6488280" cy="387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äsent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310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Richtlinien für das Auftret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52560" y="1652760"/>
            <a:ext cx="6356160" cy="337320"/>
            <a:chOff x="952560" y="1652760"/>
            <a:chExt cx="6356160" cy="337320"/>
          </a:xfrm>
        </p:grpSpPr>
        <p:sp>
          <p:nvSpPr>
            <p:cNvPr id="313" name=""/>
            <p:cNvSpPr/>
            <p:nvPr/>
          </p:nvSpPr>
          <p:spPr>
            <a:xfrm>
              <a:off x="1239840" y="16527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Beobachten des Vortr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52560" y="170640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952560" y="2013120"/>
            <a:ext cx="6356160" cy="337320"/>
            <a:chOff x="952560" y="2013120"/>
            <a:chExt cx="6356160" cy="337320"/>
          </a:xfrm>
        </p:grpSpPr>
        <p:sp>
          <p:nvSpPr>
            <p:cNvPr id="316" name=""/>
            <p:cNvSpPr/>
            <p:nvPr/>
          </p:nvSpPr>
          <p:spPr>
            <a:xfrm>
              <a:off x="1239840" y="201312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wertung des Präsentationsdoku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52560" y="206676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157560" y="2532240"/>
            <a:ext cx="5591160" cy="3849480"/>
            <a:chOff x="3157560" y="2532240"/>
            <a:chExt cx="5591160" cy="3849480"/>
          </a:xfrm>
        </p:grpSpPr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3157560" y="2532240"/>
              <a:ext cx="5591160" cy="38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7859880" y="3673440"/>
              <a:ext cx="431640" cy="289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03960" y="3664080"/>
              <a:ext cx="43164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64600" y="3645000"/>
              <a:ext cx="360360" cy="3603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76360" y="1628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 N D E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02080" y="65390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ter Hauslade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6553080" cy="4179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692360" y="119700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ewerten von Projekten und Präsent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orüberleg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47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ganis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952560" y="1724040"/>
            <a:ext cx="6356160" cy="337320"/>
            <a:chOff x="952560" y="1724040"/>
            <a:chExt cx="6356160" cy="337320"/>
          </a:xfrm>
        </p:grpSpPr>
        <p:sp>
          <p:nvSpPr>
            <p:cNvPr id="50" name=""/>
            <p:cNvSpPr/>
            <p:nvPr/>
          </p:nvSpPr>
          <p:spPr>
            <a:xfrm>
              <a:off x="1239840" y="172404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kanntgabe der Richtlinien an die Schül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52560" y="177804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25560" y="2708280"/>
            <a:ext cx="7632720" cy="2089080"/>
            <a:chOff x="925560" y="2708280"/>
            <a:chExt cx="7632720" cy="2089080"/>
          </a:xfrm>
        </p:grpSpPr>
        <p:sp>
          <p:nvSpPr>
            <p:cNvPr id="53" name=""/>
            <p:cNvSpPr/>
            <p:nvPr/>
          </p:nvSpPr>
          <p:spPr>
            <a:xfrm>
              <a:off x="997200" y="2781360"/>
              <a:ext cx="7561080" cy="20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25560" y="2708280"/>
              <a:ext cx="7561440" cy="2012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§ 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oße Leistungsnachwe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3) Durch Beschluss der Lehrerkonferenz, der zu Beginn des Schuljahres zu fassen ist,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ann in den Jahrgangsstufen 5 bis 9 in Fächern mit mehr als zwei Schulaufgaben eine der Schulaufgaben ersetzt werden durch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 zwei Kurzarbeiten o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2. ein bewertetes Projekt (z. B. Dokumentation und Präsentation).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25560" y="4946760"/>
            <a:ext cx="7633800" cy="1218960"/>
            <a:chOff x="925560" y="4946760"/>
            <a:chExt cx="7633800" cy="1218960"/>
          </a:xfrm>
        </p:grpSpPr>
        <p:sp>
          <p:nvSpPr>
            <p:cNvPr id="56" name=""/>
            <p:cNvSpPr/>
            <p:nvPr/>
          </p:nvSpPr>
          <p:spPr>
            <a:xfrm>
              <a:off x="998280" y="5013360"/>
              <a:ext cx="7561080" cy="1152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25560" y="4946760"/>
              <a:ext cx="7561080" cy="115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§ 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Kleine Leistungsnachwe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4) Mündliche Leistungsnachweise sind Rechenschaftsablagen, </a:t>
              </a:r>
              <a:r>
                <a:rPr b="0" lang="de-DE" sz="1400" spc="-1" strike="noStrike">
                  <a:solidFill>
                    <a:srgbClr val="ff3300"/>
                  </a:solidFill>
                  <a:latin typeface="Arial"/>
                </a:rPr>
                <a:t>Referate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und Unterrichts-beiträg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971640" y="2155680"/>
            <a:ext cx="6356160" cy="337320"/>
            <a:chOff x="971640" y="2155680"/>
            <a:chExt cx="6356160" cy="337320"/>
          </a:xfrm>
        </p:grpSpPr>
        <p:sp>
          <p:nvSpPr>
            <p:cNvPr id="59" name=""/>
            <p:cNvSpPr/>
            <p:nvPr/>
          </p:nvSpPr>
          <p:spPr>
            <a:xfrm>
              <a:off x="1258920" y="215568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e rechtlichen Grundla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71640" y="220968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26920" y="836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26920" y="836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947880" y="1413000"/>
            <a:ext cx="6719760" cy="1268280"/>
            <a:chOff x="947880" y="1413000"/>
            <a:chExt cx="6719760" cy="1268280"/>
          </a:xfrm>
        </p:grpSpPr>
        <p:sp>
          <p:nvSpPr>
            <p:cNvPr id="64" name=""/>
            <p:cNvSpPr/>
            <p:nvPr/>
          </p:nvSpPr>
          <p:spPr>
            <a:xfrm>
              <a:off x="947880" y="146700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6662880" y="1413000"/>
              <a:ext cx="10047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328760" y="1413000"/>
              <a:ext cx="52578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iteneinteilung (Anordnung der Objekt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itionierung der Objekte zu einem einheitlichen Bi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947880" y="2556000"/>
            <a:ext cx="6719760" cy="863640"/>
            <a:chOff x="947880" y="2556000"/>
            <a:chExt cx="6719760" cy="86364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6662880" y="2784600"/>
              <a:ext cx="10047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28760" y="2556000"/>
              <a:ext cx="52578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ordnung der Objek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usammengehörigkeit von Objekt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47880" y="261936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947880" y="3673440"/>
            <a:ext cx="6719760" cy="769320"/>
            <a:chOff x="947880" y="3673440"/>
            <a:chExt cx="6719760" cy="769320"/>
          </a:xfrm>
        </p:grpSpPr>
        <p:sp>
          <p:nvSpPr>
            <p:cNvPr id="72" name=""/>
            <p:cNvSpPr/>
            <p:nvPr/>
          </p:nvSpPr>
          <p:spPr>
            <a:xfrm>
              <a:off x="1328760" y="3673440"/>
              <a:ext cx="52578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rafik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flockerung, Erklär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4"/>
            <a:stretch/>
          </p:blipFill>
          <p:spPr>
            <a:xfrm>
              <a:off x="6662880" y="3716280"/>
              <a:ext cx="10047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947880" y="371628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6920" y="836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939960" y="1413000"/>
            <a:ext cx="5638680" cy="398880"/>
            <a:chOff x="939960" y="1413000"/>
            <a:chExt cx="5638680" cy="398880"/>
          </a:xfrm>
        </p:grpSpPr>
        <p:sp>
          <p:nvSpPr>
            <p:cNvPr id="77" name=""/>
            <p:cNvSpPr/>
            <p:nvPr/>
          </p:nvSpPr>
          <p:spPr>
            <a:xfrm>
              <a:off x="939960" y="146700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20840" y="141300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staltungselement Farb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444680" y="1916280"/>
            <a:ext cx="1808280" cy="337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me Far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3440" y="234792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ychologische Bedeutung und Konv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013360" y="2679840"/>
            <a:ext cx="1511280" cy="1512720"/>
            <a:chOff x="5013360" y="2679840"/>
            <a:chExt cx="1511280" cy="1512720"/>
          </a:xfrm>
        </p:grpSpPr>
        <p:sp>
          <p:nvSpPr>
            <p:cNvPr id="82" name=""/>
            <p:cNvSpPr/>
            <p:nvPr/>
          </p:nvSpPr>
          <p:spPr>
            <a:xfrm>
              <a:off x="5013360" y="2708280"/>
              <a:ext cx="1511280" cy="1484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87960" y="3471840"/>
              <a:ext cx="1163520" cy="33732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87960" y="3040200"/>
              <a:ext cx="116352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48280" y="383220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stellfarb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48280" y="267984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olltonfarb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444680" y="2708280"/>
            <a:ext cx="1511280" cy="1484280"/>
            <a:chOff x="1444680" y="2708280"/>
            <a:chExt cx="1511280" cy="1484280"/>
          </a:xfrm>
        </p:grpSpPr>
        <p:sp>
          <p:nvSpPr>
            <p:cNvPr id="88" name=""/>
            <p:cNvSpPr/>
            <p:nvPr/>
          </p:nvSpPr>
          <p:spPr>
            <a:xfrm>
              <a:off x="1444680" y="2708280"/>
              <a:ext cx="1511280" cy="1484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19280" y="3471840"/>
              <a:ext cx="1163520" cy="337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n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19280" y="3040200"/>
              <a:ext cx="1163520" cy="33732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ädch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244680" y="2708280"/>
            <a:ext cx="1511280" cy="1484280"/>
            <a:chOff x="3244680" y="2708280"/>
            <a:chExt cx="1511280" cy="1484280"/>
          </a:xfrm>
        </p:grpSpPr>
        <p:sp>
          <p:nvSpPr>
            <p:cNvPr id="92" name=""/>
            <p:cNvSpPr/>
            <p:nvPr/>
          </p:nvSpPr>
          <p:spPr>
            <a:xfrm>
              <a:off x="3244680" y="2708280"/>
              <a:ext cx="1511280" cy="1484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9280" y="3471840"/>
              <a:ext cx="1163520" cy="3373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19280" y="3040200"/>
              <a:ext cx="116352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j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444680" y="4392720"/>
            <a:ext cx="1511280" cy="1484280"/>
            <a:chOff x="1444680" y="4392720"/>
            <a:chExt cx="1511280" cy="1484280"/>
          </a:xfrm>
        </p:grpSpPr>
        <p:sp>
          <p:nvSpPr>
            <p:cNvPr id="96" name=""/>
            <p:cNvSpPr/>
            <p:nvPr/>
          </p:nvSpPr>
          <p:spPr>
            <a:xfrm>
              <a:off x="1444680" y="4392720"/>
              <a:ext cx="1511280" cy="1484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19280" y="5156280"/>
              <a:ext cx="1163520" cy="3373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ü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19280" y="4724280"/>
              <a:ext cx="116352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P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244680" y="4363920"/>
            <a:ext cx="1511280" cy="1513080"/>
            <a:chOff x="3244680" y="4363920"/>
            <a:chExt cx="1511280" cy="1513080"/>
          </a:xfrm>
        </p:grpSpPr>
        <p:sp>
          <p:nvSpPr>
            <p:cNvPr id="100" name=""/>
            <p:cNvSpPr/>
            <p:nvPr/>
          </p:nvSpPr>
          <p:spPr>
            <a:xfrm>
              <a:off x="3244680" y="4392720"/>
              <a:ext cx="1511280" cy="1484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19280" y="5156280"/>
              <a:ext cx="11635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19280" y="4724280"/>
              <a:ext cx="116352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o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79600" y="551664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uddhism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79600" y="436392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hristen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006880" y="4392720"/>
            <a:ext cx="1511280" cy="1484280"/>
            <a:chOff x="5006880" y="4392720"/>
            <a:chExt cx="1511280" cy="1484280"/>
          </a:xfrm>
        </p:grpSpPr>
        <p:sp>
          <p:nvSpPr>
            <p:cNvPr id="106" name=""/>
            <p:cNvSpPr/>
            <p:nvPr/>
          </p:nvSpPr>
          <p:spPr>
            <a:xfrm>
              <a:off x="5006880" y="4392720"/>
              <a:ext cx="1511280" cy="1484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1480" y="5156280"/>
              <a:ext cx="1163160" cy="3373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lek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1480" y="4724280"/>
              <a:ext cx="11631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684680" y="1916280"/>
            <a:ext cx="1808280" cy="337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8000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lte Far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26920" y="836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39960" y="1436760"/>
            <a:ext cx="5638680" cy="398880"/>
            <a:chOff x="939960" y="1436760"/>
            <a:chExt cx="5638680" cy="398880"/>
          </a:xfrm>
        </p:grpSpPr>
        <p:sp>
          <p:nvSpPr>
            <p:cNvPr id="112" name=""/>
            <p:cNvSpPr/>
            <p:nvPr/>
          </p:nvSpPr>
          <p:spPr>
            <a:xfrm>
              <a:off x="939960" y="149076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20840" y="143676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staltungselement Farb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827600" y="2300400"/>
            <a:ext cx="3815640" cy="1152000"/>
            <a:chOff x="4827600" y="2300400"/>
            <a:chExt cx="3815640" cy="1152000"/>
          </a:xfrm>
        </p:grpSpPr>
        <p:sp>
          <p:nvSpPr>
            <p:cNvPr id="115" name=""/>
            <p:cNvSpPr/>
            <p:nvPr/>
          </p:nvSpPr>
          <p:spPr>
            <a:xfrm>
              <a:off x="4827600" y="2300400"/>
              <a:ext cx="1109160" cy="518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Arial"/>
                </a:rPr>
                <a:t>Farbe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27600" y="2934000"/>
              <a:ext cx="1109160" cy="518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Farbe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80480" y="2300400"/>
              <a:ext cx="1109880" cy="518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Farb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31200" y="2300400"/>
              <a:ext cx="1109880" cy="518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cc"/>
                  </a:solidFill>
                  <a:latin typeface="Arial"/>
                </a:rPr>
                <a:t>Farb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80480" y="2934000"/>
              <a:ext cx="1109880" cy="518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Farb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34080" y="2934000"/>
              <a:ext cx="1109160" cy="5184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Farb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333440" y="1868400"/>
            <a:ext cx="4724640" cy="1635120"/>
            <a:chOff x="1333440" y="1868400"/>
            <a:chExt cx="4724640" cy="1635120"/>
          </a:xfrm>
        </p:grpSpPr>
        <p:sp>
          <p:nvSpPr>
            <p:cNvPr id="122" name=""/>
            <p:cNvSpPr/>
            <p:nvPr/>
          </p:nvSpPr>
          <p:spPr>
            <a:xfrm>
              <a:off x="1333440" y="1868400"/>
              <a:ext cx="472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omplementärfarben - Farbkontras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444680" y="2300400"/>
              <a:ext cx="3240000" cy="120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>
            <a:off x="1444680" y="366876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rben, die sich im Farbkreis gegenüberst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163600" y="4100400"/>
            <a:ext cx="3801960" cy="1727280"/>
            <a:chOff x="2163600" y="4100400"/>
            <a:chExt cx="3801960" cy="1727280"/>
          </a:xfrm>
        </p:grpSpPr>
        <p:grpSp>
          <p:nvGrpSpPr>
            <p:cNvPr id="126" name=""/>
            <p:cNvGrpSpPr/>
            <p:nvPr/>
          </p:nvGrpSpPr>
          <p:grpSpPr>
            <a:xfrm>
              <a:off x="2163600" y="4100400"/>
              <a:ext cx="1726920" cy="1727280"/>
              <a:chOff x="2163600" y="4100400"/>
              <a:chExt cx="1726920" cy="1727280"/>
            </a:xfrm>
          </p:grpSpPr>
          <p:pic>
            <p:nvPicPr>
              <p:cNvPr id="1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163600" y="4100400"/>
                <a:ext cx="1726920" cy="17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3027240" y="4279680"/>
                <a:ext cx="0" cy="136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27240" y="4316400"/>
              <a:ext cx="1138320" cy="1243080"/>
              <a:chOff x="4827240" y="4316400"/>
              <a:chExt cx="1138320" cy="12430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4827240" y="4316400"/>
                <a:ext cx="1138320" cy="568440"/>
                <a:chOff x="4827240" y="4316400"/>
                <a:chExt cx="1138320" cy="568440"/>
              </a:xfrm>
            </p:grpSpPr>
            <p:pic>
              <p:nvPicPr>
                <p:cNvPr id="13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827240" y="4316400"/>
                  <a:ext cx="1138320" cy="56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2" name=""/>
                <p:cNvSpPr/>
                <p:nvPr/>
              </p:nvSpPr>
              <p:spPr>
                <a:xfrm>
                  <a:off x="4928760" y="4432320"/>
                  <a:ext cx="936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ff"/>
                      </a:solidFill>
                      <a:latin typeface="Arial"/>
                    </a:rPr>
                    <a:t>Farbe 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827240" y="4991040"/>
                <a:ext cx="1138320" cy="568440"/>
                <a:chOff x="4827240" y="4991040"/>
                <a:chExt cx="1138320" cy="568440"/>
              </a:xfrm>
            </p:grpSpPr>
            <p:pic>
              <p:nvPicPr>
                <p:cNvPr id="13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827240" y="4991040"/>
                  <a:ext cx="1138320" cy="56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" name=""/>
                <p:cNvSpPr/>
                <p:nvPr/>
              </p:nvSpPr>
              <p:spPr>
                <a:xfrm>
                  <a:off x="4927320" y="5106960"/>
                  <a:ext cx="936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Arial"/>
                    </a:rPr>
                    <a:t>Farbe 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6" name=""/>
          <p:cNvGrpSpPr/>
          <p:nvPr/>
        </p:nvGrpSpPr>
        <p:grpSpPr>
          <a:xfrm>
            <a:off x="2165400" y="4100400"/>
            <a:ext cx="5137200" cy="1727280"/>
            <a:chOff x="2165400" y="4100400"/>
            <a:chExt cx="5137200" cy="1727280"/>
          </a:xfrm>
        </p:grpSpPr>
        <p:grpSp>
          <p:nvGrpSpPr>
            <p:cNvPr id="137" name=""/>
            <p:cNvGrpSpPr/>
            <p:nvPr/>
          </p:nvGrpSpPr>
          <p:grpSpPr>
            <a:xfrm>
              <a:off x="6164280" y="4316400"/>
              <a:ext cx="1138320" cy="1243080"/>
              <a:chOff x="6164280" y="4316400"/>
              <a:chExt cx="1138320" cy="124308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6164280" y="4316400"/>
                <a:ext cx="1138320" cy="568440"/>
                <a:chOff x="6164280" y="4316400"/>
                <a:chExt cx="1138320" cy="568440"/>
              </a:xfrm>
            </p:grpSpPr>
            <p:pic>
              <p:nvPicPr>
                <p:cNvPr id="13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64280" y="4316400"/>
                  <a:ext cx="1138320" cy="56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"/>
                <p:cNvSpPr/>
                <p:nvPr/>
              </p:nvSpPr>
              <p:spPr>
                <a:xfrm>
                  <a:off x="6265800" y="4432320"/>
                  <a:ext cx="936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ff00"/>
                      </a:solidFill>
                      <a:latin typeface="Arial"/>
                    </a:rPr>
                    <a:t>Farbe 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164280" y="4991040"/>
                <a:ext cx="1138320" cy="568440"/>
                <a:chOff x="6164280" y="4991040"/>
                <a:chExt cx="1138320" cy="568440"/>
              </a:xfrm>
            </p:grpSpPr>
            <p:pic>
              <p:nvPicPr>
                <p:cNvPr id="14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64280" y="4991040"/>
                  <a:ext cx="1138320" cy="56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" name=""/>
                <p:cNvSpPr/>
                <p:nvPr/>
              </p:nvSpPr>
              <p:spPr>
                <a:xfrm>
                  <a:off x="6265800" y="5106960"/>
                  <a:ext cx="936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00ff"/>
                      </a:solidFill>
                      <a:latin typeface="Arial"/>
                    </a:rPr>
                    <a:t>Farbe 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"/>
            <p:cNvGrpSpPr/>
            <p:nvPr/>
          </p:nvGrpSpPr>
          <p:grpSpPr>
            <a:xfrm>
              <a:off x="2165400" y="4100400"/>
              <a:ext cx="1726920" cy="1727280"/>
              <a:chOff x="2165400" y="4100400"/>
              <a:chExt cx="1726920" cy="1727280"/>
            </a:xfrm>
          </p:grpSpPr>
          <p:pic>
            <p:nvPicPr>
              <p:cNvPr id="14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65400" y="4100400"/>
                <a:ext cx="1726920" cy="17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flipH="1">
                <a:off x="2344320" y="4964040"/>
                <a:ext cx="136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2165400" y="4100400"/>
            <a:ext cx="6478560" cy="1727280"/>
            <a:chOff x="2165400" y="4100400"/>
            <a:chExt cx="6478560" cy="1727280"/>
          </a:xfrm>
        </p:grpSpPr>
        <p:grpSp>
          <p:nvGrpSpPr>
            <p:cNvPr id="148" name=""/>
            <p:cNvGrpSpPr/>
            <p:nvPr/>
          </p:nvGrpSpPr>
          <p:grpSpPr>
            <a:xfrm>
              <a:off x="7505640" y="4316400"/>
              <a:ext cx="1138320" cy="1243080"/>
              <a:chOff x="7505640" y="4316400"/>
              <a:chExt cx="1138320" cy="124308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7505640" y="4316400"/>
                <a:ext cx="1138320" cy="568440"/>
                <a:chOff x="7505640" y="4316400"/>
                <a:chExt cx="1138320" cy="56844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505640" y="4316400"/>
                  <a:ext cx="1138320" cy="56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7605720" y="4432320"/>
                  <a:ext cx="936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ff"/>
                      </a:solidFill>
                      <a:latin typeface="Arial"/>
                    </a:rPr>
                    <a:t>Farbe 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7505640" y="4991040"/>
                <a:ext cx="1138320" cy="568440"/>
                <a:chOff x="7505640" y="4991040"/>
                <a:chExt cx="1138320" cy="56844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505640" y="4991040"/>
                  <a:ext cx="1138320" cy="56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7607520" y="5106960"/>
                  <a:ext cx="93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00"/>
                      </a:solidFill>
                      <a:latin typeface="Arial"/>
                    </a:rPr>
                    <a:t>Farbe 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"/>
            <p:cNvGrpSpPr/>
            <p:nvPr/>
          </p:nvGrpSpPr>
          <p:grpSpPr>
            <a:xfrm>
              <a:off x="2165400" y="4100400"/>
              <a:ext cx="1726920" cy="1727280"/>
              <a:chOff x="2165400" y="4100400"/>
              <a:chExt cx="1726920" cy="172728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65400" y="4100400"/>
                <a:ext cx="1726920" cy="17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flipH="1" flipV="1">
                <a:off x="2424600" y="4642200"/>
                <a:ext cx="1207800" cy="64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3603600" y="5684760"/>
            <a:ext cx="532944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e Anzahl der Farben sollte gering gehalten werd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26920" y="836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32040" y="1413000"/>
            <a:ext cx="5638680" cy="398880"/>
            <a:chOff x="932040" y="1413000"/>
            <a:chExt cx="5638680" cy="398880"/>
          </a:xfrm>
        </p:grpSpPr>
        <p:sp>
          <p:nvSpPr>
            <p:cNvPr id="161" name=""/>
            <p:cNvSpPr/>
            <p:nvPr/>
          </p:nvSpPr>
          <p:spPr>
            <a:xfrm>
              <a:off x="932040" y="146700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12920" y="141300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staltungselement 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436760" y="1987560"/>
            <a:ext cx="2950920" cy="1512720"/>
          </a:xfrm>
          <a:prstGeom prst="rect">
            <a:avLst/>
          </a:prstGeom>
          <a:solidFill>
            <a:srgbClr val="000099"/>
          </a:solidFill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echt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ach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glieder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vertrauenerwec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827680" y="1555920"/>
            <a:ext cx="2232000" cy="2232000"/>
            <a:chOff x="5827680" y="1555920"/>
            <a:chExt cx="2232000" cy="2232000"/>
          </a:xfrm>
        </p:grpSpPr>
        <p:sp>
          <p:nvSpPr>
            <p:cNvPr id="165" name=""/>
            <p:cNvSpPr/>
            <p:nvPr/>
          </p:nvSpPr>
          <p:spPr>
            <a:xfrm>
              <a:off x="5827680" y="1555920"/>
              <a:ext cx="2232000" cy="223200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16400" y="2105280"/>
              <a:ext cx="165600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Kre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ffcc00"/>
                </a:buClr>
                <a:buFont typeface="Wingdings 2" charset="2"/>
                <a:buChar char="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emot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ffcc00"/>
                </a:buClr>
                <a:buFont typeface="Wingdings 2" charset="2"/>
                <a:buChar char="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schütz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740040" y="3429000"/>
            <a:ext cx="3168720" cy="2087640"/>
            <a:chOff x="3740040" y="3429000"/>
            <a:chExt cx="3168720" cy="2087640"/>
          </a:xfrm>
        </p:grpSpPr>
        <p:sp>
          <p:nvSpPr>
            <p:cNvPr id="168" name=""/>
            <p:cNvSpPr/>
            <p:nvPr/>
          </p:nvSpPr>
          <p:spPr>
            <a:xfrm>
              <a:off x="3740040" y="3429000"/>
              <a:ext cx="3168720" cy="2087640"/>
            </a:xfrm>
            <a:prstGeom prst="flowChartExtract">
              <a:avLst/>
            </a:prstGeom>
            <a:solidFill>
              <a:srgbClr val="000099"/>
            </a:solidFill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76760" y="4221000"/>
              <a:ext cx="172872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Dreie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ffcc00"/>
                </a:buClr>
                <a:buFont typeface="Wingdings 3" charset="2"/>
                <a:buChar char="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warn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ffcc00"/>
                </a:buClr>
                <a:buFont typeface="Wingdings 3" charset="2"/>
                <a:buChar char="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aggress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26920" y="836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934920" y="1420920"/>
            <a:ext cx="6705360" cy="769320"/>
            <a:chOff x="934920" y="1420920"/>
            <a:chExt cx="6705360" cy="769320"/>
          </a:xfrm>
        </p:grpSpPr>
        <p:sp>
          <p:nvSpPr>
            <p:cNvPr id="172" name=""/>
            <p:cNvSpPr/>
            <p:nvPr/>
          </p:nvSpPr>
          <p:spPr>
            <a:xfrm>
              <a:off x="934920" y="146844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15800" y="1420920"/>
              <a:ext cx="52578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chriftenwah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ahl der Schriftart, Anzahl begrenz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6635520" y="1488960"/>
              <a:ext cx="1004760" cy="69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"/>
          <p:cNvGrpSpPr/>
          <p:nvPr/>
        </p:nvGrpSpPr>
        <p:grpSpPr>
          <a:xfrm>
            <a:off x="934920" y="2411280"/>
            <a:ext cx="6719760" cy="866880"/>
            <a:chOff x="934920" y="2411280"/>
            <a:chExt cx="6719760" cy="866880"/>
          </a:xfrm>
        </p:grpSpPr>
        <p:sp>
          <p:nvSpPr>
            <p:cNvPr id="176" name=""/>
            <p:cNvSpPr/>
            <p:nvPr/>
          </p:nvSpPr>
          <p:spPr>
            <a:xfrm>
              <a:off x="934920" y="245916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15800" y="2411280"/>
              <a:ext cx="52578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ukturmitt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Überschriften, Hervorhebungen, Unterlegunge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3"/>
            <a:stretch/>
          </p:blipFill>
          <p:spPr>
            <a:xfrm>
              <a:off x="6649920" y="2428920"/>
              <a:ext cx="1004760" cy="84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"/>
          <p:cNvGrpSpPr/>
          <p:nvPr/>
        </p:nvGrpSpPr>
        <p:grpSpPr>
          <a:xfrm>
            <a:off x="934920" y="3436920"/>
            <a:ext cx="6703920" cy="1104840"/>
            <a:chOff x="934920" y="3436920"/>
            <a:chExt cx="6703920" cy="1104840"/>
          </a:xfrm>
        </p:grpSpPr>
        <p:sp>
          <p:nvSpPr>
            <p:cNvPr id="180" name=""/>
            <p:cNvSpPr/>
            <p:nvPr/>
          </p:nvSpPr>
          <p:spPr>
            <a:xfrm>
              <a:off x="934920" y="348444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15800" y="343692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srichtu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4"/>
            <a:stretch/>
          </p:blipFill>
          <p:spPr>
            <a:xfrm>
              <a:off x="6676920" y="3608280"/>
              <a:ext cx="961920" cy="933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26920" y="836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r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34920" y="1413000"/>
            <a:ext cx="5638680" cy="769320"/>
            <a:chOff x="934920" y="1413000"/>
            <a:chExt cx="5638680" cy="769320"/>
          </a:xfrm>
        </p:grpSpPr>
        <p:sp>
          <p:nvSpPr>
            <p:cNvPr id="185" name=""/>
            <p:cNvSpPr/>
            <p:nvPr/>
          </p:nvSpPr>
          <p:spPr>
            <a:xfrm>
              <a:off x="934920" y="146052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15800" y="1413000"/>
              <a:ext cx="52578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rmulieru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urze und einfache Sätze, Fachbegriffe erklär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934920" y="2421000"/>
            <a:ext cx="6719760" cy="769320"/>
            <a:chOff x="934920" y="2421000"/>
            <a:chExt cx="6719760" cy="769320"/>
          </a:xfrm>
        </p:grpSpPr>
        <p:sp>
          <p:nvSpPr>
            <p:cNvPr id="188" name=""/>
            <p:cNvSpPr/>
            <p:nvPr/>
          </p:nvSpPr>
          <p:spPr>
            <a:xfrm>
              <a:off x="934920" y="245124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15800" y="2421000"/>
              <a:ext cx="52578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ordnu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Übersichtlichkeit, Hervorhebung von Wesentlich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6649920" y="2554200"/>
              <a:ext cx="1004760" cy="585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09:40:33Z</dcterms:created>
  <dc:creator>Peter</dc:creator>
  <dc:description/>
  <dc:language>en-US</dc:language>
  <cp:lastModifiedBy>Peter</cp:lastModifiedBy>
  <dcterms:modified xsi:type="dcterms:W3CDTF">2010-10-09T11:18:24Z</dcterms:modified>
  <cp:revision>43</cp:revision>
  <dc:subject/>
  <dc:title>Folie 1</dc:title>
</cp:coreProperties>
</file>