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F93-D1C6-4DAB-AFA6-C0A73BF7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F7C-0E01-45ED-9379-99AFC1B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740-2941-420C-8E88-FF264BDB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807-4B9D-4E0D-9D45-442793F3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10B-6075-4D74-B169-097EC4A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3D7-9348-4A62-9E7C-29629D93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56D-E856-443A-B3AA-AB8C887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A82-1B59-442E-B6AB-9BF54859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37C-4630-4AAB-8162-8A451E0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2D8-81A4-4C03-B3E8-B90238B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35E-4328-4DCB-A960-D8673EE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C61-34ED-46F9-BBE4-760B057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1D33-7BD0-4DE4-A005-1F122E4BC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981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5318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chulinterne Lehrerfort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836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32040" y="1351080"/>
            <a:ext cx="6530760" cy="1012680"/>
            <a:chOff x="932040" y="1351080"/>
            <a:chExt cx="6530760" cy="1012680"/>
          </a:xfrm>
        </p:grpSpPr>
        <p:sp>
          <p:nvSpPr>
            <p:cNvPr id="193" name=""/>
            <p:cNvSpPr/>
            <p:nvPr/>
          </p:nvSpPr>
          <p:spPr>
            <a:xfrm>
              <a:off x="932040" y="13986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2920" y="1351080"/>
              <a:ext cx="38862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vigation (Link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utlich erkennbar, schlüssig, einheitlich und keine Sackgass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6458040" y="1494000"/>
              <a:ext cx="10047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1316160" y="2502000"/>
            <a:ext cx="67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e für die Organisation der Reihenfolge der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16160" y="2862360"/>
            <a:ext cx="3214080" cy="977760"/>
            <a:chOff x="1316160" y="2862360"/>
            <a:chExt cx="3214080" cy="977760"/>
          </a:xfrm>
        </p:grpSpPr>
        <p:sp>
          <p:nvSpPr>
            <p:cNvPr id="198" name=""/>
            <p:cNvSpPr/>
            <p:nvPr/>
          </p:nvSpPr>
          <p:spPr>
            <a:xfrm>
              <a:off x="1316160" y="2862360"/>
              <a:ext cx="21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linear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1388880" y="3294000"/>
              <a:ext cx="314136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1316160" y="4014720"/>
            <a:ext cx="2620800" cy="1790640"/>
            <a:chOff x="1316160" y="4014720"/>
            <a:chExt cx="2620800" cy="1790640"/>
          </a:xfrm>
        </p:grpSpPr>
        <p:sp>
          <p:nvSpPr>
            <p:cNvPr id="201" name=""/>
            <p:cNvSpPr/>
            <p:nvPr/>
          </p:nvSpPr>
          <p:spPr>
            <a:xfrm>
              <a:off x="1316160" y="4014720"/>
              <a:ext cx="26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387440" y="436068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4729320" y="4005360"/>
            <a:ext cx="4105080" cy="1805040"/>
            <a:chOff x="4729320" y="4005360"/>
            <a:chExt cx="4105080" cy="1805040"/>
          </a:xfrm>
        </p:grpSpPr>
        <p:sp>
          <p:nvSpPr>
            <p:cNvPr id="204" name=""/>
            <p:cNvSpPr/>
            <p:nvPr/>
          </p:nvSpPr>
          <p:spPr>
            <a:xfrm>
              <a:off x="4729320" y="4005360"/>
              <a:ext cx="41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 mit Weiterlei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5395680" y="436572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08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43600" cy="5111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6516720" y="2708280"/>
            <a:ext cx="2233440" cy="720720"/>
            <a:chOff x="6516720" y="2708280"/>
            <a:chExt cx="2233440" cy="720720"/>
          </a:xfrm>
        </p:grpSpPr>
        <p:sp>
          <p:nvSpPr>
            <p:cNvPr id="212" name=""/>
            <p:cNvSpPr/>
            <p:nvPr/>
          </p:nvSpPr>
          <p:spPr>
            <a:xfrm>
              <a:off x="6659640" y="2708280"/>
              <a:ext cx="2016000" cy="289080"/>
            </a:xfrm>
            <a:prstGeom prst="rect">
              <a:avLst/>
            </a:prstGeom>
            <a:solidFill>
              <a:srgbClr val="99cc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wertung mit Abstufung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6720" y="3141720"/>
              <a:ext cx="22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+                   -                    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16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19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75272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2000" y="2492280"/>
            <a:ext cx="22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                  30%                    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25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28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31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3640" y="2630520"/>
            <a:ext cx="5638680" cy="2743200"/>
            <a:chOff x="3203640" y="2630520"/>
            <a:chExt cx="5638680" cy="274320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3203640" y="2630520"/>
              <a:ext cx="5638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886360" y="305928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8000" y="3500280"/>
            <a:ext cx="5648400" cy="2752920"/>
            <a:chOff x="3348000" y="3500280"/>
            <a:chExt cx="5648400" cy="275292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3348000" y="3500280"/>
              <a:ext cx="5648400" cy="27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507000" y="392436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4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44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47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50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64000" y="2951280"/>
            <a:ext cx="5119560" cy="1114200"/>
            <a:chOff x="3564000" y="2951280"/>
            <a:chExt cx="5119560" cy="1114200"/>
          </a:xfrm>
        </p:grpSpPr>
        <p:sp>
          <p:nvSpPr>
            <p:cNvPr id="253" name=""/>
            <p:cNvSpPr/>
            <p:nvPr/>
          </p:nvSpPr>
          <p:spPr>
            <a:xfrm>
              <a:off x="3564000" y="2951280"/>
              <a:ext cx="35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dokument mit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7883640" y="2951280"/>
              <a:ext cx="7999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3564000" y="4127400"/>
            <a:ext cx="5075280" cy="2254320"/>
            <a:chOff x="3564000" y="4127400"/>
            <a:chExt cx="5075280" cy="225432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012000" y="4679640"/>
              <a:ext cx="26272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64000" y="412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ellennachweis als eigene Webse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6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6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66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69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71640" y="2732040"/>
            <a:ext cx="6356160" cy="337320"/>
            <a:chOff x="971640" y="2732040"/>
            <a:chExt cx="6356160" cy="337320"/>
          </a:xfrm>
        </p:grpSpPr>
        <p:sp>
          <p:nvSpPr>
            <p:cNvPr id="272" name=""/>
            <p:cNvSpPr/>
            <p:nvPr/>
          </p:nvSpPr>
          <p:spPr>
            <a:xfrm>
              <a:off x="1258920" y="2732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Beno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1640" y="2786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692360" y="3233880"/>
            <a:ext cx="7127640" cy="3219480"/>
            <a:chOff x="1692360" y="3233880"/>
            <a:chExt cx="7127640" cy="32194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3390840" y="3233880"/>
              <a:ext cx="5429160" cy="321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"/>
            <p:cNvGrpSpPr/>
            <p:nvPr/>
          </p:nvGrpSpPr>
          <p:grpSpPr>
            <a:xfrm>
              <a:off x="1692360" y="3284640"/>
              <a:ext cx="1511280" cy="498240"/>
              <a:chOff x="1692360" y="3284640"/>
              <a:chExt cx="1511280" cy="4982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2360" y="3284640"/>
                <a:ext cx="105408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627280" y="3284640"/>
                <a:ext cx="576360" cy="288720"/>
              </a:xfrm>
              <a:prstGeom prst="rightArrow">
                <a:avLst>
                  <a:gd name="adj1" fmla="val 50000"/>
                  <a:gd name="adj2" fmla="val 49906"/>
                </a:avLst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8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116000" y="1700280"/>
            <a:ext cx="7919640" cy="4105080"/>
            <a:chOff x="1116000" y="1700280"/>
            <a:chExt cx="7919640" cy="4105080"/>
          </a:xfrm>
        </p:grpSpPr>
        <p:grpSp>
          <p:nvGrpSpPr>
            <p:cNvPr id="284" name=""/>
            <p:cNvGrpSpPr/>
            <p:nvPr/>
          </p:nvGrpSpPr>
          <p:grpSpPr>
            <a:xfrm>
              <a:off x="1258920" y="1755720"/>
              <a:ext cx="7776720" cy="3906360"/>
              <a:chOff x="1258920" y="1755720"/>
              <a:chExt cx="7776720" cy="39063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58920" y="18273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47640" y="17557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örpersprache vermittelt Botschaft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47640" y="219060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erschränkte Arme oder in die Seiten gestützte Hände halten das Publikum auf Distanz und erwecken den Eindruck der Einschüchterun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47640" y="28814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öflichkeit und Freundlichkeit in Form der Begrüßung, des Bedankens und der Wertschätzung von eventuellen Beiträgen aus dem Publikum werden geschätz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8560" y="3611520"/>
                <a:ext cx="748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lickkontakt zum gesamten Publikum auch zu einzelnen Personen wirken vertrauenswürdi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8560" y="413208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ouveränes und sicheres Auftreten steigern die Aufmerksamkei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28560" y="46069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s äußere Erscheinungsbild schafft Vertrau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8560" y="51116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der Gruppe wirkt ein „Zuspielen des Balls“ zwischen den Teammitgliedern souverän. Jedes Gruppenmitglied ist beim Vortrag gleichberechtig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58920" y="22431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58920" y="2935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58920" y="3700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58920" y="42274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58920" y="46990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58920" y="51832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116000" y="1700280"/>
              <a:ext cx="7848720" cy="4105080"/>
            </a:xfrm>
            <a:prstGeom prst="rect">
              <a:avLst/>
            </a:prstGeom>
            <a:solidFill>
              <a:srgbClr val="99ccff">
                <a:alpha val="1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02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05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6488280" cy="38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1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1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52560" y="2013120"/>
            <a:ext cx="6356160" cy="337320"/>
            <a:chOff x="952560" y="2013120"/>
            <a:chExt cx="6356160" cy="337320"/>
          </a:xfrm>
        </p:grpSpPr>
        <p:sp>
          <p:nvSpPr>
            <p:cNvPr id="316" name=""/>
            <p:cNvSpPr/>
            <p:nvPr/>
          </p:nvSpPr>
          <p:spPr>
            <a:xfrm>
              <a:off x="1239840" y="201312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ung des Präsentationsdok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2560" y="206676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57560" y="2532240"/>
            <a:ext cx="5591160" cy="3849480"/>
            <a:chOff x="3157560" y="2532240"/>
            <a:chExt cx="5591160" cy="384948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3157560" y="2532240"/>
              <a:ext cx="5591160" cy="38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59880" y="3673440"/>
              <a:ext cx="431640" cy="289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03960" y="3664080"/>
              <a:ext cx="43164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64600" y="3645000"/>
              <a:ext cx="360360" cy="3603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76360" y="1628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 N D 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692360" y="1197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rüberle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47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52560" y="1724040"/>
            <a:ext cx="6356160" cy="337320"/>
            <a:chOff x="952560" y="1724040"/>
            <a:chExt cx="6356160" cy="337320"/>
          </a:xfrm>
        </p:grpSpPr>
        <p:sp>
          <p:nvSpPr>
            <p:cNvPr id="50" name=""/>
            <p:cNvSpPr/>
            <p:nvPr/>
          </p:nvSpPr>
          <p:spPr>
            <a:xfrm>
              <a:off x="1239840" y="172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kanntgabe der Richtlinien an die Schü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2560" y="1778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25560" y="2708280"/>
            <a:ext cx="7632720" cy="2089080"/>
            <a:chOff x="925560" y="2708280"/>
            <a:chExt cx="7632720" cy="2089080"/>
          </a:xfrm>
        </p:grpSpPr>
        <p:sp>
          <p:nvSpPr>
            <p:cNvPr id="53" name=""/>
            <p:cNvSpPr/>
            <p:nvPr/>
          </p:nvSpPr>
          <p:spPr>
            <a:xfrm>
              <a:off x="997200" y="2781360"/>
              <a:ext cx="7561080" cy="20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5560" y="2708280"/>
              <a:ext cx="7561440" cy="2012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§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ß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) Durch Beschluss der Lehrerkonferenz, der zu Beginn des Schuljahres zu fassen ist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ann in den Jahrgangsstufen 5 bis 9 in Fächern mit mehr als zwei Schulaufgaben eine der Schulaufgaben ersetzt werden durch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zwei Kurzarbeiten o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2. ein bewertetes Projekt (z. B. Dokumentation und Präsentation)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25560" y="4946760"/>
            <a:ext cx="7633800" cy="1218960"/>
            <a:chOff x="925560" y="4946760"/>
            <a:chExt cx="7633800" cy="1218960"/>
          </a:xfrm>
        </p:grpSpPr>
        <p:sp>
          <p:nvSpPr>
            <p:cNvPr id="56" name=""/>
            <p:cNvSpPr/>
            <p:nvPr/>
          </p:nvSpPr>
          <p:spPr>
            <a:xfrm>
              <a:off x="998280" y="5013360"/>
              <a:ext cx="7561080" cy="115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5560" y="4946760"/>
              <a:ext cx="7561080" cy="115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§ 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lein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4) Mündliche Leistungsnachweise sind Rechenschaftsablagen, </a:t>
              </a:r>
              <a:r>
                <a:rPr b="0" lang="de-DE" sz="1400" spc="-1" strike="noStrike">
                  <a:solidFill>
                    <a:srgbClr val="ff3300"/>
                  </a:solidFill>
                  <a:latin typeface="Arial"/>
                </a:rPr>
                <a:t>Referate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d Unterrichts-beiträ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71640" y="2155680"/>
            <a:ext cx="6356160" cy="337320"/>
            <a:chOff x="971640" y="2155680"/>
            <a:chExt cx="6356160" cy="337320"/>
          </a:xfrm>
        </p:grpSpPr>
        <p:sp>
          <p:nvSpPr>
            <p:cNvPr id="59" name=""/>
            <p:cNvSpPr/>
            <p:nvPr/>
          </p:nvSpPr>
          <p:spPr>
            <a:xfrm>
              <a:off x="1258920" y="215568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rechtlichen Grundla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71640" y="220968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413000"/>
            <a:ext cx="6719760" cy="1268280"/>
            <a:chOff x="947880" y="1413000"/>
            <a:chExt cx="6719760" cy="1268280"/>
          </a:xfrm>
        </p:grpSpPr>
        <p:sp>
          <p:nvSpPr>
            <p:cNvPr id="64" name=""/>
            <p:cNvSpPr/>
            <p:nvPr/>
          </p:nvSpPr>
          <p:spPr>
            <a:xfrm>
              <a:off x="94788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6662880" y="1413000"/>
              <a:ext cx="10047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32876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iteneinteilung (Anordnung der Objek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onierung der Objekte zu einem einheitlichen Bi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47880" y="2556000"/>
            <a:ext cx="6719760" cy="863640"/>
            <a:chOff x="947880" y="2556000"/>
            <a:chExt cx="6719760" cy="86364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662880" y="278460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28760" y="2556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 der Objek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sammengehörigkeit von Objek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7880" y="261936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47880" y="3673440"/>
            <a:ext cx="6719760" cy="769320"/>
            <a:chOff x="947880" y="3673440"/>
            <a:chExt cx="6719760" cy="769320"/>
          </a:xfrm>
        </p:grpSpPr>
        <p:sp>
          <p:nvSpPr>
            <p:cNvPr id="72" name=""/>
            <p:cNvSpPr/>
            <p:nvPr/>
          </p:nvSpPr>
          <p:spPr>
            <a:xfrm>
              <a:off x="1328760" y="367344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fi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flockerung, Erklär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6662880" y="371628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47880" y="371628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39960" y="1413000"/>
            <a:ext cx="5638680" cy="398880"/>
            <a:chOff x="939960" y="1413000"/>
            <a:chExt cx="5638680" cy="398880"/>
          </a:xfrm>
        </p:grpSpPr>
        <p:sp>
          <p:nvSpPr>
            <p:cNvPr id="77" name=""/>
            <p:cNvSpPr/>
            <p:nvPr/>
          </p:nvSpPr>
          <p:spPr>
            <a:xfrm>
              <a:off x="93996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2084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44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3440" y="234792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ychologische Bedeutung und Kon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13360" y="2679840"/>
            <a:ext cx="1511280" cy="1512720"/>
            <a:chOff x="5013360" y="2679840"/>
            <a:chExt cx="1511280" cy="1512720"/>
          </a:xfrm>
        </p:grpSpPr>
        <p:sp>
          <p:nvSpPr>
            <p:cNvPr id="82" name=""/>
            <p:cNvSpPr/>
            <p:nvPr/>
          </p:nvSpPr>
          <p:spPr>
            <a:xfrm>
              <a:off x="501336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7960" y="3471840"/>
              <a:ext cx="1163520" cy="3373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7960" y="3040200"/>
              <a:ext cx="11635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48280" y="38322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stell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8280" y="267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ollton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4680" y="2708280"/>
            <a:ext cx="1511280" cy="1484280"/>
            <a:chOff x="1444680" y="2708280"/>
            <a:chExt cx="1511280" cy="1484280"/>
          </a:xfrm>
        </p:grpSpPr>
        <p:sp>
          <p:nvSpPr>
            <p:cNvPr id="88" name=""/>
            <p:cNvSpPr/>
            <p:nvPr/>
          </p:nvSpPr>
          <p:spPr>
            <a:xfrm>
              <a:off x="14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19280" y="3471840"/>
              <a:ext cx="1163520" cy="337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19280" y="3040200"/>
              <a:ext cx="1163520" cy="337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ädch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4680" y="2708280"/>
            <a:ext cx="1511280" cy="1484280"/>
            <a:chOff x="3244680" y="2708280"/>
            <a:chExt cx="1511280" cy="1484280"/>
          </a:xfrm>
        </p:grpSpPr>
        <p:sp>
          <p:nvSpPr>
            <p:cNvPr id="92" name=""/>
            <p:cNvSpPr/>
            <p:nvPr/>
          </p:nvSpPr>
          <p:spPr>
            <a:xfrm>
              <a:off x="32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280" y="3471840"/>
              <a:ext cx="1163520" cy="3373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280" y="304020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4680" y="4392720"/>
            <a:ext cx="1511280" cy="1484280"/>
            <a:chOff x="1444680" y="4392720"/>
            <a:chExt cx="1511280" cy="1484280"/>
          </a:xfrm>
        </p:grpSpPr>
        <p:sp>
          <p:nvSpPr>
            <p:cNvPr id="96" name=""/>
            <p:cNvSpPr/>
            <p:nvPr/>
          </p:nvSpPr>
          <p:spPr>
            <a:xfrm>
              <a:off x="14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19280" y="5156280"/>
              <a:ext cx="1163520" cy="337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ü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19280" y="472428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44680" y="4363920"/>
            <a:ext cx="1511280" cy="1513080"/>
            <a:chOff x="3244680" y="4363920"/>
            <a:chExt cx="1511280" cy="1513080"/>
          </a:xfrm>
        </p:grpSpPr>
        <p:sp>
          <p:nvSpPr>
            <p:cNvPr id="100" name=""/>
            <p:cNvSpPr/>
            <p:nvPr/>
          </p:nvSpPr>
          <p:spPr>
            <a:xfrm>
              <a:off x="32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19280" y="5156280"/>
              <a:ext cx="1163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280" y="4724280"/>
              <a:ext cx="11635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9600" y="55166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ddhism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9600" y="43639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rist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6880" y="4392720"/>
            <a:ext cx="1511280" cy="1484280"/>
            <a:chOff x="5006880" y="4392720"/>
            <a:chExt cx="1511280" cy="1484280"/>
          </a:xfrm>
        </p:grpSpPr>
        <p:sp>
          <p:nvSpPr>
            <p:cNvPr id="106" name=""/>
            <p:cNvSpPr/>
            <p:nvPr/>
          </p:nvSpPr>
          <p:spPr>
            <a:xfrm>
              <a:off x="50068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5156280"/>
              <a:ext cx="1163160" cy="337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ek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4724280"/>
              <a:ext cx="11631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68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8000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lt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39960" y="1436760"/>
            <a:ext cx="5638680" cy="398880"/>
            <a:chOff x="939960" y="1436760"/>
            <a:chExt cx="5638680" cy="398880"/>
          </a:xfrm>
        </p:grpSpPr>
        <p:sp>
          <p:nvSpPr>
            <p:cNvPr id="112" name=""/>
            <p:cNvSpPr/>
            <p:nvPr/>
          </p:nvSpPr>
          <p:spPr>
            <a:xfrm>
              <a:off x="939960" y="1490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0840" y="14367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27600" y="2300400"/>
            <a:ext cx="3815640" cy="1152000"/>
            <a:chOff x="4827600" y="2300400"/>
            <a:chExt cx="3815640" cy="1152000"/>
          </a:xfrm>
        </p:grpSpPr>
        <p:sp>
          <p:nvSpPr>
            <p:cNvPr id="115" name=""/>
            <p:cNvSpPr/>
            <p:nvPr/>
          </p:nvSpPr>
          <p:spPr>
            <a:xfrm>
              <a:off x="4827600" y="2300400"/>
              <a:ext cx="1109160" cy="518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Arial"/>
                </a:rPr>
                <a:t>Farb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0" y="2934000"/>
              <a:ext cx="1109160" cy="518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arb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0480" y="2300400"/>
              <a:ext cx="1109880" cy="518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1200" y="2300400"/>
              <a:ext cx="1109880" cy="51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cc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0480" y="2934000"/>
              <a:ext cx="1109880" cy="518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4080" y="2934000"/>
              <a:ext cx="1109160" cy="51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33440" y="1868400"/>
            <a:ext cx="4724640" cy="1635120"/>
            <a:chOff x="1333440" y="1868400"/>
            <a:chExt cx="4724640" cy="1635120"/>
          </a:xfrm>
        </p:grpSpPr>
        <p:sp>
          <p:nvSpPr>
            <p:cNvPr id="122" name=""/>
            <p:cNvSpPr/>
            <p:nvPr/>
          </p:nvSpPr>
          <p:spPr>
            <a:xfrm>
              <a:off x="1333440" y="1868400"/>
              <a:ext cx="47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omplementärfarben - Farbkontr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444680" y="2300400"/>
              <a:ext cx="3240000" cy="12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1444680" y="36687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ben, die sich im Farbkreis gegenüber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63600" y="4100400"/>
            <a:ext cx="3801960" cy="1727280"/>
            <a:chOff x="2163600" y="4100400"/>
            <a:chExt cx="3801960" cy="1727280"/>
          </a:xfrm>
        </p:grpSpPr>
        <p:grpSp>
          <p:nvGrpSpPr>
            <p:cNvPr id="126" name=""/>
            <p:cNvGrpSpPr/>
            <p:nvPr/>
          </p:nvGrpSpPr>
          <p:grpSpPr>
            <a:xfrm>
              <a:off x="2163600" y="4100400"/>
              <a:ext cx="1726920" cy="1727280"/>
              <a:chOff x="2163600" y="4100400"/>
              <a:chExt cx="1726920" cy="17272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36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027240" y="4279680"/>
                <a:ext cx="0" cy="136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27240" y="4316400"/>
              <a:ext cx="1138320" cy="1243080"/>
              <a:chOff x="4827240" y="4316400"/>
              <a:chExt cx="1138320" cy="12430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827240" y="4316400"/>
                <a:ext cx="1138320" cy="568440"/>
                <a:chOff x="4827240" y="4316400"/>
                <a:chExt cx="1138320" cy="56844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272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492876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827240" y="4991040"/>
                <a:ext cx="1138320" cy="568440"/>
                <a:chOff x="4827240" y="4991040"/>
                <a:chExt cx="1138320" cy="56844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72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492732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" name=""/>
          <p:cNvGrpSpPr/>
          <p:nvPr/>
        </p:nvGrpSpPr>
        <p:grpSpPr>
          <a:xfrm>
            <a:off x="2165400" y="4100400"/>
            <a:ext cx="5137200" cy="1727280"/>
            <a:chOff x="2165400" y="4100400"/>
            <a:chExt cx="5137200" cy="1727280"/>
          </a:xfrm>
        </p:grpSpPr>
        <p:grpSp>
          <p:nvGrpSpPr>
            <p:cNvPr id="137" name=""/>
            <p:cNvGrpSpPr/>
            <p:nvPr/>
          </p:nvGrpSpPr>
          <p:grpSpPr>
            <a:xfrm>
              <a:off x="6164280" y="4316400"/>
              <a:ext cx="1138320" cy="1243080"/>
              <a:chOff x="6164280" y="4316400"/>
              <a:chExt cx="1138320" cy="12430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164280" y="4316400"/>
                <a:ext cx="1138320" cy="568440"/>
                <a:chOff x="6164280" y="4316400"/>
                <a:chExt cx="1138320" cy="5684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6428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626580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ff00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164280" y="4991040"/>
                <a:ext cx="1138320" cy="568440"/>
                <a:chOff x="6164280" y="4991040"/>
                <a:chExt cx="1138320" cy="56844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6428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626580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00ff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flipH="1">
                <a:off x="2344320" y="496404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2165400" y="4100400"/>
            <a:ext cx="6478560" cy="1727280"/>
            <a:chOff x="2165400" y="4100400"/>
            <a:chExt cx="6478560" cy="1727280"/>
          </a:xfrm>
        </p:grpSpPr>
        <p:grpSp>
          <p:nvGrpSpPr>
            <p:cNvPr id="148" name=""/>
            <p:cNvGrpSpPr/>
            <p:nvPr/>
          </p:nvGrpSpPr>
          <p:grpSpPr>
            <a:xfrm>
              <a:off x="7505640" y="4316400"/>
              <a:ext cx="1138320" cy="1243080"/>
              <a:chOff x="7505640" y="4316400"/>
              <a:chExt cx="1138320" cy="12430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505640" y="4316400"/>
                <a:ext cx="1138320" cy="568440"/>
                <a:chOff x="7505640" y="4316400"/>
                <a:chExt cx="1138320" cy="5684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056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760572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7505640" y="4991040"/>
                <a:ext cx="1138320" cy="568440"/>
                <a:chOff x="7505640" y="4991040"/>
                <a:chExt cx="1138320" cy="56844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056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7607520" y="510696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flipH="1" flipV="1">
                <a:off x="2424600" y="4642200"/>
                <a:ext cx="120780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603600" y="568476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e Anzahl der Farben sollte gering gehalten werd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32040" y="1413000"/>
            <a:ext cx="5638680" cy="398880"/>
            <a:chOff x="932040" y="1413000"/>
            <a:chExt cx="5638680" cy="398880"/>
          </a:xfrm>
        </p:grpSpPr>
        <p:sp>
          <p:nvSpPr>
            <p:cNvPr id="161" name=""/>
            <p:cNvSpPr/>
            <p:nvPr/>
          </p:nvSpPr>
          <p:spPr>
            <a:xfrm>
              <a:off x="93204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292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36760" y="1987560"/>
            <a:ext cx="2950920" cy="1512720"/>
          </a:xfrm>
          <a:prstGeom prst="rect">
            <a:avLst/>
          </a:prstGeom>
          <a:solidFill>
            <a:srgbClr val="0000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cht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ach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glieder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vertrauenerwe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27680" y="1555920"/>
            <a:ext cx="2232000" cy="2232000"/>
            <a:chOff x="5827680" y="1555920"/>
            <a:chExt cx="2232000" cy="2232000"/>
          </a:xfrm>
        </p:grpSpPr>
        <p:sp>
          <p:nvSpPr>
            <p:cNvPr id="165" name=""/>
            <p:cNvSpPr/>
            <p:nvPr/>
          </p:nvSpPr>
          <p:spPr>
            <a:xfrm>
              <a:off x="5827680" y="1555920"/>
              <a:ext cx="2232000" cy="22320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6400" y="2105280"/>
              <a:ext cx="16560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Kre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emo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schütz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740040" y="3429000"/>
            <a:ext cx="3168720" cy="2087640"/>
            <a:chOff x="3740040" y="3429000"/>
            <a:chExt cx="3168720" cy="2087640"/>
          </a:xfrm>
        </p:grpSpPr>
        <p:sp>
          <p:nvSpPr>
            <p:cNvPr id="168" name=""/>
            <p:cNvSpPr/>
            <p:nvPr/>
          </p:nvSpPr>
          <p:spPr>
            <a:xfrm>
              <a:off x="3740040" y="3429000"/>
              <a:ext cx="3168720" cy="2087640"/>
            </a:xfrm>
            <a:prstGeom prst="flowChartExtract">
              <a:avLst/>
            </a:prstGeom>
            <a:solidFill>
              <a:srgbClr val="000099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6760" y="4221000"/>
              <a:ext cx="17287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rei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arn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aggress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34920" y="1420920"/>
            <a:ext cx="6705360" cy="769320"/>
            <a:chOff x="934920" y="1420920"/>
            <a:chExt cx="6705360" cy="769320"/>
          </a:xfrm>
        </p:grpSpPr>
        <p:sp>
          <p:nvSpPr>
            <p:cNvPr id="172" name=""/>
            <p:cNvSpPr/>
            <p:nvPr/>
          </p:nvSpPr>
          <p:spPr>
            <a:xfrm>
              <a:off x="934920" y="1468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15800" y="142092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riftenwah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hl der Schriftart, Anzahl begren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635520" y="1488960"/>
              <a:ext cx="100476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934920" y="2411280"/>
            <a:ext cx="6719760" cy="866880"/>
            <a:chOff x="934920" y="2411280"/>
            <a:chExt cx="6719760" cy="866880"/>
          </a:xfrm>
        </p:grpSpPr>
        <p:sp>
          <p:nvSpPr>
            <p:cNvPr id="176" name=""/>
            <p:cNvSpPr/>
            <p:nvPr/>
          </p:nvSpPr>
          <p:spPr>
            <a:xfrm>
              <a:off x="934920" y="24591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5800" y="241128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kturmit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chriften, Hervorhebungen, Unterlegunge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6649920" y="2428920"/>
              <a:ext cx="1004760" cy="84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934920" y="3436920"/>
            <a:ext cx="6703920" cy="1104840"/>
            <a:chOff x="934920" y="3436920"/>
            <a:chExt cx="6703920" cy="1104840"/>
          </a:xfrm>
        </p:grpSpPr>
        <p:sp>
          <p:nvSpPr>
            <p:cNvPr id="180" name=""/>
            <p:cNvSpPr/>
            <p:nvPr/>
          </p:nvSpPr>
          <p:spPr>
            <a:xfrm>
              <a:off x="934920" y="3484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5800" y="343692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sricht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676920" y="3608280"/>
              <a:ext cx="961920" cy="933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r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4920" y="1413000"/>
            <a:ext cx="5638680" cy="769320"/>
            <a:chOff x="934920" y="1413000"/>
            <a:chExt cx="5638680" cy="769320"/>
          </a:xfrm>
        </p:grpSpPr>
        <p:sp>
          <p:nvSpPr>
            <p:cNvPr id="185" name=""/>
            <p:cNvSpPr/>
            <p:nvPr/>
          </p:nvSpPr>
          <p:spPr>
            <a:xfrm>
              <a:off x="934920" y="14605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580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ulier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rze und einfache Sätze, Fachbegriffe erklä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934920" y="2421000"/>
            <a:ext cx="6719760" cy="769320"/>
            <a:chOff x="934920" y="2421000"/>
            <a:chExt cx="6719760" cy="769320"/>
          </a:xfrm>
        </p:grpSpPr>
        <p:sp>
          <p:nvSpPr>
            <p:cNvPr id="188" name=""/>
            <p:cNvSpPr/>
            <p:nvPr/>
          </p:nvSpPr>
          <p:spPr>
            <a:xfrm>
              <a:off x="934920" y="245124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5800" y="2421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ichtlichkeit, Hervorhebung von Wesentlich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6649920" y="2554200"/>
              <a:ext cx="100476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9:40:33Z</dcterms:created>
  <dc:creator>Peter</dc:creator>
  <dc:description/>
  <dc:language>en-US</dc:language>
  <cp:lastModifiedBy>Peter</cp:lastModifiedBy>
  <dcterms:modified xsi:type="dcterms:W3CDTF">2010-10-09T11:18:24Z</dcterms:modified>
  <cp:revision>43</cp:revision>
  <dc:subject/>
  <dc:title>Folie 1</dc:title>
</cp:coreProperties>
</file>