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AA2-80AE-45BD-9653-6558371D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9E-B7C3-402E-8A76-A4882DCD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994-1D9F-46F5-95B3-F870ABB1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977-8B04-4317-A95D-0768B5DD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FFF9-AAA2-4665-8881-E9BDFFD9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860B-477B-45BB-B28A-893E8B7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7E0-AD82-4BD4-944F-C2F9BF9A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388B-9D39-4AAA-9B5D-BA59B1B9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919B-7608-472B-A193-A99C737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C12-2D34-4E89-9DF9-371E7CAC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909-BF07-4A12-9F17-BD46051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F7B-E7C1-401A-827B-1DCBFCE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A919-9F8F-4615-B23E-E64B000E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8B0D-02ED-4C78-BEDE-B14C8A3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536F-169D-4761-9BFB-B0DF0C5C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BA8-A9A9-4DCE-A505-CB72FBD7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546-0DA1-4A8B-ABAD-3261885D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6CC-A3C5-4710-AC67-2B1B2B9F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422-0481-4881-97A0-FFC43422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A7A-489F-4AA8-AA47-01B19131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968-6AB7-4B89-831A-B323437F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DE0-C81C-48D4-B762-173FA91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1F6-BD9A-42AB-BFB9-74F88AD8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371-BFB5-439D-8602-8260623F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B3A3-599C-4EA1-96F7-6CCE3A13B3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5E7-4A68-41A9-B6FC-D566B66070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3366"/>
                </a:solidFill>
                <a:uFillTx/>
                <a:latin typeface="Arial"/>
              </a:rPr>
              <a:t>Die Pfeilket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d700_buntepewrlenkette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er Ortsvektor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ist ein Koordinatensystem und ein Punkt A mit den Koordinat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chritt1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09880" cy="3503520"/>
          </a:xfrm>
          <a:prstGeom prst="rect">
            <a:avLst/>
          </a:prstGeom>
          <a:ln w="0">
            <a:noFill/>
          </a:ln>
        </p:spPr>
      </p:pic>
      <p:pic>
        <p:nvPicPr>
          <p:cNvPr id="133" name="0A" descr=""/>
          <p:cNvPicPr/>
          <p:nvPr/>
        </p:nvPicPr>
        <p:blipFill>
          <a:blip r:embed="rId2"/>
          <a:stretch/>
        </p:blipFill>
        <p:spPr>
          <a:xfrm>
            <a:off x="6858000" y="3581280"/>
            <a:ext cx="914400" cy="563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3505320"/>
            <a:ext cx="3733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4 | 3). Der Vektor, der den Nullpunkt auf den Punkt A abbildet heiß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10552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Ortsvek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2800440"/>
            <a:ext cx="2291040" cy="1709640"/>
          </a:xfrm>
          <a:custGeom>
            <a:avLst/>
            <a:gdLst/>
            <a:ahLst/>
            <a:rect l="l" t="t" r="r" b="b"/>
            <a:pathLst>
              <a:path w="1443" h="1077">
                <a:moveTo>
                  <a:pt x="0" y="1077"/>
                </a:moveTo>
                <a:lnTo>
                  <a:pt x="1443" y="0"/>
                </a:lnTo>
              </a:path>
            </a:pathLst>
          </a:custGeom>
          <a:solidFill>
            <a:srgbClr val="ff6600"/>
          </a:solidFill>
          <a:ln w="22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Die Abbildung A </a:t>
            </a:r>
            <a:r>
              <a:rPr b="0" lang="de-DE" sz="3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312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Punkt A wird durch 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k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chritt2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953160" cy="3276720"/>
          </a:xfrm>
          <a:prstGeom prst="rect">
            <a:avLst/>
          </a:prstGeom>
          <a:ln w="0">
            <a:noFill/>
          </a:ln>
        </p:spPr>
      </p:pic>
      <p:pic>
        <p:nvPicPr>
          <p:cNvPr id="141" name="0A" descr=""/>
          <p:cNvPicPr/>
          <p:nvPr/>
        </p:nvPicPr>
        <p:blipFill>
          <a:blip r:embed="rId2"/>
          <a:stretch/>
        </p:blipFill>
        <p:spPr>
          <a:xfrm>
            <a:off x="7315200" y="3809880"/>
            <a:ext cx="990720" cy="609840"/>
          </a:xfrm>
          <a:prstGeom prst="rect">
            <a:avLst/>
          </a:prstGeom>
          <a:ln w="0">
            <a:noFill/>
          </a:ln>
        </p:spPr>
      </p:pic>
      <p:pic>
        <p:nvPicPr>
          <p:cNvPr id="142" name="AA'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AA'" descr=""/>
          <p:cNvPicPr/>
          <p:nvPr/>
        </p:nvPicPr>
        <p:blipFill>
          <a:blip r:embed="rId4"/>
          <a:stretch/>
        </p:blipFill>
        <p:spPr>
          <a:xfrm>
            <a:off x="2590920" y="3048120"/>
            <a:ext cx="1295280" cy="739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19320" y="3962520"/>
            <a:ext cx="3352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n Punkt A‘ abgebild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7440" y="2762280"/>
            <a:ext cx="2842920" cy="500040"/>
          </a:xfrm>
          <a:custGeom>
            <a:avLst/>
            <a:gdLst/>
            <a:ahLst/>
            <a:rect l="l" t="t" r="r" b="b"/>
            <a:pathLst>
              <a:path w="1791" h="315">
                <a:moveTo>
                  <a:pt x="1791" y="315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Gesucht sind die Koordinaten vom Bildpunkt A‘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schritt3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647960" cy="37479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2865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können den Bildpunkt ganz einfach mit Hilfe 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0A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AA'" descr=""/>
          <p:cNvPicPr/>
          <p:nvPr/>
        </p:nvPicPr>
        <p:blipFill>
          <a:blip r:embed="rId3"/>
          <a:stretch/>
        </p:blipFill>
        <p:spPr>
          <a:xfrm>
            <a:off x="5943600" y="213372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152" name="plus" descr=""/>
          <p:cNvPicPr/>
          <p:nvPr/>
        </p:nvPicPr>
        <p:blipFill>
          <a:blip r:embed="rId4"/>
          <a:stretch/>
        </p:blipFill>
        <p:spPr>
          <a:xfrm>
            <a:off x="6705720" y="304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kette" descr=""/>
          <p:cNvPicPr/>
          <p:nvPr/>
        </p:nvPicPr>
        <p:blipFill>
          <a:blip r:embed="rId5"/>
          <a:stretch/>
        </p:blipFill>
        <p:spPr>
          <a:xfrm>
            <a:off x="2895480" y="5562720"/>
            <a:ext cx="4038840" cy="912600"/>
          </a:xfrm>
          <a:prstGeom prst="rect">
            <a:avLst/>
          </a:prstGeom>
          <a:ln w="0">
            <a:noFill/>
          </a:ln>
        </p:spPr>
      </p:pic>
      <p:pic>
        <p:nvPicPr>
          <p:cNvPr id="154" name="0A'" descr=""/>
          <p:cNvPicPr/>
          <p:nvPr/>
        </p:nvPicPr>
        <p:blipFill>
          <a:blip r:embed="rId6"/>
          <a:stretch/>
        </p:blipFill>
        <p:spPr>
          <a:xfrm>
            <a:off x="4648320" y="3429000"/>
            <a:ext cx="658800" cy="341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90720" y="3886200"/>
            <a:ext cx="297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Vektoraddi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ech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3123720"/>
            <a:ext cx="1752480" cy="1295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33880" y="2633760"/>
            <a:ext cx="2691000" cy="471240"/>
          </a:xfrm>
          <a:custGeom>
            <a:avLst/>
            <a:gdLst/>
            <a:ahLst/>
            <a:rect l="l" t="t" r="r" b="b"/>
            <a:pathLst>
              <a:path w="1695" h="297">
                <a:moveTo>
                  <a:pt x="1695" y="297"/>
                </a:move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2040" y="2633760"/>
            <a:ext cx="871560" cy="1785960"/>
          </a:xfrm>
          <a:custGeom>
            <a:avLst/>
            <a:gdLst/>
            <a:ahLst/>
            <a:rect l="l" t="t" r="r" b="b"/>
            <a:pathLst>
              <a:path w="549" h="1125">
                <a:moveTo>
                  <a:pt x="549" y="1125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durch Rechnung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kette2" descr=""/>
          <p:cNvPicPr/>
          <p:nvPr/>
        </p:nvPicPr>
        <p:blipFill>
          <a:blip r:embed="rId1"/>
          <a:stretch/>
        </p:blipFill>
        <p:spPr>
          <a:xfrm>
            <a:off x="2286000" y="1812960"/>
            <a:ext cx="4746600" cy="834840"/>
          </a:xfrm>
          <a:prstGeom prst="rect">
            <a:avLst/>
          </a:prstGeom>
          <a:ln w="0">
            <a:noFill/>
          </a:ln>
        </p:spPr>
      </p:pic>
      <p:pic>
        <p:nvPicPr>
          <p:cNvPr id="162" name="kette3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4876560" cy="1481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600200" y="4876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 Ortsvektor und die Punktkoordinaten von A‘ können direkt abgeles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52480" y="4724280"/>
          <a:ext cx="6098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24280"/>
                    <a:ext cx="6098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752480" y="5867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Kontrolle im Koordinaten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schritt3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4972320" cy="4010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450080" y="41148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A‘ ( -2 | 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kette3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3657600" cy="1109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590920" y="3581280"/>
            <a:ext cx="838080" cy="533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Und jetzt üben wir das 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affe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4343400" cy="3278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00200" y="5562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http://www.realmath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Andrea Ritter, Schuljahr 2007/2008, FGRS Marktredwi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4:18:50Z</dcterms:created>
  <dc:creator>Andrea Ritter</dc:creator>
  <dc:description/>
  <dc:language>en-US</dc:language>
  <cp:lastModifiedBy>Andrea Ritter</cp:lastModifiedBy>
  <dcterms:modified xsi:type="dcterms:W3CDTF">2008-05-04T08:49:19Z</dcterms:modified>
  <cp:revision>10</cp:revision>
  <dc:subject/>
  <dc:title>Die Pfeilkette</dc:title>
</cp:coreProperties>
</file>