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CC0-50E0-4C39-89F3-EF12506F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5D1-D103-4F40-92F6-C8FC901E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F01-B6E4-4D94-AEEF-B1F9D2C6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36A-094D-435C-882B-0DF7B4B1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6309-BF23-4C80-8677-F64D8E73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491-DE5A-4941-9BE8-A04199E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3583-75C7-440B-B07D-B0A7669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5DDE-6B9D-4F8A-9C0A-284F9BA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C3E-8D87-4455-8762-89335368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3B6A-B650-4A28-AF95-9471CB42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D02-1FE8-4593-B70E-60364F1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C4A-901F-4461-8D75-67D32647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2F9B-9078-4529-8A7A-033C9FB9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A15D-ADF0-4B63-8AE0-958745C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F2E6-42B7-4103-A3D9-BAC0D2E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18AF-3356-4FF6-8476-7ABD406A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2EE6-F9A1-4384-946B-CCC630B0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6B4-A012-4B1F-B370-D1422B2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F60-DD89-4DF7-B9FB-BACFA555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1AC-83FC-4131-A4A1-3409DB6A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48B-B3E5-4F2D-9422-2BCDFE6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A77-38D9-479D-9DA1-203583E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4FA-DBA4-405E-9851-37EA4FA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0B6-04D2-45BF-8E46-D8FA991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0637-1DC0-419F-A150-D14EA2FDA4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42B1-FCE4-423B-B8DC-1302A98965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3366"/>
                </a:solidFill>
                <a:uFillTx/>
                <a:latin typeface="Arial"/>
              </a:rPr>
              <a:t>Die Pfeilket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d700_buntepewrlenkette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Der Ortsvektor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ist ein Koordinatensystem und ein Punkt A mit den Koordinat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chritt1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3503520"/>
          </a:xfrm>
          <a:prstGeom prst="rect">
            <a:avLst/>
          </a:prstGeom>
          <a:ln w="0">
            <a:noFill/>
          </a:ln>
        </p:spPr>
      </p:pic>
      <p:pic>
        <p:nvPicPr>
          <p:cNvPr id="133" name="0A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914400" cy="563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3505320"/>
            <a:ext cx="3733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4 | 3). Der Vektor, der den Nullpunkt auf den Punkt A abbildet heiß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10552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Ortsvek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2800440"/>
            <a:ext cx="2291040" cy="1709640"/>
          </a:xfrm>
          <a:custGeom>
            <a:avLst/>
            <a:gdLst/>
            <a:ahLst/>
            <a:rect l="l" t="t" r="r" b="b"/>
            <a:pathLst>
              <a:path w="1443" h="1077">
                <a:moveTo>
                  <a:pt x="0" y="1077"/>
                </a:moveTo>
                <a:lnTo>
                  <a:pt x="1443" y="0"/>
                </a:lnTo>
              </a:path>
            </a:pathLst>
          </a:custGeom>
          <a:solidFill>
            <a:srgbClr val="ff6600"/>
          </a:solidFill>
          <a:ln w="22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Die Abbildung A </a:t>
            </a:r>
            <a:r>
              <a:rPr b="0" lang="de-DE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 A‘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12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Punkt A wird durch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k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chritt2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953160" cy="3276720"/>
          </a:xfrm>
          <a:prstGeom prst="rect">
            <a:avLst/>
          </a:prstGeom>
          <a:ln w="0">
            <a:noFill/>
          </a:ln>
        </p:spPr>
      </p:pic>
      <p:pic>
        <p:nvPicPr>
          <p:cNvPr id="141" name="0A" descr=""/>
          <p:cNvPicPr/>
          <p:nvPr/>
        </p:nvPicPr>
        <p:blipFill>
          <a:blip r:embed="rId2"/>
          <a:stretch/>
        </p:blipFill>
        <p:spPr>
          <a:xfrm>
            <a:off x="7315200" y="3809880"/>
            <a:ext cx="990720" cy="609840"/>
          </a:xfrm>
          <a:prstGeom prst="rect">
            <a:avLst/>
          </a:prstGeom>
          <a:ln w="0">
            <a:noFill/>
          </a:ln>
        </p:spPr>
      </p:pic>
      <p:pic>
        <p:nvPicPr>
          <p:cNvPr id="142" name="AA'" descr=""/>
          <p:cNvPicPr/>
          <p:nvPr/>
        </p:nvPicPr>
        <p:blipFill>
          <a:blip r:embed="rId3"/>
          <a:stretch/>
        </p:blipFill>
        <p:spPr>
          <a:xfrm>
            <a:off x="6095880" y="228600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AA'" descr=""/>
          <p:cNvPicPr/>
          <p:nvPr/>
        </p:nvPicPr>
        <p:blipFill>
          <a:blip r:embed="rId4"/>
          <a:stretch/>
        </p:blipFill>
        <p:spPr>
          <a:xfrm>
            <a:off x="2590920" y="3048120"/>
            <a:ext cx="129528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962520"/>
            <a:ext cx="3352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n Punkt A‘ abgebild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7440" y="2762280"/>
            <a:ext cx="2842920" cy="500040"/>
          </a:xfrm>
          <a:custGeom>
            <a:avLst/>
            <a:gdLst/>
            <a:ahLst/>
            <a:rect l="l" t="t" r="r" b="b"/>
            <a:pathLst>
              <a:path w="1791" h="315">
                <a:moveTo>
                  <a:pt x="1791" y="315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Gesucht sind die Koordinaten vom Bildpunkt A‘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schritt3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647960" cy="3747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865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können den Bildpunkt ganz einfach mit Hilfe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0A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AA'" descr=""/>
          <p:cNvPicPr/>
          <p:nvPr/>
        </p:nvPicPr>
        <p:blipFill>
          <a:blip r:embed="rId3"/>
          <a:stretch/>
        </p:blipFill>
        <p:spPr>
          <a:xfrm>
            <a:off x="5943600" y="213372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plus" descr=""/>
          <p:cNvPicPr/>
          <p:nvPr/>
        </p:nvPicPr>
        <p:blipFill>
          <a:blip r:embed="rId4"/>
          <a:stretch/>
        </p:blipFill>
        <p:spPr>
          <a:xfrm>
            <a:off x="6705720" y="304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kette" descr=""/>
          <p:cNvPicPr/>
          <p:nvPr/>
        </p:nvPicPr>
        <p:blipFill>
          <a:blip r:embed="rId5"/>
          <a:stretch/>
        </p:blipFill>
        <p:spPr>
          <a:xfrm>
            <a:off x="2895480" y="5562720"/>
            <a:ext cx="4038840" cy="912600"/>
          </a:xfrm>
          <a:prstGeom prst="rect">
            <a:avLst/>
          </a:prstGeom>
          <a:ln w="0">
            <a:noFill/>
          </a:ln>
        </p:spPr>
      </p:pic>
      <p:pic>
        <p:nvPicPr>
          <p:cNvPr id="154" name="0A'" descr=""/>
          <p:cNvPicPr/>
          <p:nvPr/>
        </p:nvPicPr>
        <p:blipFill>
          <a:blip r:embed="rId6"/>
          <a:stretch/>
        </p:blipFill>
        <p:spPr>
          <a:xfrm>
            <a:off x="4648320" y="3429000"/>
            <a:ext cx="658800" cy="341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90720" y="3886200"/>
            <a:ext cx="297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Vektoraddi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3123720"/>
            <a:ext cx="1752480" cy="1295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3880" y="2633760"/>
            <a:ext cx="2691000" cy="471240"/>
          </a:xfrm>
          <a:custGeom>
            <a:avLst/>
            <a:gdLst/>
            <a:ahLst/>
            <a:rect l="l" t="t" r="r" b="b"/>
            <a:pathLst>
              <a:path w="1695" h="297">
                <a:moveTo>
                  <a:pt x="1695" y="297"/>
                </a:moveTo>
                <a:lnTo>
                  <a:pt x="6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2040" y="2633760"/>
            <a:ext cx="871560" cy="1785960"/>
          </a:xfrm>
          <a:custGeom>
            <a:avLst/>
            <a:gdLst/>
            <a:ahLst/>
            <a:rect l="l" t="t" r="r" b="b"/>
            <a:pathLst>
              <a:path w="549" h="1125">
                <a:moveTo>
                  <a:pt x="549" y="1125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Kontrolle durch Rechnung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kette2" descr=""/>
          <p:cNvPicPr/>
          <p:nvPr/>
        </p:nvPicPr>
        <p:blipFill>
          <a:blip r:embed="rId1"/>
          <a:stretch/>
        </p:blipFill>
        <p:spPr>
          <a:xfrm>
            <a:off x="2286000" y="1812960"/>
            <a:ext cx="4746600" cy="834840"/>
          </a:xfrm>
          <a:prstGeom prst="rect">
            <a:avLst/>
          </a:prstGeom>
          <a:ln w="0">
            <a:noFill/>
          </a:ln>
        </p:spPr>
      </p:pic>
      <p:pic>
        <p:nvPicPr>
          <p:cNvPr id="162" name="kette3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876560" cy="1481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00200" y="4876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 Ortsvektor und die Punktkoordinaten von A‘ können direkt abgeles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52480" y="4724280"/>
          <a:ext cx="6098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24280"/>
                    <a:ext cx="6098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752480" y="5867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A‘ ( -2 | 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Kontrolle im Koordinaten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schritt3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972320" cy="4010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50080" y="41148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A‘ ( -2 | 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kette3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1109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3581280"/>
            <a:ext cx="838080" cy="533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Und jetzt üben wir das 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affe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4343400" cy="3278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00200" y="5562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http://www.realmath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18:50Z</dcterms:created>
  <dc:creator>Andrea Ritter</dc:creator>
  <dc:description/>
  <dc:language>en-US</dc:language>
  <cp:lastModifiedBy>Andrea Ritter</cp:lastModifiedBy>
  <dcterms:modified xsi:type="dcterms:W3CDTF">2008-05-04T08:49:19Z</dcterms:modified>
  <cp:revision>10</cp:revision>
  <dc:subject/>
  <dc:title>Die Pfeilkette</dc:title>
</cp:coreProperties>
</file>