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AA0C-2362-4FBD-81DA-5D090EFF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569B-E308-480B-BF76-CB16ECEF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5D59-3251-49CB-A068-5DFFFFB3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8B01-A3A1-4BEF-8FF6-C5122B94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D488-10D8-4925-8BEE-905F995D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B236-0C15-41B3-8C8F-9C356253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1DEF-7AA9-445A-8D2C-A1E22470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0F72-5B14-4CD8-9556-AA16AF7D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795F-2BD5-4947-B865-DB862662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66B9-E893-4995-B441-66DEC28A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CEA1-8E2A-450D-9B6B-52FEBB01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98C1-23D2-4884-8E29-0F4E4F66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86FE-EE61-4D64-8A53-E59CA954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96FB-A5BA-4FBC-AA55-9301AD2C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53F7-915B-406B-907D-16CCBDDA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E14B-E700-402D-9AD8-8D64A175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E58F-A8E9-4111-9182-7CC31AC7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2E8-A21B-47DB-9D84-A135D6B1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549-EDEC-4094-9215-BA26F068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FF31-6736-4ABA-AB2F-38855C09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88C4-EBC1-4882-A886-BE350662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A6FA-352C-47DE-A929-EA8CD5AD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4BA9-1AF9-4F4F-A03B-A1BCFF7A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6A31-FFFA-4FF0-B871-881136A4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A9F1-7828-4E90-9A76-769EF38FEDF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452E-C413-4923-82F8-43C3763C2EE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3366"/>
                </a:solidFill>
                <a:uFillTx/>
                <a:latin typeface="Arial"/>
              </a:rPr>
              <a:t>Die Pfeilket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d700_buntepewrlenkette" descr=""/>
          <p:cNvPicPr/>
          <p:nvPr/>
        </p:nvPicPr>
        <p:blipFill>
          <a:blip r:embed="rId1"/>
          <a:stretch/>
        </p:blipFill>
        <p:spPr>
          <a:xfrm>
            <a:off x="3048120" y="220968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410080" y="661356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Andrea Ritter, Schuljahr 2007/2008, FGRS Marktredwi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Der Ortsvektor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657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geben ist ein Koordinatensystem und ein Punkt A mit den Koordinate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schritt1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809880" cy="3503520"/>
          </a:xfrm>
          <a:prstGeom prst="rect">
            <a:avLst/>
          </a:prstGeom>
          <a:ln w="0">
            <a:noFill/>
          </a:ln>
        </p:spPr>
      </p:pic>
      <p:pic>
        <p:nvPicPr>
          <p:cNvPr id="133" name="0A" descr=""/>
          <p:cNvPicPr/>
          <p:nvPr/>
        </p:nvPicPr>
        <p:blipFill>
          <a:blip r:embed="rId2"/>
          <a:stretch/>
        </p:blipFill>
        <p:spPr>
          <a:xfrm>
            <a:off x="6858000" y="3581280"/>
            <a:ext cx="914400" cy="563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14400" y="3505320"/>
            <a:ext cx="3733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4 | 3). Der Vektor, der den Nullpunkt auf den Punkt A abbildet heiß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105520"/>
            <a:ext cx="3353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Ortsvek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661356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Andrea Ritter, Schuljahr 2007/2008, FGRS Marktredwi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14840" y="2800440"/>
            <a:ext cx="2291040" cy="1709640"/>
          </a:xfrm>
          <a:custGeom>
            <a:avLst/>
            <a:gdLst/>
            <a:ahLst/>
            <a:rect l="l" t="t" r="r" b="b"/>
            <a:pathLst>
              <a:path w="1443" h="1077">
                <a:moveTo>
                  <a:pt x="0" y="1077"/>
                </a:moveTo>
                <a:lnTo>
                  <a:pt x="1443" y="0"/>
                </a:lnTo>
              </a:path>
            </a:pathLst>
          </a:custGeom>
          <a:solidFill>
            <a:srgbClr val="ff6600"/>
          </a:solidFill>
          <a:ln w="2232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Die Abbildung A </a:t>
            </a:r>
            <a:r>
              <a:rPr b="0" lang="de-DE" sz="36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 A‘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3124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Punkt A wird durch 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k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schritt2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3953160" cy="3276720"/>
          </a:xfrm>
          <a:prstGeom prst="rect">
            <a:avLst/>
          </a:prstGeom>
          <a:ln w="0">
            <a:noFill/>
          </a:ln>
        </p:spPr>
      </p:pic>
      <p:pic>
        <p:nvPicPr>
          <p:cNvPr id="141" name="0A" descr=""/>
          <p:cNvPicPr/>
          <p:nvPr/>
        </p:nvPicPr>
        <p:blipFill>
          <a:blip r:embed="rId2"/>
          <a:stretch/>
        </p:blipFill>
        <p:spPr>
          <a:xfrm>
            <a:off x="7315200" y="3809880"/>
            <a:ext cx="990720" cy="609840"/>
          </a:xfrm>
          <a:prstGeom prst="rect">
            <a:avLst/>
          </a:prstGeom>
          <a:ln w="0">
            <a:noFill/>
          </a:ln>
        </p:spPr>
      </p:pic>
      <p:pic>
        <p:nvPicPr>
          <p:cNvPr id="142" name="AA'" descr=""/>
          <p:cNvPicPr/>
          <p:nvPr/>
        </p:nvPicPr>
        <p:blipFill>
          <a:blip r:embed="rId3"/>
          <a:stretch/>
        </p:blipFill>
        <p:spPr>
          <a:xfrm>
            <a:off x="6095880" y="228600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143" name="AA'" descr=""/>
          <p:cNvPicPr/>
          <p:nvPr/>
        </p:nvPicPr>
        <p:blipFill>
          <a:blip r:embed="rId4"/>
          <a:stretch/>
        </p:blipFill>
        <p:spPr>
          <a:xfrm>
            <a:off x="2590920" y="3048120"/>
            <a:ext cx="1295280" cy="739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19320" y="3962520"/>
            <a:ext cx="3352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 den Punkt A‘ abgebild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661356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Andrea Ritter, Schuljahr 2007/2008, FGRS Marktredwi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67440" y="2762280"/>
            <a:ext cx="2842920" cy="500040"/>
          </a:xfrm>
          <a:custGeom>
            <a:avLst/>
            <a:gdLst/>
            <a:ahLst/>
            <a:rect l="l" t="t" r="r" b="b"/>
            <a:pathLst>
              <a:path w="1791" h="315">
                <a:moveTo>
                  <a:pt x="1791" y="315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Gesucht sind die Koordinaten vom Bildpunkt A‘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8" name="schritt3" descr=""/>
          <p:cNvPicPr/>
          <p:nvPr/>
        </p:nvPicPr>
        <p:blipFill>
          <a:blip r:embed="rId1"/>
          <a:stretch/>
        </p:blipFill>
        <p:spPr>
          <a:xfrm>
            <a:off x="3962520" y="1676520"/>
            <a:ext cx="4647960" cy="37479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2865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r können den Bildpunkt ganz einfach mit Hilfe 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0A" descr=""/>
          <p:cNvPicPr/>
          <p:nvPr/>
        </p:nvPicPr>
        <p:blipFill>
          <a:blip r:embed="rId2"/>
          <a:stretch/>
        </p:blipFill>
        <p:spPr>
          <a:xfrm>
            <a:off x="7010280" y="3657600"/>
            <a:ext cx="990720" cy="609480"/>
          </a:xfrm>
          <a:prstGeom prst="rect">
            <a:avLst/>
          </a:prstGeom>
          <a:ln w="0">
            <a:noFill/>
          </a:ln>
        </p:spPr>
      </p:pic>
      <p:pic>
        <p:nvPicPr>
          <p:cNvPr id="151" name="AA'" descr=""/>
          <p:cNvPicPr/>
          <p:nvPr/>
        </p:nvPicPr>
        <p:blipFill>
          <a:blip r:embed="rId3"/>
          <a:stretch/>
        </p:blipFill>
        <p:spPr>
          <a:xfrm>
            <a:off x="5943600" y="2133720"/>
            <a:ext cx="1066680" cy="609480"/>
          </a:xfrm>
          <a:prstGeom prst="rect">
            <a:avLst/>
          </a:prstGeom>
          <a:ln w="0">
            <a:noFill/>
          </a:ln>
        </p:spPr>
      </p:pic>
      <p:pic>
        <p:nvPicPr>
          <p:cNvPr id="152" name="plus" descr=""/>
          <p:cNvPicPr/>
          <p:nvPr/>
        </p:nvPicPr>
        <p:blipFill>
          <a:blip r:embed="rId4"/>
          <a:stretch/>
        </p:blipFill>
        <p:spPr>
          <a:xfrm>
            <a:off x="6705720" y="3048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53" name="kette" descr=""/>
          <p:cNvPicPr/>
          <p:nvPr/>
        </p:nvPicPr>
        <p:blipFill>
          <a:blip r:embed="rId5"/>
          <a:stretch/>
        </p:blipFill>
        <p:spPr>
          <a:xfrm>
            <a:off x="2895480" y="5562720"/>
            <a:ext cx="4038840" cy="912600"/>
          </a:xfrm>
          <a:prstGeom prst="rect">
            <a:avLst/>
          </a:prstGeom>
          <a:ln w="0">
            <a:noFill/>
          </a:ln>
        </p:spPr>
      </p:pic>
      <p:pic>
        <p:nvPicPr>
          <p:cNvPr id="154" name="0A'" descr=""/>
          <p:cNvPicPr/>
          <p:nvPr/>
        </p:nvPicPr>
        <p:blipFill>
          <a:blip r:embed="rId6"/>
          <a:stretch/>
        </p:blipFill>
        <p:spPr>
          <a:xfrm>
            <a:off x="4648320" y="3429000"/>
            <a:ext cx="658800" cy="341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90720" y="3886200"/>
            <a:ext cx="2971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Vektoraddition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rechn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661356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Andrea Ritter, Schuljahr 2007/2008, FGRS Marktredwi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943600" y="3123720"/>
            <a:ext cx="1752480" cy="12956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33880" y="2633760"/>
            <a:ext cx="2691000" cy="471240"/>
          </a:xfrm>
          <a:custGeom>
            <a:avLst/>
            <a:gdLst/>
            <a:ahLst/>
            <a:rect l="l" t="t" r="r" b="b"/>
            <a:pathLst>
              <a:path w="1695" h="297">
                <a:moveTo>
                  <a:pt x="1695" y="297"/>
                </a:moveTo>
                <a:lnTo>
                  <a:pt x="6" y="0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72040" y="2633760"/>
            <a:ext cx="871560" cy="1785960"/>
          </a:xfrm>
          <a:custGeom>
            <a:avLst/>
            <a:gdLst/>
            <a:ahLst/>
            <a:rect l="l" t="t" r="r" b="b"/>
            <a:pathLst>
              <a:path w="549" h="1125">
                <a:moveTo>
                  <a:pt x="549" y="1125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Kontrolle durch Rechnung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kette2" descr=""/>
          <p:cNvPicPr/>
          <p:nvPr/>
        </p:nvPicPr>
        <p:blipFill>
          <a:blip r:embed="rId1"/>
          <a:stretch/>
        </p:blipFill>
        <p:spPr>
          <a:xfrm>
            <a:off x="2286000" y="1812960"/>
            <a:ext cx="4746600" cy="834840"/>
          </a:xfrm>
          <a:prstGeom prst="rect">
            <a:avLst/>
          </a:prstGeom>
          <a:ln w="0">
            <a:noFill/>
          </a:ln>
        </p:spPr>
      </p:pic>
      <p:pic>
        <p:nvPicPr>
          <p:cNvPr id="162" name="kette3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4876560" cy="1481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600200" y="4876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 Ortsvektor und die Punktkoordinaten von A‘ können direkt abgelesen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752480" y="4724280"/>
          <a:ext cx="60984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24280"/>
                    <a:ext cx="60984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752480" y="586728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A‘ ( -2 | 4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661356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Andrea Ritter, Schuljahr 2007/2008, FGRS Marktredwi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Kontrolle im Koordinatensyste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schritt3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4972320" cy="40100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450080" y="41148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A‘ ( -2 | 4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kette3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3657600" cy="1109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410080" y="661356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Andrea Ritter, Schuljahr 2007/2008, FGRS Marktredwi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590920" y="3581280"/>
            <a:ext cx="838080" cy="5335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Und jetzt üben wir das 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5" name="affe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4343400" cy="3278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600200" y="55627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http://www.realmath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661356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Andrea Ritter, Schuljahr 2007/2008, FGRS Marktredwi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4:18:50Z</dcterms:created>
  <dc:creator>Andrea Ritter</dc:creator>
  <dc:description/>
  <dc:language>en-US</dc:language>
  <cp:lastModifiedBy>Andrea Ritter</cp:lastModifiedBy>
  <dcterms:modified xsi:type="dcterms:W3CDTF">2008-05-04T08:49:19Z</dcterms:modified>
  <cp:revision>10</cp:revision>
  <dc:subject/>
  <dc:title>Die Pfeilkette</dc:title>
</cp:coreProperties>
</file>