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328-269C-47A2-8C00-FE337C67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E1B-3CEC-495C-9CD0-07391D50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25A-7C2B-4536-A2AD-0E978F9B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D08-96E3-4758-975D-BFCF16BB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E044-9867-40FE-A7AC-DF257372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01BA-A318-49F3-A570-F8209D5D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D5F5-666A-46FF-B32B-E94CE47D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E7D3-D6C8-487B-897B-3DA155DB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22FC-FE03-4ABD-B85F-878E3BF6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001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0447-138B-4C0A-9178-BC22E182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1F54-7DBF-479C-9DA9-E8298045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979-B679-4931-AE43-D138A541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76FD-67DD-4628-B82B-FB47BC98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A95D-9912-404B-B6AF-FE8A9E0E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65AD-915C-4BCB-BA16-B22EEA38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BBE5-75DD-4B0C-AE4F-0473D52F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7744-5AB6-4647-8055-42F66C45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5C0-C2B6-4417-8847-1BE36D62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BB7-A52E-4313-B8A6-515C5218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9AB-159F-405A-BBF9-C92BE746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001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4AF-23DF-409F-8D1B-5EB44A14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47B-09F7-4632-BA06-1F6AE1E7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55E-E497-450B-9F32-072A597F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BDD-6B25-4663-BCD8-C0F8D51A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08E6-5A61-4C6F-9033-194892177D1E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E2C6-D4E2-4C79-A010-73584E9E4E33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533520"/>
            <a:ext cx="7925040" cy="1904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Der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Arbeitskampf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09" name="German_t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203364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62320" y="3429000"/>
            <a:ext cx="678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Presented by Fachschaft Wirtschaftswissenschaften der Fichtelgebirgsrealschule Marktredwitz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. Brand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1295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118800" bIns="118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unterschiedlichen Interessen der Unternehmer und Arbeitge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828800"/>
            <a:ext cx="3124440" cy="39625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1828800"/>
            <a:ext cx="3124080" cy="3962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7a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7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nternehm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2057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beitnehm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038480"/>
            <a:ext cx="2819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ben nach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stensenk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istungserhöh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scheidungsfreihei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4038480"/>
            <a:ext cx="2819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ben nach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hnerhöh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eitszeitverkürz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bestimm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7242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51814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56386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6019920"/>
            <a:ext cx="4419720" cy="459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Interessengegensätze (Konflikte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447920" y="5791320"/>
            <a:ext cx="838080" cy="380880"/>
            <a:chOff x="1447920" y="5791320"/>
            <a:chExt cx="838080" cy="380880"/>
          </a:xfrm>
        </p:grpSpPr>
        <p:sp>
          <p:nvSpPr>
            <p:cNvPr id="123" name=""/>
            <p:cNvSpPr/>
            <p:nvPr/>
          </p:nvSpPr>
          <p:spPr>
            <a:xfrm>
              <a:off x="1447920" y="5791320"/>
              <a:ext cx="0" cy="38088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7920" y="6172200"/>
              <a:ext cx="83808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705720" y="5791320"/>
            <a:ext cx="838080" cy="380880"/>
            <a:chOff x="6705720" y="5791320"/>
            <a:chExt cx="838080" cy="380880"/>
          </a:xfrm>
        </p:grpSpPr>
        <p:sp>
          <p:nvSpPr>
            <p:cNvPr id="126" name=""/>
            <p:cNvSpPr/>
            <p:nvPr/>
          </p:nvSpPr>
          <p:spPr>
            <a:xfrm>
              <a:off x="7543800" y="5791320"/>
              <a:ext cx="0" cy="38088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705720" y="6172200"/>
              <a:ext cx="83808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128" name="PE02002_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1674720" cy="1676520"/>
          </a:xfrm>
          <a:prstGeom prst="rect">
            <a:avLst/>
          </a:prstGeom>
          <a:ln w="0">
            <a:noFill/>
          </a:ln>
        </p:spPr>
      </p:pic>
      <p:pic>
        <p:nvPicPr>
          <p:cNvPr id="129" name="PE01846_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3048120" cy="133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nteressenvertretun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286000"/>
            <a:ext cx="14475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8f8f8"/>
                </a:solidFill>
                <a:latin typeface="Times New Roman"/>
              </a:rPr>
              <a:t>Unternehmer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8f8f8"/>
                </a:solidFill>
                <a:latin typeface="Times New Roman"/>
              </a:rPr>
              <a:t>Zusammen-schlus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2286000"/>
            <a:ext cx="1447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8f8f8"/>
                </a:solidFill>
                <a:latin typeface="Times New Roman"/>
              </a:rPr>
              <a:t>Arbeitnehmer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8f8f8"/>
                </a:solidFill>
                <a:latin typeface="Times New Roman"/>
              </a:rPr>
              <a:t>Zusammen-schlus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495680"/>
            <a:ext cx="2971800" cy="459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geberverbän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56386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</a:rPr>
              <a:t>vertreten die Interessen der Unternehmer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1295280"/>
            <a:ext cx="3047760" cy="2819160"/>
            <a:chOff x="609480" y="1295280"/>
            <a:chExt cx="3047760" cy="2819160"/>
          </a:xfrm>
        </p:grpSpPr>
        <p:grpSp>
          <p:nvGrpSpPr>
            <p:cNvPr id="136" name=""/>
            <p:cNvGrpSpPr/>
            <p:nvPr/>
          </p:nvGrpSpPr>
          <p:grpSpPr>
            <a:xfrm>
              <a:off x="609480" y="1295280"/>
              <a:ext cx="3047760" cy="2819160"/>
              <a:chOff x="609480" y="1295280"/>
              <a:chExt cx="3047760" cy="2819160"/>
            </a:xfrm>
          </p:grpSpPr>
          <p:sp>
            <p:nvSpPr>
              <p:cNvPr id="137" name=""/>
              <p:cNvSpPr/>
              <p:nvPr/>
            </p:nvSpPr>
            <p:spPr>
              <a:xfrm>
                <a:off x="609480" y="24231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05960" y="129528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82000" y="33249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78120" y="22539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5160" y="163332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60840" y="31557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02440" y="304308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85080" y="152064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990720" y="175248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3623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16765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57400" y="342900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8800" y="14479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19520" y="320040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2767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25909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2720" y="1295280"/>
            <a:ext cx="3047760" cy="2819160"/>
            <a:chOff x="5562720" y="1295280"/>
            <a:chExt cx="3047760" cy="2819160"/>
          </a:xfrm>
        </p:grpSpPr>
        <p:grpSp>
          <p:nvGrpSpPr>
            <p:cNvPr id="154" name=""/>
            <p:cNvGrpSpPr/>
            <p:nvPr/>
          </p:nvGrpSpPr>
          <p:grpSpPr>
            <a:xfrm>
              <a:off x="5562720" y="1295280"/>
              <a:ext cx="3047760" cy="2819160"/>
              <a:chOff x="5562720" y="1295280"/>
              <a:chExt cx="3047760" cy="2819160"/>
            </a:xfrm>
          </p:grpSpPr>
          <p:sp>
            <p:nvSpPr>
              <p:cNvPr id="155" name=""/>
              <p:cNvSpPr/>
              <p:nvPr/>
            </p:nvSpPr>
            <p:spPr>
              <a:xfrm>
                <a:off x="5562720" y="24231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559200" y="129528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34880" y="33249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731360" y="22539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38400" y="163332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4080" y="31557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555320" y="304308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438320" y="152064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943600" y="175248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23623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96080" y="16765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10280" y="342900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81680" y="14479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72400" y="320040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72200" y="32767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0960" y="25909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715000" y="4495680"/>
            <a:ext cx="297180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e8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werkschaft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4114800"/>
            <a:ext cx="8380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952880"/>
            <a:ext cx="9907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81680" y="4114800"/>
            <a:ext cx="8384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952880"/>
            <a:ext cx="9903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56386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</a:rPr>
              <a:t>vertreten die Interessen der Arbeitnehmer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5440" y="449568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- Sozialpartner -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5105520"/>
            <a:ext cx="457200" cy="1218960"/>
          </a:xfrm>
          <a:custGeom>
            <a:avLst/>
            <a:gdLst>
              <a:gd name="textAreaLeft" fmla="*/ 0 w 457200"/>
              <a:gd name="textAreaRight" fmla="*/ 457560 w 457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" y="0"/>
                </a:lnTo>
                <a:lnTo>
                  <a:pt x="21600" y="10800"/>
                </a:lnTo>
                <a:lnTo>
                  <a:pt x="1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638680" y="5105520"/>
            <a:ext cx="457200" cy="1218960"/>
          </a:xfrm>
          <a:custGeom>
            <a:avLst/>
            <a:gdLst>
              <a:gd name="textAreaLeft" fmla="*/ 360 w 457200"/>
              <a:gd name="textAreaRight" fmla="*/ 457920 w 457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" y="0"/>
                </a:lnTo>
                <a:lnTo>
                  <a:pt x="21600" y="10800"/>
                </a:lnTo>
                <a:lnTo>
                  <a:pt x="1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510552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Gespräche Verhandlungen oder Kampfmaßnahme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4600" y="533520"/>
            <a:ext cx="3809880" cy="1312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werkschaf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samtmitgliederzahl        ca. 8 300 000 (im Jahr 1973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905120"/>
            <a:ext cx="7696440" cy="1218960"/>
          </a:xfrm>
          <a:prstGeom prst="upArrowCallout">
            <a:avLst>
              <a:gd name="adj1" fmla="val 275091"/>
              <a:gd name="adj2" fmla="val 157848"/>
              <a:gd name="adj3" fmla="val 32972"/>
              <a:gd name="adj4" fmla="val 78079"/>
            </a:avLst>
          </a:prstGeom>
          <a:gradFill rotWithShape="0">
            <a:gsLst>
              <a:gs pos="0">
                <a:srgbClr val="9933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2057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GB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590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tscher Gewerkschaftsbun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9480" y="3962520"/>
          <a:ext cx="7696440" cy="1295280"/>
        </p:xfrm>
        <a:graphic>
          <a:graphicData uri="http://schemas.openxmlformats.org/drawingml/2006/table">
            <a:tbl>
              <a:tblPr/>
              <a:tblGrid>
                <a:gridCol w="962280"/>
                <a:gridCol w="961920"/>
                <a:gridCol w="961920"/>
                <a:gridCol w="962280"/>
                <a:gridCol w="961920"/>
                <a:gridCol w="961920"/>
                <a:gridCol w="961920"/>
                <a:gridCol w="962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685800" y="32004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8f8f8"/>
                </a:solidFill>
                <a:latin typeface="Times New Roman"/>
              </a:rPr>
              <a:t>16 Einzelgewerkschaften gegliedert nach Wirtschaftsbereichen  </a:t>
            </a:r>
            <a:r>
              <a:rPr b="0" lang="de-DE" sz="1800" spc="-1" strike="noStrike">
                <a:solidFill>
                  <a:srgbClr val="f8f8f8"/>
                </a:solidFill>
                <a:latin typeface="Times New Roman"/>
              </a:rPr>
              <a:t>IG Metall, Gw ÖTV, IG Chemie-Papier-Keramik, IG Bergbau u. Energie, u. a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5257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onstige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5638680"/>
            <a:ext cx="3810240" cy="9234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utscher Beamtenbun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5638680"/>
            <a:ext cx="3810240" cy="9234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. Angestelltengewerkschaf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arifverhandlun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 rot="10797000">
            <a:off x="685440" y="1294560"/>
            <a:ext cx="546120" cy="4953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eitgeberverbän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04240" y="1295280"/>
            <a:ext cx="546120" cy="4953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e8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werkschafts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1219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verhandeln über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828800"/>
            <a:ext cx="3733920" cy="156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Höhe der                      Löhne und Gehäl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= Lohntarif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3581280"/>
            <a:ext cx="3733920" cy="193284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a700a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rbeitszeit, Pausen,   Urlaub, Akkordzuschläge, Kündigung, u. ä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= Manteltarif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2133720"/>
            <a:ext cx="1447920" cy="9144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476400" y="2133720"/>
            <a:ext cx="1447560" cy="9144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4038480"/>
            <a:ext cx="1447920" cy="9144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8e00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476400" y="4038480"/>
            <a:ext cx="1447560" cy="9144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8e00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5715000"/>
            <a:ext cx="3733920" cy="459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Ergebnis: Tarifverträg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Urabstimm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BD06990_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581280" cy="28958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grpSp>
        <p:nvGrpSpPr>
          <p:cNvPr id="203" name=""/>
          <p:cNvGrpSpPr/>
          <p:nvPr/>
        </p:nvGrpSpPr>
        <p:grpSpPr>
          <a:xfrm>
            <a:off x="4495680" y="1295280"/>
            <a:ext cx="4114800" cy="2669760"/>
            <a:chOff x="4495680" y="1295280"/>
            <a:chExt cx="4114800" cy="2669760"/>
          </a:xfrm>
        </p:grpSpPr>
        <p:pic>
          <p:nvPicPr>
            <p:cNvPr id="204" name="BD06982_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114800" cy="2098800"/>
            </a:xfrm>
            <a:prstGeom prst="rect">
              <a:avLst/>
            </a:prstGeom>
            <a:ln w="57240">
              <a:solidFill>
                <a:srgbClr val="ffff00"/>
              </a:solidFill>
              <a:miter/>
            </a:ln>
          </p:spPr>
        </p:pic>
        <p:sp>
          <p:nvSpPr>
            <p:cNvPr id="205" name=""/>
            <p:cNvSpPr/>
            <p:nvPr/>
          </p:nvSpPr>
          <p:spPr>
            <a:xfrm>
              <a:off x="4949640" y="3505320"/>
              <a:ext cx="325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Gewerkschaftsmitglieder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85800" y="4724280"/>
            <a:ext cx="3048120" cy="13737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5400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cheitern                der Tarifverhandlunge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4419720"/>
            <a:ext cx="3505320" cy="1900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stimmun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Wenn mehr als 75 % der Wähler zustimm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ikbeschlus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5105520"/>
            <a:ext cx="1295280" cy="53316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Mögliche Fol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62120" y="1219320"/>
            <a:ext cx="3657240" cy="2553840"/>
            <a:chOff x="762120" y="1219320"/>
            <a:chExt cx="3657240" cy="2553840"/>
          </a:xfrm>
        </p:grpSpPr>
        <p:pic>
          <p:nvPicPr>
            <p:cNvPr id="211" name="PE01838_" descr=""/>
            <p:cNvPicPr/>
            <p:nvPr/>
          </p:nvPicPr>
          <p:blipFill>
            <a:blip r:embed="rId1"/>
            <a:stretch/>
          </p:blipFill>
          <p:spPr>
            <a:xfrm>
              <a:off x="762120" y="2018880"/>
              <a:ext cx="209088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816920" y="1219320"/>
              <a:ext cx="2602440" cy="922680"/>
            </a:xfrm>
            <a:prstGeom prst="cloudCallout">
              <a:avLst>
                <a:gd name="adj1" fmla="val -47296"/>
                <a:gd name="adj2" fmla="val 83333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50720" y="1280880"/>
              <a:ext cx="152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Keine Lust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auf Arbeit.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33520" y="4191120"/>
            <a:ext cx="3124080" cy="147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nehmer verweigern die Arbei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rei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191120"/>
            <a:ext cx="3276720" cy="147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geber verweigert den Zugang zum Betrie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Aussperru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257800" y="1219320"/>
            <a:ext cx="3276720" cy="2666880"/>
            <a:chOff x="5257800" y="1219320"/>
            <a:chExt cx="3276720" cy="2666880"/>
          </a:xfrm>
        </p:grpSpPr>
        <p:sp>
          <p:nvSpPr>
            <p:cNvPr id="217" name=""/>
            <p:cNvSpPr/>
            <p:nvPr/>
          </p:nvSpPr>
          <p:spPr>
            <a:xfrm>
              <a:off x="5932440" y="1219320"/>
              <a:ext cx="2602080" cy="922320"/>
            </a:xfrm>
            <a:prstGeom prst="cloudCallout">
              <a:avLst>
                <a:gd name="adj1" fmla="val -47296"/>
                <a:gd name="adj2" fmla="val 83333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05400" y="1281240"/>
              <a:ext cx="166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Hier kommt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keiner rein.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219" name="BD05515_" descr=""/>
            <p:cNvPicPr/>
            <p:nvPr/>
          </p:nvPicPr>
          <p:blipFill>
            <a:blip r:embed="rId2"/>
            <a:stretch/>
          </p:blipFill>
          <p:spPr>
            <a:xfrm>
              <a:off x="5257800" y="2286000"/>
              <a:ext cx="148896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Schlicht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BD05552_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2057400" cy="169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9480" y="30481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Berufung eines neutralen Schlichte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295280"/>
            <a:ext cx="2133720" cy="82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werkschafts-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295280"/>
            <a:ext cx="220968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erungen  der Gewerkschaft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00800" y="1295280"/>
            <a:ext cx="2133720" cy="1557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db5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h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ch beide Parteien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er Vertr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5257800"/>
            <a:ext cx="2133720" cy="8254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beitgeber-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876920"/>
            <a:ext cx="2133720" cy="1191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herige Angebote der Arbeitgeb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4495680"/>
            <a:ext cx="2133360" cy="15721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i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35760" y="34290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blehnu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200400"/>
            <a:ext cx="2133720" cy="8254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8f8f8"/>
                </a:solidFill>
                <a:latin typeface="Times New Roman"/>
              </a:rPr>
              <a:t>Kompromiss-vorschl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2743200" y="1905120"/>
            <a:ext cx="533520" cy="914400"/>
          </a:xfrm>
          <a:custGeom>
            <a:avLst/>
            <a:gdLst>
              <a:gd name="textAreaLeft" fmla="*/ 179640 w 533520"/>
              <a:gd name="textAreaRight" fmla="*/ 444960 w 533520"/>
              <a:gd name="textAreaTop" fmla="*/ 599040 h 914400"/>
              <a:gd name="textAreaBottom" fmla="*/ 762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3200400" y="1905120"/>
            <a:ext cx="533520" cy="914400"/>
          </a:xfrm>
          <a:custGeom>
            <a:avLst/>
            <a:gdLst>
              <a:gd name="textAreaLeft" fmla="*/ 179280 w 533520"/>
              <a:gd name="textAreaRight" fmla="*/ 444600 w 533520"/>
              <a:gd name="textAreaTop" fmla="*/ 599040 h 914400"/>
              <a:gd name="textAreaBottom" fmla="*/ 762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 rot="10800000">
            <a:off x="2818440" y="4572000"/>
            <a:ext cx="533160" cy="914400"/>
          </a:xfrm>
          <a:custGeom>
            <a:avLst/>
            <a:gdLst>
              <a:gd name="textAreaLeft" fmla="*/ 178920 w 533160"/>
              <a:gd name="textAreaRight" fmla="*/ 443880 w 533160"/>
              <a:gd name="textAreaTop" fmla="*/ 599400 h 914400"/>
              <a:gd name="textAreaBottom" fmla="*/ 76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10800000">
            <a:off x="3276360" y="4572000"/>
            <a:ext cx="533160" cy="914400"/>
          </a:xfrm>
          <a:custGeom>
            <a:avLst/>
            <a:gdLst>
              <a:gd name="textAreaLeft" fmla="*/ 179280 w 533160"/>
              <a:gd name="textAreaRight" fmla="*/ 444240 w 533160"/>
              <a:gd name="textAreaTop" fmla="*/ 599400 h 914400"/>
              <a:gd name="textAreaBottom" fmla="*/ 76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35053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 rot="10800000">
            <a:off x="6477120" y="2818440"/>
            <a:ext cx="1371600" cy="685800"/>
          </a:xfrm>
          <a:custGeom>
            <a:avLst/>
            <a:gdLst>
              <a:gd name="textAreaLeft" fmla="*/ 461160 w 1371600"/>
              <a:gd name="textAreaRight" fmla="*/ 1143000 w 1371600"/>
              <a:gd name="textAreaTop" fmla="*/ 448920 h 685800"/>
              <a:gd name="textAreaBottom" fmla="*/ 5713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rot="10800000">
            <a:off x="6477120" y="3809520"/>
            <a:ext cx="1371600" cy="685800"/>
          </a:xfrm>
          <a:custGeom>
            <a:avLst/>
            <a:gdLst>
              <a:gd name="textAreaLeft" fmla="*/ 461160 w 1371600"/>
              <a:gd name="textAreaRight" fmla="*/ 1143000 w 1371600"/>
              <a:gd name="textAreaTop" fmla="*/ 449280 h 685800"/>
              <a:gd name="textAreaBottom" fmla="*/ 5716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German_t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3502080" cy="472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657600" y="3505320"/>
            <a:ext cx="96372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62120" y="5181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8f8f8"/>
                </a:solidFill>
                <a:latin typeface="Times New Roman"/>
              </a:rPr>
              <a:t>© by Oliver Brandt</a:t>
            </a:r>
            <a:br>
              <a:rPr sz="1800"/>
            </a:br>
            <a:r>
              <a:rPr b="1" lang="de-DE" sz="1800" spc="-1" strike="noStrike">
                <a:solidFill>
                  <a:srgbClr val="f8f8f8"/>
                </a:solidFill>
                <a:latin typeface="Times New Roman"/>
              </a:rPr>
              <a:t>Fichtelgebirgsrealschule Marktredwitz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7:05:46Z</dcterms:created>
  <dc:creator>fgrs</dc:creator>
  <dc:description/>
  <dc:language>en-US</dc:language>
  <cp:lastModifiedBy>fgrs</cp:lastModifiedBy>
  <dcterms:modified xsi:type="dcterms:W3CDTF">2002-04-02T20:03:26Z</dcterms:modified>
  <cp:revision>31</cp:revision>
  <dc:subject/>
  <dc:title>Die unterschiedlichen Interessen der Unternehmer und Arbeitgeber</dc:title>
</cp:coreProperties>
</file>