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FD17-EDA3-4E34-9521-E4F1BCED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EE9C-D969-455B-913B-FDC0729F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FF3-CC14-4E7F-AA90-C1A4E0DF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B240-E5FE-465C-9E36-AF92C70E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70FE-DB09-4F20-BF29-4F7BAAA3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96A6-944A-4F3F-B2BB-F570DA98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1620-D53E-4599-9026-86BCC4C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FFF4-472C-4C07-B5AE-5A51415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8311-C1FC-4435-8FB7-86CE50A0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C5B1-8D81-4384-8824-B27DA2F7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43A1-8FFA-4896-A26C-B33EE7A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E75-E552-4506-B05C-FBE1A36A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C385-F316-4219-88DD-EEE0192A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AEA-3C06-498A-B6D6-17D1AFE5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9CCA-6AFF-49E9-A8E8-B16D861A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C1DD-C3DD-4BE5-9323-BAB507D3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9ABD-5225-4A4B-9467-85C9135F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01A-1A96-4263-94D1-ECAD2F9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2EA8-F003-4EDF-9899-2C984DE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91D-805D-49AC-B888-DAB2E016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880"/>
            <a:ext cx="80010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62B-852A-40B4-8362-E7EE61F9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A57-8CF2-4918-AEB8-A17DCA31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6D6-681C-473E-AA4D-2B3124DB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91E4-01EF-41CB-8ABA-73F95EFD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06CA-BE8E-4851-9419-CBE306B15109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38CE-0E6E-4BD1-B891-AFCBC24B543A}" type="slidenum">
              <a:rPr b="0" lang="de-DE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533520"/>
            <a:ext cx="7925040" cy="1904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Der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Arbeitskampf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09" name="German_t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203364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3429000"/>
            <a:ext cx="6781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Presented by Fachschaft Wirtschaftswissenschaften der Fichtelgebirgsrealschule Marktredwitz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© by O. Brand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1295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lIns="90000" rIns="90000" tIns="118800" bIns="118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nterschiedlichen Interessen der Unternehmer und Arbeitgeb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828800"/>
            <a:ext cx="3124440" cy="39625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1828800"/>
            <a:ext cx="3124080" cy="3962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7a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74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nter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057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beitnehm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stensenk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istungs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scheidungsfreihei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038480"/>
            <a:ext cx="2819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ben nach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hnerhöh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eitszeitverkürz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bestimmu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7242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51814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638680"/>
            <a:ext cx="1752480" cy="0"/>
          </a:xfrm>
          <a:prstGeom prst="line">
            <a:avLst/>
          </a:prstGeom>
          <a:ln w="57240">
            <a:solidFill>
              <a:srgbClr val="f8f8f8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019920"/>
            <a:ext cx="4419720" cy="45972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Interessengegensätze (Konflikte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47920" y="5791320"/>
            <a:ext cx="838080" cy="380880"/>
            <a:chOff x="1447920" y="5791320"/>
            <a:chExt cx="838080" cy="380880"/>
          </a:xfrm>
        </p:grpSpPr>
        <p:sp>
          <p:nvSpPr>
            <p:cNvPr id="123" name=""/>
            <p:cNvSpPr/>
            <p:nvPr/>
          </p:nvSpPr>
          <p:spPr>
            <a:xfrm>
              <a:off x="144792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79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705720" y="5791320"/>
            <a:ext cx="838080" cy="380880"/>
            <a:chOff x="6705720" y="5791320"/>
            <a:chExt cx="838080" cy="380880"/>
          </a:xfrm>
        </p:grpSpPr>
        <p:sp>
          <p:nvSpPr>
            <p:cNvPr id="126" name=""/>
            <p:cNvSpPr/>
            <p:nvPr/>
          </p:nvSpPr>
          <p:spPr>
            <a:xfrm>
              <a:off x="7543800" y="5791320"/>
              <a:ext cx="0" cy="38088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705720" y="6172200"/>
              <a:ext cx="83808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28" name="PE02002_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29" name="PE01846_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048120" cy="133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Interessenvertret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28600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Unter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28600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8f8f8"/>
                </a:solidFill>
                <a:latin typeface="Times New Roman"/>
              </a:rPr>
              <a:t>Arbeitnehmer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8f8f8"/>
                </a:solidFill>
                <a:latin typeface="Times New Roman"/>
              </a:rPr>
              <a:t>Zusammen-schlu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Unter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1295280"/>
            <a:ext cx="3047760" cy="2819160"/>
            <a:chOff x="609480" y="1295280"/>
            <a:chExt cx="3047760" cy="2819160"/>
          </a:xfrm>
        </p:grpSpPr>
        <p:grpSp>
          <p:nvGrpSpPr>
            <p:cNvPr id="136" name=""/>
            <p:cNvGrpSpPr/>
            <p:nvPr/>
          </p:nvGrpSpPr>
          <p:grpSpPr>
            <a:xfrm>
              <a:off x="609480" y="1295280"/>
              <a:ext cx="3047760" cy="2819160"/>
              <a:chOff x="609480" y="1295280"/>
              <a:chExt cx="3047760" cy="2819160"/>
            </a:xfrm>
          </p:grpSpPr>
          <p:sp>
            <p:nvSpPr>
              <p:cNvPr id="137" name=""/>
              <p:cNvSpPr/>
              <p:nvPr/>
            </p:nvSpPr>
            <p:spPr>
              <a:xfrm>
                <a:off x="60948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0596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8200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7812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516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6084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60244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8508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007500"/>
                  </a:gs>
                  <a:gs pos="100000">
                    <a:srgbClr val="00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175248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3623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16765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7400" y="34290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8800" y="1447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9520" y="320040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19320" y="32767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8080" y="2590920"/>
              <a:ext cx="457200" cy="459720"/>
            </a:xfrm>
            <a:prstGeom prst="rect">
              <a:avLst/>
            </a:prstGeom>
            <a:gradFill rotWithShape="0">
              <a:gsLst>
                <a:gs pos="0">
                  <a:srgbClr val="007500"/>
                </a:gs>
                <a:gs pos="100000">
                  <a:srgbClr val="00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2720" y="1295280"/>
            <a:ext cx="3047760" cy="2819160"/>
            <a:chOff x="5562720" y="1295280"/>
            <a:chExt cx="3047760" cy="2819160"/>
          </a:xfrm>
        </p:grpSpPr>
        <p:grpSp>
          <p:nvGrpSpPr>
            <p:cNvPr id="154" name=""/>
            <p:cNvGrpSpPr/>
            <p:nvPr/>
          </p:nvGrpSpPr>
          <p:grpSpPr>
            <a:xfrm>
              <a:off x="5562720" y="1295280"/>
              <a:ext cx="3047760" cy="2819160"/>
              <a:chOff x="5562720" y="1295280"/>
              <a:chExt cx="3047760" cy="2819160"/>
            </a:xfrm>
          </p:grpSpPr>
          <p:sp>
            <p:nvSpPr>
              <p:cNvPr id="155" name=""/>
              <p:cNvSpPr/>
              <p:nvPr/>
            </p:nvSpPr>
            <p:spPr>
              <a:xfrm>
                <a:off x="5562720" y="24231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559200" y="129528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34880" y="33249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731360" y="225396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738400" y="163332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4080" y="3155760"/>
                <a:ext cx="879120" cy="78948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555320" y="304308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438320" y="1520640"/>
                <a:ext cx="879120" cy="789120"/>
              </a:xfrm>
              <a:prstGeom prst="ellipse">
                <a:avLst/>
              </a:prstGeom>
              <a:gradFill rotWithShape="0">
                <a:gsLst>
                  <a:gs pos="0">
                    <a:srgbClr val="7575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943600" y="175248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23623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6765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10280" y="34290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81680" y="1447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72400" y="320040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72200" y="32767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0960" y="2590920"/>
              <a:ext cx="456840" cy="459720"/>
            </a:xfrm>
            <a:prstGeom prst="rect">
              <a:avLst/>
            </a:prstGeom>
            <a:gradFill rotWithShape="0">
              <a:gsLst>
                <a:gs pos="0">
                  <a:srgbClr val="7575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15000" y="4495680"/>
            <a:ext cx="297180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114800"/>
            <a:ext cx="8380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52480" y="495288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4114800"/>
            <a:ext cx="8384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952880"/>
            <a:ext cx="9903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Times New Roman"/>
              </a:rPr>
              <a:t>vertreten die Interessen der Arbeitnehmer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5440" y="449568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- Sozialpartner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52680" y="5105520"/>
            <a:ext cx="457200" cy="1218960"/>
          </a:xfrm>
          <a:custGeom>
            <a:avLst/>
            <a:gdLst>
              <a:gd name="textAreaLeft" fmla="*/ 0 w 457200"/>
              <a:gd name="textAreaRight" fmla="*/ 45756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638680" y="5105520"/>
            <a:ext cx="457200" cy="1218960"/>
          </a:xfrm>
          <a:custGeom>
            <a:avLst/>
            <a:gdLst>
              <a:gd name="textAreaLeft" fmla="*/ 360 w 457200"/>
              <a:gd name="textAreaRight" fmla="*/ 457920 w 457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" y="0"/>
                </a:lnTo>
                <a:lnTo>
                  <a:pt x="21600" y="10800"/>
                </a:lnTo>
                <a:lnTo>
                  <a:pt x="13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51055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Gespräche Verhandlungen oder Kampfmaßnahme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4600" y="533520"/>
            <a:ext cx="3809880" cy="1312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werkschaf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samtmitgliederzahl        ca. 8 300 000 (im Jahr 1973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905120"/>
            <a:ext cx="7696440" cy="1218960"/>
          </a:xfrm>
          <a:prstGeom prst="upArrowCallout">
            <a:avLst>
              <a:gd name="adj1" fmla="val 275091"/>
              <a:gd name="adj2" fmla="val 157848"/>
              <a:gd name="adj3" fmla="val 32972"/>
              <a:gd name="adj4" fmla="val 78079"/>
            </a:avLst>
          </a:prstGeom>
          <a:gradFill rotWithShape="0">
            <a:gsLst>
              <a:gs pos="0">
                <a:srgbClr val="9933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2057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GB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590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tscher Gewerkschaftsbun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3962520"/>
          <a:ext cx="7696440" cy="1295280"/>
        </p:xfrm>
        <a:graphic>
          <a:graphicData uri="http://schemas.openxmlformats.org/drawingml/2006/table">
            <a:tbl>
              <a:tblPr/>
              <a:tblGrid>
                <a:gridCol w="962280"/>
                <a:gridCol w="961920"/>
                <a:gridCol w="961920"/>
                <a:gridCol w="962280"/>
                <a:gridCol w="961920"/>
                <a:gridCol w="961920"/>
                <a:gridCol w="961920"/>
                <a:gridCol w="962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gradFill rotWithShape="0">
                      <a:gsLst>
                        <a:gs pos="0">
                          <a:srgbClr val="db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85800" y="3200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8f8f8"/>
                </a:solidFill>
                <a:latin typeface="Times New Roman"/>
              </a:rPr>
              <a:t>16 Einzelgewerkschaften gegliedert nach Wirtschaftsbereichen  </a:t>
            </a:r>
            <a:r>
              <a:rPr b="0" lang="de-DE" sz="1800" spc="-1" strike="noStrike">
                <a:solidFill>
                  <a:srgbClr val="f8f8f8"/>
                </a:solidFill>
                <a:latin typeface="Times New Roman"/>
              </a:rPr>
              <a:t>IG Metall, Gw ÖTV, IG Chemie-Papier-Keramik, IG Bergbau u. Energie, u. a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5257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onstige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utscher Beamtenbund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5638680"/>
            <a:ext cx="3810240" cy="92340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. Angestelltengewerkschaf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arifverhandlun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0797000">
            <a:off x="685440" y="1294560"/>
            <a:ext cx="546120" cy="4953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eitgeberverbänd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04240" y="1295280"/>
            <a:ext cx="546120" cy="4953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e8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werkschafts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1219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verhandeln über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1828800"/>
            <a:ext cx="3733920" cy="156708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Höhe der                      Löhne und Gehäl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Lohn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3200" y="3581280"/>
            <a:ext cx="3733920" cy="193284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a700a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rbeitszeit, Pausen,   Urlaub, Akkordzuschläge, Kündigung, u. ä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= Manteltarif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213372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476400" y="213372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3855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4038480"/>
            <a:ext cx="1447920" cy="9144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476400" y="4038480"/>
            <a:ext cx="1447560" cy="9144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8e008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5715000"/>
            <a:ext cx="3733920" cy="459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Ergebnis: Tarifverträg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Urabstimm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BD06990_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581280" cy="289584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grpSp>
        <p:nvGrpSpPr>
          <p:cNvPr id="203" name=""/>
          <p:cNvGrpSpPr/>
          <p:nvPr/>
        </p:nvGrpSpPr>
        <p:grpSpPr>
          <a:xfrm>
            <a:off x="4495680" y="1295280"/>
            <a:ext cx="4114800" cy="2669760"/>
            <a:chOff x="4495680" y="1295280"/>
            <a:chExt cx="4114800" cy="2669760"/>
          </a:xfrm>
        </p:grpSpPr>
        <p:pic>
          <p:nvPicPr>
            <p:cNvPr id="204" name="BD06982_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114800" cy="2098800"/>
            </a:xfrm>
            <a:prstGeom prst="rect">
              <a:avLst/>
            </a:prstGeom>
            <a:ln w="57240">
              <a:solidFill>
                <a:srgbClr val="ffff00"/>
              </a:solidFill>
              <a:miter/>
            </a:ln>
          </p:spPr>
        </p:pic>
        <p:sp>
          <p:nvSpPr>
            <p:cNvPr id="205" name=""/>
            <p:cNvSpPr/>
            <p:nvPr/>
          </p:nvSpPr>
          <p:spPr>
            <a:xfrm>
              <a:off x="4949640" y="3505320"/>
              <a:ext cx="325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Gewerkschaftsmitglieder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85800" y="4724280"/>
            <a:ext cx="3048120" cy="13737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540054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cheitern                der Tarifverhandlungen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4419720"/>
            <a:ext cx="3505320" cy="1900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bstimmung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Wenn mehr als 75 % der Wähler zustimm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ikbeschlus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105520"/>
            <a:ext cx="1295280" cy="53316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Mögliche Folg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62120" y="1219320"/>
            <a:ext cx="3657240" cy="2553840"/>
            <a:chOff x="762120" y="1219320"/>
            <a:chExt cx="3657240" cy="2553840"/>
          </a:xfrm>
        </p:grpSpPr>
        <p:pic>
          <p:nvPicPr>
            <p:cNvPr id="211" name="PE01838_" descr=""/>
            <p:cNvPicPr/>
            <p:nvPr/>
          </p:nvPicPr>
          <p:blipFill>
            <a:blip r:embed="rId1"/>
            <a:stretch/>
          </p:blipFill>
          <p:spPr>
            <a:xfrm>
              <a:off x="762120" y="2018880"/>
              <a:ext cx="2090880" cy="17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816920" y="1219320"/>
              <a:ext cx="2602440" cy="92268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50720" y="1280880"/>
              <a:ext cx="15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 Lus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auf Arbeit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33520" y="4191120"/>
            <a:ext cx="312408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nehmer verweigern die Arbei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rei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191120"/>
            <a:ext cx="3276720" cy="1474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eitgeber verweigert den Zugang zum Betrieb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Aussperru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257800" y="1219320"/>
            <a:ext cx="3276720" cy="2666880"/>
            <a:chOff x="5257800" y="1219320"/>
            <a:chExt cx="3276720" cy="2666880"/>
          </a:xfrm>
        </p:grpSpPr>
        <p:sp>
          <p:nvSpPr>
            <p:cNvPr id="217" name=""/>
            <p:cNvSpPr/>
            <p:nvPr/>
          </p:nvSpPr>
          <p:spPr>
            <a:xfrm>
              <a:off x="5932440" y="1219320"/>
              <a:ext cx="2602080" cy="922320"/>
            </a:xfrm>
            <a:prstGeom prst="cloudCallout">
              <a:avLst>
                <a:gd name="adj1" fmla="val -47296"/>
                <a:gd name="adj2" fmla="val 83333"/>
              </a:avLst>
            </a:prstGeo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05400" y="1281240"/>
              <a:ext cx="166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Hier kommt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8f8f8"/>
                  </a:solidFill>
                  <a:latin typeface="Times New Roman"/>
                </a:rPr>
                <a:t>keiner rein.</a:t>
              </a: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219" name="BD05515_" descr=""/>
            <p:cNvPicPr/>
            <p:nvPr/>
          </p:nvPicPr>
          <p:blipFill>
            <a:blip r:embed="rId2"/>
            <a:stretch/>
          </p:blipFill>
          <p:spPr>
            <a:xfrm>
              <a:off x="5257800" y="2286000"/>
              <a:ext cx="1488960" cy="1600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010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Die Schlicht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BD05552_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2057400" cy="169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09480" y="304812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Times New Roman"/>
              </a:rPr>
              <a:t>Berufung eines neutralen Schlichte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295280"/>
            <a:ext cx="2133720" cy="82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erkschafts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3920" y="1295280"/>
            <a:ext cx="2209680" cy="1191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erungen  der Gewerkschaft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00800" y="1295280"/>
            <a:ext cx="2133720" cy="155700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db5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ah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urch beide Parteien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uer Vert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57800"/>
            <a:ext cx="2133720" cy="8254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beitgeber-vertret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9880" y="4876920"/>
            <a:ext cx="2133720" cy="1191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sherige Angebote der Arbeitgeber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4495680"/>
            <a:ext cx="2133360" cy="157212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i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35760" y="34290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blehnu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200400"/>
            <a:ext cx="2133720" cy="8254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8f8f8"/>
                </a:solidFill>
                <a:latin typeface="Times New Roman"/>
              </a:rPr>
              <a:t>Kompromiss-vorschl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2743200" y="1905120"/>
            <a:ext cx="533520" cy="914400"/>
          </a:xfrm>
          <a:custGeom>
            <a:avLst/>
            <a:gdLst>
              <a:gd name="textAreaLeft" fmla="*/ 179640 w 533520"/>
              <a:gd name="textAreaRight" fmla="*/ 44496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0800000">
            <a:off x="3200400" y="1905120"/>
            <a:ext cx="533520" cy="914400"/>
          </a:xfrm>
          <a:custGeom>
            <a:avLst/>
            <a:gdLst>
              <a:gd name="textAreaLeft" fmla="*/ 179280 w 533520"/>
              <a:gd name="textAreaRight" fmla="*/ 444600 w 533520"/>
              <a:gd name="textAreaTop" fmla="*/ 599040 h 914400"/>
              <a:gd name="textAreaBottom" fmla="*/ 762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 rot="10800000">
            <a:off x="2818440" y="4572000"/>
            <a:ext cx="533160" cy="914400"/>
          </a:xfrm>
          <a:custGeom>
            <a:avLst/>
            <a:gdLst>
              <a:gd name="textAreaLeft" fmla="*/ 178920 w 533160"/>
              <a:gd name="textAreaRight" fmla="*/ 44388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 rot="10800000">
            <a:off x="3276360" y="4572000"/>
            <a:ext cx="533160" cy="914400"/>
          </a:xfrm>
          <a:custGeom>
            <a:avLst/>
            <a:gdLst>
              <a:gd name="textAreaLeft" fmla="*/ 179280 w 533160"/>
              <a:gd name="textAreaRight" fmla="*/ 444240 w 533160"/>
              <a:gd name="textAreaTop" fmla="*/ 599400 h 914400"/>
              <a:gd name="textAreaBottom" fmla="*/ 762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3505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 rot="10800000">
            <a:off x="6477120" y="281844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8920 h 685800"/>
              <a:gd name="textAreaBottom" fmla="*/ 5713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8e3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rot="10800000">
            <a:off x="6477120" y="3809520"/>
            <a:ext cx="1371600" cy="685800"/>
          </a:xfrm>
          <a:custGeom>
            <a:avLst/>
            <a:gdLst>
              <a:gd name="textAreaLeft" fmla="*/ 461160 w 1371600"/>
              <a:gd name="textAreaRight" fmla="*/ 1143000 w 1371600"/>
              <a:gd name="textAreaTop" fmla="*/ 449280 h 685800"/>
              <a:gd name="textAreaBottom" fmla="*/ 5716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7751"/>
                </a:moveTo>
                <a:lnTo>
                  <a:pt x="14150" y="17751"/>
                </a:lnTo>
                <a:lnTo>
                  <a:pt x="14150" y="7264"/>
                </a:lnTo>
                <a:lnTo>
                  <a:pt x="10549" y="7264"/>
                </a:lnTo>
                <a:lnTo>
                  <a:pt x="16075" y="0"/>
                </a:lnTo>
                <a:lnTo>
                  <a:pt x="21600" y="7264"/>
                </a:lnTo>
                <a:lnTo>
                  <a:pt x="17999" y="7264"/>
                </a:lnTo>
                <a:lnTo>
                  <a:pt x="1799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9933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German_t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3502080" cy="4724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57600" y="3505320"/>
            <a:ext cx="96372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6212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© by Oliver Brandt</a:t>
            </a:r>
            <a:br>
              <a:rPr sz="1800"/>
            </a:br>
            <a:r>
              <a:rPr b="1" lang="de-DE" sz="1800" spc="-1" strike="noStrike">
                <a:solidFill>
                  <a:srgbClr val="f8f8f8"/>
                </a:solidFill>
                <a:latin typeface="Times New Roman"/>
              </a:rPr>
              <a:t>Fichtelgebirgsrealschule Marktredwitz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7:05:46Z</dcterms:created>
  <dc:creator>fgrs</dc:creator>
  <dc:description/>
  <dc:language>en-US</dc:language>
  <cp:lastModifiedBy>fgrs</cp:lastModifiedBy>
  <dcterms:modified xsi:type="dcterms:W3CDTF">2002-04-02T20:03:26Z</dcterms:modified>
  <cp:revision>31</cp:revision>
  <dc:subject/>
  <dc:title>Die unterschiedlichen Interessen der Unternehmer und Arbeitgeber</dc:title>
</cp:coreProperties>
</file>