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1BFB-FF80-4544-8BE3-CC9376F13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8685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AD35-910A-4265-9DEE-BAAA36E0D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EC1C-5527-423B-B98A-F70C9520D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A47E-47C6-4A90-A0AA-D7E696CFB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CD6E7-8A14-4766-BF4A-8E09910BE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884D2-3237-48BE-B687-B7649E03A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54E3B-3E4B-4625-AA16-8B0A97DCA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D77EE-51A9-474A-AC98-F9D0F215A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68F9B-9358-420B-9AF0-1BF60FBA2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380520" y="380880"/>
            <a:ext cx="80010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349B6-E627-4502-8E64-4FD15C744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CBD39-A11B-446B-8482-C6ED6D3ED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8F5D-1028-4D27-A5BE-41D74FBBC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6848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FA7D6-91E6-4ED2-96FF-C0F68168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38685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2C58A-3702-4EFB-BB49-BF2BCABF6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85800" y="38685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3337B-345B-4D74-ADD8-D19E3F3C1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6848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7B3E6-1C46-4DCA-A116-021ED65D9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31380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4144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8580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31380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94144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1763B-1BB8-47A0-B759-DD3CD1368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E947-9D66-4468-94FB-E9582DFC0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C987-008D-4DF8-B82D-F04C96F57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32EE-00FE-44C9-B2B8-F08CAA572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880"/>
            <a:ext cx="80010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F435-204C-47F6-9AA7-041FA9455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4323-8CF4-4237-A1FF-E135F8F0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3F93-132B-4546-9F72-5FEAFD8DB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8685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23C3-4CCD-483A-889E-AD3ED0E4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4CE38-1EFA-4FD9-9F56-BF771D61AABE}" type="slidenum">
              <a:rPr b="0" lang="de-DE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E029C-9BF8-45CE-937B-FB9B6D863CB9}" type="slidenum">
              <a:rPr b="0" lang="de-DE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09480" y="533520"/>
            <a:ext cx="7925040" cy="19047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ff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ahoma"/>
              </a:rPr>
              <a:t>Der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ahoma"/>
              </a:rPr>
              <a:t>Arbeitskampf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09" name="German_t" descr=""/>
          <p:cNvPicPr/>
          <p:nvPr/>
        </p:nvPicPr>
        <p:blipFill>
          <a:blip r:embed="rId1"/>
          <a:stretch/>
        </p:blipFill>
        <p:spPr>
          <a:xfrm>
            <a:off x="838080" y="3124080"/>
            <a:ext cx="2033640" cy="27432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362320" y="3429000"/>
            <a:ext cx="67816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00"/>
                </a:solidFill>
                <a:latin typeface="Times New Roman"/>
              </a:rPr>
              <a:t>Presented by Fachschaft Wirtschaftswissenschaften der Fichtelgebirgsrealschule Marktredwitz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00"/>
                </a:solidFill>
                <a:latin typeface="Times New Roman"/>
              </a:rPr>
              <a:t>© by O. Brandt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129564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118800" bIns="118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Die unterschiedlichen Interessen der Unternehmer und Arbeitgeb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1828800"/>
            <a:ext cx="3124440" cy="39625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86400" y="1828800"/>
            <a:ext cx="3124080" cy="39625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a7a7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20574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Unternehmer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67280" y="20574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rbeitnehmer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4038480"/>
            <a:ext cx="281916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eben nach: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ostensenkung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istungserhöhung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tscheidungsfreiheit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562720" y="4038480"/>
            <a:ext cx="281916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eben nach: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hnerhöhung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beitszeitverkürzung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bestimmung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733920" y="4724280"/>
            <a:ext cx="1752480" cy="0"/>
          </a:xfrm>
          <a:prstGeom prst="line">
            <a:avLst/>
          </a:prstGeom>
          <a:ln w="57240">
            <a:solidFill>
              <a:srgbClr val="f8f8f8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33920" y="5181480"/>
            <a:ext cx="1752480" cy="0"/>
          </a:xfrm>
          <a:prstGeom prst="line">
            <a:avLst/>
          </a:prstGeom>
          <a:ln w="57240">
            <a:solidFill>
              <a:srgbClr val="f8f8f8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733920" y="5638680"/>
            <a:ext cx="1752480" cy="0"/>
          </a:xfrm>
          <a:prstGeom prst="line">
            <a:avLst/>
          </a:prstGeom>
          <a:ln w="57240">
            <a:solidFill>
              <a:srgbClr val="f8f8f8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0" y="6019920"/>
            <a:ext cx="4419720" cy="45972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Interessengegensätze (Konflikte)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447920" y="5791320"/>
            <a:ext cx="838080" cy="380880"/>
            <a:chOff x="1447920" y="5791320"/>
            <a:chExt cx="838080" cy="380880"/>
          </a:xfrm>
        </p:grpSpPr>
        <p:sp>
          <p:nvSpPr>
            <p:cNvPr id="123" name=""/>
            <p:cNvSpPr/>
            <p:nvPr/>
          </p:nvSpPr>
          <p:spPr>
            <a:xfrm>
              <a:off x="1447920" y="5791320"/>
              <a:ext cx="0" cy="380880"/>
            </a:xfrm>
            <a:prstGeom prst="line">
              <a:avLst/>
            </a:prstGeom>
            <a:ln w="381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447920" y="6172200"/>
              <a:ext cx="838080" cy="0"/>
            </a:xfrm>
            <a:prstGeom prst="line">
              <a:avLst/>
            </a:prstGeom>
            <a:ln w="38160">
              <a:solidFill>
                <a:srgbClr val="f8f8f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705720" y="5791320"/>
            <a:ext cx="838080" cy="380880"/>
            <a:chOff x="6705720" y="5791320"/>
            <a:chExt cx="838080" cy="380880"/>
          </a:xfrm>
        </p:grpSpPr>
        <p:sp>
          <p:nvSpPr>
            <p:cNvPr id="126" name=""/>
            <p:cNvSpPr/>
            <p:nvPr/>
          </p:nvSpPr>
          <p:spPr>
            <a:xfrm>
              <a:off x="7543800" y="5791320"/>
              <a:ext cx="0" cy="380880"/>
            </a:xfrm>
            <a:prstGeom prst="line">
              <a:avLst/>
            </a:prstGeom>
            <a:ln w="381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6705720" y="6172200"/>
              <a:ext cx="838080" cy="0"/>
            </a:xfrm>
            <a:prstGeom prst="line">
              <a:avLst/>
            </a:prstGeom>
            <a:ln w="38160">
              <a:solidFill>
                <a:srgbClr val="f8f8f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pic>
        <p:nvPicPr>
          <p:cNvPr id="128" name="PE02002_" descr=""/>
          <p:cNvPicPr/>
          <p:nvPr/>
        </p:nvPicPr>
        <p:blipFill>
          <a:blip r:embed="rId1"/>
          <a:stretch/>
        </p:blipFill>
        <p:spPr>
          <a:xfrm>
            <a:off x="6172200" y="2438280"/>
            <a:ext cx="1674720" cy="1676520"/>
          </a:xfrm>
          <a:prstGeom prst="rect">
            <a:avLst/>
          </a:prstGeom>
          <a:ln w="0">
            <a:noFill/>
          </a:ln>
        </p:spPr>
      </p:pic>
      <p:pic>
        <p:nvPicPr>
          <p:cNvPr id="129" name="PE01846_" descr=""/>
          <p:cNvPicPr/>
          <p:nvPr/>
        </p:nvPicPr>
        <p:blipFill>
          <a:blip r:embed="rId2"/>
          <a:stretch/>
        </p:blipFill>
        <p:spPr>
          <a:xfrm>
            <a:off x="685800" y="2590920"/>
            <a:ext cx="3048120" cy="1339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7621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Interessenvertretunge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1447920" y="2286000"/>
            <a:ext cx="14475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8f8f8"/>
                </a:solidFill>
                <a:latin typeface="Times New Roman"/>
              </a:rPr>
              <a:t>Unternehmer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8f8f8"/>
                </a:solidFill>
                <a:latin typeface="Times New Roman"/>
              </a:rPr>
              <a:t>Zusammen-schlus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324480" y="2286000"/>
            <a:ext cx="14479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8f8f8"/>
                </a:solidFill>
                <a:latin typeface="Times New Roman"/>
              </a:rPr>
              <a:t>Arbeitnehmer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8f8f8"/>
                </a:solidFill>
                <a:latin typeface="Times New Roman"/>
              </a:rPr>
              <a:t>Zusammen-schlus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4495680"/>
            <a:ext cx="2971800" cy="4597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beitgeberverbänd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90720" y="5638680"/>
            <a:ext cx="243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Times New Roman"/>
              </a:rPr>
              <a:t>vertreten die Interessen der Unternehmer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609480" y="1295280"/>
            <a:ext cx="3047760" cy="2819160"/>
            <a:chOff x="609480" y="1295280"/>
            <a:chExt cx="3047760" cy="2819160"/>
          </a:xfrm>
        </p:grpSpPr>
        <p:grpSp>
          <p:nvGrpSpPr>
            <p:cNvPr id="136" name=""/>
            <p:cNvGrpSpPr/>
            <p:nvPr/>
          </p:nvGrpSpPr>
          <p:grpSpPr>
            <a:xfrm>
              <a:off x="609480" y="1295280"/>
              <a:ext cx="3047760" cy="2819160"/>
              <a:chOff x="609480" y="1295280"/>
              <a:chExt cx="3047760" cy="2819160"/>
            </a:xfrm>
          </p:grpSpPr>
          <p:sp>
            <p:nvSpPr>
              <p:cNvPr id="137" name=""/>
              <p:cNvSpPr/>
              <p:nvPr/>
            </p:nvSpPr>
            <p:spPr>
              <a:xfrm>
                <a:off x="609480" y="2423160"/>
                <a:ext cx="879120" cy="789120"/>
              </a:xfrm>
              <a:prstGeom prst="ellipse">
                <a:avLst/>
              </a:prstGeom>
              <a:gradFill rotWithShape="0">
                <a:gsLst>
                  <a:gs pos="0">
                    <a:srgbClr val="007500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605960" y="1295280"/>
                <a:ext cx="879120" cy="789480"/>
              </a:xfrm>
              <a:prstGeom prst="ellipse">
                <a:avLst/>
              </a:prstGeom>
              <a:gradFill rotWithShape="0">
                <a:gsLst>
                  <a:gs pos="0">
                    <a:srgbClr val="007500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782000" y="3324960"/>
                <a:ext cx="879120" cy="789480"/>
              </a:xfrm>
              <a:prstGeom prst="ellipse">
                <a:avLst/>
              </a:prstGeom>
              <a:gradFill rotWithShape="0">
                <a:gsLst>
                  <a:gs pos="0">
                    <a:srgbClr val="007500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778120" y="2253960"/>
                <a:ext cx="879120" cy="789120"/>
              </a:xfrm>
              <a:prstGeom prst="ellipse">
                <a:avLst/>
              </a:prstGeom>
              <a:gradFill rotWithShape="0">
                <a:gsLst>
                  <a:gs pos="0">
                    <a:srgbClr val="007500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85160" y="1633320"/>
                <a:ext cx="879120" cy="789480"/>
              </a:xfrm>
              <a:prstGeom prst="ellipse">
                <a:avLst/>
              </a:prstGeom>
              <a:gradFill rotWithShape="0">
                <a:gsLst>
                  <a:gs pos="0">
                    <a:srgbClr val="007500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960840" y="3155760"/>
                <a:ext cx="879120" cy="789480"/>
              </a:xfrm>
              <a:prstGeom prst="ellipse">
                <a:avLst/>
              </a:prstGeom>
              <a:gradFill rotWithShape="0">
                <a:gsLst>
                  <a:gs pos="0">
                    <a:srgbClr val="007500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602440" y="3043080"/>
                <a:ext cx="879120" cy="789120"/>
              </a:xfrm>
              <a:prstGeom prst="ellipse">
                <a:avLst/>
              </a:prstGeom>
              <a:gradFill rotWithShape="0">
                <a:gsLst>
                  <a:gs pos="0">
                    <a:srgbClr val="007500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485080" y="1520640"/>
                <a:ext cx="879120" cy="789120"/>
              </a:xfrm>
              <a:prstGeom prst="ellipse">
                <a:avLst/>
              </a:prstGeom>
              <a:gradFill rotWithShape="0">
                <a:gsLst>
                  <a:gs pos="0">
                    <a:srgbClr val="007500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990720" y="1752480"/>
              <a:ext cx="457200" cy="45972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71800" y="2362320"/>
              <a:ext cx="457200" cy="45972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43200" y="1676520"/>
              <a:ext cx="457200" cy="45972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057400" y="3429000"/>
              <a:ext cx="457200" cy="45972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828800" y="1447920"/>
              <a:ext cx="457200" cy="45972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19520" y="3200400"/>
              <a:ext cx="457200" cy="45972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219320" y="3276720"/>
              <a:ext cx="457200" cy="45972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38080" y="2590920"/>
              <a:ext cx="457200" cy="45972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5562720" y="1295280"/>
            <a:ext cx="3047760" cy="2819160"/>
            <a:chOff x="5562720" y="1295280"/>
            <a:chExt cx="3047760" cy="2819160"/>
          </a:xfrm>
        </p:grpSpPr>
        <p:grpSp>
          <p:nvGrpSpPr>
            <p:cNvPr id="154" name=""/>
            <p:cNvGrpSpPr/>
            <p:nvPr/>
          </p:nvGrpSpPr>
          <p:grpSpPr>
            <a:xfrm>
              <a:off x="5562720" y="1295280"/>
              <a:ext cx="3047760" cy="2819160"/>
              <a:chOff x="5562720" y="1295280"/>
              <a:chExt cx="3047760" cy="2819160"/>
            </a:xfrm>
          </p:grpSpPr>
          <p:sp>
            <p:nvSpPr>
              <p:cNvPr id="155" name=""/>
              <p:cNvSpPr/>
              <p:nvPr/>
            </p:nvSpPr>
            <p:spPr>
              <a:xfrm>
                <a:off x="5562720" y="2423160"/>
                <a:ext cx="879120" cy="789120"/>
              </a:xfrm>
              <a:prstGeom prst="ellipse">
                <a:avLst/>
              </a:prstGeom>
              <a:gradFill rotWithShape="0">
                <a:gsLst>
                  <a:gs pos="0">
                    <a:srgbClr val="7575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559200" y="1295280"/>
                <a:ext cx="879120" cy="789480"/>
              </a:xfrm>
              <a:prstGeom prst="ellipse">
                <a:avLst/>
              </a:prstGeom>
              <a:gradFill rotWithShape="0">
                <a:gsLst>
                  <a:gs pos="0">
                    <a:srgbClr val="7575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734880" y="3324960"/>
                <a:ext cx="879120" cy="789480"/>
              </a:xfrm>
              <a:prstGeom prst="ellipse">
                <a:avLst/>
              </a:prstGeom>
              <a:gradFill rotWithShape="0">
                <a:gsLst>
                  <a:gs pos="0">
                    <a:srgbClr val="7575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731360" y="2253960"/>
                <a:ext cx="879120" cy="789120"/>
              </a:xfrm>
              <a:prstGeom prst="ellipse">
                <a:avLst/>
              </a:prstGeom>
              <a:gradFill rotWithShape="0">
                <a:gsLst>
                  <a:gs pos="0">
                    <a:srgbClr val="7575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738400" y="1633320"/>
                <a:ext cx="879120" cy="789480"/>
              </a:xfrm>
              <a:prstGeom prst="ellipse">
                <a:avLst/>
              </a:prstGeom>
              <a:gradFill rotWithShape="0">
                <a:gsLst>
                  <a:gs pos="0">
                    <a:srgbClr val="7575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914080" y="3155760"/>
                <a:ext cx="879120" cy="789480"/>
              </a:xfrm>
              <a:prstGeom prst="ellipse">
                <a:avLst/>
              </a:prstGeom>
              <a:gradFill rotWithShape="0">
                <a:gsLst>
                  <a:gs pos="0">
                    <a:srgbClr val="7575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555320" y="3043080"/>
                <a:ext cx="879120" cy="789120"/>
              </a:xfrm>
              <a:prstGeom prst="ellipse">
                <a:avLst/>
              </a:prstGeom>
              <a:gradFill rotWithShape="0">
                <a:gsLst>
                  <a:gs pos="0">
                    <a:srgbClr val="7575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438320" y="1520640"/>
                <a:ext cx="879120" cy="789120"/>
              </a:xfrm>
              <a:prstGeom prst="ellipse">
                <a:avLst/>
              </a:prstGeom>
              <a:gradFill rotWithShape="0">
                <a:gsLst>
                  <a:gs pos="0">
                    <a:srgbClr val="7575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>
              <a:off x="5943600" y="1752480"/>
              <a:ext cx="456840" cy="459720"/>
            </a:xfrm>
            <a:prstGeom prst="rect">
              <a:avLst/>
            </a:prstGeom>
            <a:gradFill rotWithShape="0">
              <a:gsLst>
                <a:gs pos="0">
                  <a:srgbClr val="7575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924680" y="2362320"/>
              <a:ext cx="456840" cy="459720"/>
            </a:xfrm>
            <a:prstGeom prst="rect">
              <a:avLst/>
            </a:prstGeom>
            <a:gradFill rotWithShape="0">
              <a:gsLst>
                <a:gs pos="0">
                  <a:srgbClr val="7575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696080" y="1676520"/>
              <a:ext cx="456840" cy="459720"/>
            </a:xfrm>
            <a:prstGeom prst="rect">
              <a:avLst/>
            </a:prstGeom>
            <a:gradFill rotWithShape="0">
              <a:gsLst>
                <a:gs pos="0">
                  <a:srgbClr val="7575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010280" y="3429000"/>
              <a:ext cx="456840" cy="459720"/>
            </a:xfrm>
            <a:prstGeom prst="rect">
              <a:avLst/>
            </a:prstGeom>
            <a:gradFill rotWithShape="0">
              <a:gsLst>
                <a:gs pos="0">
                  <a:srgbClr val="7575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781680" y="1447920"/>
              <a:ext cx="456840" cy="459720"/>
            </a:xfrm>
            <a:prstGeom prst="rect">
              <a:avLst/>
            </a:prstGeom>
            <a:gradFill rotWithShape="0">
              <a:gsLst>
                <a:gs pos="0">
                  <a:srgbClr val="7575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772400" y="3200400"/>
              <a:ext cx="456840" cy="459720"/>
            </a:xfrm>
            <a:prstGeom prst="rect">
              <a:avLst/>
            </a:prstGeom>
            <a:gradFill rotWithShape="0">
              <a:gsLst>
                <a:gs pos="0">
                  <a:srgbClr val="7575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172200" y="3276720"/>
              <a:ext cx="456840" cy="459720"/>
            </a:xfrm>
            <a:prstGeom prst="rect">
              <a:avLst/>
            </a:prstGeom>
            <a:gradFill rotWithShape="0">
              <a:gsLst>
                <a:gs pos="0">
                  <a:srgbClr val="7575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790960" y="2590920"/>
              <a:ext cx="456840" cy="459720"/>
            </a:xfrm>
            <a:prstGeom prst="rect">
              <a:avLst/>
            </a:prstGeom>
            <a:gradFill rotWithShape="0">
              <a:gsLst>
                <a:gs pos="0">
                  <a:srgbClr val="7575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5715000" y="4495680"/>
            <a:ext cx="2971800" cy="4597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8e8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werkschafte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828800" y="4114800"/>
            <a:ext cx="8380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52480" y="4952880"/>
            <a:ext cx="9907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81680" y="4114800"/>
            <a:ext cx="83844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05720" y="4952880"/>
            <a:ext cx="9903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19920" y="5638680"/>
            <a:ext cx="243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Times New Roman"/>
              </a:rPr>
              <a:t>vertreten die Interessen der Arbeitnehmer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655440" y="4495680"/>
            <a:ext cx="21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- Sozialpartner -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352680" y="5105520"/>
            <a:ext cx="457200" cy="1218960"/>
          </a:xfrm>
          <a:custGeom>
            <a:avLst/>
            <a:gdLst>
              <a:gd name="textAreaLeft" fmla="*/ 0 w 457200"/>
              <a:gd name="textAreaRight" fmla="*/ 457560 w 45720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" y="0"/>
                </a:lnTo>
                <a:lnTo>
                  <a:pt x="21600" y="10800"/>
                </a:lnTo>
                <a:lnTo>
                  <a:pt x="13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638680" y="5105520"/>
            <a:ext cx="457200" cy="1218960"/>
          </a:xfrm>
          <a:custGeom>
            <a:avLst/>
            <a:gdLst>
              <a:gd name="textAreaLeft" fmla="*/ 360 w 457200"/>
              <a:gd name="textAreaRight" fmla="*/ 457920 w 45720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" y="0"/>
                </a:lnTo>
                <a:lnTo>
                  <a:pt x="21600" y="10800"/>
                </a:lnTo>
                <a:lnTo>
                  <a:pt x="13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9880" y="5105520"/>
            <a:ext cx="1752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Times New Roman"/>
              </a:rPr>
              <a:t>Gespräche Verhandlungen oder Kampfmaßnahme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514600" y="533520"/>
            <a:ext cx="3809880" cy="1312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werkschaft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esamtmitgliederzahl        ca. 8 300 000 (im Jahr 1973)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1905120"/>
            <a:ext cx="7696440" cy="1218960"/>
          </a:xfrm>
          <a:prstGeom prst="upArrowCallout">
            <a:avLst>
              <a:gd name="adj1" fmla="val 275091"/>
              <a:gd name="adj2" fmla="val 157848"/>
              <a:gd name="adj3" fmla="val 32972"/>
              <a:gd name="adj4" fmla="val 78079"/>
            </a:avLst>
          </a:prstGeom>
          <a:gradFill rotWithShape="0">
            <a:gsLst>
              <a:gs pos="0">
                <a:srgbClr val="9933ff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33920" y="20574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GB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14600" y="25909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utscher Gewerkschaftsbund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609480" y="3962520"/>
          <a:ext cx="7696440" cy="1295280"/>
        </p:xfrm>
        <a:graphic>
          <a:graphicData uri="http://schemas.openxmlformats.org/drawingml/2006/table">
            <a:tbl>
              <a:tblPr/>
              <a:tblGrid>
                <a:gridCol w="962280"/>
                <a:gridCol w="961920"/>
                <a:gridCol w="961920"/>
                <a:gridCol w="962280"/>
                <a:gridCol w="961920"/>
                <a:gridCol w="961920"/>
                <a:gridCol w="961920"/>
                <a:gridCol w="96228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gradFill rotWithShape="0">
                      <a:gsLst>
                        <a:gs pos="0">
                          <a:srgbClr val="db0000"/>
                        </a:gs>
                        <a:gs pos="100000">
                          <a:srgbClr val="ff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gradFill rotWithShape="0">
                      <a:gsLst>
                        <a:gs pos="0">
                          <a:srgbClr val="db0000"/>
                        </a:gs>
                        <a:gs pos="100000">
                          <a:srgbClr val="ff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gradFill rotWithShape="0">
                      <a:gsLst>
                        <a:gs pos="0">
                          <a:srgbClr val="db0000"/>
                        </a:gs>
                        <a:gs pos="100000">
                          <a:srgbClr val="ff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gradFill rotWithShape="0">
                      <a:gsLst>
                        <a:gs pos="0">
                          <a:srgbClr val="db0000"/>
                        </a:gs>
                        <a:gs pos="100000">
                          <a:srgbClr val="ff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gradFill rotWithShape="0">
                      <a:gsLst>
                        <a:gs pos="0">
                          <a:srgbClr val="db0000"/>
                        </a:gs>
                        <a:gs pos="100000">
                          <a:srgbClr val="ff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gradFill rotWithShape="0">
                      <a:gsLst>
                        <a:gs pos="0">
                          <a:srgbClr val="db0000"/>
                        </a:gs>
                        <a:gs pos="100000">
                          <a:srgbClr val="ff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gradFill rotWithShape="0">
                      <a:gsLst>
                        <a:gs pos="0">
                          <a:srgbClr val="db0000"/>
                        </a:gs>
                        <a:gs pos="100000">
                          <a:srgbClr val="ff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gradFill rotWithShape="0">
                      <a:gsLst>
                        <a:gs pos="0">
                          <a:srgbClr val="db0000"/>
                        </a:gs>
                        <a:gs pos="100000">
                          <a:srgbClr val="ff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gradFill rotWithShape="0">
                      <a:gsLst>
                        <a:gs pos="0">
                          <a:srgbClr val="db0000"/>
                        </a:gs>
                        <a:gs pos="100000">
                          <a:srgbClr val="ff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gradFill rotWithShape="0">
                      <a:gsLst>
                        <a:gs pos="0">
                          <a:srgbClr val="db0000"/>
                        </a:gs>
                        <a:gs pos="100000">
                          <a:srgbClr val="ff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gradFill rotWithShape="0">
                      <a:gsLst>
                        <a:gs pos="0">
                          <a:srgbClr val="db0000"/>
                        </a:gs>
                        <a:gs pos="100000">
                          <a:srgbClr val="ff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gradFill rotWithShape="0">
                      <a:gsLst>
                        <a:gs pos="0">
                          <a:srgbClr val="db0000"/>
                        </a:gs>
                        <a:gs pos="100000">
                          <a:srgbClr val="ff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gradFill rotWithShape="0">
                      <a:gsLst>
                        <a:gs pos="0">
                          <a:srgbClr val="db0000"/>
                        </a:gs>
                        <a:gs pos="100000">
                          <a:srgbClr val="ff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gradFill rotWithShape="0">
                      <a:gsLst>
                        <a:gs pos="0">
                          <a:srgbClr val="db0000"/>
                        </a:gs>
                        <a:gs pos="100000">
                          <a:srgbClr val="ff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gradFill rotWithShape="0">
                      <a:gsLst>
                        <a:gs pos="0">
                          <a:srgbClr val="db0000"/>
                        </a:gs>
                        <a:gs pos="100000">
                          <a:srgbClr val="ff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gradFill rotWithShape="0">
                      <a:gsLst>
                        <a:gs pos="0">
                          <a:srgbClr val="db0000"/>
                        </a:gs>
                        <a:gs pos="100000">
                          <a:srgbClr val="ff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>
            <a:off x="685800" y="320040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8f8f8"/>
                </a:solidFill>
                <a:latin typeface="Times New Roman"/>
              </a:rPr>
              <a:t>16 Einzelgewerkschaften gegliedert nach Wirtschaftsbereichen  </a:t>
            </a:r>
            <a:r>
              <a:rPr b="0" lang="de-DE" sz="1800" spc="-1" strike="noStrike">
                <a:solidFill>
                  <a:srgbClr val="f8f8f8"/>
                </a:solidFill>
                <a:latin typeface="Times New Roman"/>
              </a:rPr>
              <a:t>IG Metall, Gw ÖTV, IG Chemie-Papier-Keramik, IG Bergbau u. Energie, u. a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5257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Sonstige: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5638680"/>
            <a:ext cx="3810240" cy="9234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0075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B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utscher Beamtenbund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95680" y="5638680"/>
            <a:ext cx="3810240" cy="923400"/>
          </a:xfrm>
          <a:prstGeom prst="rect">
            <a:avLst/>
          </a:prstGeom>
          <a:gradFill rotWithShape="0">
            <a:gsLst>
              <a:gs pos="0">
                <a:srgbClr val="007575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G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t. Angestelltengewerkschaft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Tarifverhandlunge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 rot="10797000">
            <a:off x="685440" y="1294560"/>
            <a:ext cx="546120" cy="495324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beitgeberverbänd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004240" y="1295280"/>
            <a:ext cx="546120" cy="49532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8e8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werkschaftsvertreter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12193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verhandeln über: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743200" y="1828800"/>
            <a:ext cx="3733920" cy="15670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38558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Höhe der                      Löhne und Gehälter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= Lohntarif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743200" y="3581280"/>
            <a:ext cx="3733920" cy="193284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100000">
                <a:srgbClr val="a700a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Arbeitszeit, Pausen,   Urlaub, Akkordzuschläge, Kündigung, u. ä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= Manteltarif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95280" y="2133720"/>
            <a:ext cx="1447920" cy="9144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38558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6476400" y="2133720"/>
            <a:ext cx="1447560" cy="9144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38558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95280" y="4038480"/>
            <a:ext cx="1447920" cy="9144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00ff"/>
              </a:gs>
              <a:gs pos="100000">
                <a:srgbClr val="8e008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6476400" y="4038480"/>
            <a:ext cx="1447560" cy="9144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00ff"/>
              </a:gs>
              <a:gs pos="100000">
                <a:srgbClr val="8e008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743200" y="5715000"/>
            <a:ext cx="3733920" cy="4597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Ergebnis: Tarifverträg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Die Urabstimmu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2" name="BD06990_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3581280" cy="289584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grpSp>
        <p:nvGrpSpPr>
          <p:cNvPr id="203" name=""/>
          <p:cNvGrpSpPr/>
          <p:nvPr/>
        </p:nvGrpSpPr>
        <p:grpSpPr>
          <a:xfrm>
            <a:off x="4495680" y="1295280"/>
            <a:ext cx="4114800" cy="2669760"/>
            <a:chOff x="4495680" y="1295280"/>
            <a:chExt cx="4114800" cy="2669760"/>
          </a:xfrm>
        </p:grpSpPr>
        <p:pic>
          <p:nvPicPr>
            <p:cNvPr id="204" name="BD06982_" descr=""/>
            <p:cNvPicPr/>
            <p:nvPr/>
          </p:nvPicPr>
          <p:blipFill>
            <a:blip r:embed="rId2"/>
            <a:stretch/>
          </p:blipFill>
          <p:spPr>
            <a:xfrm>
              <a:off x="4495680" y="1295280"/>
              <a:ext cx="4114800" cy="2098800"/>
            </a:xfrm>
            <a:prstGeom prst="rect">
              <a:avLst/>
            </a:prstGeom>
            <a:ln w="57240">
              <a:solidFill>
                <a:srgbClr val="ffff00"/>
              </a:solidFill>
              <a:miter/>
            </a:ln>
          </p:spPr>
        </p:pic>
        <p:sp>
          <p:nvSpPr>
            <p:cNvPr id="205" name=""/>
            <p:cNvSpPr/>
            <p:nvPr/>
          </p:nvSpPr>
          <p:spPr>
            <a:xfrm>
              <a:off x="4949640" y="3505320"/>
              <a:ext cx="325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8f8f8"/>
                  </a:solidFill>
                  <a:latin typeface="Times New Roman"/>
                </a:rPr>
                <a:t>Gewerkschaftsmitglieder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685800" y="4724280"/>
            <a:ext cx="3048120" cy="1373760"/>
          </a:xfrm>
          <a:prstGeom prst="rect">
            <a:avLst/>
          </a:prstGeom>
          <a:gradFill rotWithShape="0">
            <a:gsLst>
              <a:gs pos="0">
                <a:srgbClr val="800080"/>
              </a:gs>
              <a:gs pos="100000">
                <a:srgbClr val="5400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Scheitern                der Tarifverhandlungen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029200" y="4419720"/>
            <a:ext cx="3505320" cy="1900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rabstimmung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Wenn mehr als 75 % der Wähler zustimme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ikbeschlus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733920" y="5105520"/>
            <a:ext cx="1295280" cy="53316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685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Mögliche Folge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762120" y="1219320"/>
            <a:ext cx="3657240" cy="2553840"/>
            <a:chOff x="762120" y="1219320"/>
            <a:chExt cx="3657240" cy="2553840"/>
          </a:xfrm>
        </p:grpSpPr>
        <p:pic>
          <p:nvPicPr>
            <p:cNvPr id="211" name="PE01838_" descr=""/>
            <p:cNvPicPr/>
            <p:nvPr/>
          </p:nvPicPr>
          <p:blipFill>
            <a:blip r:embed="rId1"/>
            <a:stretch/>
          </p:blipFill>
          <p:spPr>
            <a:xfrm>
              <a:off x="762120" y="2018880"/>
              <a:ext cx="2090880" cy="17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1816920" y="1219320"/>
              <a:ext cx="2602440" cy="922680"/>
            </a:xfrm>
            <a:prstGeom prst="cloudCallout">
              <a:avLst>
                <a:gd name="adj1" fmla="val -47296"/>
                <a:gd name="adj2" fmla="val 83333"/>
              </a:avLst>
            </a:prstGeom>
            <a:noFill/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250720" y="1280880"/>
              <a:ext cx="1527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8f8f8"/>
                  </a:solidFill>
                  <a:latin typeface="Times New Roman"/>
                </a:rPr>
                <a:t>Keine Lust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8f8f8"/>
                  </a:solidFill>
                  <a:latin typeface="Times New Roman"/>
                </a:rPr>
                <a:t>auf Arbeit.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533520" y="4191120"/>
            <a:ext cx="3124080" cy="1474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33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beitnehmer verweigern die Arbeit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Streik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029200" y="4191120"/>
            <a:ext cx="3276720" cy="1474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beitgeber verweigert den Zugang zum Betrieb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Aussperrung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257800" y="1219320"/>
            <a:ext cx="3276720" cy="2666880"/>
            <a:chOff x="5257800" y="1219320"/>
            <a:chExt cx="3276720" cy="2666880"/>
          </a:xfrm>
        </p:grpSpPr>
        <p:sp>
          <p:nvSpPr>
            <p:cNvPr id="217" name=""/>
            <p:cNvSpPr/>
            <p:nvPr/>
          </p:nvSpPr>
          <p:spPr>
            <a:xfrm>
              <a:off x="5932440" y="1219320"/>
              <a:ext cx="2602080" cy="922320"/>
            </a:xfrm>
            <a:prstGeom prst="cloudCallout">
              <a:avLst>
                <a:gd name="adj1" fmla="val -47296"/>
                <a:gd name="adj2" fmla="val 83333"/>
              </a:avLst>
            </a:prstGeom>
            <a:noFill/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305400" y="1281240"/>
              <a:ext cx="1665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8f8f8"/>
                  </a:solidFill>
                  <a:latin typeface="Times New Roman"/>
                </a:rPr>
                <a:t>Hier kommt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8f8f8"/>
                  </a:solidFill>
                  <a:latin typeface="Times New Roman"/>
                </a:rPr>
                <a:t>keiner rein.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pic>
          <p:nvPicPr>
            <p:cNvPr id="219" name="BD05515_" descr=""/>
            <p:cNvPicPr/>
            <p:nvPr/>
          </p:nvPicPr>
          <p:blipFill>
            <a:blip r:embed="rId2"/>
            <a:stretch/>
          </p:blipFill>
          <p:spPr>
            <a:xfrm>
              <a:off x="5257800" y="2286000"/>
              <a:ext cx="1488960" cy="1600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685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Die Schlichtu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1" name="BD05552_" descr=""/>
          <p:cNvPicPr/>
          <p:nvPr/>
        </p:nvPicPr>
        <p:blipFill>
          <a:blip r:embed="rId1"/>
          <a:stretch/>
        </p:blipFill>
        <p:spPr>
          <a:xfrm>
            <a:off x="1905120" y="2743200"/>
            <a:ext cx="2057400" cy="1690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609480" y="3048120"/>
            <a:ext cx="12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Times New Roman"/>
              </a:rPr>
              <a:t>Berufung eines neutralen Schlichte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9480" y="1295280"/>
            <a:ext cx="2133720" cy="8254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a8a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ewerkschafts-vertreter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733920" y="1295280"/>
            <a:ext cx="2209680" cy="11912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a8a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derungen  der Gewerkschafte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00800" y="1295280"/>
            <a:ext cx="2133720" cy="1557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db57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nah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urch beide Parteien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uer Vertrag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5257800"/>
            <a:ext cx="2133720" cy="8254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a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rbeitgeber-vertreter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9880" y="4876920"/>
            <a:ext cx="2133720" cy="119124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a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sherige Angebote der Arbeitgeber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477120" y="4495680"/>
            <a:ext cx="2133360" cy="157212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eik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935760" y="342900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Ablehnung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267080" y="3200400"/>
            <a:ext cx="2133720" cy="82548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8f8f8"/>
                </a:solidFill>
                <a:latin typeface="Times New Roman"/>
              </a:rPr>
              <a:t>Kompromiss-vorschlag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 rot="10800000">
            <a:off x="2743200" y="1905120"/>
            <a:ext cx="533520" cy="914400"/>
          </a:xfrm>
          <a:custGeom>
            <a:avLst/>
            <a:gdLst>
              <a:gd name="textAreaLeft" fmla="*/ 179640 w 533520"/>
              <a:gd name="textAreaRight" fmla="*/ 444960 w 533520"/>
              <a:gd name="textAreaTop" fmla="*/ 599040 h 914400"/>
              <a:gd name="textAreaBottom" fmla="*/ 7621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7751"/>
                </a:moveTo>
                <a:lnTo>
                  <a:pt x="14150" y="17751"/>
                </a:lnTo>
                <a:lnTo>
                  <a:pt x="14150" y="7264"/>
                </a:lnTo>
                <a:lnTo>
                  <a:pt x="10549" y="7264"/>
                </a:lnTo>
                <a:lnTo>
                  <a:pt x="16075" y="0"/>
                </a:lnTo>
                <a:lnTo>
                  <a:pt x="21600" y="7264"/>
                </a:lnTo>
                <a:lnTo>
                  <a:pt x="17999" y="7264"/>
                </a:lnTo>
                <a:lnTo>
                  <a:pt x="17999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rot="10800000">
            <a:off x="3200400" y="1905120"/>
            <a:ext cx="533520" cy="914400"/>
          </a:xfrm>
          <a:custGeom>
            <a:avLst/>
            <a:gdLst>
              <a:gd name="textAreaLeft" fmla="*/ 179280 w 533520"/>
              <a:gd name="textAreaRight" fmla="*/ 444600 w 533520"/>
              <a:gd name="textAreaTop" fmla="*/ 599040 h 914400"/>
              <a:gd name="textAreaBottom" fmla="*/ 7621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7751"/>
                </a:moveTo>
                <a:lnTo>
                  <a:pt x="14150" y="17751"/>
                </a:lnTo>
                <a:lnTo>
                  <a:pt x="14150" y="7264"/>
                </a:lnTo>
                <a:lnTo>
                  <a:pt x="10549" y="7264"/>
                </a:lnTo>
                <a:lnTo>
                  <a:pt x="16075" y="0"/>
                </a:lnTo>
                <a:lnTo>
                  <a:pt x="21600" y="7264"/>
                </a:lnTo>
                <a:lnTo>
                  <a:pt x="17999" y="7264"/>
                </a:lnTo>
                <a:lnTo>
                  <a:pt x="17999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 flipV="1" rot="10800000">
            <a:off x="2818440" y="4572000"/>
            <a:ext cx="533160" cy="914400"/>
          </a:xfrm>
          <a:custGeom>
            <a:avLst/>
            <a:gdLst>
              <a:gd name="textAreaLeft" fmla="*/ 178920 w 533160"/>
              <a:gd name="textAreaRight" fmla="*/ 443880 w 533160"/>
              <a:gd name="textAreaTop" fmla="*/ 599400 h 914400"/>
              <a:gd name="textAreaBottom" fmla="*/ 76248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7751"/>
                </a:moveTo>
                <a:lnTo>
                  <a:pt x="14150" y="17751"/>
                </a:lnTo>
                <a:lnTo>
                  <a:pt x="14150" y="7264"/>
                </a:lnTo>
                <a:lnTo>
                  <a:pt x="10549" y="7264"/>
                </a:lnTo>
                <a:lnTo>
                  <a:pt x="16075" y="0"/>
                </a:lnTo>
                <a:lnTo>
                  <a:pt x="21600" y="7264"/>
                </a:lnTo>
                <a:lnTo>
                  <a:pt x="17999" y="7264"/>
                </a:lnTo>
                <a:lnTo>
                  <a:pt x="17999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 rot="10800000">
            <a:off x="3276360" y="4572000"/>
            <a:ext cx="533160" cy="914400"/>
          </a:xfrm>
          <a:custGeom>
            <a:avLst/>
            <a:gdLst>
              <a:gd name="textAreaLeft" fmla="*/ 179280 w 533160"/>
              <a:gd name="textAreaRight" fmla="*/ 444240 w 533160"/>
              <a:gd name="textAreaTop" fmla="*/ 599400 h 914400"/>
              <a:gd name="textAreaBottom" fmla="*/ 76248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7751"/>
                </a:moveTo>
                <a:lnTo>
                  <a:pt x="14150" y="17751"/>
                </a:lnTo>
                <a:lnTo>
                  <a:pt x="14150" y="7264"/>
                </a:lnTo>
                <a:lnTo>
                  <a:pt x="10549" y="7264"/>
                </a:lnTo>
                <a:lnTo>
                  <a:pt x="16075" y="0"/>
                </a:lnTo>
                <a:lnTo>
                  <a:pt x="21600" y="7264"/>
                </a:lnTo>
                <a:lnTo>
                  <a:pt x="17999" y="7264"/>
                </a:lnTo>
                <a:lnTo>
                  <a:pt x="17999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76720" y="3505320"/>
            <a:ext cx="990360" cy="304560"/>
          </a:xfrm>
          <a:custGeom>
            <a:avLst/>
            <a:gdLst>
              <a:gd name="textAreaLeft" fmla="*/ 154800 w 990360"/>
              <a:gd name="textAreaRight" fmla="*/ 866880 w 99036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 flipV="1" rot="10800000">
            <a:off x="6477120" y="2818440"/>
            <a:ext cx="1371600" cy="685800"/>
          </a:xfrm>
          <a:custGeom>
            <a:avLst/>
            <a:gdLst>
              <a:gd name="textAreaLeft" fmla="*/ 461160 w 1371600"/>
              <a:gd name="textAreaRight" fmla="*/ 1143000 w 1371600"/>
              <a:gd name="textAreaTop" fmla="*/ 448920 h 685800"/>
              <a:gd name="textAreaBottom" fmla="*/ 5713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7751"/>
                </a:moveTo>
                <a:lnTo>
                  <a:pt x="14150" y="17751"/>
                </a:lnTo>
                <a:lnTo>
                  <a:pt x="14150" y="7264"/>
                </a:lnTo>
                <a:lnTo>
                  <a:pt x="10549" y="7264"/>
                </a:lnTo>
                <a:lnTo>
                  <a:pt x="16075" y="0"/>
                </a:lnTo>
                <a:lnTo>
                  <a:pt x="21600" y="7264"/>
                </a:lnTo>
                <a:lnTo>
                  <a:pt x="17999" y="7264"/>
                </a:lnTo>
                <a:lnTo>
                  <a:pt x="17999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8e3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 rot="10800000">
            <a:off x="6477120" y="3809520"/>
            <a:ext cx="1371600" cy="685800"/>
          </a:xfrm>
          <a:custGeom>
            <a:avLst/>
            <a:gdLst>
              <a:gd name="textAreaLeft" fmla="*/ 461160 w 1371600"/>
              <a:gd name="textAreaRight" fmla="*/ 1143000 w 1371600"/>
              <a:gd name="textAreaTop" fmla="*/ 449280 h 685800"/>
              <a:gd name="textAreaBottom" fmla="*/ 57168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7751"/>
                </a:moveTo>
                <a:lnTo>
                  <a:pt x="14150" y="17751"/>
                </a:lnTo>
                <a:lnTo>
                  <a:pt x="14150" y="7264"/>
                </a:lnTo>
                <a:lnTo>
                  <a:pt x="10549" y="7264"/>
                </a:lnTo>
                <a:lnTo>
                  <a:pt x="16075" y="0"/>
                </a:lnTo>
                <a:lnTo>
                  <a:pt x="21600" y="7264"/>
                </a:lnTo>
                <a:lnTo>
                  <a:pt x="17999" y="7264"/>
                </a:lnTo>
                <a:lnTo>
                  <a:pt x="17999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German_t" descr=""/>
          <p:cNvPicPr/>
          <p:nvPr/>
        </p:nvPicPr>
        <p:blipFill>
          <a:blip r:embed="rId1"/>
          <a:stretch/>
        </p:blipFill>
        <p:spPr>
          <a:xfrm>
            <a:off x="2895480" y="533520"/>
            <a:ext cx="3502080" cy="47242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3657600" y="3505320"/>
            <a:ext cx="963720" cy="13716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762120" y="51814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8f8f8"/>
                </a:solidFill>
                <a:latin typeface="Times New Roman"/>
              </a:rPr>
              <a:t>© by Oliver Brandt</a:t>
            </a:r>
            <a:br>
              <a:rPr sz="1800"/>
            </a:br>
            <a:r>
              <a:rPr b="1" lang="de-DE" sz="1800" spc="-1" strike="noStrike">
                <a:solidFill>
                  <a:srgbClr val="f8f8f8"/>
                </a:solidFill>
                <a:latin typeface="Times New Roman"/>
              </a:rPr>
              <a:t>Fichtelgebirgsrealschule Marktredwitz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1T17:05:46Z</dcterms:created>
  <dc:creator>fgrs</dc:creator>
  <dc:description/>
  <dc:language>en-US</dc:language>
  <cp:lastModifiedBy>fgrs</cp:lastModifiedBy>
  <dcterms:modified xsi:type="dcterms:W3CDTF">2002-04-02T20:03:26Z</dcterms:modified>
  <cp:revision>31</cp:revision>
  <dc:subject/>
  <dc:title>Die unterschiedlichen Interessen der Unternehmer und Arbeitgeber</dc:title>
</cp:coreProperties>
</file>