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365-1F7F-466B-9181-1690ED29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9A89-EC73-4869-8128-83FAE8B2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CA59-DB39-4DB7-8C53-F984ECC2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2076-FC8A-483D-BE7F-B71AB8F7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9C4E-F83B-4120-9D10-0D9A16A6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BDEE-BF0E-48A1-91C6-EF56FA71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2D6F-B1A9-432B-957B-EB75085D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2B20-81C7-497C-84AF-2AF0F760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85A8-D2B3-4FE0-9E9C-4ED790D6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8001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E510-DC37-4C96-8D0A-7669D217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B6D1-FEC8-4DB4-BEB9-6BB1181E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362-4CB5-4C13-B667-68E5BDA0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79C1-C4C3-4A3F-A177-808C3F2C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D876-D1C0-48B6-9A9F-59809112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BFAD-7E37-486A-A756-D8F42483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9B9B-1BE1-4E3E-B05F-5CB2ABE4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8A6B-0BCB-4683-96C1-A351527E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4733-0968-47C9-A392-F5C20454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32C9-29B1-405F-8401-9FAFC647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2AF-4A4E-4604-AB70-B819155A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8001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662-4724-4C60-A70B-BBFFDA8D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5D28-906A-4F03-BEE0-3119DC4B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2396-6A91-42E3-9106-C9362F9C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6DB9-F073-4C37-A52C-96F40C11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5962-8FD4-4FB1-B145-E165DFD25799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FC98-06D9-4691-A932-86A11532952E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533520"/>
            <a:ext cx="7925040" cy="1904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Der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Arbeitskampf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09" name="German_t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2033640" cy="2743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362320" y="3429000"/>
            <a:ext cx="67816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Presented by Fachschaft Wirtschaftswissenschaften der Fichtelgebirgsrealschule Marktredwitz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© by O. Brand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1295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118800" bIns="118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Die unterschiedlichen Interessen der Unternehmer und Arbeitge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828800"/>
            <a:ext cx="3124440" cy="39625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1828800"/>
            <a:ext cx="3124080" cy="3962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7a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057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nternehm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2057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beitnehm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038480"/>
            <a:ext cx="2819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ben nach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stensenk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istungserhöh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scheidungsfreihei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4038480"/>
            <a:ext cx="2819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ben nach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hnerhöh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beitszeitverkürz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bestimm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724280"/>
            <a:ext cx="1752480" cy="0"/>
          </a:xfrm>
          <a:prstGeom prst="line">
            <a:avLst/>
          </a:prstGeom>
          <a:ln w="57240">
            <a:solidFill>
              <a:srgbClr val="f8f8f8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5181480"/>
            <a:ext cx="1752480" cy="0"/>
          </a:xfrm>
          <a:prstGeom prst="line">
            <a:avLst/>
          </a:prstGeom>
          <a:ln w="57240">
            <a:solidFill>
              <a:srgbClr val="f8f8f8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5638680"/>
            <a:ext cx="1752480" cy="0"/>
          </a:xfrm>
          <a:prstGeom prst="line">
            <a:avLst/>
          </a:prstGeom>
          <a:ln w="57240">
            <a:solidFill>
              <a:srgbClr val="f8f8f8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6019920"/>
            <a:ext cx="4419720" cy="459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Interessengegensätze (Konflikte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447920" y="5791320"/>
            <a:ext cx="838080" cy="380880"/>
            <a:chOff x="1447920" y="5791320"/>
            <a:chExt cx="838080" cy="380880"/>
          </a:xfrm>
        </p:grpSpPr>
        <p:sp>
          <p:nvSpPr>
            <p:cNvPr id="123" name=""/>
            <p:cNvSpPr/>
            <p:nvPr/>
          </p:nvSpPr>
          <p:spPr>
            <a:xfrm>
              <a:off x="1447920" y="5791320"/>
              <a:ext cx="0" cy="38088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7920" y="6172200"/>
              <a:ext cx="838080" cy="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705720" y="5791320"/>
            <a:ext cx="838080" cy="380880"/>
            <a:chOff x="6705720" y="5791320"/>
            <a:chExt cx="838080" cy="380880"/>
          </a:xfrm>
        </p:grpSpPr>
        <p:sp>
          <p:nvSpPr>
            <p:cNvPr id="126" name=""/>
            <p:cNvSpPr/>
            <p:nvPr/>
          </p:nvSpPr>
          <p:spPr>
            <a:xfrm>
              <a:off x="7543800" y="5791320"/>
              <a:ext cx="0" cy="38088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705720" y="6172200"/>
              <a:ext cx="838080" cy="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pic>
        <p:nvPicPr>
          <p:cNvPr id="128" name="PE02002_" descr=""/>
          <p:cNvPicPr/>
          <p:nvPr/>
        </p:nvPicPr>
        <p:blipFill>
          <a:blip r:embed="rId1"/>
          <a:stretch/>
        </p:blipFill>
        <p:spPr>
          <a:xfrm>
            <a:off x="6172200" y="2438280"/>
            <a:ext cx="1674720" cy="1676520"/>
          </a:xfrm>
          <a:prstGeom prst="rect">
            <a:avLst/>
          </a:prstGeom>
          <a:ln w="0">
            <a:noFill/>
          </a:ln>
        </p:spPr>
      </p:pic>
      <p:pic>
        <p:nvPicPr>
          <p:cNvPr id="129" name="PE01846_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3048120" cy="133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7621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Interessenvertretung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2286000"/>
            <a:ext cx="14475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8f8f8"/>
                </a:solidFill>
                <a:latin typeface="Times New Roman"/>
              </a:rPr>
              <a:t>Unternehmer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8f8f8"/>
                </a:solidFill>
                <a:latin typeface="Times New Roman"/>
              </a:rPr>
              <a:t>Zusammen-schlus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2286000"/>
            <a:ext cx="1447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8f8f8"/>
                </a:solidFill>
                <a:latin typeface="Times New Roman"/>
              </a:rPr>
              <a:t>Arbeitnehmer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8f8f8"/>
                </a:solidFill>
                <a:latin typeface="Times New Roman"/>
              </a:rPr>
              <a:t>Zusammen-schlus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495680"/>
            <a:ext cx="2971800" cy="4597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eitgeberverbänd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56386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Times New Roman"/>
              </a:rPr>
              <a:t>vertreten die Interessen der Unternehmer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09480" y="1295280"/>
            <a:ext cx="3047760" cy="2819160"/>
            <a:chOff x="609480" y="1295280"/>
            <a:chExt cx="3047760" cy="2819160"/>
          </a:xfrm>
        </p:grpSpPr>
        <p:grpSp>
          <p:nvGrpSpPr>
            <p:cNvPr id="136" name=""/>
            <p:cNvGrpSpPr/>
            <p:nvPr/>
          </p:nvGrpSpPr>
          <p:grpSpPr>
            <a:xfrm>
              <a:off x="609480" y="1295280"/>
              <a:ext cx="3047760" cy="2819160"/>
              <a:chOff x="609480" y="1295280"/>
              <a:chExt cx="3047760" cy="2819160"/>
            </a:xfrm>
          </p:grpSpPr>
          <p:sp>
            <p:nvSpPr>
              <p:cNvPr id="137" name=""/>
              <p:cNvSpPr/>
              <p:nvPr/>
            </p:nvSpPr>
            <p:spPr>
              <a:xfrm>
                <a:off x="609480" y="242316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05960" y="129528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82000" y="332496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78120" y="225396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85160" y="163332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60840" y="315576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02440" y="304308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485080" y="152064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990720" y="175248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3623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43200" y="16765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57400" y="342900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28800" y="14479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19520" y="320040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32767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25909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2720" y="1295280"/>
            <a:ext cx="3047760" cy="2819160"/>
            <a:chOff x="5562720" y="1295280"/>
            <a:chExt cx="3047760" cy="2819160"/>
          </a:xfrm>
        </p:grpSpPr>
        <p:grpSp>
          <p:nvGrpSpPr>
            <p:cNvPr id="154" name=""/>
            <p:cNvGrpSpPr/>
            <p:nvPr/>
          </p:nvGrpSpPr>
          <p:grpSpPr>
            <a:xfrm>
              <a:off x="5562720" y="1295280"/>
              <a:ext cx="3047760" cy="2819160"/>
              <a:chOff x="5562720" y="1295280"/>
              <a:chExt cx="3047760" cy="2819160"/>
            </a:xfrm>
          </p:grpSpPr>
          <p:sp>
            <p:nvSpPr>
              <p:cNvPr id="155" name=""/>
              <p:cNvSpPr/>
              <p:nvPr/>
            </p:nvSpPr>
            <p:spPr>
              <a:xfrm>
                <a:off x="5562720" y="242316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559200" y="129528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34880" y="332496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731360" y="225396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738400" y="163332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14080" y="315576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555320" y="304308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438320" y="152064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5943600" y="175248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23623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96080" y="16765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10280" y="342900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81680" y="14479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72400" y="320040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72200" y="32767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0960" y="25909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715000" y="4495680"/>
            <a:ext cx="297180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e8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werkschaft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4114800"/>
            <a:ext cx="8380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4952880"/>
            <a:ext cx="9907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81680" y="4114800"/>
            <a:ext cx="8384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952880"/>
            <a:ext cx="9903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56386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Times New Roman"/>
              </a:rPr>
              <a:t>vertreten die Interessen der Arbeitnehmer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5440" y="449568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- Sozialpartner -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52680" y="5105520"/>
            <a:ext cx="457200" cy="1218960"/>
          </a:xfrm>
          <a:custGeom>
            <a:avLst/>
            <a:gdLst>
              <a:gd name="textAreaLeft" fmla="*/ 0 w 457200"/>
              <a:gd name="textAreaRight" fmla="*/ 457560 w 457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" y="0"/>
                </a:lnTo>
                <a:lnTo>
                  <a:pt x="21600" y="10800"/>
                </a:lnTo>
                <a:lnTo>
                  <a:pt x="13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638680" y="5105520"/>
            <a:ext cx="457200" cy="1218960"/>
          </a:xfrm>
          <a:custGeom>
            <a:avLst/>
            <a:gdLst>
              <a:gd name="textAreaLeft" fmla="*/ 360 w 457200"/>
              <a:gd name="textAreaRight" fmla="*/ 457920 w 457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" y="0"/>
                </a:lnTo>
                <a:lnTo>
                  <a:pt x="21600" y="10800"/>
                </a:lnTo>
                <a:lnTo>
                  <a:pt x="13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5105520"/>
            <a:ext cx="1752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Gespräche Verhandlungen oder Kampfmaßnahme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14600" y="533520"/>
            <a:ext cx="3809880" cy="1312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werkschaf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samtmitgliederzahl        ca. 8 300 000 (im Jahr 1973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905120"/>
            <a:ext cx="7696440" cy="1218960"/>
          </a:xfrm>
          <a:prstGeom prst="upArrowCallout">
            <a:avLst>
              <a:gd name="adj1" fmla="val 275091"/>
              <a:gd name="adj2" fmla="val 157848"/>
              <a:gd name="adj3" fmla="val 32972"/>
              <a:gd name="adj4" fmla="val 78079"/>
            </a:avLst>
          </a:prstGeom>
          <a:gradFill rotWithShape="0">
            <a:gsLst>
              <a:gs pos="0">
                <a:srgbClr val="9933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2057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GB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2590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tscher Gewerkschaftsbun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9480" y="3962520"/>
          <a:ext cx="7696440" cy="1295280"/>
        </p:xfrm>
        <a:graphic>
          <a:graphicData uri="http://schemas.openxmlformats.org/drawingml/2006/table">
            <a:tbl>
              <a:tblPr/>
              <a:tblGrid>
                <a:gridCol w="962280"/>
                <a:gridCol w="961920"/>
                <a:gridCol w="961920"/>
                <a:gridCol w="962280"/>
                <a:gridCol w="961920"/>
                <a:gridCol w="961920"/>
                <a:gridCol w="961920"/>
                <a:gridCol w="962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685800" y="32004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8f8f8"/>
                </a:solidFill>
                <a:latin typeface="Times New Roman"/>
              </a:rPr>
              <a:t>16 Einzelgewerkschaften gegliedert nach Wirtschaftsbereichen  </a:t>
            </a:r>
            <a:r>
              <a:rPr b="0" lang="de-DE" sz="1800" spc="-1" strike="noStrike">
                <a:solidFill>
                  <a:srgbClr val="f8f8f8"/>
                </a:solidFill>
                <a:latin typeface="Times New Roman"/>
              </a:rPr>
              <a:t>IG Metall, Gw ÖTV, IG Chemie-Papier-Keramik, IG Bergbau u. Energie, u. a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5257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onstige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5638680"/>
            <a:ext cx="3810240" cy="9234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B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utscher Beamtenbund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5638680"/>
            <a:ext cx="3810240" cy="9234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. Angestelltengewerkschaf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arifverhandlung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 rot="10797000">
            <a:off x="685440" y="1294560"/>
            <a:ext cx="546120" cy="49532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beitgeberverbänd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04240" y="1295280"/>
            <a:ext cx="546120" cy="4953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e8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werkschaftsvertre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1219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verhandeln über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1828800"/>
            <a:ext cx="3733920" cy="1567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3855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Höhe der                      Löhne und Gehäl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= Lohntarif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3581280"/>
            <a:ext cx="3733920" cy="193284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a700a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rbeitszeit, Pausen,   Urlaub, Akkordzuschläge, Kündigung, u. ä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= Manteltarif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2133720"/>
            <a:ext cx="1447920" cy="9144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3855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476400" y="2133720"/>
            <a:ext cx="1447560" cy="9144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3855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4038480"/>
            <a:ext cx="1447920" cy="9144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100000">
                <a:srgbClr val="8e00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476400" y="4038480"/>
            <a:ext cx="1447560" cy="9144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100000">
                <a:srgbClr val="8e00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5715000"/>
            <a:ext cx="3733920" cy="459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Ergebnis: Tarifverträg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Die Urabstimmu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BD06990_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3581280" cy="28958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grpSp>
        <p:nvGrpSpPr>
          <p:cNvPr id="203" name=""/>
          <p:cNvGrpSpPr/>
          <p:nvPr/>
        </p:nvGrpSpPr>
        <p:grpSpPr>
          <a:xfrm>
            <a:off x="4495680" y="1295280"/>
            <a:ext cx="4114800" cy="2669760"/>
            <a:chOff x="4495680" y="1295280"/>
            <a:chExt cx="4114800" cy="2669760"/>
          </a:xfrm>
        </p:grpSpPr>
        <p:pic>
          <p:nvPicPr>
            <p:cNvPr id="204" name="BD06982_" descr=""/>
            <p:cNvPicPr/>
            <p:nvPr/>
          </p:nvPicPr>
          <p:blipFill>
            <a:blip r:embed="rId2"/>
            <a:stretch/>
          </p:blipFill>
          <p:spPr>
            <a:xfrm>
              <a:off x="4495680" y="1295280"/>
              <a:ext cx="4114800" cy="2098800"/>
            </a:xfrm>
            <a:prstGeom prst="rect">
              <a:avLst/>
            </a:prstGeom>
            <a:ln w="57240">
              <a:solidFill>
                <a:srgbClr val="ffff00"/>
              </a:solidFill>
              <a:miter/>
            </a:ln>
          </p:spPr>
        </p:pic>
        <p:sp>
          <p:nvSpPr>
            <p:cNvPr id="205" name=""/>
            <p:cNvSpPr/>
            <p:nvPr/>
          </p:nvSpPr>
          <p:spPr>
            <a:xfrm>
              <a:off x="4949640" y="3505320"/>
              <a:ext cx="325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Gewerkschaftsmitglieder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85800" y="4724280"/>
            <a:ext cx="3048120" cy="137376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5400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cheitern                der Tarifverhandlunge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4419720"/>
            <a:ext cx="3505320" cy="1900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bstimmung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Wenn mehr als 75 % der Wähler zustimm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ikbeschlus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5105520"/>
            <a:ext cx="1295280" cy="53316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Mögliche Folg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62120" y="1219320"/>
            <a:ext cx="3657240" cy="2553840"/>
            <a:chOff x="762120" y="1219320"/>
            <a:chExt cx="3657240" cy="2553840"/>
          </a:xfrm>
        </p:grpSpPr>
        <p:pic>
          <p:nvPicPr>
            <p:cNvPr id="211" name="PE01838_" descr=""/>
            <p:cNvPicPr/>
            <p:nvPr/>
          </p:nvPicPr>
          <p:blipFill>
            <a:blip r:embed="rId1"/>
            <a:stretch/>
          </p:blipFill>
          <p:spPr>
            <a:xfrm>
              <a:off x="762120" y="2018880"/>
              <a:ext cx="2090880" cy="17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816920" y="1219320"/>
              <a:ext cx="2602440" cy="922680"/>
            </a:xfrm>
            <a:prstGeom prst="cloudCallout">
              <a:avLst>
                <a:gd name="adj1" fmla="val -47296"/>
                <a:gd name="adj2" fmla="val 83333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50720" y="1280880"/>
              <a:ext cx="152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Keine Lust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auf Arbeit.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33520" y="4191120"/>
            <a:ext cx="3124080" cy="147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eitnehmer verweigern die Arbei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Streik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191120"/>
            <a:ext cx="3276720" cy="147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eitgeber verweigert den Zugang zum Betrieb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Aussperru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257800" y="1219320"/>
            <a:ext cx="3276720" cy="2666880"/>
            <a:chOff x="5257800" y="1219320"/>
            <a:chExt cx="3276720" cy="2666880"/>
          </a:xfrm>
        </p:grpSpPr>
        <p:sp>
          <p:nvSpPr>
            <p:cNvPr id="217" name=""/>
            <p:cNvSpPr/>
            <p:nvPr/>
          </p:nvSpPr>
          <p:spPr>
            <a:xfrm>
              <a:off x="5932440" y="1219320"/>
              <a:ext cx="2602080" cy="922320"/>
            </a:xfrm>
            <a:prstGeom prst="cloudCallout">
              <a:avLst>
                <a:gd name="adj1" fmla="val -47296"/>
                <a:gd name="adj2" fmla="val 83333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05400" y="1281240"/>
              <a:ext cx="166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Hier kommt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keiner rein.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219" name="BD05515_" descr=""/>
            <p:cNvPicPr/>
            <p:nvPr/>
          </p:nvPicPr>
          <p:blipFill>
            <a:blip r:embed="rId2"/>
            <a:stretch/>
          </p:blipFill>
          <p:spPr>
            <a:xfrm>
              <a:off x="5257800" y="2286000"/>
              <a:ext cx="148896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Die Schlichtu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BD05552_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2057400" cy="169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9480" y="30481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Berufung eines neutralen Schlichte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295280"/>
            <a:ext cx="2133720" cy="825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werkschafts-vertre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1295280"/>
            <a:ext cx="220968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erungen  der Gewerkschaft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00800" y="1295280"/>
            <a:ext cx="2133720" cy="1557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db5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ah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ch beide Parteien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uer Vertr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5257800"/>
            <a:ext cx="2133720" cy="8254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beitgeber-vertre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4876920"/>
            <a:ext cx="2133720" cy="11912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sherige Angebote der Arbeitgeb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7120" y="4495680"/>
            <a:ext cx="2133360" cy="15721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i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35760" y="34290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blehnu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3200400"/>
            <a:ext cx="2133720" cy="8254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8f8f8"/>
                </a:solidFill>
                <a:latin typeface="Times New Roman"/>
              </a:rPr>
              <a:t>Kompromiss-vorschl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rot="10800000">
            <a:off x="2743200" y="1905120"/>
            <a:ext cx="533520" cy="914400"/>
          </a:xfrm>
          <a:custGeom>
            <a:avLst/>
            <a:gdLst>
              <a:gd name="textAreaLeft" fmla="*/ 179640 w 533520"/>
              <a:gd name="textAreaRight" fmla="*/ 444960 w 533520"/>
              <a:gd name="textAreaTop" fmla="*/ 599040 h 914400"/>
              <a:gd name="textAreaBottom" fmla="*/ 762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3200400" y="1905120"/>
            <a:ext cx="533520" cy="914400"/>
          </a:xfrm>
          <a:custGeom>
            <a:avLst/>
            <a:gdLst>
              <a:gd name="textAreaLeft" fmla="*/ 179280 w 533520"/>
              <a:gd name="textAreaRight" fmla="*/ 444600 w 533520"/>
              <a:gd name="textAreaTop" fmla="*/ 599040 h 914400"/>
              <a:gd name="textAreaBottom" fmla="*/ 762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 rot="10800000">
            <a:off x="2818440" y="4572000"/>
            <a:ext cx="533160" cy="914400"/>
          </a:xfrm>
          <a:custGeom>
            <a:avLst/>
            <a:gdLst>
              <a:gd name="textAreaLeft" fmla="*/ 178920 w 533160"/>
              <a:gd name="textAreaRight" fmla="*/ 443880 w 533160"/>
              <a:gd name="textAreaTop" fmla="*/ 599400 h 914400"/>
              <a:gd name="textAreaBottom" fmla="*/ 762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 rot="10800000">
            <a:off x="3276360" y="4572000"/>
            <a:ext cx="533160" cy="914400"/>
          </a:xfrm>
          <a:custGeom>
            <a:avLst/>
            <a:gdLst>
              <a:gd name="textAreaLeft" fmla="*/ 179280 w 533160"/>
              <a:gd name="textAreaRight" fmla="*/ 444240 w 533160"/>
              <a:gd name="textAreaTop" fmla="*/ 599400 h 914400"/>
              <a:gd name="textAreaBottom" fmla="*/ 762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3505320"/>
            <a:ext cx="990360" cy="304560"/>
          </a:xfrm>
          <a:custGeom>
            <a:avLst/>
            <a:gdLst>
              <a:gd name="textAreaLeft" fmla="*/ 154800 w 990360"/>
              <a:gd name="textAreaRight" fmla="*/ 866880 w 9903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 rot="10800000">
            <a:off x="6477120" y="2818440"/>
            <a:ext cx="1371600" cy="685800"/>
          </a:xfrm>
          <a:custGeom>
            <a:avLst/>
            <a:gdLst>
              <a:gd name="textAreaLeft" fmla="*/ 461160 w 1371600"/>
              <a:gd name="textAreaRight" fmla="*/ 1143000 w 1371600"/>
              <a:gd name="textAreaTop" fmla="*/ 448920 h 685800"/>
              <a:gd name="textAreaBottom" fmla="*/ 5713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8e3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rot="10800000">
            <a:off x="6477120" y="3809520"/>
            <a:ext cx="1371600" cy="685800"/>
          </a:xfrm>
          <a:custGeom>
            <a:avLst/>
            <a:gdLst>
              <a:gd name="textAreaLeft" fmla="*/ 461160 w 1371600"/>
              <a:gd name="textAreaRight" fmla="*/ 1143000 w 1371600"/>
              <a:gd name="textAreaTop" fmla="*/ 449280 h 685800"/>
              <a:gd name="textAreaBottom" fmla="*/ 5716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German_t" descr=""/>
          <p:cNvPicPr/>
          <p:nvPr/>
        </p:nvPicPr>
        <p:blipFill>
          <a:blip r:embed="rId1"/>
          <a:stretch/>
        </p:blipFill>
        <p:spPr>
          <a:xfrm>
            <a:off x="2895480" y="533520"/>
            <a:ext cx="3502080" cy="4724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657600" y="3505320"/>
            <a:ext cx="963720" cy="137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62120" y="5181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8f8f8"/>
                </a:solidFill>
                <a:latin typeface="Times New Roman"/>
              </a:rPr>
              <a:t>© by Oliver Brandt</a:t>
            </a:r>
            <a:br>
              <a:rPr sz="1800"/>
            </a:br>
            <a:r>
              <a:rPr b="1" lang="de-DE" sz="1800" spc="-1" strike="noStrike">
                <a:solidFill>
                  <a:srgbClr val="f8f8f8"/>
                </a:solidFill>
                <a:latin typeface="Times New Roman"/>
              </a:rPr>
              <a:t>Fichtelgebirgsrealschule Marktredwitz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17:05:46Z</dcterms:created>
  <dc:creator>fgrs</dc:creator>
  <dc:description/>
  <dc:language>en-US</dc:language>
  <cp:lastModifiedBy>fgrs</cp:lastModifiedBy>
  <dcterms:modified xsi:type="dcterms:W3CDTF">2002-04-02T20:03:26Z</dcterms:modified>
  <cp:revision>31</cp:revision>
  <dc:subject/>
  <dc:title>Die unterschiedlichen Interessen der Unternehmer und Arbeitgeber</dc:title>
</cp:coreProperties>
</file>