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B7F-ABB0-4742-9B79-759D7E4C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390-29C2-489C-82A3-EF08A9A0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FC2-B290-4EB4-B608-FAA6F6DA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8ED-4DD4-4BE9-B753-0E2CBB35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57A-CA98-4748-A2B5-6991DD07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2B46-3EEF-41D4-B240-37B624D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E822-C344-48AB-A2FB-736841CA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BDF-70D3-47F8-9AF7-56635CB3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2377-3207-4FF7-8A1F-E0363EF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CB61-8096-4505-B958-79E1EBE8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766C-6827-4990-9E23-ACEE826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956-54E2-4025-909D-4E2A2A3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A96-9239-4523-8E8C-814D22A7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4719-C315-43DF-9333-5E42E517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E49E-3467-4729-8B50-68C2B880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E46F-FDAD-4A72-8DD5-C8EE5214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29BE-A646-4993-B89A-4BE5046F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D12-2AFA-4472-A9D1-1A52FFFF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BE7-D462-4434-B512-8591BFBB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E66-A72B-46E9-9C76-E13517AB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859-B931-4572-BEEC-787FC664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D7E-CFDC-436C-9449-1C0793B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11E-5993-451F-96FA-8E979AEF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D23-DBB9-4BE7-8295-F568B14A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F46-6FC5-484D-B2E4-FBFBA6B72CCA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3B7E-D5E4-4FA3-87C1-BD17002850A5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792504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beitskampf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9" name="German_t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03364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34290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295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118800" bIns="118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nterschiedlichen Interessen der Unternehmer und Arbeitge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28800"/>
            <a:ext cx="3124440" cy="3962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828800"/>
            <a:ext cx="3124080" cy="3962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7a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ter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beit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stensenk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stungs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scheidungsfreihei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hn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eitszeitverkürz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bestimm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7242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6386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essengegensätze (Konflikt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5791320"/>
            <a:ext cx="838080" cy="380880"/>
            <a:chOff x="1447920" y="5791320"/>
            <a:chExt cx="838080" cy="380880"/>
          </a:xfrm>
        </p:grpSpPr>
        <p:sp>
          <p:nvSpPr>
            <p:cNvPr id="123" name=""/>
            <p:cNvSpPr/>
            <p:nvPr/>
          </p:nvSpPr>
          <p:spPr>
            <a:xfrm>
              <a:off x="144792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05720" y="5791320"/>
            <a:ext cx="838080" cy="380880"/>
            <a:chOff x="6705720" y="5791320"/>
            <a:chExt cx="838080" cy="380880"/>
          </a:xfrm>
        </p:grpSpPr>
        <p:sp>
          <p:nvSpPr>
            <p:cNvPr id="126" name=""/>
            <p:cNvSpPr/>
            <p:nvPr/>
          </p:nvSpPr>
          <p:spPr>
            <a:xfrm>
              <a:off x="754380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7057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8" name="PE02002_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PE01846_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04812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teressenvertret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28600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Unter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28600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Arbeit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Unter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295280"/>
            <a:ext cx="3047760" cy="2819160"/>
            <a:chOff x="609480" y="1295280"/>
            <a:chExt cx="3047760" cy="2819160"/>
          </a:xfrm>
        </p:grpSpPr>
        <p:grpSp>
          <p:nvGrpSpPr>
            <p:cNvPr id="136" name=""/>
            <p:cNvGrpSpPr/>
            <p:nvPr/>
          </p:nvGrpSpPr>
          <p:grpSpPr>
            <a:xfrm>
              <a:off x="609480" y="1295280"/>
              <a:ext cx="3047760" cy="2819160"/>
              <a:chOff x="609480" y="1295280"/>
              <a:chExt cx="3047760" cy="2819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0596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200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812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516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6084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0244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508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175248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23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16765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7400" y="34290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447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32004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2767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2590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295280"/>
            <a:ext cx="3047760" cy="2819160"/>
            <a:chOff x="5562720" y="1295280"/>
            <a:chExt cx="3047760" cy="28191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1295280"/>
              <a:ext cx="3047760" cy="2819160"/>
              <a:chOff x="5562720" y="1295280"/>
              <a:chExt cx="3047760" cy="2819160"/>
            </a:xfrm>
          </p:grpSpPr>
          <p:sp>
            <p:nvSpPr>
              <p:cNvPr id="155" name=""/>
              <p:cNvSpPr/>
              <p:nvPr/>
            </p:nvSpPr>
            <p:spPr>
              <a:xfrm>
                <a:off x="556272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920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488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3136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840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408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5532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3832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43600" y="175248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23623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6765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4290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1447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2004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2767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2590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14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95288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1148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952880"/>
            <a:ext cx="990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Arbeit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5440" y="4495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Sozialpartner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055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38680" y="5105520"/>
            <a:ext cx="457200" cy="121896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1055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Gespräche Verhandlungen oder Kampfmaßnahme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533520"/>
            <a:ext cx="380988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samtmitgliederzahl        ca. 8 300 000 (im Jahr 1973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7696440" cy="1218960"/>
          </a:xfrm>
          <a:prstGeom prst="upArrowCallout">
            <a:avLst>
              <a:gd name="adj1" fmla="val 275091"/>
              <a:gd name="adj2" fmla="val 157848"/>
              <a:gd name="adj3" fmla="val 32972"/>
              <a:gd name="adj4" fmla="val 78079"/>
            </a:avLst>
          </a:prstGeom>
          <a:gradFill rotWithShape="0">
            <a:gsLst>
              <a:gs pos="0">
                <a:srgbClr val="9933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GB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er Gewerkschaftsb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3962520"/>
          <a:ext cx="7696440" cy="1295280"/>
        </p:xfrm>
        <a:graphic>
          <a:graphicData uri="http://schemas.openxmlformats.org/drawingml/2006/table">
            <a:tbl>
              <a:tblPr/>
              <a:tblGrid>
                <a:gridCol w="962280"/>
                <a:gridCol w="961920"/>
                <a:gridCol w="961920"/>
                <a:gridCol w="962280"/>
                <a:gridCol w="961920"/>
                <a:gridCol w="961920"/>
                <a:gridCol w="961920"/>
                <a:gridCol w="962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8580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8f8f8"/>
                </a:solidFill>
                <a:latin typeface="Times New Roman"/>
              </a:rPr>
              <a:t>16 Einzelgewerkschaften gegliedert nach Wirtschaftsbereichen  </a:t>
            </a:r>
            <a:r>
              <a:rPr b="0" lang="de-DE" sz="1800" spc="-1" strike="noStrike">
                <a:solidFill>
                  <a:srgbClr val="f8f8f8"/>
                </a:solidFill>
                <a:latin typeface="Times New Roman"/>
              </a:rPr>
              <a:t>IG Metall, Gw ÖTV, IG Chemie-Papier-Keramik, IG Bergbau u. Energie, u. a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nstige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Beamtenbu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. Angestelltengewerksch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arifverhandl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0797000">
            <a:off x="685440" y="1294560"/>
            <a:ext cx="546120" cy="4953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4240" y="1295280"/>
            <a:ext cx="546120" cy="4953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rkschafts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verhandeln über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3733920" cy="156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öhe der                      Löhne und Gehäl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Lohn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3733920" cy="19328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a700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beitszeit, Pausen,   Urlaub, Akkordzuschläge, Kündigung, u. ä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Mantel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400" y="213372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03848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0" y="403848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715000"/>
            <a:ext cx="3733920" cy="459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rgebnis: Tarifverträ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rabstimm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BD06990_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81280" cy="2895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4495680" y="1295280"/>
            <a:ext cx="4114800" cy="2669760"/>
            <a:chOff x="4495680" y="1295280"/>
            <a:chExt cx="4114800" cy="2669760"/>
          </a:xfrm>
        </p:grpSpPr>
        <p:pic>
          <p:nvPicPr>
            <p:cNvPr id="204" name="BD06982_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114800" cy="2098800"/>
            </a:xfrm>
            <a:prstGeom prst="rect">
              <a:avLst/>
            </a:prstGeom>
            <a:ln w="5724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4949640" y="350532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Gewerkschaftsmitglieder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4724280"/>
            <a:ext cx="3048120" cy="13737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cheitern                der Tarifverhandlung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419720"/>
            <a:ext cx="3505320" cy="190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stimmu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Wenn mehr als 75 % der Wähler zustim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ikbeschlu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ögliche Fol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219320"/>
            <a:ext cx="3657240" cy="2553840"/>
            <a:chOff x="762120" y="1219320"/>
            <a:chExt cx="3657240" cy="2553840"/>
          </a:xfrm>
        </p:grpSpPr>
        <p:pic>
          <p:nvPicPr>
            <p:cNvPr id="211" name="PE01838_" descr=""/>
            <p:cNvPicPr/>
            <p:nvPr/>
          </p:nvPicPr>
          <p:blipFill>
            <a:blip r:embed="rId1"/>
            <a:stretch/>
          </p:blipFill>
          <p:spPr>
            <a:xfrm>
              <a:off x="762120" y="2018880"/>
              <a:ext cx="2090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16920" y="1219320"/>
              <a:ext cx="2602440" cy="92268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0720" y="128088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 Lus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uf Arbeit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520" y="4191120"/>
            <a:ext cx="312408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nehmer verweigern die Arbei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rei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91120"/>
            <a:ext cx="327672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 verweigert den Zugang zum Betri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ussperru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257800" y="1219320"/>
            <a:ext cx="3276720" cy="2666880"/>
            <a:chOff x="5257800" y="1219320"/>
            <a:chExt cx="3276720" cy="2666880"/>
          </a:xfrm>
        </p:grpSpPr>
        <p:sp>
          <p:nvSpPr>
            <p:cNvPr id="217" name=""/>
            <p:cNvSpPr/>
            <p:nvPr/>
          </p:nvSpPr>
          <p:spPr>
            <a:xfrm>
              <a:off x="5932440" y="1219320"/>
              <a:ext cx="2602080" cy="92232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128124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Hier komm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r rein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219" name="BD05515_" descr=""/>
            <p:cNvPicPr/>
            <p:nvPr/>
          </p:nvPicPr>
          <p:blipFill>
            <a:blip r:embed="rId2"/>
            <a:stretch/>
          </p:blipFill>
          <p:spPr>
            <a:xfrm>
              <a:off x="5257800" y="2286000"/>
              <a:ext cx="14889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Schlich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BD05552_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3048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Berufung eines neutralen Schlichte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213372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erkschafts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295280"/>
            <a:ext cx="220968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erungen  der 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295280"/>
            <a:ext cx="2133720" cy="1557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db5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h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beide Parteie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er Vert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57800"/>
            <a:ext cx="2133720" cy="825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geber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876920"/>
            <a:ext cx="2133720" cy="1191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herige Angebote der Arbeitgeb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95680"/>
            <a:ext cx="2133360" cy="15721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i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576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blehnu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2133720" cy="8254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f8f8"/>
                </a:solidFill>
                <a:latin typeface="Times New Roman"/>
              </a:rPr>
              <a:t>Kompromiss-vorschl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2743200" y="1905120"/>
            <a:ext cx="533520" cy="914400"/>
          </a:xfrm>
          <a:custGeom>
            <a:avLst/>
            <a:gdLst>
              <a:gd name="textAreaLeft" fmla="*/ 179640 w 533520"/>
              <a:gd name="textAreaRight" fmla="*/ 44496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200400" y="1905120"/>
            <a:ext cx="533520" cy="914400"/>
          </a:xfrm>
          <a:custGeom>
            <a:avLst/>
            <a:gdLst>
              <a:gd name="textAreaLeft" fmla="*/ 179280 w 533520"/>
              <a:gd name="textAreaRight" fmla="*/ 44460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 rot="10800000">
            <a:off x="2818440" y="4572000"/>
            <a:ext cx="533160" cy="914400"/>
          </a:xfrm>
          <a:custGeom>
            <a:avLst/>
            <a:gdLst>
              <a:gd name="textAreaLeft" fmla="*/ 178920 w 533160"/>
              <a:gd name="textAreaRight" fmla="*/ 44388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3276360" y="4572000"/>
            <a:ext cx="533160" cy="914400"/>
          </a:xfrm>
          <a:custGeom>
            <a:avLst/>
            <a:gdLst>
              <a:gd name="textAreaLeft" fmla="*/ 179280 w 533160"/>
              <a:gd name="textAreaRight" fmla="*/ 44424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 rot="10800000">
            <a:off x="6477120" y="281844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8920 h 685800"/>
              <a:gd name="textAreaBottom" fmla="*/ 571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0800000">
            <a:off x="6477120" y="380952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928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erman_t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96372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© by Oliver Brandt</a:t>
            </a:r>
            <a:br>
              <a:rPr sz="1800"/>
            </a:b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Fichtelgebirgsrealschule Marktredwitz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7:05:46Z</dcterms:created>
  <dc:creator>fgrs</dc:creator>
  <dc:description/>
  <dc:language>en-US</dc:language>
  <cp:lastModifiedBy>fgrs</cp:lastModifiedBy>
  <dcterms:modified xsi:type="dcterms:W3CDTF">2002-04-02T20:03:26Z</dcterms:modified>
  <cp:revision>31</cp:revision>
  <dc:subject/>
  <dc:title>Die unterschiedlichen Interessen der Unternehmer und Arbeitgeber</dc:title>
</cp:coreProperties>
</file>