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826C-C44B-4B3B-A0EA-EAB62F4FF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F996-F6A7-4A77-9BD3-8F63CBB0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8F84-DFFB-4CB6-99C2-1C25E6491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41CD-BF18-483E-A744-FEA58AF68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9219D-7E6F-47D3-8697-FC9CC918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8132-BA02-46C2-8BB7-C4231385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E14C-143A-4AFC-B9F4-064D4B38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BC53-0F22-4399-9A3A-7CA2783EC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61266-A16C-402C-9691-DEB7EC309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30077-32C0-498F-A92D-6F0EEE2A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0F15-67E6-4481-BAEF-76AF2996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D9EB-07DF-43F5-A08F-0A97219D7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2A60C-A52C-418E-A008-D052DCB2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19E5-F9C5-4921-831C-86DC4D65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A2524-54D4-4446-8AFB-B1286AAB4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F436-0ED5-48E8-9577-7C67BB7E5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1F7D-6A91-410C-A98D-19DB9D14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087B-550A-4483-8704-67892473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3649-F90A-46CD-8A45-AC69A518F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BA07-1AC2-4765-A80E-F450637A4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F761-88FA-4387-A8AE-984DA3D6F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99BE-462A-484E-A62E-3D44F2F4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C3AB2-9BFB-4276-9142-2B10DDDC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2E35-82AB-4D21-987E-50C963B48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EB0C-CA3F-4512-9768-F045B5C940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C2B23-66B8-41C6-9CFE-0A9BBA8BD6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5331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Plus- und Minuspunkte </a:t>
            </a:r>
            <a:br>
              <a:rPr sz="4800"/>
            </a:b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bei Bewerbungen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6840" y="441972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ersonalexperten aus unterschiedlichen Wirtschaftsbereichen gaben folgende Antworten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124080" y="1905120"/>
          <a:ext cx="2819520" cy="26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905120"/>
                    <a:ext cx="281952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aubere, geordnete, vollständige Bewerbungsmappe mit Lebenslauf, vorteilhaftem Foto und Zeugnissen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Begründung im Bewerbungsschreiben, warum man sich für diesen Beruf interessiert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Angaben zu den außerschulischen Aktivitäten (Vereine, Ehrenämter, Praktikas usw.)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echtzeitige Bewerbung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Gepflegtes Äußeres beim Vorstellungsgespräch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150000"/>
              <a:buFont typeface="Wingdings" charset="2"/>
              <a:buChar char="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Aufgeschlossenheit und Ehrlichkeit beim Vorstellungsgesprä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Pluspunkte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Minuspunk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200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Unsaubere, unvollständige Unterlagen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200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Rechtschreib-, Tipp- und Normfehler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200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Keine konkreten Vorstellungen über den Ausbildungsberuf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200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Keine Zeugnisse beigefügt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200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chlechte Zensuren in Mitarbeit und Verhalten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200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Schlechte Zensuren, vor allem auch in Lernfächern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200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Ungepflegtes Äußeres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200000"/>
              <a:buFont typeface="Wingdings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Zuspätkommen beim Vorstellungstermin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66"/>
                </a:solidFill>
                <a:latin typeface="Times New Roman"/>
              </a:rPr>
              <a:t>Viel Erfolg bei deiner Bewerbung!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533520" y="2438280"/>
          <a:ext cx="8153280" cy="402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438280"/>
                    <a:ext cx="8153280" cy="402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30T19:17:40Z</dcterms:created>
  <dc:creator>Voggenreiter</dc:creator>
  <dc:description/>
  <dc:language>en-US</dc:language>
  <cp:lastModifiedBy>Voggenreiter</cp:lastModifiedBy>
  <dcterms:modified xsi:type="dcterms:W3CDTF">2002-03-02T14:42:31Z</dcterms:modified>
  <cp:revision>2</cp:revision>
  <dc:subject/>
  <dc:title>Plus- und Minuspunkte  bei Bewerbungen</dc:title>
</cp:coreProperties>
</file>