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F9B-DA9D-45D0-972C-A6CB2E69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612-F819-455F-A726-7D5887D9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8D8-75B1-44E4-90EF-4F2DB4B5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A79-426F-4430-89F6-5DE1F57F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03AC-49D1-4896-A829-0BE61B65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0C1-1422-49A4-A0E3-DC6C181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734-22CC-4419-836F-A2D5F4A1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99A-28EF-4069-9C18-5BCBFA5E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E3D-0E47-4A7B-B320-D21E6970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7024-1D6F-4830-8737-56A535D9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71FB-E923-42E0-8270-F1AC2F84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9A0-C50A-4909-ACFD-D525E167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4EB-A92D-467F-86E0-F2D59C9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BD77-B21B-4895-9B15-080D814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F87C-EF94-4DE8-920D-2D69D4E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A638-F1CD-4CDA-A07E-84317199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7905-9995-42AC-8086-CB0F19A1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C54-2E4C-4A96-A3F8-F7F85AC3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BC7-2A4F-4162-A03C-1151C30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86F-0C40-4F42-8C52-C814336A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CA6-F0F1-4336-8805-0D9BFD40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6E-A60C-46EA-B010-B539ADB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F16-0EF0-4E59-ADE0-7BB4C8A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267-A37D-449B-A4E5-068A877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B2F7-0AE9-471D-9B07-3E807832A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DE58-B187-4FAC-BCF5-B76F3BC93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- und Minuspunkte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bei Bewerbunge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419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experten aus unterschiedlichen Wirtschaftsbereichen gaben folgende Antwort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4080" y="1905120"/>
          <a:ext cx="281952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281952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aubere, geordnete, vollständige Bewerbungsmappe mit Lebenslauf, vorteilhaftem Foto und Zeugniss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gründung im Bewerbungsschreiben, warum man sich für diesen Beruf interessier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gaben zu den außerschulischen Aktivitäten (Vereine, Ehrenämter, Praktikas usw.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zeitige Bewerb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pflegtes Äußeres beim Vorstellungsgespräch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fgeschlossenheit und Ehrlichkeit beim Vorstellungsgesprä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punkt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nuspunk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saubere, unvollständige Unterlag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schreib-, Tipp- und Normfehl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konkreten Vorstellungen über den Ausbildungsberuf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Zeugnisse beigefüg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 in Mitarbeit und Verhal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, vor allem auch in Lernfächer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gepflegtes Äußer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uspätkommen beim Vorstellungstermi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Viel Erfolg bei deiner Bewerbung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438280"/>
          <a:ext cx="8153280" cy="40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15328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17:40Z</dcterms:created>
  <dc:creator>Voggenreiter</dc:creator>
  <dc:description/>
  <dc:language>en-US</dc:language>
  <cp:lastModifiedBy>Voggenreiter</cp:lastModifiedBy>
  <dcterms:modified xsi:type="dcterms:W3CDTF">2002-03-02T14:42:31Z</dcterms:modified>
  <cp:revision>2</cp:revision>
  <dc:subject/>
  <dc:title>Plus- und Minuspunkte  bei Bewerbungen</dc:title>
</cp:coreProperties>
</file>