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93D0-5DF2-4BFD-8121-1E81A34D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B294-D1B6-44DD-9F87-5B773237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4086-5341-4E28-B638-239697145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0F63-8360-44BC-98BB-7F388345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9982-067C-40B0-89F4-1DB6E66E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5437-8C4D-4044-B858-FBCF07C6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1575-A0A1-4ACD-B88B-ACE731FA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CB62-E478-4574-AB58-788AA915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2779-4A7A-428B-BEAA-A28DFAC0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4119-F92C-4D03-98E6-163ED945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23AD-1179-482A-9C85-5631713A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C0A0-8A68-4B2A-B321-B999C213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A3CD-B1D9-495D-A46C-6EED791C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DB25-7B91-4144-A232-1C2A4AB0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6A96-F541-41C7-AEEF-7D824038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349D-A81F-4462-A06A-D9823BA4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DE58-6CCD-403A-AAA4-A6E960DE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3A49-0BE8-4703-AEA0-F863746D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A6B8-460A-44FF-AFB3-8143C927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8499-C802-4263-BD85-3A53FC4B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269A-E765-4A74-9495-EFD497BD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826C-4B62-439A-BC23-A35FA27D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F179-5B77-40F1-BEB2-72BC4331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33D1-2E9B-46F7-9195-FBB7B390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FF35-A6C3-42D0-8035-735B30226D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7598-4FA9-434A-9D0C-3FB0D58465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Plus- und Minuspunkte </a:t>
            </a:r>
            <a:br>
              <a:rPr sz="4800"/>
            </a:b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bei Bewerbungen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6840" y="441972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rsonalexperten aus unterschiedlichen Wirtschaftsbereichen gaben folgende Antworte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124080" y="1905120"/>
          <a:ext cx="2819520" cy="26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5120"/>
                    <a:ext cx="281952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aubere, geordnete, vollständige Bewerbungsmappe mit Lebenslauf, vorteilhaftem Foto und Zeugnissen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egründung im Bewerbungsschreiben, warum man sich für diesen Beruf interessiert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Angaben zu den außerschulischen Aktivitäten (Vereine, Ehrenämter, Praktikas usw.)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echtzeitige Bewerbung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Gepflegtes Äußeres beim Vorstellungsgespräch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Aufgeschlossenheit und Ehrlichkeit beim Vorstellungsgesprä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Pluspunkte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inuspunk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200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Unsaubere, unvollständige Unterlagen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200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echtschreib-, Tipp- und Normfehler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200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Keine konkreten Vorstellungen über den Ausbildungsberuf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200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Keine Zeugnisse beigefügt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200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chlechte Zensuren in Mitarbeit und Verhalten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200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chlechte Zensuren, vor allem auch in Lernfächern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200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Ungepflegtes Äußeres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200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Zuspätkommen beim Vorstellungstermin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Viel Erfolg bei deiner Bewerbung!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3520" y="2438280"/>
          <a:ext cx="8153280" cy="402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38280"/>
                    <a:ext cx="8153280" cy="40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0T19:17:40Z</dcterms:created>
  <dc:creator>Voggenreiter</dc:creator>
  <dc:description/>
  <dc:language>en-US</dc:language>
  <cp:lastModifiedBy>Voggenreiter</cp:lastModifiedBy>
  <dcterms:modified xsi:type="dcterms:W3CDTF">2002-03-02T14:42:31Z</dcterms:modified>
  <cp:revision>2</cp:revision>
  <dc:subject/>
  <dc:title>Plus- und Minuspunkte  bei Bewerbungen</dc:title>
</cp:coreProperties>
</file>