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341-E5F4-45AB-9310-0F65DC7E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678-CD5A-4286-9251-EDD5F09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C98-53F0-4ABA-A6CB-A51D5330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DC1-48FB-4DBE-9EB5-7A8F272E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915-9314-4CEC-90AD-5D67F63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A8C9-A748-4F8E-881D-C8AC7E9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622-75DE-4911-9242-F1935EC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174-FEAB-4510-8596-53BD0EC9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7C87-E46A-4FCF-8863-83BAA32C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8F9-97AF-4BB0-B56C-598A81F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0748-FD12-4AF9-81A3-F479E90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611-8F3D-4EB5-A3E7-258CD6D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7337-318A-4965-A426-006B9C8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991E-21B5-461D-9A7F-776DE83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6B6-CD4A-4AB3-A59C-3316BD2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DF0B-E894-4BCB-84D3-BA62AF64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2E2A-0C3B-4A4E-A364-9D91EB91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5C5-41EC-49C7-9A89-DBD0F46D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2C5-6683-4F2E-83D2-2E7D8C03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939-28F1-4475-9B57-FC6E432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1BF-33E1-4821-90DC-248EE325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2FB-A8DE-44AB-9125-34401A0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FD3-EAE7-4AD4-888F-39A0F36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719-851A-4FCE-9B19-841FE2C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2C7-6DB8-4B1F-AAED-833574590C8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006-4D42-402E-88AB-6FE7E2BDE3F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Die Top Ten des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Bewerbungsschreibe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304920"/>
          <a:ext cx="89064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90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077320" y="304920"/>
          <a:ext cx="89064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304920"/>
                    <a:ext cx="890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vollständig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schrif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i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lefonnumm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(gegliedert!) des Bewerbers gehören auf d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s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hreiben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d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mschla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benfalls auf das Bewerbungsschreiben und den Umschlag gehört die vollständig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schrift des Betrieb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der der Verwaltung, bei der sich beworben wir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sschreiben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de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ebenslauf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üssen mit dem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leichen Datu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versehen sei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Zu Beginn des Briefes d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treff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ngeben, in der Regel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 um einen Ausbildungsplatz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s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usbildungsberuf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uß genau und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korrekt benann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Im Schreiben sollte kurz di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Schulbildung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(derzeit besuchte Klasse) beschrieben und die Art und das voraussichtlich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Datum des Schulabschlusses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genannt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Auf die Darstellung der </a:t>
            </a:r>
            <a:r>
              <a:rPr b="1" lang="de-DE" sz="2000" spc="-1" strike="noStrike">
                <a:solidFill>
                  <a:srgbClr val="ffffcc"/>
                </a:solidFill>
                <a:latin typeface="Arial"/>
              </a:rPr>
              <a:t>besonder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Fähigkeit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sollte sehr viel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Sorgfal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gelegt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Berufswunsch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und die Wahl des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usbildungsbetriebes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uß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begründe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as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nschreib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und 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Lebenslauf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üssen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unterschrieb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Zum Schluß wird auf di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nlag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verwies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203960" y="4267080"/>
          <a:ext cx="1940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3960" y="4267080"/>
                    <a:ext cx="194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6:14:59Z</dcterms:created>
  <dc:creator>Voggenreiter</dc:creator>
  <dc:description/>
  <dc:language>en-US</dc:language>
  <cp:lastModifiedBy>Voggenreiter</cp:lastModifiedBy>
  <dcterms:modified xsi:type="dcterms:W3CDTF">2002-03-02T14:45:54Z</dcterms:modified>
  <cp:revision>6</cp:revision>
  <dc:subject/>
  <dc:title>Die Top Ten des Bewerbungsschreibens</dc:title>
</cp:coreProperties>
</file>