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6BC-7BF5-418E-8B78-63E75B89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D79-C037-481D-9C79-4EFBDBC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999-BA2C-4767-B9AB-B13B24C5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8BC-05A5-4626-AE0A-5E76D3A9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3337-F580-45BE-B013-DF362ED1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D6C-F7E4-4D99-8340-77DB1E58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5F3B-8351-4032-B339-28DE9A52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D31-2338-4751-A010-980A510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0B4E-88D9-4923-BC7E-264C3AA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9F94-41F2-45DE-B738-23D4BC7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B61F-04C1-475F-B294-68B5531B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BF0-422C-42B1-BC61-B5D23809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1E58-F12A-418F-9754-1A215E2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11BA-56EB-4406-95E2-FE0A4E51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72C-FA3B-43DC-BB9F-7F17733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DE9E-4E9D-419D-B2E9-777AB1EA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6B5-505B-4E8F-9BE0-908FE14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C4F-8E9D-4272-80D3-81252426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7BA-F160-438F-ADE3-ADFCA1E1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220-B1C8-44E5-B513-A9936487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96F-264B-44E8-AD46-19E62218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ED8-641F-4472-ACFC-5D27A7D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9DE-86AC-432C-B92B-1AE0055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598-AC09-448A-B996-C2E2DB9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AD4-2CF6-42F1-A899-9DAE08D47FD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EBA-31EC-49C7-823A-79AFF43DD0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Die Top Ten des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Bewerbungsschreibe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304920"/>
          <a:ext cx="89064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90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077320" y="304920"/>
          <a:ext cx="89064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304920"/>
                    <a:ext cx="890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vollständig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schrif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it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elefonnumm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(gegliedert!) des Bewerbers gehören auf d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s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chreiben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d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mschla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benfalls auf das Bewerbungsschreiben und den Umschlag gehört die vollständig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schrift des Betrieb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der der Verwaltung, bei der sich beworben wir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sschreiben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und der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ebenslauf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üssen mit dem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leichen Datum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versehen sei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Zu Beginn des Briefes den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treff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ngeben, in der Regel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ewerbung um einen Ausbildungsplatz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s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usbildungsberuf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uß genau und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korrekt benann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Im Schreiben sollte kurz di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Schulbildung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(derzeit besuchte Klasse) beschrieben und die Art und das voraussichtlich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Datum des Schulabschlusses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genannt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Auf die Darstellung der </a:t>
            </a:r>
            <a:r>
              <a:rPr b="1" lang="de-DE" sz="2000" spc="-1" strike="noStrike">
                <a:solidFill>
                  <a:srgbClr val="ffffcc"/>
                </a:solidFill>
                <a:latin typeface="Arial"/>
              </a:rPr>
              <a:t>besonder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Fähigkeit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sollte sehr viel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Sorgfal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gelegt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Berufswunsch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und die Wahl des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usbildungsbetriebes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uß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begründet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Das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nschreib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und der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Lebenslauf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müssen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unterschrieb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werden.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Zum Schluß wird auf die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Anlagen</a:t>
            </a: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 verwies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203960" y="4267080"/>
          <a:ext cx="1940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3960" y="4267080"/>
                    <a:ext cx="194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6:14:59Z</dcterms:created>
  <dc:creator>Voggenreiter</dc:creator>
  <dc:description/>
  <dc:language>en-US</dc:language>
  <cp:lastModifiedBy>Voggenreiter</cp:lastModifiedBy>
  <dcterms:modified xsi:type="dcterms:W3CDTF">2002-03-02T14:45:54Z</dcterms:modified>
  <cp:revision>6</cp:revision>
  <dc:subject/>
  <dc:title>Die Top Ten des Bewerbungsschreibens</dc:title>
</cp:coreProperties>
</file>