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845-CF7A-4580-99B0-900CD4D2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FCF-CCAA-4D1A-98A4-242DE4D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C1C-3B60-4FD2-9152-9DCBF67F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574-CEE6-47CB-9E01-A19E2D0B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6F6-F756-4DDA-92DB-61C1D640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9DC9-BCB7-43B1-9101-80F3EFD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2F2-6AA5-426F-964A-4A54C251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E57B-21F5-46DD-96B3-1F2D4F84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0CF-7FE6-46FD-A2D5-0F595B6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B82A-3BA4-4B6D-BE5D-127545BC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9116-2DEC-45D0-A490-BBA023E9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689-10F4-43CB-87C2-638113BE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FF73-FAB8-43DB-BCE9-07D9B179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0AF7-55D7-4085-B2AE-8965ABC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F453-9FC0-4E2A-8710-7EA25403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71E-F414-4DFA-997B-587945E7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3179-6A59-4075-AC95-09CE0BB5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1DE-0329-4D61-81FD-720E3C0C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AB5-0800-4798-9110-F5329B15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5B4-3553-4C87-A471-D01D0C7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619-F5FF-4B3E-B87B-39934F6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17D-12CF-4465-9594-6DF8D75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DCD-AA21-41AF-86A8-919F98FF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398-97DC-4B77-A296-0D5E19C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A33D-2432-4D90-8392-43488ED4E77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53EB-55E8-4825-9AA7-719C64B3025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381880" cy="28371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Tahoma"/>
              </a:rPr>
              <a:t>Veränderung der Bilanz durch Geschäftsfäl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809880"/>
            <a:ext cx="6019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German_t" descr=""/>
          <p:cNvPicPr/>
          <p:nvPr/>
        </p:nvPicPr>
        <p:blipFill>
          <a:blip r:embed="rId1"/>
          <a:stretch/>
        </p:blipFill>
        <p:spPr>
          <a:xfrm>
            <a:off x="493560" y="3352680"/>
            <a:ext cx="24289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Lagerplatzes gegen Banküberwei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Schreibtisches gegen Barzah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rverkauf eines gebrauchten Lieferwag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F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FP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r Bürocomputeranlage auf Z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höh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bhebung vom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nküberweisung an den Liefe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niedrig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unbebauten Grundstückes durch Banküberwei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343400"/>
            <a:ext cx="769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ie Bank gewährt uns ein langfristiges Darlehen; Gutschrift auf dem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höh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reinzahlung auf das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eilrückzahlung einer langfristigen Bankverbindlichkeit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niedrig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2057400"/>
            <a:ext cx="769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mwandlung einer kurzfristigen Bankverbindlichkeit in eine langfristige Bankverbindlichke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BKV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Erstelle aus den folgenden Beständen die Bilanz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EK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29.5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LBKV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25.0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MA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56.2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KA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6.5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VE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14.2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BK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16.9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5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6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26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909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ffffff"/>
                </a:solidFill>
                <a:uFillTx/>
                <a:latin typeface="Times New Roman"/>
              </a:rPr>
              <a:t>Lösu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54864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Times New Roman"/>
              </a:rPr>
              <a:t>Stelle nach jedem der folgenden Geschäftsfälle eine neue Bilanz auf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7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6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28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1. Barkauf einer Bohrmaschine, 1.5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9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2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0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2. Banküberweisung an den Lieferer, 2.0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Firma Isabella Ruba &amp; Jessica Wölfl erstellt folgende vereinfachte Bilan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2286000"/>
            <a:ext cx="7696080" cy="4038120"/>
            <a:chOff x="762120" y="2286000"/>
            <a:chExt cx="7696080" cy="4038120"/>
          </a:xfrm>
        </p:grpSpPr>
        <p:sp>
          <p:nvSpPr>
            <p:cNvPr id="106" name=""/>
            <p:cNvSpPr/>
            <p:nvPr/>
          </p:nvSpPr>
          <p:spPr>
            <a:xfrm>
              <a:off x="762120" y="228600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286000"/>
              <a:ext cx="0" cy="4038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6212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43828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43828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4267080"/>
            <a:ext cx="7391160" cy="1981440"/>
            <a:chOff x="762120" y="4267080"/>
            <a:chExt cx="7391160" cy="198144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556272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05720" y="42670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715000" y="4267080"/>
              <a:ext cx="9907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617220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617220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61722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62485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624852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5720" y="6248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05520" y="1676520"/>
            <a:ext cx="3809880" cy="2286000"/>
            <a:chOff x="5105520" y="1676520"/>
            <a:chExt cx="3809880" cy="2286000"/>
          </a:xfrm>
        </p:grpSpPr>
        <p:sp>
          <p:nvSpPr>
            <p:cNvPr id="124" name=""/>
            <p:cNvSpPr/>
            <p:nvPr/>
          </p:nvSpPr>
          <p:spPr>
            <a:xfrm>
              <a:off x="5105520" y="1676520"/>
              <a:ext cx="3809880" cy="2286000"/>
            </a:xfrm>
            <a:prstGeom prst="wedgeRoundRectCallout">
              <a:avLst>
                <a:gd name="adj1" fmla="val -20000"/>
                <a:gd name="adj2" fmla="val 8854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133720"/>
              <a:ext cx="289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imes New Roman"/>
                </a:rPr>
                <a:t>Buchhalternase nicht vergess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1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2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09480" y="304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3. Umwandlung eines Lieferverbindlichkeit in ein Darlehen, </a:t>
            </a: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4.5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3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31.3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3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4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4. Kauf eines Büroschranks gegen Barzahlung, 1.8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5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1.3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11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6.4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6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948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5. Barabhebung vom Bankkonto, 3.2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33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nerhalb eines Monats ereignen sich folgende Geschäftsfälle in der Firm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057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uf eines Schreibtisches bar, 1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95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Umwandlung einer Liefererschuld in eine Darlehensschuld, 5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114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Kauf einer Maschine für die Produktion gegen Bankdarlehen, 20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334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66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anküberweisung an den Lieferer 2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32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38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380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uf eines Schreibtisches bar, 1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762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54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1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60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Umwandlung einer Liefererschuld in eine Darlehensschuld, 5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76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2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3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82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Kauf einer Maschine für die Produktion gegen Bankdarlehen, 20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98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204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66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anküberweisung an den Lieferer 2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BD00146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600200" cy="1581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457200"/>
            <a:ext cx="39621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Times New Roman"/>
              </a:rPr>
              <a:t>Merke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981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Jeder Geschäftsfall verändert zwei Bilanzpos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251460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s lassen sich vier mögliche Arten der </a:t>
            </a:r>
            <a:r>
              <a:rPr b="1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lanzänderung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ntersche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486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ie Bilanzgleichung bleibt immer erhalten:         </a:t>
            </a:r>
            <a:r>
              <a:rPr b="1" lang="de-DE" sz="2400" spc="-1" strike="noStrike">
                <a:solidFill>
                  <a:srgbClr val="00ffff"/>
                </a:solidFill>
                <a:latin typeface="Times New Roman"/>
              </a:rPr>
              <a:t>Summe der Aktiva = Summe der Pas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62120" y="1981080"/>
            <a:ext cx="8110800" cy="4528440"/>
            <a:chOff x="762120" y="1981080"/>
            <a:chExt cx="8110800" cy="4528440"/>
          </a:xfrm>
        </p:grpSpPr>
        <p:sp>
          <p:nvSpPr>
            <p:cNvPr id="225" name=""/>
            <p:cNvSpPr/>
            <p:nvPr/>
          </p:nvSpPr>
          <p:spPr>
            <a:xfrm>
              <a:off x="762120" y="1981080"/>
              <a:ext cx="7772400" cy="45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Jeder Geschäftsfall verändert zwei Bilanzposte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Es lassen sich vier mögliche Arten der </a:t>
              </a:r>
              <a:r>
                <a:rPr b="1" lang="de-DE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Bilanzänderung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 unterscheide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00"/>
                  </a:solidFill>
                  <a:latin typeface="Times New Roman"/>
                </a:rPr>
                <a:t>Aktivtaus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Passivtaus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00ff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ff00"/>
                  </a:solidFill>
                  <a:latin typeface="Times New Roman"/>
                </a:rPr>
                <a:t>Aktiv-Passiv-Mehru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66ff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66ff"/>
                  </a:solidFill>
                  <a:latin typeface="Times New Roman"/>
                </a:rPr>
                <a:t>Aktiv-Passiv-Minderu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Die Bilanzgleichung bleibt immer erhalten:  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de-DE" sz="2400" spc="-1" strike="noStrike">
                  <a:solidFill>
                    <a:srgbClr val="00ffff"/>
                  </a:solidFill>
                  <a:latin typeface="Times New Roman"/>
                </a:rPr>
                <a:t>Summe der Aktiva = Summe der Passi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5053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480" y="3733920"/>
              <a:ext cx="34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Die Bilanzsumme bleibt glei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6483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6480" y="4876920"/>
              <a:ext cx="33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Die Bilanzsumme ändert si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5181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(Oktober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German_t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90936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9:46:53Z</dcterms:created>
  <dc:creator>Oliver Brandt</dc:creator>
  <dc:description/>
  <dc:language>en-US</dc:language>
  <cp:lastModifiedBy>Oliver Brandt</cp:lastModifiedBy>
  <dcterms:modified xsi:type="dcterms:W3CDTF">2002-04-02T15:40:30Z</dcterms:modified>
  <cp:revision>20</cp:revision>
  <dc:subject/>
  <dc:title>Veränderung der Bilanz durch Geschäftsfälle</dc:title>
</cp:coreProperties>
</file>