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AB6-18CC-4DAE-A373-9BFA33DE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387-DCD0-4233-B923-72B27B4C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B3B-9CE7-4CAD-B180-43E9DADB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2EB-2098-4774-9418-CA672798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4BB6-D108-4E46-B573-350E0E64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41B2-1DB3-4AD9-AE11-DBFAA42C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4372-FC6E-43C6-BB3C-3EB63616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564B-73E5-4A4A-A1B3-05637235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D602-C018-43E1-B62F-686D0268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DD15-FAD7-4D43-9BE8-E9BA75AE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9492-3596-4674-87C9-A720EC4E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4CA-B4F7-42EF-9ED2-57AF086C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CDEC-32C4-4C27-8406-6996623C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60C5-6D93-477A-817F-A5F51E25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BE84-5A91-486D-90D2-99FB478A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3217-8968-42E6-A018-858949FF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D7F2-BC3E-4679-9C7A-DB4A7DE6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895-C19C-41A7-84CA-49E3C844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949-97C2-4D7D-9390-45BB5A80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3CD-ADE3-424B-BD6A-87CCBC87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29E-FC9F-4E74-B643-8462453C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323-1E8A-45F2-8040-F6D58A2B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CDFC-70A6-4A4C-A541-ADBDE9DD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BD0-93F6-42D8-BA7D-998EA9B2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CA81-A5BF-49AC-86F4-C24F934D7A0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70F9-C469-4165-AACD-44382B0529C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80880"/>
            <a:ext cx="8381880" cy="28371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00"/>
                </a:solidFill>
                <a:latin typeface="Tahoma"/>
              </a:rPr>
              <a:t>Veränderung der Bilanz durch Geschäftsfäll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809880"/>
            <a:ext cx="6019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Presented by Fachschaft Wirtschaftswissenschaften der Fichtelgebirgsrealschule Marktredwi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. Bran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German_t" descr=""/>
          <p:cNvPicPr/>
          <p:nvPr/>
        </p:nvPicPr>
        <p:blipFill>
          <a:blip r:embed="rId1"/>
          <a:stretch/>
        </p:blipFill>
        <p:spPr>
          <a:xfrm>
            <a:off x="493560" y="3352680"/>
            <a:ext cx="242892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057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uf eines Lagerplatzes gegen Banküberweis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UGR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UGR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343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uf eines Schreibtisches gegen Barzahl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2057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rverkauf eines gebrauchten Lieferwag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F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FP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4343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uf einer Bürocomputeranlage auf Zi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VE (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00ff00"/>
                </a:solidFill>
                <a:latin typeface="Times New Roman"/>
              </a:rPr>
              <a:t>Aktiv-Passiv-Meh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erhöht s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2057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bhebung vom Bankko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4343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nküberweisung an den Liefer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-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VE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66ff"/>
                </a:solidFill>
                <a:latin typeface="Times New Roman"/>
              </a:rPr>
              <a:t>Aktiv-Passiv-Mind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erniedrigt s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2057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7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uf eines unbebauten Grundstückes durch Banküberweis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UGR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UGR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4343400"/>
            <a:ext cx="76964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8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ie Bank gewährt uns ein langfristiges Darlehen; Gutschrift auf dem Bankko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(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00ff00"/>
                </a:solidFill>
                <a:latin typeface="Times New Roman"/>
              </a:rPr>
              <a:t>Aktiv-Passiv-Meh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erhöht s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2057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9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reinzahlung auf das Bankko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(-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4343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10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eilrückzahlung einer langfristigen Bankverbindlichkeit 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(-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66ff"/>
                </a:solidFill>
                <a:latin typeface="Times New Roman"/>
              </a:rPr>
              <a:t>Aktiv-Passiv-Mind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erniedrigt s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2057400"/>
            <a:ext cx="76964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Umwandlung einer kurzfristigen Bankverbindlichkeit in eine langfristige Bankverbindlichke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BKV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(-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(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Pass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066680"/>
            <a:ext cx="7848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Erstelle aus den folgenden Beständen die Bilanz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EK 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BA 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29.5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LBKV 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25.0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MA 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56.2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KA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6.5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VE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14.2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BK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16.9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25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6.2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6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9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4.2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9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26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90920" y="3049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ffffff"/>
                </a:solidFill>
                <a:uFillTx/>
                <a:latin typeface="Times New Roman"/>
              </a:rPr>
              <a:t>Lösu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54864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Times New Roman"/>
              </a:rPr>
              <a:t>Stelle nach jedem der folgenden Geschäftsfälle eine neue Bilanz auf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27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5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6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9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4.2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9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28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0948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1. Barkauf einer Bohrmaschine, 1.500,00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29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14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12.2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30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60948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2. Banküberweisung an den Lieferer, 2.000,00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66ff"/>
                </a:solidFill>
                <a:latin typeface="Times New Roman"/>
              </a:rPr>
              <a:t>Aktiv-Passiv-Minder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ie Firma Isabella Ruba &amp; Jessica Wölfl erstellt folgende vereinfachte Bilan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2286000"/>
            <a:ext cx="7696080" cy="4038120"/>
            <a:chOff x="762120" y="2286000"/>
            <a:chExt cx="7696080" cy="4038120"/>
          </a:xfrm>
        </p:grpSpPr>
        <p:sp>
          <p:nvSpPr>
            <p:cNvPr id="106" name=""/>
            <p:cNvSpPr/>
            <p:nvPr/>
          </p:nvSpPr>
          <p:spPr>
            <a:xfrm>
              <a:off x="762120" y="228600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286000"/>
              <a:ext cx="0" cy="4038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62120" y="1752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43828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rät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43828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2120" y="4267080"/>
            <a:ext cx="7391160" cy="1981440"/>
            <a:chOff x="762120" y="4267080"/>
            <a:chExt cx="7391160" cy="1981440"/>
          </a:xfrm>
        </p:grpSpPr>
        <p:sp>
          <p:nvSpPr>
            <p:cNvPr id="112" name=""/>
            <p:cNvSpPr/>
            <p:nvPr/>
          </p:nvSpPr>
          <p:spPr>
            <a:xfrm>
              <a:off x="762120" y="556272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19520" y="556272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5720" y="5562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05720" y="42670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715000" y="4267080"/>
              <a:ext cx="990720" cy="12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617220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617220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61722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120" y="624852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19520" y="624852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05720" y="62485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105520" y="1676520"/>
            <a:ext cx="3809880" cy="2286000"/>
            <a:chOff x="5105520" y="1676520"/>
            <a:chExt cx="3809880" cy="2286000"/>
          </a:xfrm>
        </p:grpSpPr>
        <p:sp>
          <p:nvSpPr>
            <p:cNvPr id="124" name=""/>
            <p:cNvSpPr/>
            <p:nvPr/>
          </p:nvSpPr>
          <p:spPr>
            <a:xfrm>
              <a:off x="5105520" y="1676520"/>
              <a:ext cx="3809880" cy="2286000"/>
            </a:xfrm>
            <a:prstGeom prst="wedgeRoundRectCallout">
              <a:avLst>
                <a:gd name="adj1" fmla="val -20000"/>
                <a:gd name="adj2" fmla="val 8854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38680" y="2133720"/>
              <a:ext cx="2895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Times New Roman"/>
                </a:rPr>
                <a:t>Buchhalternase nicht vergesse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31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4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32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09480" y="304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3. Umwandlung eines Lieferverbindlichkeit in ein Darlehen, </a:t>
            </a: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4.500,00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Times New Roman"/>
              </a:rPr>
              <a:t>Passivtaus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33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31.3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4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3.2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34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4. Kauf eines Büroschranks gegen Barzahlung, 1.800,00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35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1.3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11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6.4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36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60948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5. Barabhebung vom Bankkonto, 3.200,00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5335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nerhalb eines Monats ereignen sich folgende Geschäftsfälle in der Firm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0574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uf eines Schreibtisches bar, 1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895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33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Umwandlung einer Liefererschuld in eine Darlehensschuld, 5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1148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ff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Kauf einer Maschine für die Produktion gegen Bankdarlehen, 20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3341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66ff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Banküberweisung an den Lieferer 2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62120" y="1752480"/>
            <a:ext cx="7696080" cy="4038480"/>
            <a:chOff x="762120" y="1752480"/>
            <a:chExt cx="7696080" cy="4038480"/>
          </a:xfrm>
        </p:grpSpPr>
        <p:sp>
          <p:nvSpPr>
            <p:cNvPr id="132" name=""/>
            <p:cNvSpPr/>
            <p:nvPr/>
          </p:nvSpPr>
          <p:spPr>
            <a:xfrm>
              <a:off x="762120" y="175248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5680" y="1752480"/>
              <a:ext cx="0" cy="403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62120" y="12952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rät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2120" y="3657600"/>
            <a:ext cx="7391160" cy="1981080"/>
            <a:chOff x="762120" y="3657600"/>
            <a:chExt cx="7391160" cy="1981080"/>
          </a:xfrm>
        </p:grpSpPr>
        <p:sp>
          <p:nvSpPr>
            <p:cNvPr id="138" name=""/>
            <p:cNvSpPr/>
            <p:nvPr/>
          </p:nvSpPr>
          <p:spPr>
            <a:xfrm>
              <a:off x="762120" y="49528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19520" y="49528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05720" y="49528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5720" y="36576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715000" y="3657600"/>
              <a:ext cx="9907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556236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520" y="556236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05720" y="556236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19520" y="56386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5720" y="56386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838080" y="228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uf eines Schreibtisches bar, 1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762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anach hat die Bilanz folgendes Ausseh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59436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iese Art der Bilanzänderung nennt m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762120" y="1752480"/>
            <a:ext cx="7696080" cy="4038480"/>
            <a:chOff x="762120" y="1752480"/>
            <a:chExt cx="7696080" cy="4038480"/>
          </a:xfrm>
        </p:grpSpPr>
        <p:sp>
          <p:nvSpPr>
            <p:cNvPr id="154" name=""/>
            <p:cNvSpPr/>
            <p:nvPr/>
          </p:nvSpPr>
          <p:spPr>
            <a:xfrm>
              <a:off x="762120" y="175248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1752480"/>
              <a:ext cx="0" cy="403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62120" y="12952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rät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14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3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62120" y="3657600"/>
            <a:ext cx="7391160" cy="1981080"/>
            <a:chOff x="762120" y="3657600"/>
            <a:chExt cx="7391160" cy="1981080"/>
          </a:xfrm>
        </p:grpSpPr>
        <p:sp>
          <p:nvSpPr>
            <p:cNvPr id="160" name=""/>
            <p:cNvSpPr/>
            <p:nvPr/>
          </p:nvSpPr>
          <p:spPr>
            <a:xfrm>
              <a:off x="762120" y="49528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9520" y="49528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05720" y="49528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05720" y="36576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5000" y="3657600"/>
              <a:ext cx="9907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556236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19520" y="556236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05720" y="556236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19520" y="56386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05720" y="56386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38080" y="838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anach hat die Bilanz folgendes Ausseh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59436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iese Art der Bilanzänderung nennt m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3300"/>
                </a:solidFill>
                <a:latin typeface="Times New Roman"/>
              </a:rPr>
              <a:t>Passivtaus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33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Umwandlung einer Liefererschuld in eine Darlehensschuld, 5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762120" y="1752480"/>
            <a:ext cx="7696080" cy="4038480"/>
            <a:chOff x="762120" y="1752480"/>
            <a:chExt cx="7696080" cy="4038480"/>
          </a:xfrm>
        </p:grpSpPr>
        <p:sp>
          <p:nvSpPr>
            <p:cNvPr id="176" name=""/>
            <p:cNvSpPr/>
            <p:nvPr/>
          </p:nvSpPr>
          <p:spPr>
            <a:xfrm>
              <a:off x="762120" y="175248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95680" y="1752480"/>
              <a:ext cx="0" cy="403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62120" y="12952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2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rät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34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62120" y="3657600"/>
            <a:ext cx="7391160" cy="1981080"/>
            <a:chOff x="762120" y="3657600"/>
            <a:chExt cx="7391160" cy="1981080"/>
          </a:xfrm>
        </p:grpSpPr>
        <p:sp>
          <p:nvSpPr>
            <p:cNvPr id="182" name=""/>
            <p:cNvSpPr/>
            <p:nvPr/>
          </p:nvSpPr>
          <p:spPr>
            <a:xfrm>
              <a:off x="762120" y="49528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9528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05720" y="49528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05720" y="36576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5715000" y="3657600"/>
              <a:ext cx="9907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20" y="556236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19520" y="556236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05720" y="556236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9520" y="56386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05720" y="56386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838080" y="838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anach hat die Bilanz folgendes Ausseh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59436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iese Art der Bilanzänderung nennt m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5867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ff00"/>
                </a:solidFill>
                <a:latin typeface="Times New Roman"/>
              </a:rPr>
              <a:t>Aktiv-Passiv-Mehru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ff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Kauf einer Maschine für die Produktion gegen Bankdarlehen, 20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762120" y="1752480"/>
            <a:ext cx="7696080" cy="4038480"/>
            <a:chOff x="762120" y="1752480"/>
            <a:chExt cx="7696080" cy="4038480"/>
          </a:xfrm>
        </p:grpSpPr>
        <p:sp>
          <p:nvSpPr>
            <p:cNvPr id="198" name=""/>
            <p:cNvSpPr/>
            <p:nvPr/>
          </p:nvSpPr>
          <p:spPr>
            <a:xfrm>
              <a:off x="762120" y="175248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5680" y="1752480"/>
              <a:ext cx="0" cy="403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62120" y="12952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rät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3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6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4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6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62120" y="3657600"/>
            <a:ext cx="7391160" cy="1981080"/>
            <a:chOff x="762120" y="3657600"/>
            <a:chExt cx="7391160" cy="1981080"/>
          </a:xfrm>
        </p:grpSpPr>
        <p:sp>
          <p:nvSpPr>
            <p:cNvPr id="204" name=""/>
            <p:cNvSpPr/>
            <p:nvPr/>
          </p:nvSpPr>
          <p:spPr>
            <a:xfrm>
              <a:off x="762120" y="49528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19520" y="49528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05720" y="49528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36576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715000" y="3657600"/>
              <a:ext cx="9907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36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19520" y="556236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720" y="556236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19520" y="56386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05720" y="56386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838080" y="838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anach hat die Bilanz folgendes Ausseh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59436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iese Art der Bilanzänderung nennt m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5867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ff"/>
                </a:solidFill>
                <a:latin typeface="Times New Roman"/>
              </a:rPr>
              <a:t>Aktiv-Passiv-Minderu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28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66ff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Banküberweisung an den Lieferer 2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BD00146_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600200" cy="1581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048120" y="457200"/>
            <a:ext cx="396216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Times New Roman"/>
              </a:rPr>
              <a:t>Merke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19810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Jeder Geschäftsfall verändert zwei Bilanzpos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2514600"/>
            <a:ext cx="8153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Es lassen sich vier mögliche Arten der </a:t>
            </a:r>
            <a:r>
              <a:rPr b="1" lang="de-DE" sz="2400" spc="-1" strike="noStrike" u="sng">
                <a:solidFill>
                  <a:srgbClr val="ffffff"/>
                </a:solidFill>
                <a:uFillTx/>
                <a:latin typeface="Times New Roman"/>
              </a:rPr>
              <a:t>Bilanzänderung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untersche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Passivtaus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Times New Roman"/>
              </a:rPr>
              <a:t>Aktiv-Passiv-Meh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ff"/>
                </a:solidFill>
                <a:latin typeface="Times New Roman"/>
              </a:rPr>
              <a:t>Aktiv-Passiv-Mind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54864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ie Bilanzgleichung bleibt immer erhalten:         </a:t>
            </a:r>
            <a:r>
              <a:rPr b="1" lang="de-DE" sz="2400" spc="-1" strike="noStrike">
                <a:solidFill>
                  <a:srgbClr val="00ffff"/>
                </a:solidFill>
                <a:latin typeface="Times New Roman"/>
              </a:rPr>
              <a:t>Summe der Aktiva = Summe der Pas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62120" y="1981080"/>
            <a:ext cx="8110800" cy="4528440"/>
            <a:chOff x="762120" y="1981080"/>
            <a:chExt cx="8110800" cy="4528440"/>
          </a:xfrm>
        </p:grpSpPr>
        <p:sp>
          <p:nvSpPr>
            <p:cNvPr id="225" name=""/>
            <p:cNvSpPr/>
            <p:nvPr/>
          </p:nvSpPr>
          <p:spPr>
            <a:xfrm>
              <a:off x="762120" y="1981080"/>
              <a:ext cx="7772400" cy="45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76280" indent="-476280">
                <a:spcBef>
                  <a:spcPts val="1500"/>
                </a:spcBef>
                <a:buClr>
                  <a:srgbClr val="ffffff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Jeder Geschäftsfall verändert zwei Bilanzposten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76280" indent="-476280">
                <a:spcBef>
                  <a:spcPts val="1500"/>
                </a:spcBef>
                <a:buClr>
                  <a:srgbClr val="ffffff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Es lassen sich vier mögliche Arten der </a:t>
              </a:r>
              <a:r>
                <a:rPr b="1" lang="de-DE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Bilanzänderung</a:t>
              </a: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 unterscheiden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1123920" indent="-457200">
                <a:lnSpc>
                  <a:spcPct val="100000"/>
                </a:lnSpc>
                <a:spcBef>
                  <a:spcPts val="1500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00"/>
                  </a:solidFill>
                  <a:latin typeface="Times New Roman"/>
                </a:rPr>
                <a:t>Aktivtaus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1123920" indent="-457200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3300"/>
                  </a:solidFill>
                  <a:latin typeface="Times New Roman"/>
                </a:rPr>
                <a:t>Passivtaus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1123920" indent="-457200">
                <a:lnSpc>
                  <a:spcPct val="100000"/>
                </a:lnSpc>
                <a:spcBef>
                  <a:spcPts val="1500"/>
                </a:spcBef>
                <a:buClr>
                  <a:srgbClr val="00ff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ff00"/>
                  </a:solidFill>
                  <a:latin typeface="Times New Roman"/>
                </a:rPr>
                <a:t>Aktiv-Passiv-Mehru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1123920" indent="-457200">
                <a:lnSpc>
                  <a:spcPct val="100000"/>
                </a:lnSpc>
                <a:spcBef>
                  <a:spcPts val="1500"/>
                </a:spcBef>
                <a:buClr>
                  <a:srgbClr val="ff66ff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66ff"/>
                  </a:solidFill>
                  <a:latin typeface="Times New Roman"/>
                </a:rPr>
                <a:t>Aktiv-Passiv-Minderu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76280" indent="-476280">
                <a:spcBef>
                  <a:spcPts val="1500"/>
                </a:spcBef>
                <a:buClr>
                  <a:srgbClr val="ffffff"/>
                </a:buClr>
                <a:buFont typeface="Times New Roman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Die Bilanzgleichung bleibt immer erhalten:     </a:t>
              </a: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de-DE" sz="2400" spc="-1" strike="noStrike">
                  <a:solidFill>
                    <a:srgbClr val="00ffff"/>
                  </a:solidFill>
                  <a:latin typeface="Times New Roman"/>
                </a:rPr>
                <a:t>Summe der Aktiva = Summe der Passiv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1480" y="3505320"/>
              <a:ext cx="76320" cy="914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06480" y="3733920"/>
              <a:ext cx="34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Die Bilanzsumme bleibt glei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7800" y="4648320"/>
              <a:ext cx="76320" cy="914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06480" y="4876920"/>
              <a:ext cx="335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Die Bilanzsumme ändert si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90720" y="51814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liver Bran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Fichtelgebirgsrealschule Marktredwi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(Oktober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German_t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3502080" cy="4724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909360" cy="1295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9:46:53Z</dcterms:created>
  <dc:creator>Oliver Brandt</dc:creator>
  <dc:description/>
  <dc:language>en-US</dc:language>
  <cp:lastModifiedBy>Oliver Brandt</cp:lastModifiedBy>
  <dcterms:modified xsi:type="dcterms:W3CDTF">2002-04-02T15:40:30Z</dcterms:modified>
  <cp:revision>20</cp:revision>
  <dc:subject/>
  <dc:title>Veränderung der Bilanz durch Geschäftsfälle</dc:title>
</cp:coreProperties>
</file>