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4A78-7D38-4FFE-AC64-ADB10CB98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7D64-2DF7-4E24-99B5-08D997E8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2172-6CDF-49E6-B3A3-73F3F5271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67A2-AD82-428C-BE62-D4D60327F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163C-A266-4945-A4FC-070575996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C69A-B4AD-493E-918D-F3BC8B2F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E93C-BCB7-4E8F-8CBB-7AD19F34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89F5-8595-40AC-AC98-9B20606C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A17A-8BA2-49A3-8324-5F7FA28D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6FC5-CE17-4E57-9587-9E481DD8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32DD-7B4B-4806-88A3-B27D5E4D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EC73-3BA0-4B34-81D4-2FFC29DB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5DA7-186A-4E1D-8C97-767FEED4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07DB-0656-420D-AC66-B050270D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F4E5-3E68-4451-976D-EE4F6C48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351C-D013-4B38-A7BD-D08161C8B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0C63-04DD-4FDB-BEBB-69F2F433D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CC2A-61A4-40EB-8699-0F0CB30E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27EE-FA31-4692-9B2F-66912D54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682B-B583-4C12-82C1-42A6D1FC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21FF-77EC-49DC-B559-16DB8640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359A-66A6-42DD-8E2C-522BB793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0E11-B0C6-4F28-BC70-C02DAD70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21F8-5A09-41A0-8A36-90522F66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EA5C-4C1A-4DB2-9E09-6502B3A05D03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0868-96D5-44E0-A124-C6EAE9A0D66B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380880"/>
            <a:ext cx="8381880" cy="283716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ffff00"/>
                </a:solidFill>
                <a:latin typeface="Tahoma"/>
              </a:rPr>
              <a:t>Veränderung der Bilanz durch Geschäftsfäll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3809880"/>
            <a:ext cx="60199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Presented by Fachschaft Wirtschaftswissenschaften der Fichtelgebirgsrealschule Marktredwit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© by O. Brand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German_t" descr=""/>
          <p:cNvPicPr/>
          <p:nvPr/>
        </p:nvPicPr>
        <p:blipFill>
          <a:blip r:embed="rId1"/>
          <a:stretch/>
        </p:blipFill>
        <p:spPr>
          <a:xfrm>
            <a:off x="493560" y="3352680"/>
            <a:ext cx="2428920" cy="3276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676520" y="4572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 u="sng">
                <a:solidFill>
                  <a:srgbClr val="ffcc66"/>
                </a:solidFill>
                <a:uFillTx/>
                <a:latin typeface="Times New Roman"/>
              </a:rPr>
              <a:t>Übungsaufgabe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2057400"/>
            <a:ext cx="76964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Kauf eines Lagerplatzes gegen Banküberweis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UGR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K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UGR (+)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K (-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00"/>
                </a:solidFill>
                <a:latin typeface="Times New Roman"/>
              </a:rPr>
              <a:t>Aktivtaus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ilanzsumme bleibt unverände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1066680"/>
            <a:ext cx="784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ffcc66"/>
                </a:solidFill>
                <a:uFillTx/>
                <a:latin typeface="Times New Roman"/>
              </a:rPr>
              <a:t>Aufgabe 1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Welche Art der Bilanzänderung liegt vo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4343400"/>
            <a:ext cx="76964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 startAt="2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Kauf eines Schreibtisches gegen Barzahl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A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K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A (+)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KA (-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00"/>
                </a:solidFill>
                <a:latin typeface="Times New Roman"/>
              </a:rPr>
              <a:t>Aktivtaus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ilanzsumme bleibt unverände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676520" y="4572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 u="sng">
                <a:solidFill>
                  <a:srgbClr val="ffcc66"/>
                </a:solidFill>
                <a:uFillTx/>
                <a:latin typeface="Times New Roman"/>
              </a:rPr>
              <a:t>Übungsaufgabe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2057400"/>
            <a:ext cx="76964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arverkauf eines gebrauchten Lieferwage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KA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FP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KA (+)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FP (-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00"/>
                </a:solidFill>
                <a:latin typeface="Times New Roman"/>
              </a:rPr>
              <a:t>Aktivtaus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ilanzsumme bleibt unverände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1066680"/>
            <a:ext cx="784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ffcc66"/>
                </a:solidFill>
                <a:uFillTx/>
                <a:latin typeface="Times New Roman"/>
              </a:rPr>
              <a:t>Aufgabe 1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Welche Art der Bilanzänderung liegt vo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4343400"/>
            <a:ext cx="76964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Kauf einer Bürocomputeranlage auf Zi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A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V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A (+)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VE (+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00ff00"/>
                </a:solidFill>
                <a:latin typeface="Times New Roman"/>
              </a:rPr>
              <a:t>Aktiv-Passiv-Mehr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ilanzsumme erhöht si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676520" y="4572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 u="sng">
                <a:solidFill>
                  <a:srgbClr val="ffcc66"/>
                </a:solidFill>
                <a:uFillTx/>
                <a:latin typeface="Times New Roman"/>
              </a:rPr>
              <a:t>Übungsaufgabe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2057400"/>
            <a:ext cx="76964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 startAt="5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bhebung vom Bankko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KA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K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KA (+)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K (-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00"/>
                </a:solidFill>
                <a:latin typeface="Times New Roman"/>
              </a:rPr>
              <a:t>Aktivtaus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ilanzsumme bleibt unverände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1066680"/>
            <a:ext cx="784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ffcc66"/>
                </a:solidFill>
                <a:uFillTx/>
                <a:latin typeface="Times New Roman"/>
              </a:rPr>
              <a:t>Aufgabe 1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Welche Art der Bilanzänderung liegt vo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4343400"/>
            <a:ext cx="76964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 startAt="6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anküberweisung an den Liefer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K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V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K (-)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VE (-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66ff"/>
                </a:solidFill>
                <a:latin typeface="Times New Roman"/>
              </a:rPr>
              <a:t>Aktiv-Passiv-Minder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ilanzsumme erniedrigt si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676520" y="4572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 u="sng">
                <a:solidFill>
                  <a:srgbClr val="ffcc66"/>
                </a:solidFill>
                <a:uFillTx/>
                <a:latin typeface="Times New Roman"/>
              </a:rPr>
              <a:t>Übungsaufgabe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2057400"/>
            <a:ext cx="76964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 startAt="7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Kauf eines unbebauten Grundstückes durch Banküberweis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UGR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K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UGR (+)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K (-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00"/>
                </a:solidFill>
                <a:latin typeface="Times New Roman"/>
              </a:rPr>
              <a:t>Aktivtaus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ilanzsumme bleibt unverände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1066680"/>
            <a:ext cx="784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ffcc66"/>
                </a:solidFill>
                <a:uFillTx/>
                <a:latin typeface="Times New Roman"/>
              </a:rPr>
              <a:t>Aufgabe 1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Welche Art der Bilanzänderung liegt vo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4343400"/>
            <a:ext cx="76964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 startAt="8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ie Bank gewährt uns ein langfristiges Darlehen; Gutschrift auf dem Bankko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K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BKV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K (+)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BKV (+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00ff00"/>
                </a:solidFill>
                <a:latin typeface="Times New Roman"/>
              </a:rPr>
              <a:t>Aktiv-Passiv-Mehr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ilanzsumme erhöht si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676520" y="4572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 u="sng">
                <a:solidFill>
                  <a:srgbClr val="ffcc66"/>
                </a:solidFill>
                <a:uFillTx/>
                <a:latin typeface="Times New Roman"/>
              </a:rPr>
              <a:t>Übungsaufgabe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480" y="2057400"/>
            <a:ext cx="76964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 startAt="9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areinzahlung auf das Bankko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KA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K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KA (-)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K (+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00"/>
                </a:solidFill>
                <a:latin typeface="Times New Roman"/>
              </a:rPr>
              <a:t>Aktivtaus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ilanzsumme bleibt unverände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1066680"/>
            <a:ext cx="784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ffcc66"/>
                </a:solidFill>
                <a:uFillTx/>
                <a:latin typeface="Times New Roman"/>
              </a:rPr>
              <a:t>Aufgabe 1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Welche Art der Bilanzänderung liegt vo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9480" y="4343400"/>
            <a:ext cx="76964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 startAt="10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eilrückzahlung einer langfristigen Bankverbindlichkeit b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KA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BKV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KA (-)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BKV (-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66ff"/>
                </a:solidFill>
                <a:latin typeface="Times New Roman"/>
              </a:rPr>
              <a:t>Aktiv-Passiv-Minder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ilanzsumme erniedrigt si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676520" y="4572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 u="sng">
                <a:solidFill>
                  <a:srgbClr val="ffcc66"/>
                </a:solidFill>
                <a:uFillTx/>
                <a:latin typeface="Times New Roman"/>
              </a:rPr>
              <a:t>Übungsaufgabe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2057400"/>
            <a:ext cx="76964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 startAt="11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Umwandlung einer kurzfristigen Bankverbindlichkeit in eine langfristige Bankverbindlichke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KBKV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BKV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BKV (-)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BKV (+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3300"/>
                </a:solidFill>
                <a:latin typeface="Times New Roman"/>
              </a:rPr>
              <a:t>Passivtaus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ilanzsumme bleibt unverände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1066680"/>
            <a:ext cx="784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ffcc66"/>
                </a:solidFill>
                <a:uFillTx/>
                <a:latin typeface="Times New Roman"/>
              </a:rPr>
              <a:t>Aufgabe 1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Welche Art der Bilanzänderung liegt vo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676520" y="4572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 u="sng">
                <a:solidFill>
                  <a:srgbClr val="ffcc66"/>
                </a:solidFill>
                <a:uFillTx/>
                <a:latin typeface="Times New Roman"/>
              </a:rPr>
              <a:t>Übungsaufgabe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066680"/>
            <a:ext cx="784872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r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ffcc66"/>
                </a:solidFill>
                <a:uFillTx/>
                <a:latin typeface="Times New Roman"/>
              </a:rPr>
              <a:t>Aufgabe 2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r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Erstelle aus den folgenden Beständen die Bilanz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r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EK </a:t>
            </a: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??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r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BA </a:t>
            </a: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29.500,00 E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r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LBKV </a:t>
            </a: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25.000,00 E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r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MA </a:t>
            </a: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56.200,00 E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r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KA</a:t>
            </a: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6.500,00 E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r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VE</a:t>
            </a: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14.200,00 E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r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BK</a:t>
            </a: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cc66"/>
                </a:solidFill>
                <a:latin typeface="Times New Roman"/>
              </a:rPr>
              <a:t>16.900,00 E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685800" y="1676520"/>
            <a:ext cx="7696080" cy="3580920"/>
            <a:chOff x="685800" y="1676520"/>
            <a:chExt cx="7696080" cy="3580920"/>
          </a:xfrm>
        </p:grpSpPr>
        <p:sp>
          <p:nvSpPr>
            <p:cNvPr id="259" name=""/>
            <p:cNvSpPr/>
            <p:nvPr/>
          </p:nvSpPr>
          <p:spPr>
            <a:xfrm>
              <a:off x="685800" y="1676520"/>
              <a:ext cx="769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419360" y="1676520"/>
              <a:ext cx="0" cy="358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762120" y="12193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ctr" pos="3627360"/>
                <a:tab algn="r" pos="751824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Aktiv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ilanz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Pass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1828800"/>
            <a:ext cx="3657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M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56.2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29.5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K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6.9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K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6.5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09.1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48320" y="1828800"/>
            <a:ext cx="3657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EK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69.9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LBKV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25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4.2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09.1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685800" y="3581280"/>
            <a:ext cx="7467120" cy="1295640"/>
            <a:chOff x="685800" y="3581280"/>
            <a:chExt cx="7467120" cy="1295640"/>
          </a:xfrm>
        </p:grpSpPr>
        <p:sp>
          <p:nvSpPr>
            <p:cNvPr id="265" name=""/>
            <p:cNvSpPr/>
            <p:nvPr/>
          </p:nvSpPr>
          <p:spPr>
            <a:xfrm>
              <a:off x="685800" y="4428360"/>
              <a:ext cx="153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64440" y="4428360"/>
              <a:ext cx="29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90600" y="442836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90600" y="358128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5689800" y="3581280"/>
              <a:ext cx="1000800" cy="847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5800" y="4826880"/>
              <a:ext cx="153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64440" y="4826880"/>
              <a:ext cx="29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690600" y="482688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5800" y="4876920"/>
              <a:ext cx="153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64440" y="4876920"/>
              <a:ext cx="29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690600" y="487692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90920" y="3049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 u="sng">
                <a:solidFill>
                  <a:srgbClr val="ffffff"/>
                </a:solidFill>
                <a:uFillTx/>
                <a:latin typeface="Times New Roman"/>
              </a:rPr>
              <a:t>Lösung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14400" y="54864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cc66"/>
                </a:solidFill>
                <a:latin typeface="Times New Roman"/>
              </a:rPr>
              <a:t>Stelle nach jedem der folgenden Geschäftsfälle eine neue Bilanz auf 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"/>
          <p:cNvGrpSpPr/>
          <p:nvPr/>
        </p:nvGrpSpPr>
        <p:grpSpPr>
          <a:xfrm>
            <a:off x="685800" y="1676520"/>
            <a:ext cx="7696080" cy="3580920"/>
            <a:chOff x="685800" y="1676520"/>
            <a:chExt cx="7696080" cy="3580920"/>
          </a:xfrm>
        </p:grpSpPr>
        <p:sp>
          <p:nvSpPr>
            <p:cNvPr id="279" name=""/>
            <p:cNvSpPr/>
            <p:nvPr/>
          </p:nvSpPr>
          <p:spPr>
            <a:xfrm>
              <a:off x="685800" y="1676520"/>
              <a:ext cx="769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419360" y="1676520"/>
              <a:ext cx="0" cy="358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762120" y="12193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ctr" pos="3627360"/>
                <a:tab algn="r" pos="751824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Aktiv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ilanz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Pass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2120" y="1828800"/>
            <a:ext cx="3657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MA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57.7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29.5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K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6.9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KA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5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09.1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48320" y="1828800"/>
            <a:ext cx="3657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EK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69.9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LBKV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25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4.2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09.1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85800" y="3581280"/>
            <a:ext cx="7467120" cy="1295640"/>
            <a:chOff x="685800" y="3581280"/>
            <a:chExt cx="7467120" cy="1295640"/>
          </a:xfrm>
        </p:grpSpPr>
        <p:sp>
          <p:nvSpPr>
            <p:cNvPr id="285" name=""/>
            <p:cNvSpPr/>
            <p:nvPr/>
          </p:nvSpPr>
          <p:spPr>
            <a:xfrm>
              <a:off x="685800" y="4428360"/>
              <a:ext cx="153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64440" y="4428360"/>
              <a:ext cx="29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690600" y="442836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90600" y="358128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5689800" y="3581280"/>
              <a:ext cx="1000800" cy="847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85800" y="4826880"/>
              <a:ext cx="153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764440" y="4826880"/>
              <a:ext cx="29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690600" y="482688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85800" y="4876920"/>
              <a:ext cx="153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64440" y="4876920"/>
              <a:ext cx="29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690600" y="487692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609480" y="3049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66"/>
                </a:solidFill>
                <a:latin typeface="Times New Roman"/>
              </a:rPr>
              <a:t>1. Barkauf einer Bohrmaschine, 1.500,00 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14400" y="54864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Times New Roman"/>
              </a:rPr>
              <a:t>Aktivtaus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685800" y="1676520"/>
            <a:ext cx="7696080" cy="3580920"/>
            <a:chOff x="685800" y="1676520"/>
            <a:chExt cx="7696080" cy="3580920"/>
          </a:xfrm>
        </p:grpSpPr>
        <p:sp>
          <p:nvSpPr>
            <p:cNvPr id="299" name=""/>
            <p:cNvSpPr/>
            <p:nvPr/>
          </p:nvSpPr>
          <p:spPr>
            <a:xfrm>
              <a:off x="685800" y="1676520"/>
              <a:ext cx="769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419360" y="1676520"/>
              <a:ext cx="0" cy="358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762120" y="12193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ctr" pos="3627360"/>
                <a:tab algn="r" pos="751824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Aktiv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ilanz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Pass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2120" y="1828800"/>
            <a:ext cx="3657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M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57.7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29.5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ff"/>
                </a:solidFill>
                <a:latin typeface="Times New Roman"/>
              </a:rPr>
              <a:t>BK</a:t>
            </a:r>
            <a:r>
              <a:rPr b="0" lang="de-DE" sz="28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66ff"/>
                </a:solidFill>
                <a:latin typeface="Times New Roman"/>
              </a:rPr>
              <a:t>14.9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K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5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07.1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648320" y="1828800"/>
            <a:ext cx="3657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EK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69.9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LBKV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25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ff"/>
                </a:solidFill>
                <a:latin typeface="Times New Roman"/>
              </a:rPr>
              <a:t>VE</a:t>
            </a:r>
            <a:r>
              <a:rPr b="0" lang="de-DE" sz="28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66ff"/>
                </a:solidFill>
                <a:latin typeface="Times New Roman"/>
              </a:rPr>
              <a:t>12.2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07.1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685800" y="3581280"/>
            <a:ext cx="7467120" cy="1295640"/>
            <a:chOff x="685800" y="3581280"/>
            <a:chExt cx="7467120" cy="1295640"/>
          </a:xfrm>
        </p:grpSpPr>
        <p:sp>
          <p:nvSpPr>
            <p:cNvPr id="305" name=""/>
            <p:cNvSpPr/>
            <p:nvPr/>
          </p:nvSpPr>
          <p:spPr>
            <a:xfrm>
              <a:off x="685800" y="4428360"/>
              <a:ext cx="153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64440" y="4428360"/>
              <a:ext cx="29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690600" y="442836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690600" y="358128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5689800" y="3581280"/>
              <a:ext cx="1000800" cy="847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85800" y="4826880"/>
              <a:ext cx="153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764440" y="4826880"/>
              <a:ext cx="29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690600" y="482688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5800" y="4876920"/>
              <a:ext cx="153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64440" y="4876920"/>
              <a:ext cx="29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90600" y="487692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609480" y="3049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66"/>
                </a:solidFill>
                <a:latin typeface="Times New Roman"/>
              </a:rPr>
              <a:t>2. Banküberweisung an den Lieferer, 2.000,00 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14400" y="54864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66ff"/>
                </a:solidFill>
                <a:latin typeface="Times New Roman"/>
              </a:rPr>
              <a:t>Aktiv-Passiv-Minderu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Die Firma Isabella Ruba &amp; Jessica Wölfl erstellt folgende vereinfachte Bilanz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2286000"/>
            <a:ext cx="7696080" cy="4038120"/>
            <a:chOff x="762120" y="2286000"/>
            <a:chExt cx="7696080" cy="4038120"/>
          </a:xfrm>
        </p:grpSpPr>
        <p:sp>
          <p:nvSpPr>
            <p:cNvPr id="106" name=""/>
            <p:cNvSpPr/>
            <p:nvPr/>
          </p:nvSpPr>
          <p:spPr>
            <a:xfrm>
              <a:off x="762120" y="2286000"/>
              <a:ext cx="769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286000"/>
              <a:ext cx="0" cy="4038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762120" y="17524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ctr" pos="3627360"/>
                <a:tab algn="r" pos="751824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Aktiv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ilanz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Pass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2438280"/>
            <a:ext cx="3657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M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8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8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orrät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5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K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5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K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2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38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2438280"/>
            <a:ext cx="3657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EK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21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LBKV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9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8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38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62120" y="4267080"/>
            <a:ext cx="7391160" cy="1981440"/>
            <a:chOff x="762120" y="4267080"/>
            <a:chExt cx="7391160" cy="1981440"/>
          </a:xfrm>
        </p:grpSpPr>
        <p:sp>
          <p:nvSpPr>
            <p:cNvPr id="112" name=""/>
            <p:cNvSpPr/>
            <p:nvPr/>
          </p:nvSpPr>
          <p:spPr>
            <a:xfrm>
              <a:off x="762120" y="556272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19520" y="5562720"/>
              <a:ext cx="2895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705720" y="556272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05720" y="426708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5715000" y="4267080"/>
              <a:ext cx="990720" cy="12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2120" y="617220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19520" y="6172200"/>
              <a:ext cx="2895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05720" y="617220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120" y="624852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19520" y="6248520"/>
              <a:ext cx="2895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05720" y="624852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105520" y="1676520"/>
            <a:ext cx="3809880" cy="2286000"/>
            <a:chOff x="5105520" y="1676520"/>
            <a:chExt cx="3809880" cy="2286000"/>
          </a:xfrm>
        </p:grpSpPr>
        <p:sp>
          <p:nvSpPr>
            <p:cNvPr id="124" name=""/>
            <p:cNvSpPr/>
            <p:nvPr/>
          </p:nvSpPr>
          <p:spPr>
            <a:xfrm>
              <a:off x="5105520" y="1676520"/>
              <a:ext cx="3809880" cy="2286000"/>
            </a:xfrm>
            <a:prstGeom prst="wedgeRoundRectCallout">
              <a:avLst>
                <a:gd name="adj1" fmla="val -20000"/>
                <a:gd name="adj2" fmla="val 88541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38680" y="2133720"/>
              <a:ext cx="2895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Times New Roman"/>
                </a:rPr>
                <a:t>Buchhalternase nicht vergesse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685800" y="1676520"/>
            <a:ext cx="7696080" cy="3580920"/>
            <a:chOff x="685800" y="1676520"/>
            <a:chExt cx="7696080" cy="3580920"/>
          </a:xfrm>
        </p:grpSpPr>
        <p:sp>
          <p:nvSpPr>
            <p:cNvPr id="319" name=""/>
            <p:cNvSpPr/>
            <p:nvPr/>
          </p:nvSpPr>
          <p:spPr>
            <a:xfrm>
              <a:off x="685800" y="1676520"/>
              <a:ext cx="769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419360" y="1676520"/>
              <a:ext cx="0" cy="358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762120" y="12193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ctr" pos="3627360"/>
                <a:tab algn="r" pos="751824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Aktiv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ilanz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Pass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62120" y="1828800"/>
            <a:ext cx="3657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M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57.7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29.5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K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4.9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K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5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07.1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48320" y="1828800"/>
            <a:ext cx="3657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EK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69.9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Times New Roman"/>
              </a:rPr>
              <a:t>LBKV</a:t>
            </a:r>
            <a:r>
              <a:rPr b="0" lang="de-DE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3300"/>
                </a:solidFill>
                <a:latin typeface="Times New Roman"/>
              </a:rPr>
              <a:t>29.5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Times New Roman"/>
              </a:rPr>
              <a:t>VE</a:t>
            </a:r>
            <a:r>
              <a:rPr b="0" lang="de-DE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3300"/>
                </a:solidFill>
                <a:latin typeface="Times New Roman"/>
              </a:rPr>
              <a:t>7.7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07.1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685800" y="3581280"/>
            <a:ext cx="7467120" cy="1295640"/>
            <a:chOff x="685800" y="3581280"/>
            <a:chExt cx="7467120" cy="1295640"/>
          </a:xfrm>
        </p:grpSpPr>
        <p:sp>
          <p:nvSpPr>
            <p:cNvPr id="325" name=""/>
            <p:cNvSpPr/>
            <p:nvPr/>
          </p:nvSpPr>
          <p:spPr>
            <a:xfrm>
              <a:off x="685800" y="4428360"/>
              <a:ext cx="153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764440" y="4428360"/>
              <a:ext cx="29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690600" y="442836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90600" y="358128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5689800" y="3581280"/>
              <a:ext cx="1000800" cy="847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85800" y="4826880"/>
              <a:ext cx="153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64440" y="4826880"/>
              <a:ext cx="29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690600" y="482688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85800" y="4876920"/>
              <a:ext cx="153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764440" y="4876920"/>
              <a:ext cx="29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690600" y="487692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609480" y="3049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66"/>
                </a:solidFill>
                <a:latin typeface="Times New Roman"/>
              </a:rPr>
              <a:t>3. Umwandlung eines Lieferverbindlichkeit in ein Darlehen, </a:t>
            </a:r>
            <a:r>
              <a:rPr b="1" lang="de-DE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ffcc66"/>
                </a:solidFill>
                <a:latin typeface="Times New Roman"/>
              </a:rPr>
              <a:t>4.500,00 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14400" y="54864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Times New Roman"/>
              </a:rPr>
              <a:t>Passivtaus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"/>
          <p:cNvGrpSpPr/>
          <p:nvPr/>
        </p:nvGrpSpPr>
        <p:grpSpPr>
          <a:xfrm>
            <a:off x="685800" y="1676520"/>
            <a:ext cx="7696080" cy="3580920"/>
            <a:chOff x="685800" y="1676520"/>
            <a:chExt cx="7696080" cy="3580920"/>
          </a:xfrm>
        </p:grpSpPr>
        <p:sp>
          <p:nvSpPr>
            <p:cNvPr id="339" name=""/>
            <p:cNvSpPr/>
            <p:nvPr/>
          </p:nvSpPr>
          <p:spPr>
            <a:xfrm>
              <a:off x="685800" y="1676520"/>
              <a:ext cx="769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419360" y="1676520"/>
              <a:ext cx="0" cy="358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762120" y="12193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ctr" pos="3627360"/>
                <a:tab algn="r" pos="751824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Aktiv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ilanz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Pass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62120" y="1828800"/>
            <a:ext cx="3657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M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57.7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BA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31.3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K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4.9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KA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3.2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07.1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648320" y="1828800"/>
            <a:ext cx="3657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EK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69.9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LBKV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29.5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7.7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07.1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685800" y="3581280"/>
            <a:ext cx="7467120" cy="1295640"/>
            <a:chOff x="685800" y="3581280"/>
            <a:chExt cx="7467120" cy="1295640"/>
          </a:xfrm>
        </p:grpSpPr>
        <p:sp>
          <p:nvSpPr>
            <p:cNvPr id="345" name=""/>
            <p:cNvSpPr/>
            <p:nvPr/>
          </p:nvSpPr>
          <p:spPr>
            <a:xfrm>
              <a:off x="685800" y="4428360"/>
              <a:ext cx="153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64440" y="4428360"/>
              <a:ext cx="29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690600" y="442836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90600" y="358128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5689800" y="3581280"/>
              <a:ext cx="1000800" cy="847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85800" y="4826880"/>
              <a:ext cx="153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764440" y="4826880"/>
              <a:ext cx="29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690600" y="482688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85800" y="4876920"/>
              <a:ext cx="153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764440" y="4876920"/>
              <a:ext cx="29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690600" y="487692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609480" y="304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66"/>
                </a:solidFill>
                <a:latin typeface="Times New Roman"/>
              </a:rPr>
              <a:t>4. Kauf eines Büroschranks gegen Barzahlung, 1.800,00 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914400" y="54864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Times New Roman"/>
              </a:rPr>
              <a:t>Aktivtaus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"/>
          <p:cNvGrpSpPr/>
          <p:nvPr/>
        </p:nvGrpSpPr>
        <p:grpSpPr>
          <a:xfrm>
            <a:off x="685800" y="1676520"/>
            <a:ext cx="7696080" cy="3580920"/>
            <a:chOff x="685800" y="1676520"/>
            <a:chExt cx="7696080" cy="3580920"/>
          </a:xfrm>
        </p:grpSpPr>
        <p:sp>
          <p:nvSpPr>
            <p:cNvPr id="359" name=""/>
            <p:cNvSpPr/>
            <p:nvPr/>
          </p:nvSpPr>
          <p:spPr>
            <a:xfrm>
              <a:off x="685800" y="1676520"/>
              <a:ext cx="769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419360" y="1676520"/>
              <a:ext cx="0" cy="358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762120" y="12193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ctr" pos="3627360"/>
                <a:tab algn="r" pos="751824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Aktiv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ilanz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Pass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62120" y="1828800"/>
            <a:ext cx="3657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M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57.7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31.3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BK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11.7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KA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6.4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07.1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648320" y="1828800"/>
            <a:ext cx="3657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EK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69.9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LBKV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29.5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7.7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07.1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685800" y="3581280"/>
            <a:ext cx="7467120" cy="1295640"/>
            <a:chOff x="685800" y="3581280"/>
            <a:chExt cx="7467120" cy="1295640"/>
          </a:xfrm>
        </p:grpSpPr>
        <p:sp>
          <p:nvSpPr>
            <p:cNvPr id="365" name=""/>
            <p:cNvSpPr/>
            <p:nvPr/>
          </p:nvSpPr>
          <p:spPr>
            <a:xfrm>
              <a:off x="685800" y="4428360"/>
              <a:ext cx="153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764440" y="4428360"/>
              <a:ext cx="29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690600" y="442836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690600" y="358128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5689800" y="3581280"/>
              <a:ext cx="1000800" cy="847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85800" y="4826880"/>
              <a:ext cx="153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764440" y="4826880"/>
              <a:ext cx="29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690600" y="482688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85800" y="4876920"/>
              <a:ext cx="153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764440" y="4876920"/>
              <a:ext cx="29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690600" y="4876920"/>
              <a:ext cx="146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609480" y="304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66"/>
                </a:solidFill>
                <a:latin typeface="Times New Roman"/>
              </a:rPr>
              <a:t>5. Barabhebung vom Bankkonto, 3.200,00 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914400" y="54864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Times New Roman"/>
              </a:rPr>
              <a:t>Aktivtaus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90720" y="53352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Innerhalb eines Monats ereignen sich folgende Geschäftsfälle in der Firma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20574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Kauf eines Schreibtisches bar, 1.000,00 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28954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33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Times New Roman"/>
              </a:rPr>
              <a:t>Umwandlung einer Liefererschuld in eine Darlehensschuld, 5.000,00 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411480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ff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ff00"/>
                </a:solidFill>
                <a:latin typeface="Times New Roman"/>
              </a:rPr>
              <a:t>Kauf einer Maschine für die Produktion gegen Bankdarlehen, 20.000,00 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533412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66ff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ff"/>
                </a:solidFill>
                <a:latin typeface="Times New Roman"/>
              </a:rPr>
              <a:t>Banküberweisung an den Lieferer 2.000,00 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762120" y="1752480"/>
            <a:ext cx="7696080" cy="4038480"/>
            <a:chOff x="762120" y="1752480"/>
            <a:chExt cx="7696080" cy="4038480"/>
          </a:xfrm>
        </p:grpSpPr>
        <p:sp>
          <p:nvSpPr>
            <p:cNvPr id="132" name=""/>
            <p:cNvSpPr/>
            <p:nvPr/>
          </p:nvSpPr>
          <p:spPr>
            <a:xfrm>
              <a:off x="762120" y="1752480"/>
              <a:ext cx="769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95680" y="1752480"/>
              <a:ext cx="0" cy="4038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762120" y="12952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ctr" pos="3627360"/>
                <a:tab algn="r" pos="751824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Aktiv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ilanz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Pass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905120"/>
            <a:ext cx="3657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M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8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BA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9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orrät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5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K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5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KA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1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38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48320" y="1905120"/>
            <a:ext cx="3657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EK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21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LBKV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9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8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38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62120" y="3657600"/>
            <a:ext cx="7391160" cy="1981080"/>
            <a:chOff x="762120" y="3657600"/>
            <a:chExt cx="7391160" cy="1981080"/>
          </a:xfrm>
        </p:grpSpPr>
        <p:sp>
          <p:nvSpPr>
            <p:cNvPr id="138" name=""/>
            <p:cNvSpPr/>
            <p:nvPr/>
          </p:nvSpPr>
          <p:spPr>
            <a:xfrm>
              <a:off x="762120" y="495288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19520" y="4952880"/>
              <a:ext cx="2895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05720" y="495288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5720" y="365760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5715000" y="3657600"/>
              <a:ext cx="990720" cy="12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62120" y="556236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19520" y="5562360"/>
              <a:ext cx="2895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05720" y="556236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2120" y="563868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19520" y="5638680"/>
              <a:ext cx="2895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05720" y="563868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838080" y="2286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Kauf eines Schreibtisches bar, 1.000,00 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7621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Danach hat die Bilanz folgendes Ausseh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59436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Diese Art der Bilanzänderung nennt ma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5867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00"/>
                </a:solidFill>
                <a:latin typeface="Times New Roman"/>
              </a:rPr>
              <a:t>Aktivtaus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762120" y="1752480"/>
            <a:ext cx="7696080" cy="4038480"/>
            <a:chOff x="762120" y="1752480"/>
            <a:chExt cx="7696080" cy="4038480"/>
          </a:xfrm>
        </p:grpSpPr>
        <p:sp>
          <p:nvSpPr>
            <p:cNvPr id="154" name=""/>
            <p:cNvSpPr/>
            <p:nvPr/>
          </p:nvSpPr>
          <p:spPr>
            <a:xfrm>
              <a:off x="762120" y="1752480"/>
              <a:ext cx="769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1752480"/>
              <a:ext cx="0" cy="4038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762120" y="12952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ctr" pos="3627360"/>
                <a:tab algn="r" pos="751824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Aktiv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ilanz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Pass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905120"/>
            <a:ext cx="3657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M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8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9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orrät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5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K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5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K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38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1905120"/>
            <a:ext cx="3657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EK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21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Times New Roman"/>
              </a:rPr>
              <a:t>LBKV</a:t>
            </a:r>
            <a:r>
              <a:rPr b="0" lang="de-DE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3300"/>
                </a:solidFill>
                <a:latin typeface="Times New Roman"/>
              </a:rPr>
              <a:t>14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Times New Roman"/>
              </a:rPr>
              <a:t>VE</a:t>
            </a:r>
            <a:r>
              <a:rPr b="0" lang="de-DE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3300"/>
                </a:solidFill>
                <a:latin typeface="Times New Roman"/>
              </a:rPr>
              <a:t>3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38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762120" y="3657600"/>
            <a:ext cx="7391160" cy="1981080"/>
            <a:chOff x="762120" y="3657600"/>
            <a:chExt cx="7391160" cy="1981080"/>
          </a:xfrm>
        </p:grpSpPr>
        <p:sp>
          <p:nvSpPr>
            <p:cNvPr id="160" name=""/>
            <p:cNvSpPr/>
            <p:nvPr/>
          </p:nvSpPr>
          <p:spPr>
            <a:xfrm>
              <a:off x="762120" y="495288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19520" y="4952880"/>
              <a:ext cx="2895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705720" y="495288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05720" y="365760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5715000" y="3657600"/>
              <a:ext cx="990720" cy="12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2120" y="556236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19520" y="5562360"/>
              <a:ext cx="2895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705720" y="556236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2120" y="563868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19520" y="5638680"/>
              <a:ext cx="2895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705720" y="563868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838080" y="8380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Danach hat die Bilanz folgendes Ausseh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59436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Diese Art der Bilanzänderung nennt ma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09680" y="5867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3300"/>
                </a:solidFill>
                <a:latin typeface="Times New Roman"/>
              </a:rPr>
              <a:t>Passivtaus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33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Times New Roman"/>
              </a:rPr>
              <a:t>Umwandlung einer Liefererschuld in eine Darlehensschuld, 5.000,00 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762120" y="1752480"/>
            <a:ext cx="7696080" cy="4038480"/>
            <a:chOff x="762120" y="1752480"/>
            <a:chExt cx="7696080" cy="4038480"/>
          </a:xfrm>
        </p:grpSpPr>
        <p:sp>
          <p:nvSpPr>
            <p:cNvPr id="176" name=""/>
            <p:cNvSpPr/>
            <p:nvPr/>
          </p:nvSpPr>
          <p:spPr>
            <a:xfrm>
              <a:off x="762120" y="1752480"/>
              <a:ext cx="769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495680" y="1752480"/>
              <a:ext cx="0" cy="4038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762120" y="12952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ctr" pos="3627360"/>
                <a:tab algn="r" pos="751824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Aktiv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ilanz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Pass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1905120"/>
            <a:ext cx="3657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ff00"/>
                </a:solidFill>
                <a:latin typeface="Times New Roman"/>
              </a:rPr>
              <a:t>MA</a:t>
            </a:r>
            <a:r>
              <a:rPr b="0" lang="de-DE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ff00"/>
                </a:solidFill>
                <a:latin typeface="Times New Roman"/>
              </a:rPr>
              <a:t>28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9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orrät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5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K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5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K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58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48320" y="1905120"/>
            <a:ext cx="3657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EK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21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ff00"/>
                </a:solidFill>
                <a:latin typeface="Times New Roman"/>
              </a:rPr>
              <a:t>LBKV</a:t>
            </a:r>
            <a:r>
              <a:rPr b="0" lang="de-DE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ff00"/>
                </a:solidFill>
                <a:latin typeface="Times New Roman"/>
              </a:rPr>
              <a:t>34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3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58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762120" y="3657600"/>
            <a:ext cx="7391160" cy="1981080"/>
            <a:chOff x="762120" y="3657600"/>
            <a:chExt cx="7391160" cy="1981080"/>
          </a:xfrm>
        </p:grpSpPr>
        <p:sp>
          <p:nvSpPr>
            <p:cNvPr id="182" name=""/>
            <p:cNvSpPr/>
            <p:nvPr/>
          </p:nvSpPr>
          <p:spPr>
            <a:xfrm>
              <a:off x="762120" y="495288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19520" y="4952880"/>
              <a:ext cx="2895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05720" y="495288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705720" y="365760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5715000" y="3657600"/>
              <a:ext cx="990720" cy="12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2120" y="556236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19520" y="5562360"/>
              <a:ext cx="2895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05720" y="556236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62120" y="563868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19520" y="5638680"/>
              <a:ext cx="2895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705720" y="563868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838080" y="8380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Danach hat die Bilanz folgendes Ausseh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2120" y="59436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Diese Art der Bilanzänderung nennt ma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58672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ff00"/>
                </a:solidFill>
                <a:latin typeface="Times New Roman"/>
              </a:rPr>
              <a:t>Aktiv-Passiv-Mehru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ff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ff00"/>
                </a:solidFill>
                <a:latin typeface="Times New Roman"/>
              </a:rPr>
              <a:t>Kauf einer Maschine für die Produktion gegen Bankdarlehen, 20.000,00 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762120" y="1752480"/>
            <a:ext cx="7696080" cy="4038480"/>
            <a:chOff x="762120" y="1752480"/>
            <a:chExt cx="7696080" cy="4038480"/>
          </a:xfrm>
        </p:grpSpPr>
        <p:sp>
          <p:nvSpPr>
            <p:cNvPr id="198" name=""/>
            <p:cNvSpPr/>
            <p:nvPr/>
          </p:nvSpPr>
          <p:spPr>
            <a:xfrm>
              <a:off x="762120" y="1752480"/>
              <a:ext cx="769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495680" y="1752480"/>
              <a:ext cx="0" cy="4038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762120" y="12952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ctr" pos="3627360"/>
                <a:tab algn="r" pos="751824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Aktiv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ilanz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Pass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1905120"/>
            <a:ext cx="3657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M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28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9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orrät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5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ff"/>
                </a:solidFill>
                <a:latin typeface="Times New Roman"/>
              </a:rPr>
              <a:t>BK</a:t>
            </a:r>
            <a:r>
              <a:rPr b="0" lang="de-DE" sz="28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66ff"/>
                </a:solidFill>
                <a:latin typeface="Times New Roman"/>
              </a:rPr>
              <a:t>3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KA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56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48320" y="1905120"/>
            <a:ext cx="3657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EK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21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LBKV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34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ff"/>
                </a:solidFill>
                <a:latin typeface="Times New Roman"/>
              </a:rPr>
              <a:t>VE</a:t>
            </a:r>
            <a:r>
              <a:rPr b="0" lang="de-DE" sz="28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66ff"/>
                </a:solidFill>
                <a:latin typeface="Times New Roman"/>
              </a:rPr>
              <a:t>1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r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56.000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762120" y="3657600"/>
            <a:ext cx="7391160" cy="1981080"/>
            <a:chOff x="762120" y="3657600"/>
            <a:chExt cx="7391160" cy="1981080"/>
          </a:xfrm>
        </p:grpSpPr>
        <p:sp>
          <p:nvSpPr>
            <p:cNvPr id="204" name=""/>
            <p:cNvSpPr/>
            <p:nvPr/>
          </p:nvSpPr>
          <p:spPr>
            <a:xfrm>
              <a:off x="762120" y="495288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19520" y="4952880"/>
              <a:ext cx="2895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05720" y="495288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365760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5715000" y="3657600"/>
              <a:ext cx="990720" cy="12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2120" y="556236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19520" y="5562360"/>
              <a:ext cx="2895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05720" y="556236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2120" y="563868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19520" y="5638680"/>
              <a:ext cx="2895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705720" y="563868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838080" y="8380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Danach hat die Bilanz folgendes Ausseh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59436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Diese Art der Bilanzänderung nennt ma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76520" y="58672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66ff"/>
                </a:solidFill>
                <a:latin typeface="Times New Roman"/>
              </a:rPr>
              <a:t>Aktiv-Passiv-Minderu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228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66ff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ff"/>
                </a:solidFill>
                <a:latin typeface="Times New Roman"/>
              </a:rPr>
              <a:t>Banküberweisung an den Lieferer 2.000,00 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BD00146_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600200" cy="15811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048120" y="457200"/>
            <a:ext cx="3962160" cy="100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0000"/>
                </a:solidFill>
                <a:latin typeface="Times New Roman"/>
              </a:rPr>
              <a:t>Merke: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19810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spcBef>
                <a:spcPts val="15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Jeder Geschäftsfall verändert zwei Bilanzpost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2514600"/>
            <a:ext cx="81532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Es lassen sich vier mögliche Arten der </a:t>
            </a:r>
            <a:r>
              <a:rPr b="1" lang="de-DE" sz="2400" spc="-1" strike="noStrike" u="sng">
                <a:solidFill>
                  <a:srgbClr val="ffffff"/>
                </a:solidFill>
                <a:uFillTx/>
                <a:latin typeface="Times New Roman"/>
              </a:rPr>
              <a:t>Bilanzänderung </a:t>
            </a: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unterscheid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Aktivtaus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Times New Roman"/>
              </a:rPr>
              <a:t>Passivtaus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ff00"/>
                </a:solidFill>
                <a:latin typeface="Times New Roman"/>
              </a:rPr>
              <a:t>Aktiv-Passiv-Mehr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ff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66ff"/>
                </a:solidFill>
                <a:latin typeface="Times New Roman"/>
              </a:rPr>
              <a:t>Aktiv-Passiv-Minder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548640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Die Bilanzgleichung bleibt immer erhalten:         </a:t>
            </a:r>
            <a:r>
              <a:rPr b="1" lang="de-DE" sz="2400" spc="-1" strike="noStrike">
                <a:solidFill>
                  <a:srgbClr val="00ffff"/>
                </a:solidFill>
                <a:latin typeface="Times New Roman"/>
              </a:rPr>
              <a:t>Summe der Aktiva = Summe der Pass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762120" y="1981080"/>
            <a:ext cx="8110800" cy="4528440"/>
            <a:chOff x="762120" y="1981080"/>
            <a:chExt cx="8110800" cy="4528440"/>
          </a:xfrm>
        </p:grpSpPr>
        <p:sp>
          <p:nvSpPr>
            <p:cNvPr id="225" name=""/>
            <p:cNvSpPr/>
            <p:nvPr/>
          </p:nvSpPr>
          <p:spPr>
            <a:xfrm>
              <a:off x="762120" y="1981080"/>
              <a:ext cx="7772400" cy="45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76280" indent="-476280">
                <a:spcBef>
                  <a:spcPts val="1500"/>
                </a:spcBef>
                <a:buClr>
                  <a:srgbClr val="ffffff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ffff"/>
                  </a:solidFill>
                  <a:latin typeface="Times New Roman"/>
                </a:rPr>
                <a:t>Jeder Geschäftsfall verändert zwei Bilanzposten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76280" indent="-476280">
                <a:spcBef>
                  <a:spcPts val="1500"/>
                </a:spcBef>
                <a:buClr>
                  <a:srgbClr val="ffffff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ffff"/>
                  </a:solidFill>
                  <a:latin typeface="Times New Roman"/>
                </a:rPr>
                <a:t>Es lassen sich vier mögliche Arten der </a:t>
              </a:r>
              <a:r>
                <a:rPr b="1" lang="de-DE" sz="24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Bilanzänderung</a:t>
              </a:r>
              <a:r>
                <a:rPr b="1" lang="de-DE" sz="2400" spc="-1" strike="noStrike">
                  <a:solidFill>
                    <a:srgbClr val="ffffff"/>
                  </a:solidFill>
                  <a:latin typeface="Times New Roman"/>
                </a:rPr>
                <a:t> unterscheiden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1123920" indent="-457200">
                <a:lnSpc>
                  <a:spcPct val="100000"/>
                </a:lnSpc>
                <a:spcBef>
                  <a:spcPts val="1500"/>
                </a:spcBef>
                <a:buClr>
                  <a:srgbClr val="ffff00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ff00"/>
                  </a:solidFill>
                  <a:latin typeface="Times New Roman"/>
                </a:rPr>
                <a:t>Aktivtausc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1123920" indent="-457200">
                <a:lnSpc>
                  <a:spcPct val="100000"/>
                </a:lnSpc>
                <a:spcBef>
                  <a:spcPts val="1500"/>
                </a:spcBef>
                <a:buClr>
                  <a:srgbClr val="ff3300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3300"/>
                  </a:solidFill>
                  <a:latin typeface="Times New Roman"/>
                </a:rPr>
                <a:t>Passivtausc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1123920" indent="-457200">
                <a:lnSpc>
                  <a:spcPct val="100000"/>
                </a:lnSpc>
                <a:spcBef>
                  <a:spcPts val="1500"/>
                </a:spcBef>
                <a:buClr>
                  <a:srgbClr val="00ff00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ff00"/>
                  </a:solidFill>
                  <a:latin typeface="Times New Roman"/>
                </a:rPr>
                <a:t>Aktiv-Passiv-Mehru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1123920" indent="-457200">
                <a:lnSpc>
                  <a:spcPct val="100000"/>
                </a:lnSpc>
                <a:spcBef>
                  <a:spcPts val="1500"/>
                </a:spcBef>
                <a:buClr>
                  <a:srgbClr val="ff66ff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66ff"/>
                  </a:solidFill>
                  <a:latin typeface="Times New Roman"/>
                </a:rPr>
                <a:t>Aktiv-Passiv-Minderu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76280" indent="-476280">
                <a:spcBef>
                  <a:spcPts val="1500"/>
                </a:spcBef>
                <a:buClr>
                  <a:srgbClr val="ffffff"/>
                </a:buClr>
                <a:buFont typeface="Times New Roman"/>
                <a:buAutoNum type="arabicParenR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ffff"/>
                  </a:solidFill>
                  <a:latin typeface="Times New Roman"/>
                </a:rPr>
                <a:t>Die Bilanzgleichung bleibt immer erhalten:     </a:t>
              </a:r>
              <a:r>
                <a:rPr b="1" lang="de-DE" sz="24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de-DE" sz="2400" spc="-1" strike="noStrike">
                  <a:solidFill>
                    <a:srgbClr val="00ffff"/>
                  </a:solidFill>
                  <a:latin typeface="Times New Roman"/>
                </a:rPr>
                <a:t>Summe der Aktiva = Summe der Passiv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181480" y="3505320"/>
              <a:ext cx="76320" cy="91440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06480" y="3733920"/>
              <a:ext cx="346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Times New Roman"/>
                </a:rPr>
                <a:t>Die Bilanzsumme bleibt gleic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57800" y="4648320"/>
              <a:ext cx="76320" cy="91440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406480" y="4876920"/>
              <a:ext cx="335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Times New Roman"/>
                </a:rPr>
                <a:t>Die Bilanzsumme ändert sic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990720" y="518148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© by Oliver Brand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Fichtelgebirgsrealschule Marktredwit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(Oktober 200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German_t" descr=""/>
          <p:cNvPicPr/>
          <p:nvPr/>
        </p:nvPicPr>
        <p:blipFill>
          <a:blip r:embed="rId1"/>
          <a:stretch/>
        </p:blipFill>
        <p:spPr>
          <a:xfrm>
            <a:off x="2895480" y="228600"/>
            <a:ext cx="3502080" cy="47242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3733920" y="3352680"/>
            <a:ext cx="909360" cy="1295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9T09:46:53Z</dcterms:created>
  <dc:creator>Oliver Brandt</dc:creator>
  <dc:description/>
  <dc:language>en-US</dc:language>
  <cp:lastModifiedBy>Oliver Brandt</cp:lastModifiedBy>
  <dcterms:modified xsi:type="dcterms:W3CDTF">2002-04-02T15:40:30Z</dcterms:modified>
  <cp:revision>20</cp:revision>
  <dc:subject/>
  <dc:title>Veränderung der Bilanz durch Geschäftsfälle</dc:title>
</cp:coreProperties>
</file>