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99EA-9279-4EFE-B675-6C2A462E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F946-1868-4698-8355-2968A386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0FB0-10D5-4020-989A-089A9A47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4177-923C-41DE-B20F-3B2917B7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1640-E014-459A-863B-AA7A35D5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33DA-614B-45F5-B0E6-DF49ACEA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8323-A767-403F-BC03-203279DB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1DCA-C035-4CEF-AE3C-B40B353D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16FE-2DD0-4205-A97D-4309C354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4339-4340-4B04-9283-013C6767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BA13-BC94-472A-A57A-6EB614DD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C36D-9DD2-468B-87C9-8705E5BD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2086-D3DC-4680-907E-A2B947C6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D61A-C3AB-41FB-A1D3-3D4CB7CA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1EF2-1294-44FE-98CB-1B4365DE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C298-D3C9-4CC5-AE8A-500F189A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9E6B-C31A-4215-AA8C-0C314C12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14CB-71CA-4056-8281-6B153229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61FD-386C-4EE5-9AAE-8D1E6D4B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271-427E-4983-980A-9A97E36A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D245-8391-432E-A777-79034C2F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DBCC-BE85-4A2C-A6AE-B1F39AFA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87B9-80E9-4EB4-950E-1029EBE7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1BC8-D924-425A-8F00-8570CFFF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6820-4B4F-4585-82AD-1408E5EB298B}" type="slidenum">
              <a:rPr b="0" lang="de-DE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EBE1-48A2-40C4-8703-F5BDBF5558FB}" type="slidenum">
              <a:rPr b="0" lang="de-DE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a9a0a"/>
                </a:solidFill>
                <a:latin typeface="Arial"/>
              </a:rPr>
              <a:t>Biolog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34340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a9a0a"/>
                </a:solidFill>
                <a:latin typeface="Arial"/>
              </a:rPr>
              <a:t>bios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44197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griech. = das Leben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49528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a9a0a"/>
                </a:solidFill>
                <a:latin typeface="Arial"/>
              </a:rPr>
              <a:t>logos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5029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griech. = die Lehre, das Wissen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b5249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5b5249"/>
                </a:solidFill>
                <a:latin typeface="Times New Roman"/>
              </a:rPr>
              <a:t>Matthias Ritter 09/2001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a9a0a"/>
                </a:solidFill>
                <a:latin typeface="Arial"/>
              </a:rPr>
              <a:t>Biolog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4952880"/>
            <a:ext cx="762120" cy="0"/>
          </a:xfrm>
          <a:prstGeom prst="line">
            <a:avLst/>
          </a:prstGeom>
          <a:ln w="66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45720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a50021"/>
                </a:solidFill>
                <a:latin typeface="Arial"/>
              </a:rPr>
              <a:t>Die Lehre vom Leben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b5249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5b5249"/>
                </a:solidFill>
                <a:latin typeface="Times New Roman"/>
              </a:rPr>
              <a:t>Matthias Ritter 09/2001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a9a0a"/>
                </a:solidFill>
                <a:latin typeface="Arial"/>
              </a:rPr>
              <a:t>Biolog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46483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as kennzeichnet „Leben“ 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b5249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5b5249"/>
                </a:solidFill>
                <a:latin typeface="Times New Roman"/>
              </a:rPr>
              <a:t>Matthias Ritter 09/2001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2a3d7a"/>
                </a:solidFill>
                <a:latin typeface="Arial"/>
              </a:rPr>
              <a:t>Kennzeichen des Lebe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22860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a9a0a"/>
              </a:buClr>
              <a:buSzPct val="80000"/>
              <a:buFont typeface="Arial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Wachstum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28638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a9a0a"/>
              </a:buClr>
              <a:buSzPct val="80000"/>
              <a:buFont typeface="Arial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Bewegu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347328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a9a0a"/>
              </a:buClr>
              <a:buSzPct val="80000"/>
              <a:buFont typeface="Arial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Fortpflanzu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40831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a9a0a"/>
              </a:buClr>
              <a:buSzPct val="80000"/>
              <a:buFont typeface="Arial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Stoffwechsel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6926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a9a0a"/>
              </a:buClr>
              <a:buSzPct val="80000"/>
              <a:buFont typeface="Arial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Reizbarkei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b5249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5b5249"/>
                </a:solidFill>
                <a:latin typeface="Times New Roman"/>
              </a:rPr>
              <a:t>Matthias Ritter 09/2001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911880"/>
            <a:ext cx="6781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a9a0a"/>
                </a:solidFill>
                <a:latin typeface="Arial"/>
              </a:rPr>
              <a:t>Teilbereiche der Biolog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752480" y="2133720"/>
            <a:ext cx="1447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2209680"/>
            <a:ext cx="137160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25146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92240" y="3962520"/>
            <a:ext cx="1282680" cy="1447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134120" y="4038480"/>
            <a:ext cx="1019160" cy="1487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33520" y="5548320"/>
            <a:ext cx="2514600" cy="13816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  <a:effectLst>
            <a:outerShdw dist="107932" dir="2700000" blurRad="0" rotWithShape="0">
              <a:srgbClr val="5b52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a9a0a"/>
                </a:solidFill>
                <a:latin typeface="Arial"/>
              </a:rPr>
              <a:t>Botanik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a9a0a"/>
                </a:solidFill>
                <a:latin typeface="Symbol"/>
                <a:ea typeface="Symbol"/>
              </a:rPr>
              <a:t></a:t>
            </a:r>
            <a:r>
              <a:rPr b="0" lang="de-DE" sz="2400" spc="-1" strike="noStrike">
                <a:solidFill>
                  <a:srgbClr val="0a9a0a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a9a0a"/>
                </a:solidFill>
                <a:latin typeface="Arial"/>
              </a:rPr>
              <a:t>Pflanzenkun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5548320"/>
            <a:ext cx="22860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  <a:effectLst>
            <a:outerShdw dist="107932" dir="2700000" blurRad="0" rotWithShape="0">
              <a:srgbClr val="5b52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a9a0a"/>
                </a:solidFill>
                <a:latin typeface="Arial"/>
              </a:rPr>
              <a:t>Zoologi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a9a0a"/>
                </a:solidFill>
                <a:latin typeface="Symbol"/>
                <a:ea typeface="Symbol"/>
              </a:rPr>
              <a:t></a:t>
            </a:r>
            <a:r>
              <a:rPr b="0" lang="de-DE" sz="2400" spc="-1" strike="noStrike">
                <a:solidFill>
                  <a:srgbClr val="0a9a0a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a9a0a"/>
                </a:solidFill>
                <a:latin typeface="Arial"/>
              </a:rPr>
              <a:t>Tierkun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5548320"/>
            <a:ext cx="27432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  <a:effectLst>
            <a:outerShdw dist="107932" dir="2700000" blurRad="0" rotWithShape="0">
              <a:srgbClr val="5b52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a9a0a"/>
                </a:solidFill>
                <a:latin typeface="Arial"/>
              </a:rPr>
              <a:t>Humanbiologi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a9a0a"/>
                </a:solidFill>
                <a:latin typeface="Symbol"/>
                <a:ea typeface="Symbol"/>
              </a:rPr>
              <a:t></a:t>
            </a:r>
            <a:r>
              <a:rPr b="0" lang="de-DE" sz="2400" spc="-1" strike="noStrike">
                <a:solidFill>
                  <a:srgbClr val="0a9a0a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a9a0a"/>
                </a:solidFill>
                <a:latin typeface="Arial"/>
              </a:rPr>
              <a:t>Menschenkun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b5249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5b5249"/>
                </a:solidFill>
                <a:latin typeface="Times New Roman"/>
              </a:rPr>
              <a:t>Matthias Ritter 09/2001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1676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lassische Bereich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205740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50021"/>
                </a:solidFill>
                <a:latin typeface="Arial"/>
              </a:rPr>
              <a:t>Neue Bereich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276360" y="2514600"/>
            <a:ext cx="533160" cy="114300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2514600"/>
            <a:ext cx="838080" cy="114300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3733920"/>
            <a:ext cx="1676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  <a:effectLst>
            <a:outerShdw dist="107932" dir="2700000" blurRad="0" rotWithShape="0">
              <a:srgbClr val="5b52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a50021"/>
                </a:solidFill>
                <a:latin typeface="Arial"/>
              </a:rPr>
              <a:t>Genetik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3733920"/>
            <a:ext cx="2133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  <a:effectLst>
            <a:outerShdw dist="107932" dir="2700000" blurRad="0" rotWithShape="0">
              <a:srgbClr val="5b52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a50021"/>
                </a:solidFill>
                <a:latin typeface="Arial"/>
              </a:rPr>
              <a:t>Mikrobiologi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962520" y="4114800"/>
            <a:ext cx="1447560" cy="1398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54:46Z</dcterms:created>
  <dc:creator>Matthias Ritter</dc:creator>
  <dc:description/>
  <dc:language>en-US</dc:language>
  <cp:lastModifiedBy>Matthias Ritter</cp:lastModifiedBy>
  <dcterms:modified xsi:type="dcterms:W3CDTF">2002-03-04T18:13:24Z</dcterms:modified>
  <cp:revision>7</cp:revision>
  <dc:subject/>
  <dc:title>Biologie</dc:title>
</cp:coreProperties>
</file>