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2656-DD4B-4073-96D1-8206DA50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90F7-FBC8-4631-BD4A-8BFDF840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B4E7-E912-4249-AC31-5B6E0A2F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1B6D-75B7-483D-A49F-C46EBD20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50ED-68E5-4E59-8E15-52738174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8589-C5CA-4911-A0A7-3739CCCB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704C-A0EA-4F64-8139-837E3C1E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8A91-72F7-4DF2-B583-14F195EA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9137-DC0C-485E-85DC-21D8EA78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C9FA-5371-425F-BEF7-A80E7395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B9F2-6ACD-418C-AA19-89FE8C1D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657-92C5-4DEE-8D15-C5A2E65A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EE9E-20E0-4F27-BDE8-5316C3A4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0EE7-7C3A-4A01-AF70-4DBCBF8A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0724-9BF5-4A4D-AB77-F1169969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F006-D7FB-49EA-8457-8C60DE8B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1637-8405-4B91-BD34-DB4C0E2D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6177-513E-4668-B707-216121C2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D9B1-FA82-408E-82C2-1FD2E2B1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E73C-AAF8-4AAD-B725-AF3CE7E2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5F99-9663-4039-8822-FAE12595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C830-5862-4E07-8423-3021DD72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B15D-4AA4-4F09-8ACC-50F5387A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6ED6-2D5A-4DA5-A09E-B672AD6A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8B8D-ACF3-4BF3-8291-0C024758A11B}" type="slidenum">
              <a:rPr b="0" lang="de-DE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1D45-30FF-445D-A034-4BB5F9775E27}" type="slidenum">
              <a:rPr b="0" lang="de-DE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a9a0a"/>
                </a:solidFill>
                <a:latin typeface="Arial"/>
              </a:rPr>
              <a:t>Biolog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34340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a9a0a"/>
                </a:solidFill>
                <a:latin typeface="Arial"/>
              </a:rPr>
              <a:t>bios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44197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griech. = das Leben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49528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a9a0a"/>
                </a:solidFill>
                <a:latin typeface="Arial"/>
              </a:rPr>
              <a:t>logos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5029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griech. = die Lehre, das Wissen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b5249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5b5249"/>
                </a:solidFill>
                <a:latin typeface="Times New Roman"/>
              </a:rPr>
              <a:t>Matthias Ritter 09/2001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a9a0a"/>
                </a:solidFill>
                <a:latin typeface="Arial"/>
              </a:rPr>
              <a:t>Biolog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4952880"/>
            <a:ext cx="762120" cy="0"/>
          </a:xfrm>
          <a:prstGeom prst="line">
            <a:avLst/>
          </a:prstGeom>
          <a:ln w="66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45720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a50021"/>
                </a:solidFill>
                <a:latin typeface="Arial"/>
              </a:rPr>
              <a:t>Die Lehre vom Leben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b5249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5b5249"/>
                </a:solidFill>
                <a:latin typeface="Times New Roman"/>
              </a:rPr>
              <a:t>Matthias Ritter 09/2001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a9a0a"/>
                </a:solidFill>
                <a:latin typeface="Arial"/>
              </a:rPr>
              <a:t>Biolog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46483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as kennzeichnet „Leben“ 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b5249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5b5249"/>
                </a:solidFill>
                <a:latin typeface="Times New Roman"/>
              </a:rPr>
              <a:t>Matthias Ritter 09/2001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2a3d7a"/>
                </a:solidFill>
                <a:latin typeface="Arial"/>
              </a:rPr>
              <a:t>Kennzeichen des Lebe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22860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a9a0a"/>
              </a:buClr>
              <a:buSzPct val="80000"/>
              <a:buFont typeface="Arial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Wachstum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28638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a9a0a"/>
              </a:buClr>
              <a:buSzPct val="80000"/>
              <a:buFont typeface="Arial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Bewegu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347328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a9a0a"/>
              </a:buClr>
              <a:buSzPct val="80000"/>
              <a:buFont typeface="Arial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Fortpflanzu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40831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a9a0a"/>
              </a:buClr>
              <a:buSzPct val="80000"/>
              <a:buFont typeface="Arial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Stoffwechsel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6926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a9a0a"/>
              </a:buClr>
              <a:buSzPct val="80000"/>
              <a:buFont typeface="Arial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Reizbarkei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b5249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5b5249"/>
                </a:solidFill>
                <a:latin typeface="Times New Roman"/>
              </a:rPr>
              <a:t>Matthias Ritter 09/2001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911880"/>
            <a:ext cx="6781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a9a0a"/>
                </a:solidFill>
                <a:latin typeface="Arial"/>
              </a:rPr>
              <a:t>Teilbereiche der Biolog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752480" y="2133720"/>
            <a:ext cx="1447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2209680"/>
            <a:ext cx="137160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25146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92240" y="3962520"/>
            <a:ext cx="1282680" cy="1447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134120" y="4038480"/>
            <a:ext cx="1019160" cy="1487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33520" y="5548320"/>
            <a:ext cx="2514600" cy="13816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  <a:effectLst>
            <a:outerShdw dist="107932" dir="2700000" blurRad="0" rotWithShape="0">
              <a:srgbClr val="5b52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a9a0a"/>
                </a:solidFill>
                <a:latin typeface="Arial"/>
              </a:rPr>
              <a:t>Botanik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a9a0a"/>
                </a:solidFill>
                <a:latin typeface="Symbol"/>
                <a:ea typeface="Symbol"/>
              </a:rPr>
              <a:t></a:t>
            </a:r>
            <a:r>
              <a:rPr b="0" lang="de-DE" sz="2400" spc="-1" strike="noStrike">
                <a:solidFill>
                  <a:srgbClr val="0a9a0a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a9a0a"/>
                </a:solidFill>
                <a:latin typeface="Arial"/>
              </a:rPr>
              <a:t>Pflanzenkun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5548320"/>
            <a:ext cx="22860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  <a:effectLst>
            <a:outerShdw dist="107932" dir="2700000" blurRad="0" rotWithShape="0">
              <a:srgbClr val="5b52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a9a0a"/>
                </a:solidFill>
                <a:latin typeface="Arial"/>
              </a:rPr>
              <a:t>Zoologi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a9a0a"/>
                </a:solidFill>
                <a:latin typeface="Symbol"/>
                <a:ea typeface="Symbol"/>
              </a:rPr>
              <a:t></a:t>
            </a:r>
            <a:r>
              <a:rPr b="0" lang="de-DE" sz="2400" spc="-1" strike="noStrike">
                <a:solidFill>
                  <a:srgbClr val="0a9a0a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a9a0a"/>
                </a:solidFill>
                <a:latin typeface="Arial"/>
              </a:rPr>
              <a:t>Tierkun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5548320"/>
            <a:ext cx="27432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  <a:effectLst>
            <a:outerShdw dist="107932" dir="2700000" blurRad="0" rotWithShape="0">
              <a:srgbClr val="5b52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a9a0a"/>
                </a:solidFill>
                <a:latin typeface="Arial"/>
              </a:rPr>
              <a:t>Humanbiologi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a9a0a"/>
                </a:solidFill>
                <a:latin typeface="Symbol"/>
                <a:ea typeface="Symbol"/>
              </a:rPr>
              <a:t></a:t>
            </a:r>
            <a:r>
              <a:rPr b="0" lang="de-DE" sz="2400" spc="-1" strike="noStrike">
                <a:solidFill>
                  <a:srgbClr val="0a9a0a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a9a0a"/>
                </a:solidFill>
                <a:latin typeface="Arial"/>
              </a:rPr>
              <a:t>Menschenkun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b5249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5b5249"/>
                </a:solidFill>
                <a:latin typeface="Times New Roman"/>
              </a:rPr>
              <a:t>Matthias Ritter 09/2001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1676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lassische Bereich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205740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50021"/>
                </a:solidFill>
                <a:latin typeface="Arial"/>
              </a:rPr>
              <a:t>Neue Bereich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276360" y="2514600"/>
            <a:ext cx="533160" cy="114300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2514600"/>
            <a:ext cx="838080" cy="114300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3733920"/>
            <a:ext cx="1676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  <a:effectLst>
            <a:outerShdw dist="107932" dir="2700000" blurRad="0" rotWithShape="0">
              <a:srgbClr val="5b52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a50021"/>
                </a:solidFill>
                <a:latin typeface="Arial"/>
              </a:rPr>
              <a:t>Genetik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3733920"/>
            <a:ext cx="2133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  <a:effectLst>
            <a:outerShdw dist="107932" dir="2700000" blurRad="0" rotWithShape="0">
              <a:srgbClr val="5b52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a50021"/>
                </a:solidFill>
                <a:latin typeface="Arial"/>
              </a:rPr>
              <a:t>Mikrobiologi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962520" y="4114800"/>
            <a:ext cx="1447560" cy="1398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54:46Z</dcterms:created>
  <dc:creator>Matthias Ritter</dc:creator>
  <dc:description/>
  <dc:language>en-US</dc:language>
  <cp:lastModifiedBy>Matthias Ritter</cp:lastModifiedBy>
  <dcterms:modified xsi:type="dcterms:W3CDTF">2002-03-04T18:13:24Z</dcterms:modified>
  <cp:revision>7</cp:revision>
  <dc:subject/>
  <dc:title>Biologie</dc:title>
</cp:coreProperties>
</file>