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DF59-6A04-49FA-960C-695F4AFCB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0FE3-32CA-4310-861F-4A43876D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01EA-5F31-4E5F-A58A-964A1708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3F9-C31F-46DE-A177-FB072B98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C815-ACE7-4989-BD9A-B1780B14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8CC2F-827D-411A-973E-E261A996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BDE1-87AD-4EA8-B578-EA3485F7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BE87-5ADA-4F22-B0E5-F7D9BD07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935-B9BA-4653-9CD4-09E7E3B6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817D8-83F9-4021-BE0B-77D154C4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A767-FF5F-4B89-8BA7-F2BC990A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85A-778A-4E9C-9762-452E7B8B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E01A-1268-47B2-86CD-F111ADA7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493A-EB8C-4F1C-A271-9DA33653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A2E7-4B52-456B-B775-12BC6F61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5F5E-93D4-4FE9-85EC-427159C9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7C66-0C50-40EF-9A07-D9F26E9C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5B77-C442-4F66-AB18-094AE7FC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065-B320-4165-B4ED-029C9C28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6DD-AA37-4E0F-AA00-A6D7CA7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817-2A53-4C78-B2E5-F47495A0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9CA-683A-4091-9555-F467C4D8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90A-CFD6-49F1-A509-0C3EECFC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B2E-0810-4D3D-89EE-5B36E682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1BB9-3BAC-441D-B361-107C09FBB445}" type="slidenum">
              <a:rPr b="0" lang="de-DE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721D-1C6D-4F8E-B629-E9B145D19E5E}" type="slidenum">
              <a:rPr b="0" lang="de-DE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3434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44197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griech. = das Lebe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952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logo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5029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griech. = die Lehre, das Wisse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4952880"/>
            <a:ext cx="762120" cy="0"/>
          </a:xfrm>
          <a:prstGeom prst="line">
            <a:avLst/>
          </a:prstGeom>
          <a:ln w="66600">
            <a:solidFill>
              <a:srgbClr val="5b524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457200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a50021"/>
                </a:solidFill>
                <a:latin typeface="Arial"/>
              </a:rPr>
              <a:t>Die Lehre vom Leben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a9a0a"/>
                </a:solidFill>
                <a:latin typeface="Arial"/>
              </a:rPr>
              <a:t>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46483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s kennzeichnet „Leben“ 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2a3d7a"/>
                </a:solidFill>
                <a:latin typeface="Arial"/>
              </a:rPr>
              <a:t>Kennzeichen des Leben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22860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Wachstum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28638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Bewegu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34732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Fortpflanzu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083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Stoffwechse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6926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a9a0a"/>
              </a:buClr>
              <a:buSzPct val="80000"/>
              <a:buFont typeface="Arial"/>
              <a:buChar char="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0a9a0a"/>
                </a:solidFill>
                <a:latin typeface="Arial"/>
              </a:rPr>
              <a:t>Reizbarkei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91188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a9a0a"/>
                </a:solidFill>
                <a:latin typeface="Arial"/>
              </a:rPr>
              <a:t>Teilbereiche der Biolog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480" y="2133720"/>
            <a:ext cx="1447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2209680"/>
            <a:ext cx="137160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25146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92240" y="3962520"/>
            <a:ext cx="1282680" cy="1447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134120" y="4038480"/>
            <a:ext cx="1019160" cy="14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3520" y="5548320"/>
            <a:ext cx="2514600" cy="138168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Botani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Pflanzen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1280" y="5548320"/>
            <a:ext cx="22860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Zo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Tier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5548320"/>
            <a:ext cx="27432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Humanbi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a9a0a"/>
                </a:solidFill>
                <a:latin typeface="Symbol"/>
                <a:ea typeface="Symbol"/>
              </a:rPr>
              <a:t>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a9a0a"/>
                </a:solidFill>
                <a:latin typeface="Arial"/>
              </a:rPr>
              <a:t>Menschenkund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6643800"/>
            <a:ext cx="160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b5249"/>
                </a:solidFill>
                <a:latin typeface="Symbol"/>
                <a:ea typeface="Symbol"/>
              </a:rPr>
              <a:t>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de-DE" sz="800" spc="-1" strike="noStrike">
                <a:solidFill>
                  <a:srgbClr val="5b5249"/>
                </a:solidFill>
                <a:latin typeface="Times New Roman"/>
              </a:rPr>
              <a:t>Matthias Ritter 09/2001</a:t>
            </a: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676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lassische Bereich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05740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50021"/>
                </a:solidFill>
                <a:latin typeface="Arial"/>
              </a:rPr>
              <a:t>Neue Bereich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76360" y="2514600"/>
            <a:ext cx="533160" cy="1143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4120" y="2514600"/>
            <a:ext cx="838080" cy="1143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733920"/>
            <a:ext cx="1676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Arial"/>
              </a:rPr>
              <a:t>Geneti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733920"/>
            <a:ext cx="2133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5b5249"/>
            </a:solidFill>
            <a:miter/>
          </a:ln>
          <a:effectLst>
            <a:outerShdw dist="107932" dir="2700000" blurRad="0" rotWithShape="0">
              <a:srgbClr val="5b524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a50021"/>
                </a:solidFill>
                <a:latin typeface="Arial"/>
              </a:rPr>
              <a:t>Mikrobiologi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962520" y="4114800"/>
            <a:ext cx="1447560" cy="139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54:46Z</dcterms:created>
  <dc:creator>Matthias Ritter</dc:creator>
  <dc:description/>
  <dc:language>en-US</dc:language>
  <cp:lastModifiedBy>Matthias Ritter</cp:lastModifiedBy>
  <dcterms:modified xsi:type="dcterms:W3CDTF">2002-03-04T18:13:24Z</dcterms:modified>
  <cp:revision>7</cp:revision>
  <dc:subject/>
  <dc:title>Biologie</dc:title>
</cp:coreProperties>
</file>