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B2E2-3DD9-470F-85E1-B65F3BA81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22B9-2F69-4EBB-B4AB-464F48DA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4FB7-C1D5-421A-BB51-14B816513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8F39-2B70-47BE-9C4C-AF395581D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2A88-017F-4B47-B68F-FB8F60BA1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01B8-520A-4F59-B18D-FD6F2F2F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641E-C595-48A0-BD07-14EE952E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F0F0-F85A-4F0A-8BEB-9E170656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BFE8-8426-4B22-A97A-953508A9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62D9-6954-4BE6-AAE4-356FCE82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8001-D982-4A68-9C55-FA8B0DBD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F897-F6AA-4112-B120-4C93F591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53E0-2489-4394-9FF1-65BCE1E3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E8CC-90B8-447F-B534-676B65A7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24EC-2723-4D74-95D5-2CACAA2E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70EA-4DF9-4F80-B9F7-7055E5921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EE16-051B-4F6F-A53C-8DF1C3187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FC0D-A9C4-4B5A-A52F-F8490473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04CC-7B10-4054-A9C4-7FA81B5D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D0A4-B190-4C78-AA25-0212D9AA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F501-0FD1-443C-BB97-976C88DC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9E6E-1C8A-43EE-A1AC-5E12A7E0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ED2B-E2AA-4317-97C7-916EBBEC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4EB5-5CAA-45B6-969A-F0CF891F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2218-8CCA-49CB-A7A9-29BB11920C84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73C6-4BD4-402E-84AB-4E45A1A47C26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ffcc66"/>
                </a:solidFill>
                <a:latin typeface="Arial"/>
              </a:rPr>
              <a:t>Wer wird</a:t>
            </a:r>
            <a:r>
              <a:rPr b="1" lang="de-DE" sz="72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7200"/>
            </a:br>
            <a:r>
              <a:rPr b="1" lang="de-DE" sz="6000" spc="-1" strike="noStrike">
                <a:solidFill>
                  <a:srgbClr val="ffcc66"/>
                </a:solidFill>
                <a:latin typeface="Arial"/>
              </a:rPr>
              <a:t>Eiweißmeister?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88" name="AN02122_" descr=""/>
          <p:cNvPicPr/>
          <p:nvPr/>
        </p:nvPicPr>
        <p:blipFill>
          <a:blip r:embed="rId1"/>
          <a:stretch/>
        </p:blipFill>
        <p:spPr>
          <a:xfrm>
            <a:off x="1793880" y="2286000"/>
            <a:ext cx="4946760" cy="4572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Wie viele essentielle Aminosäuren kennen wir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23619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334120" y="2438280"/>
            <a:ext cx="3504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1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4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</a:t>
            </a:r>
            <a:r>
              <a:rPr b="1" lang="en-GB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334120" y="4114440"/>
            <a:ext cx="3124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</a:t>
            </a:r>
            <a:r>
              <a:rPr b="1" lang="en-GB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Wie viele essentielle Aminosäuren kennen wir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 8 essentielle </a:t>
            </a:r>
            <a:r>
              <a:rPr b="1" lang="en-GB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inosäure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Die Biologische Wertigkeit von Eiweiß sagt aus: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09480" y="23619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Wie viel Gramm Eiweiß im LM enthalten si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952880" y="2438280"/>
            <a:ext cx="4191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Wie viel Gramm Körpereiweiß aus 100 g Nahrungseiweiß aufgebaut werden kan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4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Wie viel Gramm Eiweiß für unseren Körper wichtig si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952520" y="4114440"/>
            <a:ext cx="403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e viel Gramm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hrungseiweiß aus 100 g Körpereiweiß aufgebaut werden kan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Die Biologische Wertigkeit von Eiweiß sagt aus: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47560" y="3200040"/>
            <a:ext cx="69339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B) </a:t>
            </a: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Wie viel Gramm Körpereiweiß aus 100 g Nahrungseiweiß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aufgebaut werden kan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Tierisches Eiweiß hat im Vergleich zu pflanzlichem Eiweiß eine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2361960"/>
            <a:ext cx="365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A)</a:t>
            </a: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niedrigere biologische Wertigkeit</a:t>
            </a: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714640" y="2286000"/>
            <a:ext cx="3429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B)  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höhere biologische Wertigkeit</a:t>
            </a: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5029200"/>
            <a:ext cx="4267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C)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halb so hohe biologische Wertigkeit</a:t>
            </a: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714640" y="4647960"/>
            <a:ext cx="3429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D)  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die gleiche biologische Wertigkeit</a:t>
            </a: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Tierisches Eiweiß hat im Vergleich zu pflanzlichem Eiweiß ein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  </a:t>
            </a:r>
            <a:r>
              <a:rPr b="1" lang="de-DE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höhere biologische Wertigkeit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Den höchsten Eiweißbedarf pro Körperkilogramm habe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09480" y="23619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Erwachse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4120" y="2438280"/>
            <a:ext cx="3504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  Kind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4114440"/>
            <a:ext cx="41911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Alte Mensch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3760" y="4114440"/>
            <a:ext cx="3429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Säuglin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Den höchsten Eiweißbedarf pro Körperkilogramm habe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0"/>
          </a:bodyPr>
          <a:p>
            <a:pPr marL="1371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1371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1371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D) Säuglin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137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fb28"/>
                </a:solidFill>
                <a:latin typeface="Times New Roman"/>
                <a:ea typeface="Times New Roman"/>
              </a:rPr>
              <a:t>zum Zellaufbau + Wachst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7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SO00769_" descr=""/>
          <p:cNvPicPr/>
          <p:nvPr/>
        </p:nvPicPr>
        <p:blipFill>
          <a:blip r:embed="rId1"/>
          <a:stretch/>
        </p:blipFill>
        <p:spPr>
          <a:xfrm>
            <a:off x="3648240" y="2475000"/>
            <a:ext cx="184752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Der Tagesbedarf an Eiweiß sollte gedeckt werden durch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09480" y="23619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pflanzliches Eiwei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334120" y="2438280"/>
            <a:ext cx="3504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tierisches Eiwei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51920" y="4114440"/>
            <a:ext cx="4343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2/3 aus pflanzlichem und 1/3 aus tierischem Eiwei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105160" y="4038480"/>
            <a:ext cx="41907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halb pflanzliches, halb tierisches Eiwei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Der Tagesbedarf an Eiweiß sollte gedeckt werden durch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ff"/>
                </a:solidFill>
                <a:latin typeface="Times New Roman"/>
                <a:ea typeface="Arial"/>
              </a:rPr>
              <a:t>C) </a:t>
            </a: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2/3 aus pflanzlichem und 1/3 aus tierischem Eiwei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iweiß ist für den Körper der wichtigst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09480" y="23619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Brennstof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7960" y="243828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Baustof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4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 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Schutzstof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796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D)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Sauerstof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Eiweiß ist in der Küche ein wichtig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80520" y="2361960"/>
            <a:ext cx="4038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 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demittel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876920" y="2438280"/>
            <a:ext cx="441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 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üßungsmittel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411444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Garungsmitt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028840" y="4114440"/>
            <a:ext cx="4267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 Lösungsmittel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Eiweiß ist in der Küche ein wichtig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A)   </a:t>
            </a:r>
            <a:r>
              <a:rPr b="1" lang="de-DE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demitte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Damit das Eiweiß der Milch bei der Käseherstellung gerinnt, wir ihr folgendes zugesetzt: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0520" y="2361960"/>
            <a:ext cx="4038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 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ktose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876920" y="2438280"/>
            <a:ext cx="441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  Lab 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(</a:t>
            </a:r>
            <a:r>
              <a:rPr b="1" lang="de-DE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gensäure vom Kalb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411444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Lukullu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028840" y="4114440"/>
            <a:ext cx="4267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 Eigelb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Damit das Eiweiß der Milch bei der Käseherstellung gerinnt, wir ihr folgendes zugesetzt: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5181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B)   Lab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(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gensäure vom Kal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AN01613_" descr=""/>
          <p:cNvPicPr/>
          <p:nvPr/>
        </p:nvPicPr>
        <p:blipFill>
          <a:blip r:embed="rId1"/>
          <a:stretch/>
        </p:blipFill>
        <p:spPr>
          <a:xfrm>
            <a:off x="2571840" y="1693800"/>
            <a:ext cx="40003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Um eine Eiweißvergiftung zu vermeiden müssen eiweißhaltige L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80520" y="2361960"/>
            <a:ext cx="4038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  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mer tiefgefroren werd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876920" y="2438280"/>
            <a:ext cx="441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  </a:t>
            </a:r>
            <a:r>
              <a:rPr b="1" lang="it-IT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selten gegessen werd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411444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mmer im Kühlschrank gelagert werd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028840" y="4114440"/>
            <a:ext cx="4267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 </a:t>
            </a:r>
            <a:r>
              <a:rPr b="1" lang="de-DE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 Keller gelagert werd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Um eine Eiweißvergiftung zu vermeiden müssen eiweißhaltige LM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9000" y="3048120"/>
            <a:ext cx="4952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C) 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immer im Kühlschrank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gelagert werd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HH01785_" descr=""/>
          <p:cNvPicPr/>
          <p:nvPr/>
        </p:nvPicPr>
        <p:blipFill>
          <a:blip r:embed="rId1"/>
          <a:stretch/>
        </p:blipFill>
        <p:spPr>
          <a:xfrm>
            <a:off x="1219320" y="3200400"/>
            <a:ext cx="20383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ffcc66"/>
                </a:solidFill>
                <a:latin typeface="Arial"/>
              </a:rPr>
              <a:t>Gut gemacht!</a:t>
            </a:r>
            <a:endParaRPr b="0" lang="en-US" sz="9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de-DE" sz="5400" spc="-1" strike="noStrike">
                <a:solidFill>
                  <a:srgbClr val="ffffff"/>
                </a:solidFill>
                <a:latin typeface="Times New Roman"/>
              </a:rPr>
              <a:t>Bis zum nächsten Mal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AN02493_" descr=""/>
          <p:cNvPicPr/>
          <p:nvPr/>
        </p:nvPicPr>
        <p:blipFill>
          <a:blip r:embed="rId1"/>
          <a:stretch/>
        </p:blipFill>
        <p:spPr>
          <a:xfrm>
            <a:off x="3962520" y="1371600"/>
            <a:ext cx="4417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Eiweiß ist für den Körper der wichtigst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B) Baustoff</a:t>
            </a:r>
            <a:r>
              <a:rPr b="1" lang="de-DE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BS01312_" descr=""/>
          <p:cNvPicPr/>
          <p:nvPr/>
        </p:nvPicPr>
        <p:blipFill>
          <a:blip r:embed="rId1"/>
          <a:stretch/>
        </p:blipFill>
        <p:spPr>
          <a:xfrm>
            <a:off x="6095880" y="3657600"/>
            <a:ext cx="14637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Welches chem. Element macht den Nährstoff Eiweiß so einzigartig?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09480" y="23619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  Sauerstof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85040" indent="-18504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85040" indent="-185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5040" indent="-18504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7960" y="243828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 Kohlenstof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4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  Stickstof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796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  Schwef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Welches chem. Element macht den Nährstoff Eiweiß so einzigartig?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C)   Stickstoff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Lebensnotwendig</a:t>
            </a:r>
            <a:r>
              <a:rPr b="1" lang="de-DE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 heißt in der Fachsprache: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9480" y="23619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  eventue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7960" y="243828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  emotion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4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  existentiell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796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essentiell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Lebensnotwendig</a:t>
            </a:r>
            <a:r>
              <a:rPr b="1" lang="de-DE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 heißt in der Fachsprache: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D)   essentiel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Die kleinsten Eiweißbausteine sind di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2361960"/>
            <a:ext cx="381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A)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Ameisensäu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4120" y="2438280"/>
            <a:ext cx="3504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B) </a:t>
            </a: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Fettsäu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4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C) </a:t>
            </a: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Aminosäu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800600" y="4114440"/>
            <a:ext cx="3657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</a:t>
            </a: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hlenhyd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Die kleinsten Eiweißbausteine sind di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C) </a:t>
            </a:r>
            <a:r>
              <a:rPr b="1" lang="de-DE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Aminosäure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5T05:42:25Z</dcterms:created>
  <dc:creator>Voggenreiter</dc:creator>
  <dc:description/>
  <dc:language>en-US</dc:language>
  <cp:lastModifiedBy>Voggenreiter</cp:lastModifiedBy>
  <dcterms:modified xsi:type="dcterms:W3CDTF">2002-03-20T21:24:09Z</dcterms:modified>
  <cp:revision>22</cp:revision>
  <dc:subject/>
  <dc:title>Wobei handelt es sich um ein Küchengerät? </dc:title>
</cp:coreProperties>
</file>