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FB57-3D5F-4A5C-BAF9-5405FEF94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42EC-CB36-49CE-A010-26C81BA4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5940-8B8D-4879-88F0-01A62FD57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EEAB-445E-48B6-B9AC-FA12D7DCE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F9F9-83B8-4B65-AE2B-AC359067C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D066-B563-4C45-9A27-F379260C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A3ED-D80B-4463-8FBB-8BDEDA60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1BBB9-E4F9-4EA4-AB82-B7DBBC61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F32A-31EA-4DA6-A9F8-801DB6C7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7EAF-5CE2-4D7B-AE7B-34C74F5C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87F8-09FF-44CC-866E-6B4A5C2A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3929-66CE-4617-BC1C-24F60025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F5273-1E33-4B6C-87F6-A7F46D2A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EE7A-49C3-4679-8111-79E731DE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CD41-EA12-4FA6-BD19-C5088F4C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EBE4-128A-4096-857A-47B9554C4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1A8C-5CB1-4CCB-B82E-897AE08B6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6EBB-71FA-40DC-BB12-EBB3B220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E933-9EE2-444A-99B9-2C54AFBA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211C-7725-4F5D-8B8E-A3AE12D4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5A62-C012-4D95-8EE0-BE4DE199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06CC-5706-4376-9D9A-D88CFDB9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5137-2A4E-412C-AF22-94E491FC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242B-1FCC-4AA9-8236-82051329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B94D-5FE8-4797-9C98-D3FE977A062B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372A-C9B4-489F-92D7-5628AD75F27A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ffcc66"/>
                </a:solidFill>
                <a:latin typeface="Arial"/>
              </a:rPr>
              <a:t>Wer wird</a:t>
            </a:r>
            <a:r>
              <a:rPr b="1" lang="de-DE" sz="72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7200"/>
            </a:br>
            <a:r>
              <a:rPr b="1" lang="de-DE" sz="6000" spc="-1" strike="noStrike">
                <a:solidFill>
                  <a:srgbClr val="ffcc66"/>
                </a:solidFill>
                <a:latin typeface="Arial"/>
              </a:rPr>
              <a:t>Eiweißmeister?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88" name="AN02122_" descr=""/>
          <p:cNvPicPr/>
          <p:nvPr/>
        </p:nvPicPr>
        <p:blipFill>
          <a:blip r:embed="rId1"/>
          <a:stretch/>
        </p:blipFill>
        <p:spPr>
          <a:xfrm>
            <a:off x="1793880" y="2286000"/>
            <a:ext cx="4946760" cy="4572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r>
              <a:rPr b="1" lang="de-DE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Wie viele essentielle Aminosäuren kennen wir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2361960"/>
            <a:ext cx="381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)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334120" y="2438280"/>
            <a:ext cx="3504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 1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44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C) </a:t>
            </a:r>
            <a:r>
              <a:rPr b="1" lang="en-GB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334120" y="4114440"/>
            <a:ext cx="3124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</a:t>
            </a:r>
            <a:r>
              <a:rPr b="1" lang="en-GB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Wie viele essentielle Aminosäuren kennen wir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) 8 essentielle </a:t>
            </a:r>
            <a:r>
              <a:rPr b="1" lang="en-GB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inosäure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Die Biologische Wertigkeit von Eiweiß sagt aus: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09480" y="2361960"/>
            <a:ext cx="381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)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Wie viel Gramm Eiweiß im LM enthalten si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952880" y="2438280"/>
            <a:ext cx="4191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 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Wie viel Gramm Körpereiweiß aus 100 g Nahrungseiweiß aufgebaut werden kan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44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C) 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Wie viel Gramm Eiweiß für unseren Körper wichtig si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952520" y="4114440"/>
            <a:ext cx="403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e viel Gramm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hrungseiweiß aus 100 g Körpereiweiß aufgebaut werden kan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Die Biologische Wertigkeit von Eiweiß sagt aus: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47560" y="3200040"/>
            <a:ext cx="69339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B) </a:t>
            </a: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Wie viel Gramm Körpereiweiß aus 100 g Nahrungseiweiß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aufgebaut werden kan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Tierisches Eiweiß hat im Vergleich zu pflanzlichem Eiweiß eine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2361960"/>
            <a:ext cx="3657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it-I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A)</a:t>
            </a: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niedrigere biologische Wertigkeit</a:t>
            </a: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714640" y="2286000"/>
            <a:ext cx="3429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B)   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höhere biologische Wertigkeit</a:t>
            </a: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6840" y="5029200"/>
            <a:ext cx="4267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) 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halb so hohe biologische Wertigkeit</a:t>
            </a: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714640" y="4647960"/>
            <a:ext cx="3429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D)   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die gleiche biologische Wertigkeit</a:t>
            </a: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Tierisches Eiweiß hat im Vergleich zu pflanzlichem Eiweiß ein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   </a:t>
            </a:r>
            <a:r>
              <a:rPr b="1" lang="de-DE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öhere biologische Wertigkeit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Den höchsten Eiweißbedarf pro Körperkilogramm habe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09480" y="2361960"/>
            <a:ext cx="381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)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Erwachsen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4120" y="2438280"/>
            <a:ext cx="3504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  Kind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4114440"/>
            <a:ext cx="41911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C) Alte Mensch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3760" y="4114440"/>
            <a:ext cx="3429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Säuglin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Den höchsten Eiweißbedarf pro Körperkilogramm habe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0"/>
          </a:bodyPr>
          <a:p>
            <a:pPr marL="1371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1371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1371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D) Säuglin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137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fb28"/>
                </a:solidFill>
                <a:latin typeface="Times New Roman"/>
                <a:ea typeface="Times New Roman"/>
              </a:rPr>
              <a:t>zum Zellaufbau + Wachst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37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SO00769_" descr=""/>
          <p:cNvPicPr/>
          <p:nvPr/>
        </p:nvPicPr>
        <p:blipFill>
          <a:blip r:embed="rId1"/>
          <a:stretch/>
        </p:blipFill>
        <p:spPr>
          <a:xfrm>
            <a:off x="3648240" y="2475000"/>
            <a:ext cx="184752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Der Tagesbedarf an Eiweiß sollte gedeckt werden durch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09480" y="2361960"/>
            <a:ext cx="381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) 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pflanzliches Eiwei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334120" y="2438280"/>
            <a:ext cx="3504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tierisches Eiwei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51920" y="4114440"/>
            <a:ext cx="4343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C) 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2/3 aus pflanzlichem und 1/3 aus tierischem Eiwei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105160" y="4038480"/>
            <a:ext cx="41907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halb pflanzliches, halb tierisches Eiwei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Der Tagesbedarf an Eiweiß sollte gedeckt werden durch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C) </a:t>
            </a: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2/3 aus pflanzlichem und 1/3 aus tierischem Eiwei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iweiß ist für den Körper der wichtigst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09480" y="2361960"/>
            <a:ext cx="381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) Brennstoff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7960" y="2438280"/>
            <a:ext cx="380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 Baustoff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44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C)</a:t>
            </a: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 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Schutzstoff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4796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D)</a:t>
            </a: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Sauerstoff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Eiweiß ist in der Küche ein wichtig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80520" y="2361960"/>
            <a:ext cx="4038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)  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demittel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876920" y="2438280"/>
            <a:ext cx="441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  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üßungsmittel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411444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C) Garungsmitt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028840" y="4114440"/>
            <a:ext cx="4267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 Lösungsmittel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Eiweiß ist in der Küche ein wichtig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A)   </a:t>
            </a:r>
            <a:r>
              <a:rPr b="1" lang="de-DE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demittel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Damit das Eiweiß der Milch bei der Käseherstellung gerinnt, wir ihr folgendes zugesetzt: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80520" y="2361960"/>
            <a:ext cx="4038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)  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ktose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876920" y="2438280"/>
            <a:ext cx="441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   Lab 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(</a:t>
            </a:r>
            <a:r>
              <a:rPr b="1" lang="de-DE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gensäure vom Kalb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411444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C) Lukullu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028840" y="4114440"/>
            <a:ext cx="4267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 Eigel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Damit das Eiweiß der Milch bei der Käseherstellung gerinnt, wir ihr folgendes zugesetzt: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5181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B)   Lab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(</a:t>
            </a: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gensäure vom Kal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AN01613_" descr=""/>
          <p:cNvPicPr/>
          <p:nvPr/>
        </p:nvPicPr>
        <p:blipFill>
          <a:blip r:embed="rId1"/>
          <a:stretch/>
        </p:blipFill>
        <p:spPr>
          <a:xfrm>
            <a:off x="2571840" y="1693800"/>
            <a:ext cx="40003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Um eine Eiweißvergiftung zu vermeiden müssen eiweißhaltige L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80520" y="2361960"/>
            <a:ext cx="4038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)   </a:t>
            </a: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mer tiefgefroren werd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876920" y="2438280"/>
            <a:ext cx="441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   </a:t>
            </a: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selten gegessen werd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411444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C) 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mmer im Kühlschrank gelagert werd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028840" y="4114440"/>
            <a:ext cx="4267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 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 Keller gelagert werd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Um eine Eiweißvergiftung zu vermeiden müssen eiweißhaltige LM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9000" y="3048120"/>
            <a:ext cx="4952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C) 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immer im Kühlschrank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gelagert werd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HH01785_" descr=""/>
          <p:cNvPicPr/>
          <p:nvPr/>
        </p:nvPicPr>
        <p:blipFill>
          <a:blip r:embed="rId1"/>
          <a:stretch/>
        </p:blipFill>
        <p:spPr>
          <a:xfrm>
            <a:off x="1219320" y="3200400"/>
            <a:ext cx="20383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ffcc66"/>
                </a:solidFill>
                <a:latin typeface="Arial"/>
              </a:rPr>
              <a:t>Gut gemacht!</a:t>
            </a:r>
            <a:endParaRPr b="0" lang="en-US" sz="9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de-DE" sz="5400" spc="-1" strike="noStrike">
                <a:solidFill>
                  <a:srgbClr val="ffffff"/>
                </a:solidFill>
                <a:latin typeface="Times New Roman"/>
              </a:rPr>
              <a:t>Bis zum nächsten Mal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AN02493_" descr=""/>
          <p:cNvPicPr/>
          <p:nvPr/>
        </p:nvPicPr>
        <p:blipFill>
          <a:blip r:embed="rId1"/>
          <a:stretch/>
        </p:blipFill>
        <p:spPr>
          <a:xfrm>
            <a:off x="3962520" y="1371600"/>
            <a:ext cx="4417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iweiß ist für den Körper der wichtigst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B) Baustoff</a:t>
            </a:r>
            <a:r>
              <a:rPr b="1" lang="de-DE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BS01312_" descr=""/>
          <p:cNvPicPr/>
          <p:nvPr/>
        </p:nvPicPr>
        <p:blipFill>
          <a:blip r:embed="rId1"/>
          <a:stretch/>
        </p:blipFill>
        <p:spPr>
          <a:xfrm>
            <a:off x="6095880" y="3657600"/>
            <a:ext cx="14637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Welches chem. Element macht den Nährstoff Eiweiß so einzigartig?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09480" y="2361960"/>
            <a:ext cx="381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-185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)   Sauerstoff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85040" indent="-18504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85040" indent="-185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5040" indent="-18504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7960" y="2438280"/>
            <a:ext cx="380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 Kohlenstoff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44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C)   Stickstoff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796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  Schwef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Welches chem. Element macht den Nährstoff Eiweiß so einzigartig?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C)   Stickstoff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Lebensnotwendig</a:t>
            </a:r>
            <a:r>
              <a:rPr b="1" lang="de-DE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 heißt in der Fachsprache: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09480" y="2361960"/>
            <a:ext cx="381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)   eventuel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7960" y="2438280"/>
            <a:ext cx="380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   emotion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44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C) </a:t>
            </a: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  existentiell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796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essentiell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Lebensnotwendig</a:t>
            </a:r>
            <a:r>
              <a:rPr b="1" lang="de-DE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 heißt in der Fachsprache: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D)   essentiell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Die kleinsten Eiweißbausteine sind die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9480" y="2361960"/>
            <a:ext cx="381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)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Ameisensäu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4120" y="2438280"/>
            <a:ext cx="3504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 </a:t>
            </a: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Fettsäu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44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C) </a:t>
            </a: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Aminosäu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800600" y="4114440"/>
            <a:ext cx="3657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</a:t>
            </a: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hlenhyd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Die kleinsten Eiweißbausteine sind die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C) </a:t>
            </a:r>
            <a:r>
              <a:rPr b="1" lang="de-DE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Aminosäure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5T05:42:25Z</dcterms:created>
  <dc:creator>Voggenreiter</dc:creator>
  <dc:description/>
  <dc:language>en-US</dc:language>
  <cp:lastModifiedBy>Voggenreiter</cp:lastModifiedBy>
  <dcterms:modified xsi:type="dcterms:W3CDTF">2002-03-20T21:24:09Z</dcterms:modified>
  <cp:revision>22</cp:revision>
  <dc:subject/>
  <dc:title>Wobei handelt es sich um ein Küchengerät? </dc:title>
</cp:coreProperties>
</file>