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279-0F59-4A93-BA9F-14D81A3E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246-E8BD-4CDB-9AC5-53F65EFB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154-2045-4143-9208-8DEAB0D7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F47-B2D2-4450-93A4-28598C10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394E-C7EB-4C65-806A-5FF71457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98C3-21BC-4F9E-BDDC-939FA36F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F9D9-FB69-4F1B-B501-CB239B84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EB74-4D60-46B0-A7FF-9E398BAC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B4A1-D60F-40F6-B89A-0FAF641B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CC7E-F0BF-4306-8ADB-D86B927F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A226-5B92-4330-A4FA-A756EF4E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66C-F1BC-4AE3-BA78-7F32DFE7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651A-2D2C-456D-A30B-4302BC11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5F51-285B-482D-A732-8DC8EC96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F6E1-548F-4C4A-BEE6-E01D656A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5682-CC25-4498-9562-CDA4D9A8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E464-C2FC-40A1-94A5-91ACAD73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231-A3FD-4117-9FEB-9F4C6085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F8F-EA7B-46FE-AF3E-3A5B227C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BBD-4F13-4DE5-A69D-67429789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AE9-C963-4566-844B-BF395522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8EB-6BDE-4E42-82C1-305A059A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7C9-583C-41D2-8B66-6CA0FAE0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F5D-842F-407D-BB66-C777F745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E1FA-5B08-4A2C-AEFE-D7921CC0968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FC13-3C7F-4FD9-99C1-8137D8DC35E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cc66"/>
                </a:solidFill>
                <a:latin typeface="Arial"/>
              </a:rPr>
              <a:t>Wer wird</a:t>
            </a:r>
            <a:r>
              <a:rPr b="1" lang="de-DE" sz="72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7200"/>
            </a:br>
            <a:r>
              <a:rPr b="1" lang="de-DE" sz="6000" spc="-1" strike="noStrike">
                <a:solidFill>
                  <a:srgbClr val="ffcc66"/>
                </a:solidFill>
                <a:latin typeface="Arial"/>
              </a:rPr>
              <a:t>Eiweißmeister?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8" name="AN02122_" descr=""/>
          <p:cNvPicPr/>
          <p:nvPr/>
        </p:nvPicPr>
        <p:blipFill>
          <a:blip r:embed="rId1"/>
          <a:stretch/>
        </p:blipFill>
        <p:spPr>
          <a:xfrm>
            <a:off x="1793880" y="2286000"/>
            <a:ext cx="4946760" cy="457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Wie viele essentielle Aminosäuren kennen wir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1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4120" y="411444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Wie viele essentielle Aminosäuren kennen wir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8 essentielle </a:t>
            </a: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inosäur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e Biologische Wertigkeit von Eiweiß sagt aus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ie viel Gramm Eiweiß im LM enthalten si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52880" y="24382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ie viel Gramm Körpereiweiß aus 100 g Nahrungseiweiß aufgebaut werden ka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ie viel Gramm Eiweiß für unseren Körper wichtig si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2520" y="41144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e viel Gramm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hrungseiweiß aus 100 g Körpereiweiß aufgebaut werden ka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e Biologische Wertigkeit von Eiweiß sagt aus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560" y="3200040"/>
            <a:ext cx="6933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Wie viel Gramm Körpereiweiß aus 100 g Nahrungseiwei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ufgebaut werden kan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Tierisches Eiweiß hat im Vergleich zu pflanzlichem Eiweiß eine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361960"/>
            <a:ext cx="365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)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niedrigere biologische Wertigkeit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714640" y="22860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öhere biologische Wertigkeit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502920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alb so hohe biologische Wertigkeit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4640" y="464796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) 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ie gleiche biologische Wertigkeit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Tierisches Eiweiß hat im Vergleich zu pflanzlichem Eiweiß ein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öhere biologische Wertigkeit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n höchsten Eiweißbedarf pro Körperkilogramm habe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rwachse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Kin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411444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Alte Mens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3760" y="411444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Säugli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n höchsten Eiweißbedarf pro Körperkilogramm habe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D) Säuglin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zum Zellaufbau + Wachst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SO00769_" descr=""/>
          <p:cNvPicPr/>
          <p:nvPr/>
        </p:nvPicPr>
        <p:blipFill>
          <a:blip r:embed="rId1"/>
          <a:stretch/>
        </p:blipFill>
        <p:spPr>
          <a:xfrm>
            <a:off x="3648240" y="2475000"/>
            <a:ext cx="18475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r Tagesbedarf an Eiweiß sollte gedeckt werden durch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flanzliches Eiwei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tierisches Eiwei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4114440"/>
            <a:ext cx="4343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/3 aus pflanzlichem und 1/3 aus tierischem Eiwei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05160" y="4038480"/>
            <a:ext cx="4190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alb pflanzliches, halb tierisches Eiwei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r Tagesbedarf an Eiweiß sollte gedeckt werden durch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2/3 aus pflanzlichem und 1/3 aus tierischem Eiwei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iweiß ist für den Körper der wichtigs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Brenn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Bau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chutz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)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auer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iweiß ist in der Küche ein wichtig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520" y="236196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emittel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876920" y="243828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üßungsmittel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Garungsmitt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8840" y="411444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Lösungsmitte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iweiß ist in der Küche ein wichtig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emitt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amit das Eiweiß der Milch bei der Käseherstellung gerinnt, wir ihr folgendes zugesetzt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520" y="236196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ktose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76920" y="243828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Lab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ensäure vom Kal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Lukull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28840" y="411444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Eigel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amit das Eiweiß der Milch bei der Käseherstellung gerinnt, wir ihr folgendes zugesetzt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   Lab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ensäure vom Kal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AN01613_" descr=""/>
          <p:cNvPicPr/>
          <p:nvPr/>
        </p:nvPicPr>
        <p:blipFill>
          <a:blip r:embed="rId1"/>
          <a:stretch/>
        </p:blipFill>
        <p:spPr>
          <a:xfrm>
            <a:off x="2571840" y="1693800"/>
            <a:ext cx="4000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Um eine Eiweißvergiftung zu vermeiden müssen eiweißhaltige L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520" y="236196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er tiefgefroren wer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876920" y="243828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elten gegessen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mmer im Kühlschrank gelagert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28840" y="411444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 Keller gelagert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Um eine Eiweißvergiftung zu vermeiden müssen eiweißhaltige LM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9000" y="304812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mmer im Kühlschran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gelagert we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HH01785_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2038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cc66"/>
                </a:solidFill>
                <a:latin typeface="Arial"/>
              </a:rPr>
              <a:t>Gut gemacht!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5400" spc="-1" strike="noStrike">
                <a:solidFill>
                  <a:srgbClr val="ffffff"/>
                </a:solidFill>
                <a:latin typeface="Times New Roman"/>
              </a:rPr>
              <a:t>Bis zum nächsten Mal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AN02493_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17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iweiß ist für den Körper der wichtigs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 Baustoff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BS01312_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1463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Welches chem. Element macht den Nährstoff Eiweiß so einzigartig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Sauer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Kohlen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  Stick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 Schwef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Welches chem. Element macht den Nährstoff Eiweiß so einzigartig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  Stickstoff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ebensnotwendig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heißt in der Fachsprache: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eventu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emot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existentiel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essentiel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ebensnotwendig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heißt in der Fachsprache: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D)   essentie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Die kleinsten Eiweißbausteine sind di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meisensäu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ettsäu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minosäu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00600" y="41144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hlenhyd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Die kleinsten Eiweißbausteine sind di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minosäur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5:42:25Z</dcterms:created>
  <dc:creator>Voggenreiter</dc:creator>
  <dc:description/>
  <dc:language>en-US</dc:language>
  <cp:lastModifiedBy>Voggenreiter</cp:lastModifiedBy>
  <dcterms:modified xsi:type="dcterms:W3CDTF">2002-03-20T21:24:09Z</dcterms:modified>
  <cp:revision>22</cp:revision>
  <dc:subject/>
  <dc:title>Wobei handelt es sich um ein Küchengerät? </dc:title>
</cp:coreProperties>
</file>