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FB5-5B49-463D-BBF1-33629BCF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DEC-B5AB-4B49-94D7-08DAACA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516-7174-4E50-82CF-647E48B3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6FF-82FE-4582-A20E-AC59E8F1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2D16-7D23-47FA-8669-C88C570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631-0694-4A1D-9552-4A3776F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2EA-7CFE-41A8-93DA-344B1CA3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8FD4-B6AD-4EA9-BC37-427C34A4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B2F1-0BDA-466E-BEA7-286B2E46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4D1C-9321-4F55-A925-EBB1B411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6AFD-4ACE-4940-A442-3EB29001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F1E-5DEE-4F31-9EFA-4F6FA2DC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EFB-7FAE-4710-B516-BC670CEC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6A0-D45E-46FD-A7E7-459392B8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58C7-E441-467A-B575-15D0AA77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FE3-71AE-4D35-9520-D8330F22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DE1-11E2-4700-8898-A4B3300A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3F0-947B-442F-B6C9-9681660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FC4-0F8F-4968-8024-C6908C3C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8A3-529A-47FF-B7C1-1BADF03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05B-A6EE-4176-BD1C-A6206835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BBE-F1C5-4BD2-909B-DB76088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740-441D-4059-A61C-F5E7A51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5A4-2417-40CC-BA86-2A5682F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0F16-F6FD-48E0-B6B9-D1D4EC742D8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8B8-703B-40B5-B606-6A4DADA5E84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38188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Tahoma"/>
              </a:rPr>
              <a:t>Flächeninhalte ebener Vieleck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380988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achschaft Mathematik der 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German_t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881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5181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(Oktober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German_t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017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Prinzip der Zerlegungsgleichh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371600"/>
            <a:ext cx="7467840" cy="28371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wei Figuren heißen zerlegungsgleich, wenn sie sich in paarweise kongruente Teilfiguren zerlegen lassen.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Zerlegungsgleiche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Figuren haben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leichen Flächeninhalt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Damit lässt sich die Berechnung der Flächeninhalte von Figuren, für die eine Berechnungsformel noch nicht bekannt ist, auf solche zurückführen, für die eine Formel bereits vorlie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recht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2971800" y="914040"/>
            <a:ext cx="2971800" cy="38862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6880" y="434340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74320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760" y="4724280"/>
            <a:ext cx="78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r ergänzen das Dreieck zu einem Rechteck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971440" y="914040"/>
            <a:ext cx="2971800" cy="38862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800600"/>
            <a:ext cx="3124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</a:rPr>
              <a:t>Rechteck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= g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800600"/>
            <a:ext cx="403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</a:rPr>
              <a:t>Rechteck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A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rei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819520" y="5410080"/>
            <a:ext cx="4419360" cy="1175760"/>
            <a:chOff x="2819520" y="5410080"/>
            <a:chExt cx="4419360" cy="1175760"/>
          </a:xfrm>
        </p:grpSpPr>
        <p:sp>
          <p:nvSpPr>
            <p:cNvPr id="116" name=""/>
            <p:cNvSpPr/>
            <p:nvPr/>
          </p:nvSpPr>
          <p:spPr>
            <a:xfrm>
              <a:off x="2819520" y="5638680"/>
              <a:ext cx="4419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Dreieck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g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6084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57960" y="594324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30680" y="6019560"/>
              <a:ext cx="289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spitz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1440" y="42670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5909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371600"/>
            <a:ext cx="3809880" cy="2895480"/>
          </a:xfrm>
          <a:prstGeom prst="triangle">
            <a:avLst>
              <a:gd name="adj" fmla="val 6675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447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886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86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4724280"/>
            <a:ext cx="5714640" cy="1176120"/>
            <a:chOff x="228600" y="4724280"/>
            <a:chExt cx="5714640" cy="1176120"/>
          </a:xfrm>
        </p:grpSpPr>
        <p:sp>
          <p:nvSpPr>
            <p:cNvPr id="128" name=""/>
            <p:cNvSpPr/>
            <p:nvPr/>
          </p:nvSpPr>
          <p:spPr>
            <a:xfrm>
              <a:off x="228600" y="4952880"/>
              <a:ext cx="5714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Dreieck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• h +    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• h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41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81880" y="5257800"/>
              <a:ext cx="2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624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5160" y="5257800"/>
              <a:ext cx="2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59280" y="5334120"/>
              <a:ext cx="15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12560" y="5334120"/>
              <a:ext cx="15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67280" y="4800600"/>
            <a:ext cx="3048120" cy="1099800"/>
            <a:chOff x="5867280" y="4800600"/>
            <a:chExt cx="3048120" cy="1099800"/>
          </a:xfrm>
        </p:grpSpPr>
        <p:sp>
          <p:nvSpPr>
            <p:cNvPr id="136" name=""/>
            <p:cNvSpPr/>
            <p:nvPr/>
          </p:nvSpPr>
          <p:spPr>
            <a:xfrm>
              <a:off x="6019920" y="495288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+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9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7280" y="5257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5334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14800" y="5759280"/>
            <a:ext cx="3048120" cy="1099800"/>
            <a:chOff x="4114800" y="5759280"/>
            <a:chExt cx="3048120" cy="1099800"/>
          </a:xfrm>
        </p:grpSpPr>
        <p:sp>
          <p:nvSpPr>
            <p:cNvPr id="141" name=""/>
            <p:cNvSpPr/>
            <p:nvPr/>
          </p:nvSpPr>
          <p:spPr>
            <a:xfrm>
              <a:off x="4267440" y="5911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6600" y="5759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6216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62928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0" y="594360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9420000">
            <a:off x="2211480" y="2286720"/>
            <a:ext cx="5253120" cy="1366920"/>
          </a:xfrm>
          <a:prstGeom prst="triangle">
            <a:avLst>
              <a:gd name="adj" fmla="val 365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stumpf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1960" y="33526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21337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276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de-DE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1828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3962520"/>
            <a:ext cx="3048120" cy="1099440"/>
            <a:chOff x="2438280" y="3962520"/>
            <a:chExt cx="3048120" cy="1099440"/>
          </a:xfrm>
        </p:grpSpPr>
        <p:sp>
          <p:nvSpPr>
            <p:cNvPr id="153" name=""/>
            <p:cNvSpPr/>
            <p:nvPr/>
          </p:nvSpPr>
          <p:spPr>
            <a:xfrm>
              <a:off x="2590920" y="411444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g +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-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40080" y="3962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4419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44956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43400" y="5181480"/>
            <a:ext cx="3048120" cy="1099800"/>
            <a:chOff x="4343400" y="5181480"/>
            <a:chExt cx="3048120" cy="1099800"/>
          </a:xfrm>
        </p:grpSpPr>
        <p:sp>
          <p:nvSpPr>
            <p:cNvPr id="158" name=""/>
            <p:cNvSpPr/>
            <p:nvPr/>
          </p:nvSpPr>
          <p:spPr>
            <a:xfrm>
              <a:off x="4496040" y="53337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5200" y="5181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5715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514600" y="541008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791320" y="1295280"/>
            <a:ext cx="1218960" cy="20574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800" y="3962520"/>
            <a:ext cx="3048120" cy="1099440"/>
            <a:chOff x="5257800" y="3962520"/>
            <a:chExt cx="3048120" cy="1099440"/>
          </a:xfrm>
        </p:grpSpPr>
        <p:sp>
          <p:nvSpPr>
            <p:cNvPr id="165" name=""/>
            <p:cNvSpPr/>
            <p:nvPr/>
          </p:nvSpPr>
          <p:spPr>
            <a:xfrm>
              <a:off x="5410440" y="411444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9600" y="3962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7800" y="4419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44956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rke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: Flächeninhalt des Dreie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495680" y="3886200"/>
            <a:ext cx="3048120" cy="1099800"/>
            <a:chOff x="4495680" y="3886200"/>
            <a:chExt cx="3048120" cy="1099800"/>
          </a:xfrm>
        </p:grpSpPr>
        <p:sp>
          <p:nvSpPr>
            <p:cNvPr id="171" name=""/>
            <p:cNvSpPr/>
            <p:nvPr/>
          </p:nvSpPr>
          <p:spPr>
            <a:xfrm>
              <a:off x="4648320" y="40384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7480" y="388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43434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419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14600" y="411480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3716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Egal, ob es sich um ein rechtwinklig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spitzwinkliges oder stumpfwinkliges Dreieck handelt, den Flächeninhalt berechnet man immer gle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1371600"/>
            <a:ext cx="6400800" cy="2895480"/>
          </a:xfrm>
          <a:prstGeom prst="parallelogram">
            <a:avLst>
              <a:gd name="adj" fmla="val 5526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4400" y="1370880"/>
            <a:ext cx="4800600" cy="2895480"/>
          </a:xfrm>
          <a:prstGeom prst="triangle">
            <a:avLst>
              <a:gd name="adj" fmla="val 339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4800600" cy="2895480"/>
          </a:xfrm>
          <a:prstGeom prst="triangle">
            <a:avLst>
              <a:gd name="adj" fmla="val 339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Parallelogra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2480" y="42670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0481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37160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5911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594360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Parallelogramm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371600"/>
            <a:ext cx="32004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95880" y="137124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4724280"/>
            <a:ext cx="6248520" cy="1176120"/>
            <a:chOff x="1143000" y="4724280"/>
            <a:chExt cx="6248520" cy="1176120"/>
          </a:xfrm>
        </p:grpSpPr>
        <p:sp>
          <p:nvSpPr>
            <p:cNvPr id="189" name=""/>
            <p:cNvSpPr/>
            <p:nvPr/>
          </p:nvSpPr>
          <p:spPr>
            <a:xfrm>
              <a:off x="1143000" y="4952880"/>
              <a:ext cx="624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arallelogramm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 g • h +     g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340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5720" y="5257800"/>
              <a:ext cx="2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2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5257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5334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675800" y="1751760"/>
            <a:ext cx="4724280" cy="2210040"/>
          </a:xfrm>
          <a:custGeom>
            <a:avLst/>
            <a:gdLst>
              <a:gd name="textAreaLeft" fmla="*/ 776520 w 4724280"/>
              <a:gd name="textAreaRight" fmla="*/ 3947760 w 4724280"/>
              <a:gd name="textAreaTop" fmla="*/ 363240 h 2210040"/>
              <a:gd name="textAreaBottom" fmla="*/ 1846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57" y="21600"/>
                </a:lnTo>
                <a:lnTo>
                  <a:pt x="3243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437560" y="1751760"/>
            <a:ext cx="3962520" cy="221004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 rot="10800000">
            <a:off x="1675440" y="1751400"/>
            <a:ext cx="4724280" cy="2210040"/>
          </a:xfrm>
          <a:prstGeom prst="triangle">
            <a:avLst>
              <a:gd name="adj" fmla="val 1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Trap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2480" y="40384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8954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1752480"/>
            <a:ext cx="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943600"/>
            <a:ext cx="1752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Trapez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4572000"/>
            <a:ext cx="6248520" cy="1176120"/>
            <a:chOff x="1143000" y="4572000"/>
            <a:chExt cx="6248520" cy="1176120"/>
          </a:xfrm>
        </p:grpSpPr>
        <p:sp>
          <p:nvSpPr>
            <p:cNvPr id="205" name=""/>
            <p:cNvSpPr/>
            <p:nvPr/>
          </p:nvSpPr>
          <p:spPr>
            <a:xfrm>
              <a:off x="1143000" y="4800600"/>
              <a:ext cx="624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Trapez        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 a • h +     c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3400" y="4572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95720" y="5105520"/>
              <a:ext cx="2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2760" y="4572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51055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51814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51814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62320" y="1752480"/>
            <a:ext cx="403848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040" y="13716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714280" y="1751760"/>
            <a:ext cx="685800" cy="221004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5715000"/>
            <a:ext cx="2743200" cy="1144080"/>
            <a:chOff x="3657600" y="5715000"/>
            <a:chExt cx="2743200" cy="1144080"/>
          </a:xfrm>
        </p:grpSpPr>
        <p:sp>
          <p:nvSpPr>
            <p:cNvPr id="216" name=""/>
            <p:cNvSpPr/>
            <p:nvPr/>
          </p:nvSpPr>
          <p:spPr>
            <a:xfrm>
              <a:off x="4191120" y="59119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a + c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9400" y="571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7600" y="62164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62485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057400" y="2895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7040" y="251460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ttellinie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=  m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209680" y="1219320"/>
            <a:ext cx="4648320" cy="3352320"/>
            <a:chOff x="2209680" y="1219320"/>
            <a:chExt cx="4648320" cy="3352320"/>
          </a:xfrm>
        </p:grpSpPr>
        <p:sp>
          <p:nvSpPr>
            <p:cNvPr id="224" name=""/>
            <p:cNvSpPr/>
            <p:nvPr/>
          </p:nvSpPr>
          <p:spPr>
            <a:xfrm>
              <a:off x="2209680" y="1219320"/>
              <a:ext cx="4648320" cy="1676160"/>
            </a:xfrm>
            <a:prstGeom prst="triangle">
              <a:avLst>
                <a:gd name="adj" fmla="val 6675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209680" y="2894400"/>
              <a:ext cx="4648320" cy="1676520"/>
            </a:xfrm>
            <a:prstGeom prst="triangle">
              <a:avLst>
                <a:gd name="adj" fmla="val 6675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2209680" y="2894400"/>
            <a:ext cx="4648320" cy="1676520"/>
          </a:xfrm>
          <a:prstGeom prst="triangle">
            <a:avLst>
              <a:gd name="adj" fmla="val 66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1219320"/>
            <a:ext cx="4648320" cy="1676160"/>
          </a:xfrm>
          <a:prstGeom prst="triangle">
            <a:avLst>
              <a:gd name="adj" fmla="val 66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6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Drachenvier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160" y="25146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linie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52880" y="5759280"/>
            <a:ext cx="3048120" cy="1099800"/>
            <a:chOff x="4952880" y="5759280"/>
            <a:chExt cx="3048120" cy="1099800"/>
          </a:xfrm>
        </p:grpSpPr>
        <p:sp>
          <p:nvSpPr>
            <p:cNvPr id="231" name=""/>
            <p:cNvSpPr/>
            <p:nvPr/>
          </p:nvSpPr>
          <p:spPr>
            <a:xfrm>
              <a:off x="5105520" y="5911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 • f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4680" y="5759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6216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62928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676520" y="5943600"/>
            <a:ext cx="3047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achenvier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21932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8640" y="182880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linie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28954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648320" y="3200400"/>
            <a:ext cx="532800" cy="916920"/>
            <a:chOff x="4648320" y="3200400"/>
            <a:chExt cx="532800" cy="916920"/>
          </a:xfrm>
        </p:grpSpPr>
        <p:grpSp>
          <p:nvGrpSpPr>
            <p:cNvPr id="240" name=""/>
            <p:cNvGrpSpPr/>
            <p:nvPr/>
          </p:nvGrpSpPr>
          <p:grpSpPr>
            <a:xfrm>
              <a:off x="4648320" y="3200400"/>
              <a:ext cx="532800" cy="916920"/>
              <a:chOff x="4648320" y="3200400"/>
              <a:chExt cx="532800" cy="91692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2004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49760" y="3657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48320" y="3657600"/>
                <a:ext cx="304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724280" y="36576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" y="4724280"/>
            <a:ext cx="281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achenvier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200400" y="4495680"/>
            <a:ext cx="1676520" cy="1099800"/>
            <a:chOff x="3200400" y="4495680"/>
            <a:chExt cx="1676520" cy="1099800"/>
          </a:xfrm>
        </p:grpSpPr>
        <p:sp>
          <p:nvSpPr>
            <p:cNvPr id="247" name=""/>
            <p:cNvSpPr/>
            <p:nvPr/>
          </p:nvSpPr>
          <p:spPr>
            <a:xfrm>
              <a:off x="3352680" y="46483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 •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00400" y="4495680"/>
              <a:ext cx="533520" cy="1099800"/>
              <a:chOff x="3200400" y="4495680"/>
              <a:chExt cx="533520" cy="1099800"/>
            </a:xfrm>
          </p:grpSpPr>
          <p:sp>
            <p:nvSpPr>
              <p:cNvPr id="249" name=""/>
              <p:cNvSpPr/>
              <p:nvPr/>
            </p:nvSpPr>
            <p:spPr>
              <a:xfrm>
                <a:off x="3202200" y="4495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0040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343400" y="4495680"/>
              <a:ext cx="533520" cy="1099800"/>
              <a:chOff x="4343400" y="4495680"/>
              <a:chExt cx="533520" cy="1099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345200" y="4495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4340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1972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4952880" y="4495680"/>
            <a:ext cx="2895840" cy="1099800"/>
            <a:chOff x="4952880" y="4495680"/>
            <a:chExt cx="2895840" cy="1099800"/>
          </a:xfrm>
        </p:grpSpPr>
        <p:grpSp>
          <p:nvGrpSpPr>
            <p:cNvPr id="257" name=""/>
            <p:cNvGrpSpPr/>
            <p:nvPr/>
          </p:nvGrpSpPr>
          <p:grpSpPr>
            <a:xfrm>
              <a:off x="5410080" y="4495680"/>
              <a:ext cx="533520" cy="1099800"/>
              <a:chOff x="5410080" y="4495680"/>
              <a:chExt cx="533520" cy="1099800"/>
            </a:xfrm>
          </p:grpSpPr>
          <p:sp>
            <p:nvSpPr>
              <p:cNvPr id="258" name=""/>
              <p:cNvSpPr/>
              <p:nvPr/>
            </p:nvSpPr>
            <p:spPr>
              <a:xfrm>
                <a:off x="5411880" y="4495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1008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8640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495680"/>
              <a:ext cx="533520" cy="1099800"/>
              <a:chOff x="6553080" y="4495680"/>
              <a:chExt cx="533520" cy="109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4880" y="4495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5308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940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952880" y="472428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+      e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9:46:53Z</dcterms:created>
  <dc:creator>Oliver Brandt</dc:creator>
  <dc:description/>
  <dc:language>en-US</dc:language>
  <cp:lastModifiedBy>Oliver Brandt</cp:lastModifiedBy>
  <dcterms:modified xsi:type="dcterms:W3CDTF">2002-04-02T16:02:26Z</dcterms:modified>
  <cp:revision>29</cp:revision>
  <dc:subject/>
  <dc:title>Veränderung der Bilanz durch Geschäftsfälle</dc:title>
</cp:coreProperties>
</file>