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071-B6F0-46FE-AE06-4207F480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541-AB26-4964-8B17-F558746B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551-8663-4882-92AA-46AFDCEB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CE3-C59A-49FD-9C39-BB68554A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BE7-8DE7-495E-9CB0-709E6AEC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CED7-6FB2-4DB9-9D55-CC1B1BFC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60A8-996B-42D5-A5FF-2385A1B1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47B4-33B2-418F-ACE3-091C53E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C649-F1A5-431A-9D95-3090458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AD9C-2706-493A-88E8-B8DC865E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4E66-1DA0-4C63-ACB2-EBC1F9E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3DB-21D8-41B2-BD3F-9B8BBAA6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A295-CBEB-4BE1-B6E6-2853361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308A-7585-4DC6-90C3-000143C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4137-2C6F-4B9B-B328-1FF8597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2C80-87EC-436F-B957-ACBDEBA9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8E18-7702-4932-9957-582381EE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653-2A03-445A-82B9-C9286744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CDF-AF05-4338-B325-28F7D64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1B7-02B9-40F8-8A14-365BC29C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977-DEB5-4719-87CE-D6F2BDBF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AD4-917F-4FC0-B22D-A509EF0F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A1B-51CA-4564-BDD0-3850C24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139-3CE2-40F5-847F-762F5C4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FFB6-DC22-4400-A979-4C0E334E411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62D9-DE82-43A6-881E-91AB5AD772C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381880" cy="1922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00"/>
                </a:solidFill>
                <a:latin typeface="Tahoma"/>
              </a:rPr>
              <a:t>Flächeninhalte ebener Vieleck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3809880"/>
            <a:ext cx="601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Fachschaft Mathematik der 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liver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German_t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2881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90720" y="5181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liver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(Oktober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German_t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10173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Prinzip der Zerlegungsgleichh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371600"/>
            <a:ext cx="7467840" cy="28371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Zwei Figuren heißen zerlegungsgleich, wenn sie sich in paarweise kongruente Teilfiguren zerlegen lassen.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Zerlegungsgleiche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Figuren haben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leichen Flächeninhalt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572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Damit lässt sich die Berechnung der Flächeninhalte von Figuren, für die eine Berechnungsformel noch nicht bekannt ist, auf solche zurückführen, für die eine Formel bereits vorlieg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rechtwinklige Drei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2971800" y="914040"/>
            <a:ext cx="2971800" cy="38862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6880" y="434340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74320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760" y="4724280"/>
            <a:ext cx="78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r ergänzen das Dreieck zu einem Rechteck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2971440" y="914040"/>
            <a:ext cx="2971800" cy="38862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800600"/>
            <a:ext cx="3124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Times New Roman"/>
              </a:rPr>
              <a:t>Rechteck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= g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800600"/>
            <a:ext cx="4038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Times New Roman"/>
              </a:rPr>
              <a:t>Rechteck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= 2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A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rei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819520" y="5410080"/>
            <a:ext cx="4419360" cy="1175760"/>
            <a:chOff x="2819520" y="5410080"/>
            <a:chExt cx="4419360" cy="1175760"/>
          </a:xfrm>
        </p:grpSpPr>
        <p:sp>
          <p:nvSpPr>
            <p:cNvPr id="116" name=""/>
            <p:cNvSpPr/>
            <p:nvPr/>
          </p:nvSpPr>
          <p:spPr>
            <a:xfrm>
              <a:off x="2819520" y="5638680"/>
              <a:ext cx="4419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Dreieck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g 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6084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57960" y="594324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30680" y="6019560"/>
              <a:ext cx="289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spitzwinklige Drei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1440" y="42670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5909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1371600"/>
            <a:ext cx="3809880" cy="2895480"/>
          </a:xfrm>
          <a:prstGeom prst="triangle">
            <a:avLst>
              <a:gd name="adj" fmla="val 6675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14479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8862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8862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8600" y="4724280"/>
            <a:ext cx="5714640" cy="1176120"/>
            <a:chOff x="228600" y="4724280"/>
            <a:chExt cx="5714640" cy="1176120"/>
          </a:xfrm>
        </p:grpSpPr>
        <p:sp>
          <p:nvSpPr>
            <p:cNvPr id="128" name=""/>
            <p:cNvSpPr/>
            <p:nvPr/>
          </p:nvSpPr>
          <p:spPr>
            <a:xfrm>
              <a:off x="228600" y="4952880"/>
              <a:ext cx="5714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Dreieck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1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• h +    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• h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41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81880" y="5257800"/>
              <a:ext cx="2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624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5160" y="5257800"/>
              <a:ext cx="2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59280" y="5334120"/>
              <a:ext cx="159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12560" y="5334120"/>
              <a:ext cx="159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67280" y="4800600"/>
            <a:ext cx="3048120" cy="1099800"/>
            <a:chOff x="5867280" y="4800600"/>
            <a:chExt cx="3048120" cy="1099800"/>
          </a:xfrm>
        </p:grpSpPr>
        <p:sp>
          <p:nvSpPr>
            <p:cNvPr id="136" name=""/>
            <p:cNvSpPr/>
            <p:nvPr/>
          </p:nvSpPr>
          <p:spPr>
            <a:xfrm>
              <a:off x="6019920" y="4952880"/>
              <a:ext cx="2895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(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+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)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90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7280" y="5257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600" y="53341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114800" y="5759280"/>
            <a:ext cx="3048120" cy="1099800"/>
            <a:chOff x="4114800" y="5759280"/>
            <a:chExt cx="3048120" cy="1099800"/>
          </a:xfrm>
        </p:grpSpPr>
        <p:sp>
          <p:nvSpPr>
            <p:cNvPr id="141" name=""/>
            <p:cNvSpPr/>
            <p:nvPr/>
          </p:nvSpPr>
          <p:spPr>
            <a:xfrm>
              <a:off x="4267440" y="59115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6600" y="5759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62164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1120" y="62928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86000" y="5943600"/>
            <a:ext cx="190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9420000">
            <a:off x="2211480" y="2286720"/>
            <a:ext cx="5253120" cy="1366920"/>
          </a:xfrm>
          <a:prstGeom prst="triangle">
            <a:avLst>
              <a:gd name="adj" fmla="val 365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stumpfwinklige Drei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1960" y="33526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21337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276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de-DE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1828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8280" y="3962520"/>
            <a:ext cx="3048120" cy="1099440"/>
            <a:chOff x="2438280" y="3962520"/>
            <a:chExt cx="3048120" cy="1099440"/>
          </a:xfrm>
        </p:grpSpPr>
        <p:sp>
          <p:nvSpPr>
            <p:cNvPr id="153" name=""/>
            <p:cNvSpPr/>
            <p:nvPr/>
          </p:nvSpPr>
          <p:spPr>
            <a:xfrm>
              <a:off x="2590920" y="4114440"/>
              <a:ext cx="2895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(g +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)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-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40080" y="3962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280" y="4419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44956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343400" y="5181480"/>
            <a:ext cx="3048120" cy="1099800"/>
            <a:chOff x="4343400" y="5181480"/>
            <a:chExt cx="3048120" cy="1099800"/>
          </a:xfrm>
        </p:grpSpPr>
        <p:sp>
          <p:nvSpPr>
            <p:cNvPr id="158" name=""/>
            <p:cNvSpPr/>
            <p:nvPr/>
          </p:nvSpPr>
          <p:spPr>
            <a:xfrm>
              <a:off x="4496040" y="53337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5200" y="5181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9720" y="5715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514600" y="5410080"/>
            <a:ext cx="190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791320" y="1295280"/>
            <a:ext cx="1218960" cy="20574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57800" y="3962520"/>
            <a:ext cx="3048120" cy="1099440"/>
            <a:chOff x="5257800" y="3962520"/>
            <a:chExt cx="3048120" cy="1099440"/>
          </a:xfrm>
        </p:grpSpPr>
        <p:sp>
          <p:nvSpPr>
            <p:cNvPr id="165" name=""/>
            <p:cNvSpPr/>
            <p:nvPr/>
          </p:nvSpPr>
          <p:spPr>
            <a:xfrm>
              <a:off x="5410440" y="4114440"/>
              <a:ext cx="2895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9600" y="3962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57800" y="4419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4120" y="44956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rke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: Flächeninhalt des Dreiec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495680" y="3886200"/>
            <a:ext cx="3048120" cy="1099800"/>
            <a:chOff x="4495680" y="3886200"/>
            <a:chExt cx="3048120" cy="1099800"/>
          </a:xfrm>
        </p:grpSpPr>
        <p:sp>
          <p:nvSpPr>
            <p:cNvPr id="171" name=""/>
            <p:cNvSpPr/>
            <p:nvPr/>
          </p:nvSpPr>
          <p:spPr>
            <a:xfrm>
              <a:off x="4648320" y="40384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97480" y="388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43434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419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14600" y="4114800"/>
            <a:ext cx="190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3716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Times New Roman"/>
              </a:rPr>
              <a:t>Egal, ob es sich um ein rechtwinklig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Times New Roman"/>
              </a:rPr>
              <a:t>spitzwinkliges oder stumpfwinkliges Dreieck handelt, den Flächeninhalt berechnet man immer gle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1371600"/>
            <a:ext cx="6400800" cy="2895480"/>
          </a:xfrm>
          <a:prstGeom prst="parallelogram">
            <a:avLst>
              <a:gd name="adj" fmla="val 5526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94400" y="1370880"/>
            <a:ext cx="4800600" cy="2895480"/>
          </a:xfrm>
          <a:prstGeom prst="triangle">
            <a:avLst>
              <a:gd name="adj" fmla="val 339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371600"/>
            <a:ext cx="4800600" cy="2895480"/>
          </a:xfrm>
          <a:prstGeom prst="triangle">
            <a:avLst>
              <a:gd name="adj" fmla="val 339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Parallelogra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2480" y="42670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0481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137160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5911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5943600"/>
            <a:ext cx="29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Parallelogramm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371600"/>
            <a:ext cx="320040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095880" y="137124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43000" y="4724280"/>
            <a:ext cx="6248520" cy="1176120"/>
            <a:chOff x="1143000" y="4724280"/>
            <a:chExt cx="6248520" cy="1176120"/>
          </a:xfrm>
        </p:grpSpPr>
        <p:sp>
          <p:nvSpPr>
            <p:cNvPr id="189" name=""/>
            <p:cNvSpPr/>
            <p:nvPr/>
          </p:nvSpPr>
          <p:spPr>
            <a:xfrm>
              <a:off x="1143000" y="4952880"/>
              <a:ext cx="624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arallelogramm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 g • h +     g 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340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5720" y="5257800"/>
              <a:ext cx="22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27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52578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480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67280" y="53341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 flipV="1">
            <a:off x="1675800" y="1751760"/>
            <a:ext cx="4724280" cy="2210040"/>
          </a:xfrm>
          <a:custGeom>
            <a:avLst/>
            <a:gdLst>
              <a:gd name="textAreaLeft" fmla="*/ 776520 w 4724280"/>
              <a:gd name="textAreaRight" fmla="*/ 3947760 w 4724280"/>
              <a:gd name="textAreaTop" fmla="*/ 363240 h 2210040"/>
              <a:gd name="textAreaBottom" fmla="*/ 1846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57" y="21600"/>
                </a:lnTo>
                <a:lnTo>
                  <a:pt x="3243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437560" y="1751760"/>
            <a:ext cx="3962520" cy="221004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 rot="10800000">
            <a:off x="1675440" y="1751400"/>
            <a:ext cx="4724280" cy="2210040"/>
          </a:xfrm>
          <a:prstGeom prst="triangle">
            <a:avLst>
              <a:gd name="adj" fmla="val 155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Trap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2480" y="40384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8954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1752480"/>
            <a:ext cx="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5943600"/>
            <a:ext cx="1752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Trapez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4572000"/>
            <a:ext cx="6248520" cy="1176120"/>
            <a:chOff x="1143000" y="4572000"/>
            <a:chExt cx="6248520" cy="1176120"/>
          </a:xfrm>
        </p:grpSpPr>
        <p:sp>
          <p:nvSpPr>
            <p:cNvPr id="205" name=""/>
            <p:cNvSpPr/>
            <p:nvPr/>
          </p:nvSpPr>
          <p:spPr>
            <a:xfrm>
              <a:off x="1143000" y="4800600"/>
              <a:ext cx="624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Trapez        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 a • h +     c 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3400" y="4572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95720" y="5105520"/>
              <a:ext cx="22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2760" y="4572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320" y="51055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4800" y="51814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51814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362320" y="1752480"/>
            <a:ext cx="403848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040" y="13716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714280" y="1751760"/>
            <a:ext cx="685800" cy="221004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5715000"/>
            <a:ext cx="2743200" cy="1144080"/>
            <a:chOff x="3657600" y="5715000"/>
            <a:chExt cx="2743200" cy="1144080"/>
          </a:xfrm>
        </p:grpSpPr>
        <p:sp>
          <p:nvSpPr>
            <p:cNvPr id="216" name=""/>
            <p:cNvSpPr/>
            <p:nvPr/>
          </p:nvSpPr>
          <p:spPr>
            <a:xfrm>
              <a:off x="4191120" y="59119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(a + c)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9400" y="5715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57600" y="62164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62485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057400" y="2895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7040" y="251460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ttellinie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=  m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209680" y="1219320"/>
            <a:ext cx="4648320" cy="3352320"/>
            <a:chOff x="2209680" y="1219320"/>
            <a:chExt cx="4648320" cy="3352320"/>
          </a:xfrm>
        </p:grpSpPr>
        <p:sp>
          <p:nvSpPr>
            <p:cNvPr id="224" name=""/>
            <p:cNvSpPr/>
            <p:nvPr/>
          </p:nvSpPr>
          <p:spPr>
            <a:xfrm>
              <a:off x="2209680" y="1219320"/>
              <a:ext cx="4648320" cy="1676160"/>
            </a:xfrm>
            <a:prstGeom prst="triangle">
              <a:avLst>
                <a:gd name="adj" fmla="val 6675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209680" y="2894400"/>
              <a:ext cx="4648320" cy="1676520"/>
            </a:xfrm>
            <a:prstGeom prst="triangle">
              <a:avLst>
                <a:gd name="adj" fmla="val 6675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2209680" y="2894400"/>
            <a:ext cx="4648320" cy="1676520"/>
          </a:xfrm>
          <a:prstGeom prst="triangle">
            <a:avLst>
              <a:gd name="adj" fmla="val 66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1219320"/>
            <a:ext cx="4648320" cy="1676160"/>
          </a:xfrm>
          <a:prstGeom prst="triangle">
            <a:avLst>
              <a:gd name="adj" fmla="val 66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6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Drachenvier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160" y="25146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rundlinie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52880" y="5759280"/>
            <a:ext cx="3048120" cy="1099800"/>
            <a:chOff x="4952880" y="5759280"/>
            <a:chExt cx="3048120" cy="1099800"/>
          </a:xfrm>
        </p:grpSpPr>
        <p:sp>
          <p:nvSpPr>
            <p:cNvPr id="231" name=""/>
            <p:cNvSpPr/>
            <p:nvPr/>
          </p:nvSpPr>
          <p:spPr>
            <a:xfrm>
              <a:off x="5105520" y="59115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e • f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4680" y="5759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62164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9200" y="62928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676520" y="5943600"/>
            <a:ext cx="3047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achenvier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1219320"/>
            <a:ext cx="0" cy="335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8640" y="182880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rundlinie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28954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648320" y="3200400"/>
            <a:ext cx="532800" cy="916920"/>
            <a:chOff x="4648320" y="3200400"/>
            <a:chExt cx="532800" cy="916920"/>
          </a:xfrm>
        </p:grpSpPr>
        <p:grpSp>
          <p:nvGrpSpPr>
            <p:cNvPr id="240" name=""/>
            <p:cNvGrpSpPr/>
            <p:nvPr/>
          </p:nvGrpSpPr>
          <p:grpSpPr>
            <a:xfrm>
              <a:off x="4648320" y="3200400"/>
              <a:ext cx="532800" cy="916920"/>
              <a:chOff x="4648320" y="3200400"/>
              <a:chExt cx="532800" cy="91692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2004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49760" y="3657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48320" y="3657600"/>
                <a:ext cx="304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724280" y="365760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57200" y="4724280"/>
            <a:ext cx="281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achenvier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200400" y="4495680"/>
            <a:ext cx="1676520" cy="1099800"/>
            <a:chOff x="3200400" y="4495680"/>
            <a:chExt cx="1676520" cy="1099800"/>
          </a:xfrm>
        </p:grpSpPr>
        <p:sp>
          <p:nvSpPr>
            <p:cNvPr id="247" name=""/>
            <p:cNvSpPr/>
            <p:nvPr/>
          </p:nvSpPr>
          <p:spPr>
            <a:xfrm>
              <a:off x="3352680" y="46483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e •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200400" y="4495680"/>
              <a:ext cx="533520" cy="1099800"/>
              <a:chOff x="3200400" y="4495680"/>
              <a:chExt cx="533520" cy="1099800"/>
            </a:xfrm>
          </p:grpSpPr>
          <p:sp>
            <p:nvSpPr>
              <p:cNvPr id="249" name=""/>
              <p:cNvSpPr/>
              <p:nvPr/>
            </p:nvSpPr>
            <p:spPr>
              <a:xfrm>
                <a:off x="3202200" y="4495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0040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7672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343400" y="4495680"/>
              <a:ext cx="533520" cy="1099800"/>
              <a:chOff x="4343400" y="4495680"/>
              <a:chExt cx="533520" cy="1099800"/>
            </a:xfrm>
          </p:grpSpPr>
          <p:sp>
            <p:nvSpPr>
              <p:cNvPr id="253" name=""/>
              <p:cNvSpPr/>
              <p:nvPr/>
            </p:nvSpPr>
            <p:spPr>
              <a:xfrm>
                <a:off x="4345200" y="4495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4340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1972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4952880" y="4495680"/>
            <a:ext cx="2895840" cy="1099800"/>
            <a:chOff x="4952880" y="4495680"/>
            <a:chExt cx="2895840" cy="1099800"/>
          </a:xfrm>
        </p:grpSpPr>
        <p:grpSp>
          <p:nvGrpSpPr>
            <p:cNvPr id="257" name=""/>
            <p:cNvGrpSpPr/>
            <p:nvPr/>
          </p:nvGrpSpPr>
          <p:grpSpPr>
            <a:xfrm>
              <a:off x="5410080" y="4495680"/>
              <a:ext cx="533520" cy="1099800"/>
              <a:chOff x="5410080" y="4495680"/>
              <a:chExt cx="533520" cy="1099800"/>
            </a:xfrm>
          </p:grpSpPr>
          <p:sp>
            <p:nvSpPr>
              <p:cNvPr id="258" name=""/>
              <p:cNvSpPr/>
              <p:nvPr/>
            </p:nvSpPr>
            <p:spPr>
              <a:xfrm>
                <a:off x="5411880" y="4495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1008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8640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553080" y="4495680"/>
              <a:ext cx="533520" cy="1099800"/>
              <a:chOff x="6553080" y="4495680"/>
              <a:chExt cx="533520" cy="1099800"/>
            </a:xfrm>
          </p:grpSpPr>
          <p:sp>
            <p:nvSpPr>
              <p:cNvPr id="262" name=""/>
              <p:cNvSpPr/>
              <p:nvPr/>
            </p:nvSpPr>
            <p:spPr>
              <a:xfrm>
                <a:off x="6554880" y="4495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5308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2940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952880" y="472428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+      e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9:46:53Z</dcterms:created>
  <dc:creator>Oliver Brandt</dc:creator>
  <dc:description/>
  <dc:language>en-US</dc:language>
  <cp:lastModifiedBy>Oliver Brandt</cp:lastModifiedBy>
  <dcterms:modified xsi:type="dcterms:W3CDTF">2002-04-02T16:02:26Z</dcterms:modified>
  <cp:revision>29</cp:revision>
  <dc:subject/>
  <dc:title>Veränderung der Bilanz durch Geschäftsfälle</dc:title>
</cp:coreProperties>
</file>