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33D-14AC-4D8C-A828-F0C9AA0C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870-FEEA-4B7C-92CB-8F1FDF58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FE49-3F49-40AA-9524-EBB3DC94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9987-9713-4066-A86D-5F0B0497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53DF-51BB-40CC-A3F4-6F73A6C6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F653-F9EB-4C17-8788-4639B644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9A44-32ED-41DB-A5AF-BE7ECE8D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22AF-88F1-4380-B356-25006ED9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47A4-E91B-4777-9D9E-ABE770A6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8E4A-DBE6-42D8-B51D-0FAE215B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01F4-EEAF-4DBF-91BB-4414C957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ABA-17B0-4C4C-9FEC-CDF98434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4BB5-7930-4437-9AB0-51E9807D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4B23-BBFA-4063-9B1A-350E6F27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AAD4-8B3A-45C9-8ED2-38C03257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61B5-E9C4-4724-A000-0762A04C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2203-342C-4B62-AE8E-CE9F68D5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084-143B-4DA0-A456-0532D86C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B52-BF6F-4D44-A1C8-79FB8E84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BFD-C71F-476F-A057-1F82193A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8B5-24F4-4721-A643-FD11DC8A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5D2-1A41-43CF-B4AC-BF97EDCE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7A6-79FA-4396-8D8E-0E6F62C9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A96-A3F2-43CE-9F88-B1529ABC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9975-A86F-49CC-BD7F-C4336F4C59C2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A3DF-B781-4D40-9D8B-54F6692BDE2C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80880"/>
            <a:ext cx="8381880" cy="19227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ff00"/>
                </a:solidFill>
                <a:latin typeface="Tahoma"/>
              </a:rPr>
              <a:t>Flächeninhalte ebener Vieleck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3809880"/>
            <a:ext cx="6019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Presented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Fachschaft Mathematik der Fichtelgebirgsrealschule Marktredwi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© by Oliver Brand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German_t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288108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90720" y="51814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© by Oliver Brand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Fichtelgebirgsrealschule Marktredwi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(Oktober 20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German_t" descr=""/>
          <p:cNvPicPr/>
          <p:nvPr/>
        </p:nvPicPr>
        <p:blipFill>
          <a:blip r:embed="rId1"/>
          <a:stretch/>
        </p:blipFill>
        <p:spPr>
          <a:xfrm>
            <a:off x="2971800" y="304920"/>
            <a:ext cx="3502080" cy="4724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733920" y="3352680"/>
            <a:ext cx="101736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s Prinzip der Zerlegungsgleichhe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371600"/>
            <a:ext cx="7467840" cy="28371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Zwei Figuren heißen zerlegungsgleich, wenn sie sich in paarweise kongruente Teilfiguren zerlegen lassen.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Zerlegungsgleiche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 Figuren haben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gleichen Flächeninhalt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45720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Damit lässt sich die Berechnung der Flächeninhalte von Figuren, für die eine Berechnungsformel noch nicht bekannt ist, auf solche zurückführen, für die eine Formel bereits vorlieg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s rechtwinklige Dreie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2971800" y="914040"/>
            <a:ext cx="2971800" cy="38862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6880" y="434340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rundlinie 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74320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Höhe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760" y="4724280"/>
            <a:ext cx="78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ir ergänzen das Dreieck zu einem Rechteck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2971440" y="914040"/>
            <a:ext cx="2971800" cy="388620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800600"/>
            <a:ext cx="3124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de-DE" sz="3600" spc="-1" strike="noStrike" baseline="-25000">
                <a:solidFill>
                  <a:srgbClr val="ffffff"/>
                </a:solidFill>
                <a:latin typeface="Times New Roman"/>
              </a:rPr>
              <a:t>Rechteck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 = g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4800600"/>
            <a:ext cx="4038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de-DE" sz="3600" spc="-1" strike="noStrike" baseline="-25000">
                <a:solidFill>
                  <a:srgbClr val="ffffff"/>
                </a:solidFill>
                <a:latin typeface="Times New Roman"/>
              </a:rPr>
              <a:t>Rechteck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 = 2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A</a:t>
            </a:r>
            <a:r>
              <a:rPr b="0" lang="de-DE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Dreiec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819520" y="5410080"/>
            <a:ext cx="4419360" cy="1175760"/>
            <a:chOff x="2819520" y="5410080"/>
            <a:chExt cx="4419360" cy="1175760"/>
          </a:xfrm>
        </p:grpSpPr>
        <p:sp>
          <p:nvSpPr>
            <p:cNvPr id="116" name=""/>
            <p:cNvSpPr/>
            <p:nvPr/>
          </p:nvSpPr>
          <p:spPr>
            <a:xfrm>
              <a:off x="2819520" y="5638680"/>
              <a:ext cx="44193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Dreieck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=     g • 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6084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57960" y="594324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30680" y="6019560"/>
              <a:ext cx="289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s spitzwinklige Dreie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1440" y="426708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rundlinie 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259092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Höhe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1371600"/>
            <a:ext cx="3809880" cy="2895480"/>
          </a:xfrm>
          <a:prstGeom prst="triangle">
            <a:avLst>
              <a:gd name="adj" fmla="val 6675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14479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8862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8862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8600" y="4724280"/>
            <a:ext cx="5714640" cy="1176120"/>
            <a:chOff x="228600" y="4724280"/>
            <a:chExt cx="5714640" cy="1176120"/>
          </a:xfrm>
        </p:grpSpPr>
        <p:sp>
          <p:nvSpPr>
            <p:cNvPr id="128" name=""/>
            <p:cNvSpPr/>
            <p:nvPr/>
          </p:nvSpPr>
          <p:spPr>
            <a:xfrm>
              <a:off x="228600" y="4952880"/>
              <a:ext cx="57146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Dreieck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=     g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1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• h +     g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2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• h 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5416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81880" y="5257800"/>
              <a:ext cx="26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3624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35160" y="5257800"/>
              <a:ext cx="26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59280" y="5334120"/>
              <a:ext cx="1591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12560" y="5334120"/>
              <a:ext cx="1591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867280" y="4800600"/>
            <a:ext cx="3048120" cy="1099800"/>
            <a:chOff x="5867280" y="4800600"/>
            <a:chExt cx="3048120" cy="1099800"/>
          </a:xfrm>
        </p:grpSpPr>
        <p:sp>
          <p:nvSpPr>
            <p:cNvPr id="136" name=""/>
            <p:cNvSpPr/>
            <p:nvPr/>
          </p:nvSpPr>
          <p:spPr>
            <a:xfrm>
              <a:off x="6019920" y="4952880"/>
              <a:ext cx="28954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(g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+ g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</a:rPr>
                <a:t>2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)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 h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90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67280" y="52578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43600" y="53341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114800" y="5759280"/>
            <a:ext cx="3048120" cy="1099800"/>
            <a:chOff x="4114800" y="5759280"/>
            <a:chExt cx="3048120" cy="1099800"/>
          </a:xfrm>
        </p:grpSpPr>
        <p:sp>
          <p:nvSpPr>
            <p:cNvPr id="141" name=""/>
            <p:cNvSpPr/>
            <p:nvPr/>
          </p:nvSpPr>
          <p:spPr>
            <a:xfrm>
              <a:off x="4267440" y="591156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g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 h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16600" y="5759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14800" y="62164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91120" y="62928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286000" y="5943600"/>
            <a:ext cx="1905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reieck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9420000">
            <a:off x="2211480" y="2286720"/>
            <a:ext cx="5253120" cy="1366920"/>
          </a:xfrm>
          <a:prstGeom prst="triangle">
            <a:avLst>
              <a:gd name="adj" fmla="val 3652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s stumpfwinklige Dreie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1960" y="335268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rundlinie 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0280" y="213372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Höhe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32767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de-DE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191120"/>
            <a:ext cx="18288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reieck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438280" y="3962520"/>
            <a:ext cx="3048120" cy="1099440"/>
            <a:chOff x="2438280" y="3962520"/>
            <a:chExt cx="3048120" cy="1099440"/>
          </a:xfrm>
        </p:grpSpPr>
        <p:sp>
          <p:nvSpPr>
            <p:cNvPr id="153" name=""/>
            <p:cNvSpPr/>
            <p:nvPr/>
          </p:nvSpPr>
          <p:spPr>
            <a:xfrm>
              <a:off x="2590920" y="4114440"/>
              <a:ext cx="28954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(g + g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)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 h -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40080" y="3962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38280" y="441936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14600" y="449568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343400" y="5181480"/>
            <a:ext cx="3048120" cy="1099800"/>
            <a:chOff x="4343400" y="5181480"/>
            <a:chExt cx="3048120" cy="1099800"/>
          </a:xfrm>
        </p:grpSpPr>
        <p:sp>
          <p:nvSpPr>
            <p:cNvPr id="158" name=""/>
            <p:cNvSpPr/>
            <p:nvPr/>
          </p:nvSpPr>
          <p:spPr>
            <a:xfrm>
              <a:off x="4496040" y="533376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g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 h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45200" y="5181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5638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19720" y="5715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514600" y="5410080"/>
            <a:ext cx="1905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reieck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791320" y="1295280"/>
            <a:ext cx="1218960" cy="205740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257800" y="3962520"/>
            <a:ext cx="3048120" cy="1099440"/>
            <a:chOff x="5257800" y="3962520"/>
            <a:chExt cx="3048120" cy="1099440"/>
          </a:xfrm>
        </p:grpSpPr>
        <p:sp>
          <p:nvSpPr>
            <p:cNvPr id="165" name=""/>
            <p:cNvSpPr/>
            <p:nvPr/>
          </p:nvSpPr>
          <p:spPr>
            <a:xfrm>
              <a:off x="5410440" y="4114440"/>
              <a:ext cx="28954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g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 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59600" y="3962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57800" y="441936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34120" y="449568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3600" spc="-1" strike="noStrike" u="sng">
                <a:solidFill>
                  <a:srgbClr val="ffff00"/>
                </a:solidFill>
                <a:uFillTx/>
                <a:latin typeface="Times New Roman"/>
              </a:rPr>
              <a:t>Merke</a:t>
            </a:r>
            <a:r>
              <a:rPr b="1" lang="de-DE" sz="3600" spc="-1" strike="noStrike">
                <a:solidFill>
                  <a:srgbClr val="ffff00"/>
                </a:solidFill>
                <a:latin typeface="Times New Roman"/>
              </a:rPr>
              <a:t>: Flächeninhalt des Dreiec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495680" y="3886200"/>
            <a:ext cx="3048120" cy="1099800"/>
            <a:chOff x="4495680" y="3886200"/>
            <a:chExt cx="3048120" cy="1099800"/>
          </a:xfrm>
        </p:grpSpPr>
        <p:sp>
          <p:nvSpPr>
            <p:cNvPr id="171" name=""/>
            <p:cNvSpPr/>
            <p:nvPr/>
          </p:nvSpPr>
          <p:spPr>
            <a:xfrm>
              <a:off x="4648320" y="403848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g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 h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97480" y="3886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95680" y="43434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44197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514600" y="4114800"/>
            <a:ext cx="1905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reieck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3716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3300"/>
                </a:solidFill>
                <a:latin typeface="Times New Roman"/>
              </a:rPr>
              <a:t>Egal, ob es sich um ein rechtwinkliges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3300"/>
                </a:solidFill>
                <a:latin typeface="Times New Roman"/>
              </a:rPr>
              <a:t>spitzwinkliges oder stumpfwinkliges Dreieck handelt, den Flächeninhalt berechnet man immer glei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95280" y="1371600"/>
            <a:ext cx="6400800" cy="2895480"/>
          </a:xfrm>
          <a:prstGeom prst="parallelogram">
            <a:avLst>
              <a:gd name="adj" fmla="val 5526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94400" y="1370880"/>
            <a:ext cx="4800600" cy="2895480"/>
          </a:xfrm>
          <a:prstGeom prst="triangle">
            <a:avLst>
              <a:gd name="adj" fmla="val 3393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1371600"/>
            <a:ext cx="4800600" cy="2895480"/>
          </a:xfrm>
          <a:prstGeom prst="triangle">
            <a:avLst>
              <a:gd name="adj" fmla="val 3393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s Parallelogram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2480" y="426708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rundlinie 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304812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öhe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1371600"/>
            <a:ext cx="0" cy="289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5911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g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5943600"/>
            <a:ext cx="297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Parallelogramm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1371600"/>
            <a:ext cx="3200400" cy="289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095880" y="1371240"/>
            <a:ext cx="0" cy="289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143000" y="4724280"/>
            <a:ext cx="6248520" cy="1176120"/>
            <a:chOff x="1143000" y="4724280"/>
            <a:chExt cx="6248520" cy="1176120"/>
          </a:xfrm>
        </p:grpSpPr>
        <p:sp>
          <p:nvSpPr>
            <p:cNvPr id="189" name=""/>
            <p:cNvSpPr/>
            <p:nvPr/>
          </p:nvSpPr>
          <p:spPr>
            <a:xfrm>
              <a:off x="1143000" y="4952880"/>
              <a:ext cx="624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Parallelogramm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=      g • h +     g • 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7340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95720" y="5257800"/>
              <a:ext cx="22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276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91320" y="525780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4800" y="533412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67280" y="53341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 flipH="1" flipV="1">
            <a:off x="1675800" y="1751760"/>
            <a:ext cx="4724280" cy="2210040"/>
          </a:xfrm>
          <a:custGeom>
            <a:avLst/>
            <a:gdLst>
              <a:gd name="textAreaLeft" fmla="*/ 776520 w 4724280"/>
              <a:gd name="textAreaRight" fmla="*/ 3947760 w 4724280"/>
              <a:gd name="textAreaTop" fmla="*/ 363240 h 2210040"/>
              <a:gd name="textAreaBottom" fmla="*/ 18468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57" y="21600"/>
                </a:lnTo>
                <a:lnTo>
                  <a:pt x="3243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437560" y="1751760"/>
            <a:ext cx="3962520" cy="221004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 rot="10800000">
            <a:off x="1675440" y="1751400"/>
            <a:ext cx="4724280" cy="2210040"/>
          </a:xfrm>
          <a:prstGeom prst="triangle">
            <a:avLst>
              <a:gd name="adj" fmla="val 1555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s Trap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2480" y="403848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rundlinie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28954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öhe 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1752480"/>
            <a:ext cx="0" cy="221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5943600"/>
            <a:ext cx="1752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Trapez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143000" y="4572000"/>
            <a:ext cx="6248520" cy="1176120"/>
            <a:chOff x="1143000" y="4572000"/>
            <a:chExt cx="6248520" cy="1176120"/>
          </a:xfrm>
        </p:grpSpPr>
        <p:sp>
          <p:nvSpPr>
            <p:cNvPr id="205" name=""/>
            <p:cNvSpPr/>
            <p:nvPr/>
          </p:nvSpPr>
          <p:spPr>
            <a:xfrm>
              <a:off x="1143000" y="4800600"/>
              <a:ext cx="624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 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A</a:t>
              </a:r>
              <a:r>
                <a:rPr b="0" lang="de-DE" sz="36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Trapez         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=      a • h +     c • 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73400" y="4572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95720" y="5105520"/>
              <a:ext cx="22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92760" y="4572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91320" y="510552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14800" y="518148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67280" y="518148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362320" y="1752480"/>
            <a:ext cx="4038480" cy="221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040" y="1371600"/>
            <a:ext cx="15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rundlinie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714280" y="1751760"/>
            <a:ext cx="685800" cy="221004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5715000"/>
            <a:ext cx="2743200" cy="1144080"/>
            <a:chOff x="3657600" y="5715000"/>
            <a:chExt cx="2743200" cy="1144080"/>
          </a:xfrm>
        </p:grpSpPr>
        <p:sp>
          <p:nvSpPr>
            <p:cNvPr id="216" name=""/>
            <p:cNvSpPr/>
            <p:nvPr/>
          </p:nvSpPr>
          <p:spPr>
            <a:xfrm>
              <a:off x="4191120" y="591192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(a + c)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 h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59400" y="5715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57600" y="621648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7600" y="62485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057400" y="2895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7040" y="2514600"/>
            <a:ext cx="15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ittellinie 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48520" y="5943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</a:rPr>
              <a:t>=  m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2209680" y="1219320"/>
            <a:ext cx="4648320" cy="3352320"/>
            <a:chOff x="2209680" y="1219320"/>
            <a:chExt cx="4648320" cy="3352320"/>
          </a:xfrm>
        </p:grpSpPr>
        <p:sp>
          <p:nvSpPr>
            <p:cNvPr id="224" name=""/>
            <p:cNvSpPr/>
            <p:nvPr/>
          </p:nvSpPr>
          <p:spPr>
            <a:xfrm>
              <a:off x="2209680" y="1219320"/>
              <a:ext cx="4648320" cy="1676160"/>
            </a:xfrm>
            <a:prstGeom prst="triangle">
              <a:avLst>
                <a:gd name="adj" fmla="val 6675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209680" y="2894400"/>
              <a:ext cx="4648320" cy="1676520"/>
            </a:xfrm>
            <a:prstGeom prst="triangle">
              <a:avLst>
                <a:gd name="adj" fmla="val 6675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2209680" y="2894400"/>
            <a:ext cx="4648320" cy="1676520"/>
          </a:xfrm>
          <a:prstGeom prst="triangle">
            <a:avLst>
              <a:gd name="adj" fmla="val 6675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1219320"/>
            <a:ext cx="4648320" cy="1676160"/>
          </a:xfrm>
          <a:prstGeom prst="triangle">
            <a:avLst>
              <a:gd name="adj" fmla="val 6675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6)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3200" spc="-1" strike="noStrike" u="sng">
                <a:solidFill>
                  <a:srgbClr val="ffff00"/>
                </a:solidFill>
                <a:uFillTx/>
                <a:latin typeface="Times New Roman"/>
              </a:rPr>
              <a:t>Das Drachenviere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160" y="2514600"/>
            <a:ext cx="15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rundlinie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952880" y="5759280"/>
            <a:ext cx="3048120" cy="1099800"/>
            <a:chOff x="4952880" y="5759280"/>
            <a:chExt cx="3048120" cy="1099800"/>
          </a:xfrm>
        </p:grpSpPr>
        <p:sp>
          <p:nvSpPr>
            <p:cNvPr id="231" name=""/>
            <p:cNvSpPr/>
            <p:nvPr/>
          </p:nvSpPr>
          <p:spPr>
            <a:xfrm>
              <a:off x="5105520" y="591156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e • f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54680" y="5759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52880" y="62164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29200" y="62928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676520" y="5943600"/>
            <a:ext cx="3047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rachenviereck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1219320"/>
            <a:ext cx="0" cy="3352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18640" y="1828800"/>
            <a:ext cx="15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rundlinie 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5520" y="289548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648320" y="3200400"/>
            <a:ext cx="532800" cy="916920"/>
            <a:chOff x="4648320" y="3200400"/>
            <a:chExt cx="532800" cy="916920"/>
          </a:xfrm>
        </p:grpSpPr>
        <p:grpSp>
          <p:nvGrpSpPr>
            <p:cNvPr id="240" name=""/>
            <p:cNvGrpSpPr/>
            <p:nvPr/>
          </p:nvGrpSpPr>
          <p:grpSpPr>
            <a:xfrm>
              <a:off x="4648320" y="3200400"/>
              <a:ext cx="532800" cy="916920"/>
              <a:chOff x="4648320" y="3200400"/>
              <a:chExt cx="532800" cy="916920"/>
            </a:xfrm>
          </p:grpSpPr>
          <p:sp>
            <p:nvSpPr>
              <p:cNvPr id="241" name=""/>
              <p:cNvSpPr/>
              <p:nvPr/>
            </p:nvSpPr>
            <p:spPr>
              <a:xfrm>
                <a:off x="4724280" y="32004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49760" y="3657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48320" y="3657600"/>
                <a:ext cx="3045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4724280" y="365760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457200" y="4724280"/>
            <a:ext cx="281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0" lang="de-DE" sz="3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rachenviereck </a:t>
            </a:r>
            <a:r>
              <a:rPr b="0" lang="de-DE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200400" y="4495680"/>
            <a:ext cx="1676520" cy="1099800"/>
            <a:chOff x="3200400" y="4495680"/>
            <a:chExt cx="1676520" cy="1099800"/>
          </a:xfrm>
        </p:grpSpPr>
        <p:sp>
          <p:nvSpPr>
            <p:cNvPr id="247" name=""/>
            <p:cNvSpPr/>
            <p:nvPr/>
          </p:nvSpPr>
          <p:spPr>
            <a:xfrm>
              <a:off x="3352680" y="46483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e •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3200400" y="4495680"/>
              <a:ext cx="533520" cy="1099800"/>
              <a:chOff x="3200400" y="4495680"/>
              <a:chExt cx="533520" cy="1099800"/>
            </a:xfrm>
          </p:grpSpPr>
          <p:sp>
            <p:nvSpPr>
              <p:cNvPr id="249" name=""/>
              <p:cNvSpPr/>
              <p:nvPr/>
            </p:nvSpPr>
            <p:spPr>
              <a:xfrm>
                <a:off x="3202200" y="4495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00400" y="49528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76720" y="5029200"/>
                <a:ext cx="228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343400" y="4495680"/>
              <a:ext cx="533520" cy="1099800"/>
              <a:chOff x="4343400" y="4495680"/>
              <a:chExt cx="533520" cy="1099800"/>
            </a:xfrm>
          </p:grpSpPr>
          <p:sp>
            <p:nvSpPr>
              <p:cNvPr id="253" name=""/>
              <p:cNvSpPr/>
              <p:nvPr/>
            </p:nvSpPr>
            <p:spPr>
              <a:xfrm>
                <a:off x="4345200" y="4495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f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343400" y="49528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419720" y="5029200"/>
                <a:ext cx="228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" name=""/>
          <p:cNvGrpSpPr/>
          <p:nvPr/>
        </p:nvGrpSpPr>
        <p:grpSpPr>
          <a:xfrm>
            <a:off x="4952880" y="4495680"/>
            <a:ext cx="2895840" cy="1099800"/>
            <a:chOff x="4952880" y="4495680"/>
            <a:chExt cx="2895840" cy="1099800"/>
          </a:xfrm>
        </p:grpSpPr>
        <p:grpSp>
          <p:nvGrpSpPr>
            <p:cNvPr id="257" name=""/>
            <p:cNvGrpSpPr/>
            <p:nvPr/>
          </p:nvGrpSpPr>
          <p:grpSpPr>
            <a:xfrm>
              <a:off x="5410080" y="4495680"/>
              <a:ext cx="533520" cy="1099800"/>
              <a:chOff x="5410080" y="4495680"/>
              <a:chExt cx="533520" cy="1099800"/>
            </a:xfrm>
          </p:grpSpPr>
          <p:sp>
            <p:nvSpPr>
              <p:cNvPr id="258" name=""/>
              <p:cNvSpPr/>
              <p:nvPr/>
            </p:nvSpPr>
            <p:spPr>
              <a:xfrm>
                <a:off x="5411880" y="4495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410080" y="49528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86400" y="5029200"/>
                <a:ext cx="228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553080" y="4495680"/>
              <a:ext cx="533520" cy="1099800"/>
              <a:chOff x="6553080" y="4495680"/>
              <a:chExt cx="533520" cy="1099800"/>
            </a:xfrm>
          </p:grpSpPr>
          <p:sp>
            <p:nvSpPr>
              <p:cNvPr id="262" name=""/>
              <p:cNvSpPr/>
              <p:nvPr/>
            </p:nvSpPr>
            <p:spPr>
              <a:xfrm>
                <a:off x="6554880" y="4495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f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553080" y="49528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629400" y="5029200"/>
                <a:ext cx="228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4952880" y="4724280"/>
              <a:ext cx="28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</a:rPr>
                <a:t>+      e </a:t>
              </a:r>
              <a:r>
                <a:rPr b="0" lang="de-DE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•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9:46:53Z</dcterms:created>
  <dc:creator>Oliver Brandt</dc:creator>
  <dc:description/>
  <dc:language>en-US</dc:language>
  <cp:lastModifiedBy>Oliver Brandt</cp:lastModifiedBy>
  <dcterms:modified xsi:type="dcterms:W3CDTF">2002-04-02T16:02:26Z</dcterms:modified>
  <cp:revision>29</cp:revision>
  <dc:subject/>
  <dc:title>Veränderung der Bilanz durch Geschäftsfälle</dc:title>
</cp:coreProperties>
</file>