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wmf" ContentType="image/x-wmf"/>
  <Override PartName="/ppt/media/image14.jpeg" ContentType="image/jpeg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2.png" ContentType="image/png"/>
  <Override PartName="/ppt/media/image7.png" ContentType="image/png"/>
  <Override PartName="/ppt/media/image15.wmf" ContentType="image/x-wmf"/>
  <Override PartName="/ppt/media/image8.wmf" ContentType="image/x-wmf"/>
  <Override PartName="/ppt/media/image1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63376-5927-4026-B1B5-C90F979E5206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Bildquelle: www.michaelkaul.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Bildquelle: www.michaelkaul.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116D6-85F9-4564-A915-977FFF61A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F9F35-9B83-4D00-B794-566C102A5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BE764-7CF4-442F-89B7-EC766BD55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6053A-0D12-4ECE-ABAE-9071291DF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FDC38-2A6C-48B4-9859-A5AB6B6C4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31FA6-0E9E-496F-B52D-CB54E9592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796F1-707A-4EBA-B97C-968FA9A35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2C906-FEBF-426A-B8A2-C01BE4405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C79FC-C198-4EFD-B3F6-8D4398B30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B936F-8CAB-49F8-ACF4-0467D2DD6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E5494-EF47-4CEA-945B-ED16DECB6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208D5-1178-4937-9773-4997CC397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1AFC2-D314-4CDE-8573-217371719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5012A-21D0-4558-B6FC-8F59892F9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8FA1C-1821-4A8D-A0FD-BE34D6D72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73802-EC48-4D62-931C-F80932091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FAF6A-6ED6-4302-A2D0-29113D164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2451A-265D-4080-B68F-03B03E2A4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06D1E-7487-4C13-BAC1-F49CECB7E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FC723-4D3B-424F-A7D3-3AE9A6FC9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D4FF9-D0F7-42A3-88FE-53A295690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44E85-DDA2-455F-985C-5B6257892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342B9-A6F3-4E8C-B69B-0ACECCECF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1F59C-4E8C-4260-88F7-09BC185B3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1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3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4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7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9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0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2" name=""/>
          <p:cNvGrpSpPr/>
          <p:nvPr/>
        </p:nvGrpSpPr>
        <p:grpSpPr>
          <a:xfrm>
            <a:off x="71280" y="176040"/>
            <a:ext cx="8745840" cy="161280"/>
            <a:chOff x="71280" y="176040"/>
            <a:chExt cx="8745840" cy="161280"/>
          </a:xfrm>
        </p:grpSpPr>
        <p:sp>
          <p:nvSpPr>
            <p:cNvPr id="13" name=""/>
            <p:cNvSpPr/>
            <p:nvPr/>
          </p:nvSpPr>
          <p:spPr>
            <a:xfrm flipV="1" rot="5400000">
              <a:off x="452448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5400000">
              <a:off x="4413960" y="-4166640"/>
              <a:ext cx="60480" cy="87458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4572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23920-40B0-4A10-804B-47E67F5A1497}" type="datetime"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0199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8580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924A8-B534-4D45-9DD7-2F2FD280C9DB}" type="slidenum"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7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0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3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6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439560" y="5989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95F6E-464B-41D1-B037-DBFEB2A9BD79}" type="datetime"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35240" y="60022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00760" y="597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325A1-1E41-4A85-BFE3-F27EB622E6DE}" type="slidenum"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image" Target="../media/image7.png"/><Relationship Id="rId6" Type="http://schemas.openxmlformats.org/officeDocument/2006/relationships/image" Target="../media/image8.wmf"/><Relationship Id="rId7" Type="http://schemas.openxmlformats.org/officeDocument/2006/relationships/image" Target="../media/image9.wmf"/><Relationship Id="rId8" Type="http://schemas.openxmlformats.org/officeDocument/2006/relationships/image" Target="../media/image10.wmf"/><Relationship Id="rId9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cc"/>
                </a:solidFill>
                <a:latin typeface="Tahoma"/>
              </a:rPr>
              <a:t>Das Interne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447920" y="4648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cc"/>
                </a:solidFill>
                <a:latin typeface="Tahoma"/>
              </a:rPr>
              <a:t>Eine Präsentation von H. Kar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cc"/>
                </a:solidFill>
                <a:latin typeface="Tahoma"/>
              </a:rPr>
              <a:t>für die 7. Jahrgangsstufe I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118" name="BS00527_" descr=""/>
          <p:cNvPicPr/>
          <p:nvPr/>
        </p:nvPicPr>
        <p:blipFill>
          <a:blip r:embed="rId1"/>
          <a:stretch/>
        </p:blipFill>
        <p:spPr>
          <a:xfrm>
            <a:off x="762120" y="3105000"/>
            <a:ext cx="7619760" cy="108612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cc"/>
                </a:solidFill>
                <a:latin typeface="Tahoma"/>
              </a:rPr>
              <a:t>Wie ging es dann weiter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880" y="1218960"/>
            <a:ext cx="83059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99ffcc"/>
                </a:solidFill>
                <a:latin typeface="Tahoma"/>
              </a:rPr>
              <a:t>1972: Ray Tomlinson, der das erste E-Mail-Programm 1971 schrieb, stellt sein abgeändertes Programm vor (@)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99ffcc"/>
                </a:solidFill>
                <a:latin typeface="Tahoma"/>
              </a:rPr>
              <a:t>1973: Vint Cerfs Internet-Protokolle vereinfachen die Vernetzung von Computern</a:t>
            </a:r>
            <a:br>
              <a:rPr sz="2400"/>
            </a:br>
            <a:r>
              <a:rPr b="0" lang="de-DE" sz="2400" spc="-1" strike="noStrike">
                <a:solidFill>
                  <a:srgbClr val="99ffcc"/>
                </a:solidFill>
                <a:latin typeface="Tahoma"/>
              </a:rPr>
              <a:t>Erste internationale Anschlüsse an das ARPANET (Norwegen und England)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99ffcc"/>
                </a:solidFill>
                <a:latin typeface="Tahoma"/>
              </a:rPr>
              <a:t>1975: Satelliten-Leitungen über zwei Ozeane </a:t>
            </a:r>
            <a:br>
              <a:rPr sz="2400"/>
            </a:br>
            <a:r>
              <a:rPr b="0" lang="de-DE" sz="2400" spc="-1" strike="noStrike">
                <a:solidFill>
                  <a:srgbClr val="99ffcc"/>
                </a:solidFill>
                <a:latin typeface="Tahoma"/>
              </a:rPr>
              <a:t>(nach Hawaii und England)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99ffcc"/>
                </a:solidFill>
                <a:latin typeface="Tahoma"/>
              </a:rPr>
              <a:t>1978: Das Protokoll TCP wird gesplittert in TCP und I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99ffcc"/>
                </a:solidFill>
                <a:latin typeface="Tahoma"/>
              </a:rPr>
              <a:t>1983: Der militärische Teil spaltet sich vom ARPANET ab </a:t>
            </a:r>
            <a:r>
              <a:rPr b="0" lang="de-DE" sz="2400" spc="-1" strike="noStrike">
                <a:solidFill>
                  <a:srgbClr val="99ffcc"/>
                </a:solidFill>
                <a:latin typeface="Wingdings"/>
                <a:ea typeface="Wingdings"/>
              </a:rPr>
              <a:t></a:t>
            </a:r>
            <a:r>
              <a:rPr b="0" lang="de-DE" sz="2400" spc="-1" strike="noStrike">
                <a:solidFill>
                  <a:srgbClr val="99ffcc"/>
                </a:solidFill>
                <a:latin typeface="Tahoma"/>
              </a:rPr>
              <a:t> von 113 Knoten gehen 68 zum MILNET. Der wissenschaftliche Teil entwickelt sich in Form des INTERNETS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160" name="BS00925_" descr=""/>
          <p:cNvPicPr/>
          <p:nvPr/>
        </p:nvPicPr>
        <p:blipFill>
          <a:blip r:embed="rId1"/>
          <a:stretch/>
        </p:blipFill>
        <p:spPr>
          <a:xfrm>
            <a:off x="6781680" y="2971800"/>
            <a:ext cx="1986120" cy="106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. Kar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A8D6C-D314-48D2-943B-FBF828593976}" type="slidenum">
              <a:t>10</a:t>
            </a:fld>
          </a:p>
        </p:txBody>
      </p:sp>
    </p:spTree>
  </p:cSld>
  <p:transition>
    <p:checke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cc"/>
                </a:solidFill>
                <a:latin typeface="Tahoma"/>
              </a:rPr>
              <a:t>... und die Entwicklung ging weite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99ffcc"/>
                </a:solidFill>
                <a:latin typeface="Tahoma"/>
              </a:rPr>
              <a:t>1990: Das ARPANET wird offiziell außer Betrieb genommen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99ffcc"/>
                </a:solidFill>
                <a:latin typeface="Tahoma"/>
              </a:rPr>
              <a:t>1991: Das WWW geht über das Schweizer Kernforschungszentrum CERN ins Netz – </a:t>
            </a:r>
            <a:br>
              <a:rPr sz="2400"/>
            </a:br>
            <a:r>
              <a:rPr b="0" lang="de-DE" sz="2400" spc="-1" strike="noStrike">
                <a:solidFill>
                  <a:srgbClr val="99ffcc"/>
                </a:solidFill>
                <a:latin typeface="Tahoma"/>
              </a:rPr>
              <a:t>Erfinder und Entwickler ist Tim Berners-Lee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99ffcc"/>
                </a:solidFill>
                <a:latin typeface="Tahoma"/>
              </a:rPr>
              <a:t>1993: Das WWW hat in diesem Jahr eine Wachstumsrate von 341 634 %!</a:t>
            </a:r>
            <a:br>
              <a:rPr sz="2400"/>
            </a:br>
            <a:r>
              <a:rPr b="0" lang="de-DE" sz="2400" spc="-1" strike="noStrike">
                <a:solidFill>
                  <a:srgbClr val="99ffcc"/>
                </a:solidFill>
                <a:latin typeface="Tahoma"/>
              </a:rPr>
              <a:t>Die erste Surfsoftware wird entwickelt und heißt NCSA Mosaic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99ffcc"/>
                </a:solidFill>
                <a:latin typeface="Tahoma"/>
              </a:rPr>
              <a:t>1994: Marc Andreesen und Jim Clark gründen Netscape Communications und bringen ihren ersten Browser auf den Markt</a:t>
            </a:r>
            <a:br>
              <a:rPr sz="2400"/>
            </a:br>
            <a:r>
              <a:rPr b="0" lang="de-DE" sz="2400" spc="-1" strike="noStrike">
                <a:solidFill>
                  <a:srgbClr val="99ffcc"/>
                </a:solidFill>
                <a:latin typeface="Tahoma"/>
              </a:rPr>
              <a:t>Erste Online-Geschäfte tauchen im Internet auf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99ffcc"/>
                </a:solidFill>
                <a:latin typeface="Tahoma"/>
              </a:rPr>
              <a:t>1999: Die „Erste Internet Bank von Indiana“ kann nur über Internet erreicht werden.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163" name="tim" descr=""/>
          <p:cNvPicPr/>
          <p:nvPr/>
        </p:nvPicPr>
        <p:blipFill>
          <a:blip r:embed="rId1"/>
          <a:stretch/>
        </p:blipFill>
        <p:spPr>
          <a:xfrm>
            <a:off x="7162920" y="1752480"/>
            <a:ext cx="1247760" cy="1143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. Kar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CBE40-3D1D-4946-93BF-1994C102616C}" type="slidenum">
              <a:t>11</a:t>
            </a:fld>
          </a:p>
        </p:txBody>
      </p:sp>
    </p:spTree>
  </p:cSld>
  <p:transition>
    <p:checke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99cc"/>
                </a:solidFill>
                <a:latin typeface="Tahoma"/>
              </a:rPr>
              <a:t>Das Internet-Wachstum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684360" y="1251000"/>
          <a:ext cx="7772400" cy="4705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251000"/>
                    <a:ext cx="7772400" cy="47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7" name=""/>
          <p:cNvSpPr/>
          <p:nvPr/>
        </p:nvSpPr>
        <p:spPr>
          <a:xfrm>
            <a:off x="762120" y="5867280"/>
            <a:ext cx="78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8f8f8"/>
                </a:solidFill>
                <a:latin typeface="Tahoma"/>
              </a:rPr>
              <a:t>Host: ein Computersystem mit registrierter IP-Adress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. Kar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BE481-1DA9-4F64-817C-2CB65906ABB2}" type="slidenum">
              <a:t>12</a:t>
            </a:fld>
          </a:p>
        </p:txBody>
      </p:sp>
    </p:spTree>
  </p:cSld>
  <p:transition>
    <p:checke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cc"/>
                </a:solidFill>
                <a:latin typeface="Tahoma"/>
              </a:rPr>
              <a:t>und die Entwicklung ist noch lange nicht am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2971800" y="2419200"/>
            <a:ext cx="3200400" cy="100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Ende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72" name="BS00527_" descr=""/>
          <p:cNvPicPr/>
          <p:nvPr/>
        </p:nvPicPr>
        <p:blipFill>
          <a:blip r:embed="rId1"/>
          <a:stretch/>
        </p:blipFill>
        <p:spPr>
          <a:xfrm>
            <a:off x="380880" y="4952880"/>
            <a:ext cx="8382240" cy="1219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. Kar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5796A-DA96-4F9A-8401-626ACDC11003}" type="slidenum">
              <a:t>13</a:t>
            </a:fld>
          </a:p>
        </p:txBody>
      </p:sp>
    </p:spTree>
  </p:cSld>
  <p:transition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cc"/>
                </a:solidFill>
                <a:latin typeface="Tahoma"/>
              </a:rPr>
              <a:t>Was ist das Internet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Tahoma"/>
              </a:rPr>
              <a:t>Ein weltweiter Verbund einzelner Rechner und Netzwerke verschiedenster Institutionen und Unternehmen zum Austausch von Daten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Tahoma"/>
              </a:rPr>
              <a:t>Es existiert keine Zentrale, die für das gesamte Netz verantwortlich is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. Kar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02C57-70C5-40D6-BD37-E0438004BC76}" type="slidenum">
              <a:t>2</a:t>
            </a:fld>
          </a:p>
        </p:txBody>
      </p:sp>
    </p:spTree>
  </p:cSld>
  <p:transition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cc"/>
                </a:solidFill>
                <a:latin typeface="Tahoma"/>
              </a:rPr>
              <a:t>Was braucht man um im Internet surfen zu können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cc"/>
                </a:solidFill>
                <a:latin typeface="Tahoma"/>
              </a:rPr>
              <a:t>Einen Computer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cc"/>
                </a:solidFill>
                <a:latin typeface="Tahoma"/>
              </a:rPr>
              <a:t>Einen analogen oder digitalen Zugriff auf das Telefonnetz: Modem, ISDN etc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cc"/>
                </a:solidFill>
                <a:latin typeface="Tahoma"/>
              </a:rPr>
              <a:t>Einen Browser (Programm, das das Surfen im Internet ermöglicht)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cc"/>
                </a:solidFill>
                <a:latin typeface="Tahoma"/>
              </a:rPr>
              <a:t>Einen Provider (z. B. T-Online, AOL, Bürger-netze), der den Anwendern den Zugang zum Internet bietet (Preisvergleich!)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cc"/>
                </a:solidFill>
                <a:latin typeface="Tahoma"/>
              </a:rPr>
              <a:t>Internet-Softwar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cc"/>
                </a:solidFill>
                <a:latin typeface="Tahoma"/>
              </a:rPr>
              <a:t>eine Zugangsberechtigung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123" name="PE03718_" descr=""/>
          <p:cNvPicPr/>
          <p:nvPr/>
        </p:nvPicPr>
        <p:blipFill>
          <a:blip r:embed="rId1"/>
          <a:stretch/>
        </p:blipFill>
        <p:spPr>
          <a:xfrm>
            <a:off x="6248520" y="4724280"/>
            <a:ext cx="2122200" cy="1963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. Kar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37980-7145-4D1E-9D4A-33D16C0880F2}" type="slidenum">
              <a:t>3</a:t>
            </a:fld>
          </a:p>
        </p:txBody>
      </p:sp>
    </p:spTree>
  </p:cSld>
  <p:transition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cc"/>
                </a:solidFill>
                <a:latin typeface="Tahoma"/>
              </a:rPr>
              <a:t>Anwendungsfelder der Netzarbei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Tahoma"/>
              </a:rPr>
              <a:t>Informationssuche im Netz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Tahoma"/>
              </a:rPr>
              <a:t>Telekooperatives Arbeiten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Tahoma"/>
              </a:rPr>
              <a:t>Sich-Aneignen von Hintergrundwissen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Tahoma"/>
              </a:rPr>
              <a:t>Versenden und Empfangen von elektronischer Pos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Tahoma"/>
              </a:rPr>
              <a:t>Publizieren im Netz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. Kar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E2078-95AB-448D-B189-E6674BCB7951}" type="slidenum">
              <a:t>4</a:t>
            </a:fld>
          </a:p>
        </p:txBody>
      </p:sp>
    </p:spTree>
  </p:cSld>
  <p:transition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cc"/>
                </a:solidFill>
                <a:latin typeface="Tahoma"/>
              </a:rPr>
              <a:t>Einige Dienste im Interne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7" name="BS01108_" descr=""/>
          <p:cNvPicPr/>
          <p:nvPr/>
        </p:nvPicPr>
        <p:blipFill>
          <a:blip r:embed="rId1"/>
          <a:stretch/>
        </p:blipFill>
        <p:spPr>
          <a:xfrm>
            <a:off x="3352680" y="2973240"/>
            <a:ext cx="3048120" cy="2017800"/>
          </a:xfrm>
          <a:prstGeom prst="rect">
            <a:avLst/>
          </a:prstGeom>
          <a:ln w="0">
            <a:noFill/>
          </a:ln>
        </p:spPr>
      </p:pic>
      <p:grpSp>
        <p:nvGrpSpPr>
          <p:cNvPr id="128" name=""/>
          <p:cNvGrpSpPr/>
          <p:nvPr/>
        </p:nvGrpSpPr>
        <p:grpSpPr>
          <a:xfrm>
            <a:off x="2057400" y="1676520"/>
            <a:ext cx="1752480" cy="1556280"/>
            <a:chOff x="2057400" y="1676520"/>
            <a:chExt cx="1752480" cy="1556280"/>
          </a:xfrm>
        </p:grpSpPr>
        <p:pic>
          <p:nvPicPr>
            <p:cNvPr id="129" name="PE01302_" descr=""/>
            <p:cNvPicPr/>
            <p:nvPr/>
          </p:nvPicPr>
          <p:blipFill>
            <a:blip r:embed="rId2"/>
            <a:stretch/>
          </p:blipFill>
          <p:spPr>
            <a:xfrm>
              <a:off x="2209680" y="1676520"/>
              <a:ext cx="1295640" cy="121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>
              <a:off x="2057400" y="2895480"/>
              <a:ext cx="175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Times New Roman"/>
                </a:rPr>
                <a:t>Online-Shopping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990720" y="3733920"/>
            <a:ext cx="1600200" cy="1480320"/>
            <a:chOff x="990720" y="3733920"/>
            <a:chExt cx="1600200" cy="1480320"/>
          </a:xfrm>
        </p:grpSpPr>
        <p:pic>
          <p:nvPicPr>
            <p:cNvPr id="132" name="BS00811_" descr=""/>
            <p:cNvPicPr/>
            <p:nvPr/>
          </p:nvPicPr>
          <p:blipFill>
            <a:blip r:embed="rId3"/>
            <a:stretch/>
          </p:blipFill>
          <p:spPr>
            <a:xfrm>
              <a:off x="990720" y="3733920"/>
              <a:ext cx="1600200" cy="123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"/>
            <p:cNvSpPr/>
            <p:nvPr/>
          </p:nvSpPr>
          <p:spPr>
            <a:xfrm>
              <a:off x="1219320" y="4876920"/>
              <a:ext cx="99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Times New Roman"/>
                </a:rPr>
                <a:t>Topnew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2666880" y="4952880"/>
            <a:ext cx="1600200" cy="1404360"/>
            <a:chOff x="2666880" y="4952880"/>
            <a:chExt cx="1600200" cy="1404360"/>
          </a:xfrm>
        </p:grpSpPr>
        <p:pic>
          <p:nvPicPr>
            <p:cNvPr id="135" name="SL01426_" descr=""/>
            <p:cNvPicPr/>
            <p:nvPr/>
          </p:nvPicPr>
          <p:blipFill>
            <a:blip r:embed="rId4"/>
            <a:stretch/>
          </p:blipFill>
          <p:spPr>
            <a:xfrm>
              <a:off x="2743200" y="4952880"/>
              <a:ext cx="1219320" cy="108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"/>
            <p:cNvSpPr/>
            <p:nvPr/>
          </p:nvSpPr>
          <p:spPr>
            <a:xfrm>
              <a:off x="2666880" y="6019920"/>
              <a:ext cx="160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Times New Roman"/>
                </a:rPr>
                <a:t>Software/Spiele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5410080" y="4876920"/>
            <a:ext cx="1143000" cy="1251720"/>
            <a:chOff x="5410080" y="4876920"/>
            <a:chExt cx="1143000" cy="1251720"/>
          </a:xfrm>
        </p:grpSpPr>
        <p:pic>
          <p:nvPicPr>
            <p:cNvPr id="138" name="BS00865A" descr=""/>
            <p:cNvPicPr/>
            <p:nvPr/>
          </p:nvPicPr>
          <p:blipFill>
            <a:blip r:embed="rId5"/>
            <a:stretch/>
          </p:blipFill>
          <p:spPr>
            <a:xfrm>
              <a:off x="5410080" y="4876920"/>
              <a:ext cx="1143000" cy="97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"/>
            <p:cNvSpPr/>
            <p:nvPr/>
          </p:nvSpPr>
          <p:spPr>
            <a:xfrm>
              <a:off x="5562720" y="5791320"/>
              <a:ext cx="99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f8f8f8"/>
                  </a:solidFill>
                  <a:latin typeface="Times New Roman"/>
                </a:rPr>
                <a:t>Chatten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6781680" y="3886200"/>
            <a:ext cx="1447920" cy="1404000"/>
            <a:chOff x="6781680" y="3886200"/>
            <a:chExt cx="1447920" cy="1404000"/>
          </a:xfrm>
        </p:grpSpPr>
        <p:pic>
          <p:nvPicPr>
            <p:cNvPr id="141" name="BD05680_" descr=""/>
            <p:cNvPicPr/>
            <p:nvPr/>
          </p:nvPicPr>
          <p:blipFill>
            <a:blip r:embed="rId6"/>
            <a:stretch/>
          </p:blipFill>
          <p:spPr>
            <a:xfrm>
              <a:off x="6781680" y="3886200"/>
              <a:ext cx="1447920" cy="114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"/>
            <p:cNvSpPr/>
            <p:nvPr/>
          </p:nvSpPr>
          <p:spPr>
            <a:xfrm>
              <a:off x="7162920" y="4952880"/>
              <a:ext cx="761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Times New Roman"/>
                </a:rPr>
                <a:t>Reisen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6248520" y="2286000"/>
            <a:ext cx="1676160" cy="1404000"/>
            <a:chOff x="6248520" y="2286000"/>
            <a:chExt cx="1676160" cy="1404000"/>
          </a:xfrm>
        </p:grpSpPr>
        <p:pic>
          <p:nvPicPr>
            <p:cNvPr id="144" name="BS00970_" descr=""/>
            <p:cNvPicPr/>
            <p:nvPr/>
          </p:nvPicPr>
          <p:blipFill>
            <a:blip r:embed="rId7"/>
            <a:stretch/>
          </p:blipFill>
          <p:spPr>
            <a:xfrm>
              <a:off x="6248520" y="2286000"/>
              <a:ext cx="1350720" cy="11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6324480" y="3352680"/>
              <a:ext cx="160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Times New Roman"/>
                </a:rPr>
                <a:t>Homebanking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4800600" y="1600200"/>
            <a:ext cx="990720" cy="1251720"/>
            <a:chOff x="4800600" y="1600200"/>
            <a:chExt cx="990720" cy="1251720"/>
          </a:xfrm>
        </p:grpSpPr>
        <p:pic>
          <p:nvPicPr>
            <p:cNvPr id="147" name="BS01577_" descr=""/>
            <p:cNvPicPr/>
            <p:nvPr/>
          </p:nvPicPr>
          <p:blipFill>
            <a:blip r:embed="rId8"/>
            <a:stretch/>
          </p:blipFill>
          <p:spPr>
            <a:xfrm>
              <a:off x="4800600" y="1600200"/>
              <a:ext cx="914400" cy="893880"/>
            </a:xfrm>
            <a:prstGeom prst="rect">
              <a:avLst/>
            </a:prstGeom>
            <a:ln w="9360">
              <a:solidFill>
                <a:srgbClr val="6699ff"/>
              </a:solidFill>
              <a:miter/>
            </a:ln>
          </p:spPr>
        </p:pic>
        <p:sp>
          <p:nvSpPr>
            <p:cNvPr id="148" name=""/>
            <p:cNvSpPr/>
            <p:nvPr/>
          </p:nvSpPr>
          <p:spPr>
            <a:xfrm>
              <a:off x="4876920" y="2514600"/>
              <a:ext cx="914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Times New Roman"/>
                </a:rPr>
                <a:t>E-Mail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. Ka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43608-3CBB-481A-A570-EDDC0F14032D}" type="slidenum">
              <a:t>5</a:t>
            </a:fld>
          </a:p>
        </p:txBody>
      </p:sp>
    </p:spTree>
  </p:cSld>
  <p:transition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cc"/>
                </a:solidFill>
                <a:latin typeface="Tahoma"/>
              </a:rPr>
              <a:t>Wie und warum entstand das Internet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99ffcc"/>
                </a:solidFill>
                <a:latin typeface="Tahoma"/>
              </a:rPr>
              <a:t>Die ARPA (Advanced Research Projects Agency) des US-Verteidigungsministeriums suchte in den 60er Jahren einen Weg, Rechenanlagen durch eine dezentrale Struktur miteinander zu verbinde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99ffcc"/>
                </a:solidFill>
                <a:latin typeface="Tahoma"/>
              </a:rPr>
              <a:t>Auf diese Weise sollte auch bei einem Ausfall einzelner Leitungen oder Rechner – etwa im Falle eines Krieges – das Netz funktionsfähig bleiben.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. Kar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4E51A-A02F-4808-ADF6-E89671F57AFC}" type="slidenum">
              <a:t>6</a:t>
            </a:fld>
          </a:p>
        </p:txBody>
      </p:sp>
    </p:spTree>
  </p:cSld>
  <p:transition>
    <p:checke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cc"/>
                </a:solidFill>
                <a:latin typeface="Tahoma"/>
              </a:rPr>
              <a:t>Die Geschichte des Internets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99ffcc"/>
                </a:solidFill>
                <a:latin typeface="Tahoma"/>
              </a:rPr>
              <a:t>1969 entsteht das ARPANET, d. h. die ersten 4 Knoten werden in Betrieb genomme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99ffcc"/>
                </a:solidFill>
                <a:latin typeface="Tahoma"/>
              </a:rPr>
              <a:t>Knoten 1: Universität Los Angeles (August)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99ffcc"/>
                </a:solidFill>
                <a:latin typeface="Tahoma"/>
              </a:rPr>
              <a:t>Knoten 2: Stanford Universität (Oktober)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99ffcc"/>
                </a:solidFill>
                <a:latin typeface="Tahoma"/>
              </a:rPr>
              <a:t>Knoten 3: Universität von Santa Barbara (Nov.)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99ffcc"/>
                </a:solidFill>
                <a:latin typeface="Tahoma"/>
              </a:rPr>
              <a:t>Knoten 4: Universität von Utah (Dezember)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99ffcc"/>
                </a:solidFill>
                <a:latin typeface="Tahoma"/>
              </a:rPr>
              <a:t>Als Haupt-Knoten-Computer wird jeweils ein Honeywell DDP-516 Mini-Computer mit 12 KB Speicher eingesetzt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. Kar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47480-A4B5-45B8-825A-1E310268C9D2}" type="slidenum">
              <a:t>7</a:t>
            </a:fld>
          </a:p>
        </p:txBody>
      </p:sp>
    </p:spTree>
  </p:cSld>
  <p:transition>
    <p:checke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cc"/>
                </a:solidFill>
                <a:latin typeface="Tahoma"/>
              </a:rPr>
              <a:t>Die Internet-Pioniere bei der Arbei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"/>
          <p:cNvSpPr/>
          <p:nvPr/>
        </p:nvSpPr>
        <p:spPr>
          <a:xfrm>
            <a:off x="533520" y="5791320"/>
            <a:ext cx="8076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99ffcc"/>
                </a:solidFill>
                <a:latin typeface="Tahoma"/>
              </a:rPr>
              <a:t>Jon Postel, Steve Crocker, und Vint Cerf (von links nach rechts)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155" name="pioneers" descr=""/>
          <p:cNvPicPr/>
          <p:nvPr/>
        </p:nvPicPr>
        <p:blipFill>
          <a:blip r:embed="rId1"/>
          <a:stretch/>
        </p:blipFill>
        <p:spPr>
          <a:xfrm>
            <a:off x="2781360" y="1676520"/>
            <a:ext cx="3579840" cy="3962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. Ka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DE7B5-A583-4DAC-86DE-AC13DE86B150}" type="slidenum">
              <a:t>8</a:t>
            </a:fld>
          </a:p>
        </p:txBody>
      </p:sp>
    </p:spTree>
  </p:cSld>
  <p:transition>
    <p:checke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cc"/>
                </a:solidFill>
                <a:latin typeface="Tahoma"/>
              </a:rPr>
              <a:t>Erste Skizze von der 4-Knoten-Verbindung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7" name="1969_4-node_map" descr=""/>
          <p:cNvPicPr/>
          <p:nvPr/>
        </p:nvPicPr>
        <p:blipFill>
          <a:blip r:embed="rId1"/>
          <a:stretch/>
        </p:blipFill>
        <p:spPr>
          <a:xfrm>
            <a:off x="2247840" y="1752480"/>
            <a:ext cx="4648320" cy="4230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. Kar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D84EE-2919-43AF-A730-E4BC58FCE1CF}" type="slidenum">
              <a:t>9</a:t>
            </a:fld>
          </a:p>
        </p:txBody>
      </p:sp>
    </p:spTree>
  </p:cSld>
  <p:transition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19T09:47:57Z</dcterms:created>
  <dc:creator>Schule</dc:creator>
  <dc:description/>
  <dc:language>en-US</dc:language>
  <cp:lastModifiedBy>Hans Peter Karl</cp:lastModifiedBy>
  <dcterms:modified xsi:type="dcterms:W3CDTF">2001-07-26T05:14:20Z</dcterms:modified>
  <cp:revision>27</cp:revision>
  <dc:subject/>
  <dc:title>Das Internet</dc:title>
</cp:coreProperties>
</file>