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94E0-747F-4837-8C9E-A474D14A75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ildquelle: www.michaelkaul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ildquelle: www.michaelkaul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752-EB53-45DA-B273-D45E0D92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997-61CA-43C4-B2CD-E4B12C0C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30B-23CD-4BAE-8F55-59E93D48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A6B-0058-420A-AAED-4E218DDA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0ABA-B970-4CFA-B257-7C394584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6ED2-4994-48C6-9F7B-547D9943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23C1-8614-4475-8DFF-2C15821A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A314-42D9-41C5-A009-8591324A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364-2A43-4F50-90FB-CF3D822B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341E-9DBD-4000-BFBE-8D4A9B80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3672-0142-4363-B4D2-FE0BF90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EB1-C826-466B-9B2E-7521851E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2EA7-B523-4D8B-90C4-3955D201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567-268E-43F0-AD8F-16D4D62E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83BB-4CB0-44A3-BF69-B374D401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206-3A3F-42A7-9007-0A448C29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D84C-BC34-4362-9BB7-1CF27CC2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9FB-490A-4959-A71B-2888D781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F5C-D7DA-4038-9B12-FF2E6AEF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EA3-D007-4368-92C9-E3CA3982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51E-B5CB-4C29-8145-1AEAF85F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09F-C711-435F-89B3-57CB85C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61A-C5CE-47A3-BCC0-BA30097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879-59A7-41C0-97D3-72D9585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B9D7-39BC-4D34-B85C-249C013CBC33}" type="datetime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EEBE-8652-487E-A4F7-C00634EDB0C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ECD0-EE53-4E7D-B532-7BBE115F8170}" type="datetime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F990-65BA-4403-9F2D-23E9093105C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as Interne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 Präsentation von H. Kar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für die 7. Jahrgangsstufe I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BS00527_" descr=""/>
          <p:cNvPicPr/>
          <p:nvPr/>
        </p:nvPicPr>
        <p:blipFill>
          <a:blip r:embed="rId1"/>
          <a:stretch/>
        </p:blipFill>
        <p:spPr>
          <a:xfrm>
            <a:off x="762120" y="3105000"/>
            <a:ext cx="7619760" cy="1086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ie ging es dann weiter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2: Ray Tomlinson, der das erste E-Mail-Programm 1971 schrieb, stellt sein abgeändertes Programm vor (@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3: Vint Cerfs Internet-Protokolle vereinfachen die Vernetzung von Computern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Erste internationale Anschlüsse an das ARPANET (Norwegen und England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5: Satelliten-Leitungen über zwei Ozeane 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(nach Hawaii und England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8: Das Protokoll TCP wird gesplittert in TCP und I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83: Der militärische Teil spaltet sich vom ARPANET ab </a:t>
            </a:r>
            <a:r>
              <a:rPr b="0" lang="de-DE" sz="2400" spc="-1" strike="noStrike">
                <a:solidFill>
                  <a:srgbClr val="99ffcc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 von 113 Knoten gehen 68 zum MILNET. Der wissenschaftliche Teil entwickelt sich in Form des INTERNET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0" name="BS00925_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1986120" cy="10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EA7-CDD3-4AE0-943C-230B0EB60F17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... und die Entwicklung ging wei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0: Das ARPANET wird offiziell außer Betrieb genomme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1: Das WWW geht über das Schweizer Kernforschungszentrum CERN ins Netz – 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Erfinder und Entwickler ist Tim Berners-Lee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3: Das WWW hat in diesem Jahr eine Wachstumsrate von 341 634 %!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Die erste Surfsoftware wird entwickelt und heißt NCSA Mosaic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4: Marc Andreesen und Jim Clark gründen Netscape Communications und bringen ihren ersten Browser auf den Markt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Erste Online-Geschäfte tauchen im Internet auf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9: Die „Erste Internet Bank von Indiana“ kann nur über Internet erreicht werden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tim" descr=""/>
          <p:cNvPicPr/>
          <p:nvPr/>
        </p:nvPicPr>
        <p:blipFill>
          <a:blip r:embed="rId1"/>
          <a:stretch/>
        </p:blipFill>
        <p:spPr>
          <a:xfrm>
            <a:off x="7162920" y="1752480"/>
            <a:ext cx="124776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E26-650C-4A9B-8702-3F3EB4556D75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99cc"/>
                </a:solidFill>
                <a:latin typeface="Tahoma"/>
              </a:rPr>
              <a:t>Das Internet-Wachstu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4360" y="1251000"/>
          <a:ext cx="777240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1000"/>
                    <a:ext cx="77724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62120" y="5867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Host: ein Computersystem mit registrierter IP-Adres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E42-1BA5-4E4F-A67E-C4DC4C51EB4D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und die Entwicklung ist noch lange nicht 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971800" y="2419200"/>
            <a:ext cx="32004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2" name="BS00527_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838224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07B-5F0A-4963-A03B-11B85D1A5A24}" type="slidenum">
              <a:t>13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as ist das Interne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Ein weltweiter Verbund einzelner Rechner und Netzwerke verschiedenster Institutionen und Unternehmen zum Austausch von Date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Es existiert keine Zentrale, die für das gesamte Netz verantwortlich i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87E-E063-48B5-8EA6-1DF8E2747EA5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as braucht man um im Internet surfen zu könne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Comput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analogen oder digitalen Zugriff auf das Telefonnetz: Modem, ISDN etc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Browser (Programm, das das Surfen im Internet ermöglicht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Provider (z. B. T-Online, AOL, Bürger-netze), der den Anwendern den Zugang zum Internet bietet (Preisvergleich!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Internet-Softwa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 Zugangsberechtigu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PE03718_" descr=""/>
          <p:cNvPicPr/>
          <p:nvPr/>
        </p:nvPicPr>
        <p:blipFill>
          <a:blip r:embed="rId1"/>
          <a:stretch/>
        </p:blipFill>
        <p:spPr>
          <a:xfrm>
            <a:off x="6248520" y="4724280"/>
            <a:ext cx="212220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CBB-79D2-4E64-97DB-79F218E2B385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Anwendungsfelder der Netzarbe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Informationssuche im Netz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Telekooperatives Arbeite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Sich-Aneignen von Hintergrundwisse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Versenden und Empfangen von elektronischer Po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Publizieren im Netz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28C-6BAF-49FE-95C1-C919AD7B995F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Einige Dienste im Intern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BS01108_" descr=""/>
          <p:cNvPicPr/>
          <p:nvPr/>
        </p:nvPicPr>
        <p:blipFill>
          <a:blip r:embed="rId1"/>
          <a:stretch/>
        </p:blipFill>
        <p:spPr>
          <a:xfrm>
            <a:off x="3352680" y="2973240"/>
            <a:ext cx="3048120" cy="2017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057400" y="1676520"/>
            <a:ext cx="1752480" cy="1556280"/>
            <a:chOff x="2057400" y="1676520"/>
            <a:chExt cx="1752480" cy="1556280"/>
          </a:xfrm>
        </p:grpSpPr>
        <p:pic>
          <p:nvPicPr>
            <p:cNvPr id="129" name="PE01302_" descr=""/>
            <p:cNvPicPr/>
            <p:nvPr/>
          </p:nvPicPr>
          <p:blipFill>
            <a:blip r:embed="rId2"/>
            <a:stretch/>
          </p:blipFill>
          <p:spPr>
            <a:xfrm>
              <a:off x="2209680" y="1676520"/>
              <a:ext cx="129564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057400" y="28954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Online-Shopping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90720" y="3733920"/>
            <a:ext cx="1600200" cy="1480320"/>
            <a:chOff x="990720" y="3733920"/>
            <a:chExt cx="1600200" cy="1480320"/>
          </a:xfrm>
        </p:grpSpPr>
        <p:pic>
          <p:nvPicPr>
            <p:cNvPr id="132" name="BS00811_" descr=""/>
            <p:cNvPicPr/>
            <p:nvPr/>
          </p:nvPicPr>
          <p:blipFill>
            <a:blip r:embed="rId3"/>
            <a:stretch/>
          </p:blipFill>
          <p:spPr>
            <a:xfrm>
              <a:off x="990720" y="3733920"/>
              <a:ext cx="1600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219320" y="487692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Topnew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666880" y="4952880"/>
            <a:ext cx="1600200" cy="1404360"/>
            <a:chOff x="2666880" y="4952880"/>
            <a:chExt cx="1600200" cy="1404360"/>
          </a:xfrm>
        </p:grpSpPr>
        <p:pic>
          <p:nvPicPr>
            <p:cNvPr id="135" name="SL01426_" descr=""/>
            <p:cNvPicPr/>
            <p:nvPr/>
          </p:nvPicPr>
          <p:blipFill>
            <a:blip r:embed="rId4"/>
            <a:stretch/>
          </p:blipFill>
          <p:spPr>
            <a:xfrm>
              <a:off x="2743200" y="4952880"/>
              <a:ext cx="12193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66688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Software/Spiele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10080" y="4876920"/>
            <a:ext cx="1143000" cy="1251720"/>
            <a:chOff x="5410080" y="4876920"/>
            <a:chExt cx="1143000" cy="1251720"/>
          </a:xfrm>
        </p:grpSpPr>
        <p:pic>
          <p:nvPicPr>
            <p:cNvPr id="138" name="BS00865A" descr=""/>
            <p:cNvPicPr/>
            <p:nvPr/>
          </p:nvPicPr>
          <p:blipFill>
            <a:blip r:embed="rId5"/>
            <a:stretch/>
          </p:blipFill>
          <p:spPr>
            <a:xfrm>
              <a:off x="5410080" y="4876920"/>
              <a:ext cx="114300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562720" y="579132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8f8f8"/>
                  </a:solidFill>
                  <a:latin typeface="Times New Roman"/>
                </a:rPr>
                <a:t>Chatten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81680" y="3886200"/>
            <a:ext cx="1447920" cy="1404000"/>
            <a:chOff x="6781680" y="3886200"/>
            <a:chExt cx="1447920" cy="1404000"/>
          </a:xfrm>
        </p:grpSpPr>
        <p:pic>
          <p:nvPicPr>
            <p:cNvPr id="141" name="BD05680_" descr=""/>
            <p:cNvPicPr/>
            <p:nvPr/>
          </p:nvPicPr>
          <p:blipFill>
            <a:blip r:embed="rId6"/>
            <a:stretch/>
          </p:blipFill>
          <p:spPr>
            <a:xfrm>
              <a:off x="6781680" y="3886200"/>
              <a:ext cx="144792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62920" y="49528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Reisen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248520" y="2286000"/>
            <a:ext cx="1676160" cy="1404000"/>
            <a:chOff x="6248520" y="2286000"/>
            <a:chExt cx="1676160" cy="1404000"/>
          </a:xfrm>
        </p:grpSpPr>
        <p:pic>
          <p:nvPicPr>
            <p:cNvPr id="144" name="BS00970_" descr=""/>
            <p:cNvPicPr/>
            <p:nvPr/>
          </p:nvPicPr>
          <p:blipFill>
            <a:blip r:embed="rId7"/>
            <a:stretch/>
          </p:blipFill>
          <p:spPr>
            <a:xfrm>
              <a:off x="6248520" y="2286000"/>
              <a:ext cx="1350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324480" y="3352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Homebanking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800600" y="1600200"/>
            <a:ext cx="990720" cy="1251720"/>
            <a:chOff x="4800600" y="1600200"/>
            <a:chExt cx="990720" cy="1251720"/>
          </a:xfrm>
        </p:grpSpPr>
        <p:pic>
          <p:nvPicPr>
            <p:cNvPr id="147" name="BS01577_" descr=""/>
            <p:cNvPicPr/>
            <p:nvPr/>
          </p:nvPicPr>
          <p:blipFill>
            <a:blip r:embed="rId8"/>
            <a:stretch/>
          </p:blipFill>
          <p:spPr>
            <a:xfrm>
              <a:off x="4800600" y="1600200"/>
              <a:ext cx="914400" cy="893880"/>
            </a:xfrm>
            <a:prstGeom prst="rect">
              <a:avLst/>
            </a:prstGeom>
            <a:ln w="9360">
              <a:solidFill>
                <a:srgbClr val="6699ff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>
              <a:off x="4876920" y="2514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E-Mail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607-7AD1-41E6-A918-83C27C7A6158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ie und warum entstand das Interne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Die ARPA (Advanced Research Projects Agency) des US-Verteidigungsministeriums suchte in den 60er Jahren einen Weg, Rechenanlagen durch eine dezentrale Struktur miteinander zu verbinde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Auf diese Weise sollte auch bei einem Ausfall einzelner Leitungen oder Rechner – etwa im Falle eines Krieges – das Netz funktionsfähig bleiben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E81-D0CA-45A9-A933-67EB7CCD519E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Die Geschichte des Interne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1969 entsteht das ARPANET, d. h. die ersten 4 Knoten werden in Betrieb genomme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1: Universität Los Angeles (August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2: Stanford Universität (Oktober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3: Universität von Santa Barbara (Nov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4: Universität von Utah (Dezember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Als Haupt-Knoten-Computer wird jeweils ein Honeywell DDP-516 Mini-Computer mit 12 KB Speicher eingesetzt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A22-B099-404E-9F65-9A43D4E64BC9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Die Internet-Pioniere bei der Arbe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5791320"/>
            <a:ext cx="807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cc"/>
                </a:solidFill>
                <a:latin typeface="Tahoma"/>
              </a:rPr>
              <a:t>Jon Postel, Steve Crocker, und Vint Cerf (von links nach rechts)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5" name="pioneers" descr=""/>
          <p:cNvPicPr/>
          <p:nvPr/>
        </p:nvPicPr>
        <p:blipFill>
          <a:blip r:embed="rId1"/>
          <a:stretch/>
        </p:blipFill>
        <p:spPr>
          <a:xfrm>
            <a:off x="2781360" y="1676520"/>
            <a:ext cx="357984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BA7-6CE3-4D53-9B10-F173EB37DE9D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Erste Skizze von der 4-Knoten-Verbind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1969_4-node_map" descr=""/>
          <p:cNvPicPr/>
          <p:nvPr/>
        </p:nvPicPr>
        <p:blipFill>
          <a:blip r:embed="rId1"/>
          <a:stretch/>
        </p:blipFill>
        <p:spPr>
          <a:xfrm>
            <a:off x="2247840" y="1752480"/>
            <a:ext cx="4648320" cy="42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47E-1AE4-45B1-B4BB-9A639FE6CC09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09:47:57Z</dcterms:created>
  <dc:creator>Schule</dc:creator>
  <dc:description/>
  <dc:language>en-US</dc:language>
  <cp:lastModifiedBy>Hans Peter Karl</cp:lastModifiedBy>
  <dcterms:modified xsi:type="dcterms:W3CDTF">2001-07-26T05:14:20Z</dcterms:modified>
  <cp:revision>27</cp:revision>
  <dc:subject/>
  <dc:title>Das Internet</dc:title>
</cp:coreProperties>
</file>