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37C5-8885-44C3-A468-7990C50EFA9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ildquelle: www.michaelkaul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ildquelle: www.michaelkaul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780-9ED1-4CBA-89C2-B8884A4A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D4B-68E3-4A84-9D6E-AB196CF7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756-5F86-49A1-B489-B09CA96F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0B7-8310-4196-89E6-4008FE4E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F0FF-F442-408D-BD21-A66DFFFB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2BE5-ED28-4BB8-8D46-155C5C47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E64C-CCD4-4636-9DB0-121DC088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9012-6374-4832-A60D-C0037618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6991-25FF-4D8D-8F3E-A541741E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9A55-A490-4D32-9229-20FB3838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2504-7C7C-4704-9DFD-6B6EB429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D1C-8B29-4CB7-9753-C68F5BA7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9139-8C5C-4753-A82A-D7C8540E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DEF3-34B3-4949-A749-CE0D31A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7A00-0EFE-4934-8F84-4660916F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DAE6-1EA2-4D53-B67F-B2394552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1F54-9B00-4A0F-B787-7AB5B821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3CC-B95C-4DDC-B9CD-9D60595F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BE5-F64D-42D0-9E3A-D2F1B5B3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2AA-D4A2-4710-BB89-1B12F238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941-B6DC-44AB-A2AB-914654EE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B97-30F3-4802-9793-D92DCFA9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E0B-3775-4069-8455-22A4B574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719-9B90-4F11-89BE-2A21EF70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B6C2-7F55-4C62-93AB-43EB2F469A50}" type="datetime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F022-FB84-4156-BDF9-F154E195934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4A10-838F-4741-AD9F-9942C8872E4B}" type="datetime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B33C-F8F1-4D54-9DDC-5072A285CF1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as Interne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 Präsentation von H. Kar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für die 7. Jahrgangsstufe I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BS00527_" descr=""/>
          <p:cNvPicPr/>
          <p:nvPr/>
        </p:nvPicPr>
        <p:blipFill>
          <a:blip r:embed="rId1"/>
          <a:stretch/>
        </p:blipFill>
        <p:spPr>
          <a:xfrm>
            <a:off x="762120" y="3105000"/>
            <a:ext cx="7619760" cy="1086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ie ging es dann weiter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2: Ray Tomlinson, der das erste E-Mail-Programm 1971 schrieb, stellt sein abgeändertes Programm vor (@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3: Vint Cerfs Internet-Protokolle vereinfachen die Vernetzung von Computern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Erste internationale Anschlüsse an das ARPANET (Norwegen und England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5: Satelliten-Leitungen über zwei Ozeane 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(nach Hawaii und England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8: Das Protokoll TCP wird gesplittert in TCP und I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83: Der militärische Teil spaltet sich vom ARPANET ab </a:t>
            </a:r>
            <a:r>
              <a:rPr b="0" lang="de-DE" sz="2400" spc="-1" strike="noStrike">
                <a:solidFill>
                  <a:srgbClr val="99ffcc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 von 113 Knoten gehen 68 zum MILNET. Der wissenschaftliche Teil entwickelt sich in Form des INTERNETS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0" name="BS00925_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1986120" cy="10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36F-D563-44C8-ADB5-5F32C9A8FD4B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... und die Entwicklung ging wei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0: Das ARPANET wird offiziell außer Betrieb genomme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1: Das WWW geht über das Schweizer Kernforschungszentrum CERN ins Netz – 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Erfinder und Entwickler ist Tim Berners-Lee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3: Das WWW hat in diesem Jahr eine Wachstumsrate von 341 634 %!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Die erste Surfsoftware wird entwickelt und heißt NCSA Mosaic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4: Marc Andreesen und Jim Clark gründen Netscape Communications und bringen ihren ersten Browser auf den Markt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Erste Online-Geschäfte tauchen im Internet auf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9: Die „Erste Internet Bank von Indiana“ kann nur über Internet erreicht werden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tim" descr=""/>
          <p:cNvPicPr/>
          <p:nvPr/>
        </p:nvPicPr>
        <p:blipFill>
          <a:blip r:embed="rId1"/>
          <a:stretch/>
        </p:blipFill>
        <p:spPr>
          <a:xfrm>
            <a:off x="7162920" y="1752480"/>
            <a:ext cx="124776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7F4-3A3F-4C5F-A705-8ACBD2E42634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99cc"/>
                </a:solidFill>
                <a:latin typeface="Tahoma"/>
              </a:rPr>
              <a:t>Das Internet-Wachstu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4360" y="1251000"/>
          <a:ext cx="777240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1000"/>
                    <a:ext cx="77724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62120" y="5867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ahoma"/>
              </a:rPr>
              <a:t>Host: ein Computersystem mit registrierter IP-Adres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B8B-401E-466E-A7BE-CF7536A61EEF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und die Entwicklung ist noch lange nicht 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971800" y="2419200"/>
            <a:ext cx="32004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nd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2" name="BS00527_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838224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191-2328-4E2A-A6A6-8AD22BF6CE9C}" type="slidenum">
              <a:t>13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as ist das Interne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Ein weltweiter Verbund einzelner Rechner und Netzwerke verschiedenster Institutionen und Unternehmen zum Austausch von Date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Es existiert keine Zentrale, die für das gesamte Netz verantwortlich is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244-848E-4708-B28D-F1FCE2626034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as braucht man um im Internet surfen zu könne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Comput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analogen oder digitalen Zugriff auf das Telefonnetz: Modem, ISDN etc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Browser (Programm, das das Surfen im Internet ermöglicht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Provider (z. B. T-Online, AOL, Bürger-netze), der den Anwendern den Zugang zum Internet bietet (Preisvergleich!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Internet-Softwa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 Zugangsberechtigu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PE03718_" descr=""/>
          <p:cNvPicPr/>
          <p:nvPr/>
        </p:nvPicPr>
        <p:blipFill>
          <a:blip r:embed="rId1"/>
          <a:stretch/>
        </p:blipFill>
        <p:spPr>
          <a:xfrm>
            <a:off x="6248520" y="4724280"/>
            <a:ext cx="212220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B5C-F200-4284-A2F3-0AF24E62FA4A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Anwendungsfelder der Netzarbe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Informationssuche im Netz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Telekooperatives Arbeite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Sich-Aneignen von Hintergrundwisse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Versenden und Empfangen von elektronischer Pos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Publizieren im Netz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70D-F2B5-4CF5-882C-0AB0D48969CD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Einige Dienste im Intern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BS01108_" descr=""/>
          <p:cNvPicPr/>
          <p:nvPr/>
        </p:nvPicPr>
        <p:blipFill>
          <a:blip r:embed="rId1"/>
          <a:stretch/>
        </p:blipFill>
        <p:spPr>
          <a:xfrm>
            <a:off x="3352680" y="2973240"/>
            <a:ext cx="3048120" cy="2017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2057400" y="1676520"/>
            <a:ext cx="1752480" cy="1556280"/>
            <a:chOff x="2057400" y="1676520"/>
            <a:chExt cx="1752480" cy="1556280"/>
          </a:xfrm>
        </p:grpSpPr>
        <p:pic>
          <p:nvPicPr>
            <p:cNvPr id="129" name="PE01302_" descr=""/>
            <p:cNvPicPr/>
            <p:nvPr/>
          </p:nvPicPr>
          <p:blipFill>
            <a:blip r:embed="rId2"/>
            <a:stretch/>
          </p:blipFill>
          <p:spPr>
            <a:xfrm>
              <a:off x="2209680" y="1676520"/>
              <a:ext cx="129564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057400" y="28954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Online-Shopping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90720" y="3733920"/>
            <a:ext cx="1600200" cy="1480320"/>
            <a:chOff x="990720" y="3733920"/>
            <a:chExt cx="1600200" cy="1480320"/>
          </a:xfrm>
        </p:grpSpPr>
        <p:pic>
          <p:nvPicPr>
            <p:cNvPr id="132" name="BS00811_" descr=""/>
            <p:cNvPicPr/>
            <p:nvPr/>
          </p:nvPicPr>
          <p:blipFill>
            <a:blip r:embed="rId3"/>
            <a:stretch/>
          </p:blipFill>
          <p:spPr>
            <a:xfrm>
              <a:off x="990720" y="3733920"/>
              <a:ext cx="1600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219320" y="487692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Topnew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666880" y="4952880"/>
            <a:ext cx="1600200" cy="1404360"/>
            <a:chOff x="2666880" y="4952880"/>
            <a:chExt cx="1600200" cy="1404360"/>
          </a:xfrm>
        </p:grpSpPr>
        <p:pic>
          <p:nvPicPr>
            <p:cNvPr id="135" name="SL01426_" descr=""/>
            <p:cNvPicPr/>
            <p:nvPr/>
          </p:nvPicPr>
          <p:blipFill>
            <a:blip r:embed="rId4"/>
            <a:stretch/>
          </p:blipFill>
          <p:spPr>
            <a:xfrm>
              <a:off x="2743200" y="4952880"/>
              <a:ext cx="121932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66688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Software/Spiele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10080" y="4876920"/>
            <a:ext cx="1143000" cy="1251720"/>
            <a:chOff x="5410080" y="4876920"/>
            <a:chExt cx="1143000" cy="1251720"/>
          </a:xfrm>
        </p:grpSpPr>
        <p:pic>
          <p:nvPicPr>
            <p:cNvPr id="138" name="BS00865A" descr=""/>
            <p:cNvPicPr/>
            <p:nvPr/>
          </p:nvPicPr>
          <p:blipFill>
            <a:blip r:embed="rId5"/>
            <a:stretch/>
          </p:blipFill>
          <p:spPr>
            <a:xfrm>
              <a:off x="5410080" y="4876920"/>
              <a:ext cx="114300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562720" y="579132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8f8f8"/>
                  </a:solidFill>
                  <a:latin typeface="Times New Roman"/>
                </a:rPr>
                <a:t>Chatten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81680" y="3886200"/>
            <a:ext cx="1447920" cy="1404000"/>
            <a:chOff x="6781680" y="3886200"/>
            <a:chExt cx="1447920" cy="1404000"/>
          </a:xfrm>
        </p:grpSpPr>
        <p:pic>
          <p:nvPicPr>
            <p:cNvPr id="141" name="BD05680_" descr=""/>
            <p:cNvPicPr/>
            <p:nvPr/>
          </p:nvPicPr>
          <p:blipFill>
            <a:blip r:embed="rId6"/>
            <a:stretch/>
          </p:blipFill>
          <p:spPr>
            <a:xfrm>
              <a:off x="6781680" y="3886200"/>
              <a:ext cx="144792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62920" y="49528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Reisen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248520" y="2286000"/>
            <a:ext cx="1676160" cy="1404000"/>
            <a:chOff x="6248520" y="2286000"/>
            <a:chExt cx="1676160" cy="1404000"/>
          </a:xfrm>
        </p:grpSpPr>
        <p:pic>
          <p:nvPicPr>
            <p:cNvPr id="144" name="BS00970_" descr=""/>
            <p:cNvPicPr/>
            <p:nvPr/>
          </p:nvPicPr>
          <p:blipFill>
            <a:blip r:embed="rId7"/>
            <a:stretch/>
          </p:blipFill>
          <p:spPr>
            <a:xfrm>
              <a:off x="6248520" y="2286000"/>
              <a:ext cx="1350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324480" y="3352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Homebanking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800600" y="1600200"/>
            <a:ext cx="990720" cy="1251720"/>
            <a:chOff x="4800600" y="1600200"/>
            <a:chExt cx="990720" cy="1251720"/>
          </a:xfrm>
        </p:grpSpPr>
        <p:pic>
          <p:nvPicPr>
            <p:cNvPr id="147" name="BS01577_" descr=""/>
            <p:cNvPicPr/>
            <p:nvPr/>
          </p:nvPicPr>
          <p:blipFill>
            <a:blip r:embed="rId8"/>
            <a:stretch/>
          </p:blipFill>
          <p:spPr>
            <a:xfrm>
              <a:off x="4800600" y="1600200"/>
              <a:ext cx="914400" cy="893880"/>
            </a:xfrm>
            <a:prstGeom prst="rect">
              <a:avLst/>
            </a:prstGeom>
            <a:ln w="9360">
              <a:solidFill>
                <a:srgbClr val="6699ff"/>
              </a:solidFill>
              <a:miter/>
            </a:ln>
          </p:spPr>
        </p:pic>
        <p:sp>
          <p:nvSpPr>
            <p:cNvPr id="148" name=""/>
            <p:cNvSpPr/>
            <p:nvPr/>
          </p:nvSpPr>
          <p:spPr>
            <a:xfrm>
              <a:off x="4876920" y="25146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E-Mail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A3B-B82D-43AC-8825-2371EAC07E9D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ie und warum entstand das Interne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Die ARPA (Advanced Research Projects Agency) des US-Verteidigungsministeriums suchte in den 60er Jahren einen Weg, Rechenanlagen durch eine dezentrale Struktur miteinander zu verbinde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Auf diese Weise sollte auch bei einem Ausfall einzelner Leitungen oder Rechner – etwa im Falle eines Krieges – das Netz funktionsfähig bleiben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0C4-A72A-4D1F-B0C5-B6D8BC95865C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Die Geschichte des Interne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1969 entsteht das ARPANET, d. h. die ersten 4 Knoten werden in Betrieb genomme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1: Universität Los Angeles (August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2: Stanford Universität (Oktober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3: Universität von Santa Barbara (Nov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4: Universität von Utah (Dezember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Als Haupt-Knoten-Computer wird jeweils ein Honeywell DDP-516 Mini-Computer mit 12 KB Speicher eingesetzt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C07-59F1-4449-BD60-5014288D63DB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Die Internet-Pioniere bei der Arbe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5791320"/>
            <a:ext cx="807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cc"/>
                </a:solidFill>
                <a:latin typeface="Tahoma"/>
              </a:rPr>
              <a:t>Jon Postel, Steve Crocker, und Vint Cerf (von links nach rechts)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5" name="pioneers" descr=""/>
          <p:cNvPicPr/>
          <p:nvPr/>
        </p:nvPicPr>
        <p:blipFill>
          <a:blip r:embed="rId1"/>
          <a:stretch/>
        </p:blipFill>
        <p:spPr>
          <a:xfrm>
            <a:off x="2781360" y="1676520"/>
            <a:ext cx="357984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E1D-71A0-4502-9B41-7EE752C4F023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Erste Skizze von der 4-Knoten-Verbind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1969_4-node_map" descr=""/>
          <p:cNvPicPr/>
          <p:nvPr/>
        </p:nvPicPr>
        <p:blipFill>
          <a:blip r:embed="rId1"/>
          <a:stretch/>
        </p:blipFill>
        <p:spPr>
          <a:xfrm>
            <a:off x="2247840" y="1752480"/>
            <a:ext cx="4648320" cy="42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DF1-159C-44B8-B1FC-9F37A06DC1A6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09:47:57Z</dcterms:created>
  <dc:creator>Schule</dc:creator>
  <dc:description/>
  <dc:language>en-US</dc:language>
  <cp:lastModifiedBy>Hans Peter Karl</cp:lastModifiedBy>
  <dcterms:modified xsi:type="dcterms:W3CDTF">2001-07-26T05:14:20Z</dcterms:modified>
  <cp:revision>27</cp:revision>
  <dc:subject/>
  <dc:title>Das Internet</dc:title>
</cp:coreProperties>
</file>