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021-8D1A-48C7-9C3A-07D29BA9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2BD-A1B4-41AE-85F3-0A9D5B5E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459-510B-4EDC-B2F3-DAC4F91D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A7F-AB98-45F6-954C-F0648D94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AE3-361D-47BE-86CA-9A177B5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F0D-1F9C-43C1-8BD6-061AC35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0B0-FF01-40F2-ACE8-68064EB8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FBF-890B-4B0D-A9F1-66DD5B8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B11-6E46-44F2-B776-8EBB6588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AD1-4366-4CE4-8E1E-8BF498D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80C-77B5-4A1C-B254-759F0196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810-EFEB-4118-878D-5CD0DBD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E99D-7FCC-4092-A663-C933116EF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MOTOR.WAV" TargetMode="External"/><Relationship Id="rId3" Type="http://schemas.microsoft.com/office/2007/relationships/media" Target="file:///tmp/home/.config/libreoffice/4/user/gallery/MOTOR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file:///tmp/home/.config/libreoffice/4/user/gallery/Robotz%20Fehler.wav" TargetMode="External"/><Relationship Id="rId6" Type="http://schemas.openxmlformats.org/officeDocument/2006/relationships/hyperlink" Target="file:///tmp/home/.config/libreoffice/4/user/gallery/Robotz%20Fehler.wav" TargetMode="External"/><Relationship Id="rId7" Type="http://schemas.openxmlformats.org/officeDocument/2006/relationships/image" Target="../media/image23.jpeg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KAMERA.WAV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formationstechnolog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neues Fach aus S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Technischen Zeichnens/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stechnologie (I)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 9. Klasse (Grundwis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ndlagen der Daten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en mit Datenb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ndlegendeFunktions-weisen von Rechnern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ktionsweise wichtiger Netz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usstsein von Sicherheitsproblemen in Netz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ylinder und Kegel mit Veränderungen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- und Konstruktions-analysen durch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ationskörper mit ein-fachen Bearbeitungen da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ache Schnittdarstellun-gen lesen, zeichnen und bema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8120"/>
            <a:ext cx="19810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kizze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34120" cy="2354040"/>
          </a:xfrm>
          <a:prstGeom prst="rect">
            <a:avLst/>
          </a:prstGeom>
          <a:ln w="0">
            <a:noFill/>
          </a:ln>
        </p:spPr>
      </p:pic>
      <p:pic>
        <p:nvPicPr>
          <p:cNvPr id="48" name="Bild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7528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Shade" descr=""/>
          <p:cNvPicPr/>
          <p:nvPr/>
        </p:nvPicPr>
        <p:blipFill>
          <a:blip r:embed="rId3"/>
          <a:srcRect l="23659" t="8876" r="23659" b="8876"/>
          <a:stretch/>
        </p:blipFill>
        <p:spPr>
          <a:xfrm>
            <a:off x="2743200" y="3124080"/>
            <a:ext cx="2320920" cy="2895840"/>
          </a:xfrm>
          <a:prstGeom prst="rect">
            <a:avLst/>
          </a:prstGeom>
          <a:ln w="0">
            <a:noFill/>
          </a:ln>
        </p:spPr>
      </p:pic>
      <p:pic>
        <p:nvPicPr>
          <p:cNvPr id="50" name="WE5" descr=""/>
          <p:cNvPicPr/>
          <p:nvPr/>
        </p:nvPicPr>
        <p:blipFill>
          <a:blip r:embed="rId4"/>
          <a:srcRect l="16660" t="0" r="16660" b="0"/>
          <a:stretch/>
        </p:blipFill>
        <p:spPr>
          <a:xfrm>
            <a:off x="304920" y="2971800"/>
            <a:ext cx="243684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33360" y="68256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Handskiz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Zeichnungen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er Hand und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3D-Volumen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909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2920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28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s neue Fachprofil TZ/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5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il12D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03848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Explosion" descr=""/>
          <p:cNvPicPr/>
          <p:nvPr/>
        </p:nvPicPr>
        <p:blipFill>
          <a:blip r:embed="rId5"/>
          <a:stretch/>
        </p:blipFill>
        <p:spPr>
          <a:xfrm>
            <a:off x="623880" y="2895480"/>
            <a:ext cx="294012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00" y="117360"/>
            <a:ext cx="31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spiel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Zusammen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Explosionsda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augruppe2" descr=""/>
          <p:cNvPicPr/>
          <p:nvPr/>
        </p:nvPicPr>
        <p:blipFill>
          <a:blip r:embed="rId1"/>
          <a:srcRect l="11523" t="0" r="11523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Baugruppe3" descr=""/>
          <p:cNvPicPr/>
          <p:nvPr/>
        </p:nvPicPr>
        <p:blipFill>
          <a:blip r:embed="rId2"/>
          <a:srcRect l="11523" t="0" r="11523" b="0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640" y="-34920"/>
            <a:ext cx="3716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s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Konstruktion und Zusammenbau in Team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imation des Funktionsablau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multimediale Aufber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augruppe1" descr=""/>
          <p:cNvPicPr/>
          <p:nvPr/>
        </p:nvPicPr>
        <p:blipFill>
          <a:blip r:embed="rId3"/>
          <a:srcRect l="11523" t="0" r="11523" b="0"/>
          <a:stretch/>
        </p:blipFill>
        <p:spPr>
          <a:xfrm>
            <a:off x="0" y="1219320"/>
            <a:ext cx="4572000" cy="34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4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o1b" descr=""/>
          <p:cNvPicPr/>
          <p:nvPr/>
        </p:nvPicPr>
        <p:blipFill>
          <a:blip r:embed="rId1"/>
          <a:stretch/>
        </p:blipFill>
        <p:spPr>
          <a:xfrm>
            <a:off x="6299280" y="1828800"/>
            <a:ext cx="2844720" cy="180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5f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254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b43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73a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2885" t="6592" r="8590" b="6592"/>
          <a:stretch/>
        </p:blipFill>
        <p:spPr>
          <a:xfrm>
            <a:off x="5105520" y="3581280"/>
            <a:ext cx="1974600" cy="2845080"/>
          </a:xfrm>
          <a:prstGeom prst="rect">
            <a:avLst/>
          </a:prstGeom>
          <a:ln w="0">
            <a:noFill/>
          </a:ln>
        </p:spPr>
      </p:pic>
      <p:pic>
        <p:nvPicPr>
          <p:cNvPr id="70" name="Nockenwelle" descr=""/>
          <p:cNvPicPr/>
          <p:nvPr/>
        </p:nvPicPr>
        <p:blipFill>
          <a:blip r:embed="rId3"/>
          <a:srcRect l="3429" t="4169" r="3429" b="4169"/>
          <a:stretch/>
        </p:blipFill>
        <p:spPr>
          <a:xfrm>
            <a:off x="182520" y="1401840"/>
            <a:ext cx="4969080" cy="4022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6384" t="6847" r="6384" b="6847"/>
          <a:stretch/>
        </p:blipFill>
        <p:spPr>
          <a:xfrm>
            <a:off x="4446720" y="179280"/>
            <a:ext cx="2460600" cy="22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4600" y="41400"/>
            <a:ext cx="4007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benbewe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kt IT und Phys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Funktionsmodell für den 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we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jauch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1119240" cy="69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0640" y="4937040"/>
            <a:ext cx="24285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e3d5c"/>
                </a:solidFill>
                <a:latin typeface="Times New Roman"/>
              </a:rPr>
              <a:t>Das große CAD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1e3d5c"/>
                </a:solidFill>
                <a:latin typeface="Times New Roman"/>
              </a:rPr>
              <a:t>Ein Wissensspiel rund um Computer Aided Design</a:t>
            </a:r>
            <a:r>
              <a:rPr b="1" lang="de-DE" sz="800" spc="-1" strike="noStrike">
                <a:solidFill>
                  <a:srgbClr val="172e45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62040" y="1123920"/>
            <a:ext cx="6134040" cy="461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4800600"/>
            <a:ext cx="4572000" cy="838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d5c"/>
                </a:solidFill>
                <a:latin typeface="Times New Roman"/>
              </a:rPr>
              <a:t>Das große Spiel rund um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7560" y="41148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ck Dich c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web2b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86600" y="6019920"/>
            <a:ext cx="228600" cy="304560"/>
          </a:xfrm>
          <a:prstGeom prst="rect">
            <a:avLst/>
          </a:prstGeom>
          <a:solidFill>
            <a:srgbClr val="0d1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" y="57150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322"/>
                </a:solidFill>
                <a:latin typeface="Times New Roman"/>
              </a:rPr>
              <a:t>Welches Werkstück ist dargestell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1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a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b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5400000">
            <a:off x="1166760" y="25668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3376080" y="25668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B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585760" y="25668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C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>
            <a:hlinkClick r:id="rId5"/>
          </p:cNvPr>
          <p:cNvSpPr/>
          <p:nvPr/>
        </p:nvSpPr>
        <p:spPr>
          <a:xfrm>
            <a:off x="228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6"/>
          </p:cNvPr>
          <p:cNvSpPr/>
          <p:nvPr/>
        </p:nvSpPr>
        <p:spPr>
          <a:xfrm>
            <a:off x="2514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" descr=""/>
          <p:cNvPicPr/>
          <p:nvPr/>
        </p:nvPicPr>
        <p:blipFill>
          <a:blip r:embed="rId7"/>
          <a:stretch/>
        </p:blipFill>
        <p:spPr>
          <a:xfrm>
            <a:off x="4800600" y="312408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/>
          </p:cNvPr>
          <p:cNvSpPr/>
          <p:nvPr/>
        </p:nvSpPr>
        <p:spPr>
          <a:xfrm>
            <a:off x="4800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/>
          </p:cNvPr>
          <p:cNvSpPr/>
          <p:nvPr/>
        </p:nvSpPr>
        <p:spPr>
          <a:xfrm>
            <a:off x="7543800" y="56386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70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86000"/>
            <a:ext cx="38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 + CAD +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523880"/>
            <a:ext cx="4114800" cy="266724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 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20:17:05Z</dcterms:created>
  <dc:creator>Otmar Wagner</dc:creator>
  <dc:description/>
  <dc:language>en-US</dc:language>
  <cp:lastModifiedBy>Otmar Wagner</cp:lastModifiedBy>
  <dcterms:modified xsi:type="dcterms:W3CDTF">2001-03-15T18:55:41Z</dcterms:modified>
  <cp:revision>9</cp:revision>
  <dc:subject/>
  <dc:title>Informationstechnologie</dc:title>
</cp:coreProperties>
</file>