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BB1-6CA3-43BB-B867-D9E31084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DCF-B957-4A5C-9AA7-038A77EF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158-6119-4EBA-97B3-14C686C5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C94-5ABE-482D-8531-1338876B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ED1E-A780-4986-910E-E5FE7D35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BB34-AA7D-4936-9275-71230239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C75B-28AA-4547-91AC-DD1662C2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999B-9602-4A11-942F-D1150839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CAA6-5679-4A0B-AA87-BCD36707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0E29-D62A-4405-858C-CF1868A9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4454-B0D1-4462-8BB4-B66BBAE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ACC-6963-4D3C-BBD8-2F096B3A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24EC-CB93-4CB3-8EF2-EA7D44D9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3632-6DAE-4CFF-8476-952775A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B037-DD23-43FF-AD85-BF422F0F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C58E-FCCA-48EE-812C-DB6C9E01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9531-94C7-4E18-8BE5-80F0B184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440-0188-4A96-BB36-CC10B6BF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ACA-1407-40CE-8AE6-551C20C5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F41-1764-4FA4-A92A-F75B4FA5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F80-F4EE-4A7A-9887-FB6C68DF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49C-CD7B-4D0D-9FAF-778DA87D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904-07B2-48A7-A384-D4FBB33E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F43-F190-4767-A3A7-52BC136D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23DA-7237-4AD2-BF0D-6DF9DF684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E5DC-62E1-4A8E-B33B-BB795AF87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858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rechnungen beliebiger Dreieck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48948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er Kosinussat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57200" y="304920"/>
            <a:ext cx="4343400" cy="2819160"/>
            <a:chOff x="457200" y="304920"/>
            <a:chExt cx="4343400" cy="2819160"/>
          </a:xfrm>
        </p:grpSpPr>
        <p:sp>
          <p:nvSpPr>
            <p:cNvPr id="90" name=""/>
            <p:cNvSpPr/>
            <p:nvPr/>
          </p:nvSpPr>
          <p:spPr>
            <a:xfrm flipH="1">
              <a:off x="457200" y="304920"/>
              <a:ext cx="2666880" cy="28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304920"/>
              <a:ext cx="1676520" cy="28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3124080"/>
              <a:ext cx="4343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124080" y="3049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040" y="2438280"/>
            <a:ext cx="7610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h = b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sin </a:t>
            </a: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x = b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 cos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 y²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 (c-x)²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676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c² -2cx + x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30481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815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² = b² sin²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+ b²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+ c² - 2cb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743200"/>
            <a:ext cx="7617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8480" y="265284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286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x² -2cx + c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47246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a² = b² + c² - 2bc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ir tauschen die Variablen zyklisc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a² = b² + c² - 2bc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24196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c² = a² + b² - 2ab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4038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² = a² + c² - 2ac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20968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er Kosinussat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7:26:38Z</dcterms:created>
  <dc:creator>Standard</dc:creator>
  <dc:description/>
  <dc:language>en-US</dc:language>
  <cp:lastModifiedBy>Peter Hausladen</cp:lastModifiedBy>
  <dcterms:modified xsi:type="dcterms:W3CDTF">2003-10-24T09:27:34Z</dcterms:modified>
  <cp:revision>3</cp:revision>
  <dc:subject/>
  <dc:title>   Berechnungen beliebiger Dreiecke  </dc:title>
</cp:coreProperties>
</file>