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4FB-4673-493C-B9D7-A3C9336A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C41-9DB2-4FA2-8ED1-52D0590A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3C7-6F0E-4413-BFF0-16687E79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704-3CE7-4FC4-9F82-F88983D1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6A89-0B81-4B67-B10D-6E36BAA3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ED7C-3443-4C62-8572-336FE02D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8BB0-AD4D-4AE9-89EA-6181ABEA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5AF9-5B8F-41A2-BF19-3D78B2B4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4FDA-B257-47DA-8831-71B8D719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1501-034D-442D-807D-4FEB7A86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F66D-89A9-4791-9281-166A00F0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9B5-91D6-405F-BE69-0B80C0E7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EDC0-5EF5-4EE0-A333-88C2F30E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5013-FE7E-4973-87FA-63D13589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17A8-CA0C-43A7-9E44-32240537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E33F-4227-47D4-8965-DEB0C226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CAAC-F1DF-4FEB-8277-A01D6181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D36-3DBB-4B74-8B29-38B0A2BC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6C80-8DF2-430A-B668-6456B7B0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BDA-A79C-4186-AF6F-BE337578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831-83C1-4A82-9707-7A52D66E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02E7-AAA3-4578-A6F2-2F432BA7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75EA-2118-41F9-B9A4-ABF3AEA0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974F-9933-4436-8847-E2631CDE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90D8-9D3F-4D09-A719-4AD299AADC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DB75-E908-4E24-8FCE-25134E43C6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858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erechnungen beliebiger Dreieck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3489480"/>
            <a:ext cx="609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Der Kosinussatz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457200" y="304920"/>
            <a:ext cx="4343400" cy="2819160"/>
            <a:chOff x="457200" y="304920"/>
            <a:chExt cx="4343400" cy="2819160"/>
          </a:xfrm>
        </p:grpSpPr>
        <p:sp>
          <p:nvSpPr>
            <p:cNvPr id="90" name=""/>
            <p:cNvSpPr/>
            <p:nvPr/>
          </p:nvSpPr>
          <p:spPr>
            <a:xfrm flipH="1">
              <a:off x="457200" y="304920"/>
              <a:ext cx="2666880" cy="2819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4080" y="304920"/>
              <a:ext cx="1676520" cy="2819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3124080"/>
              <a:ext cx="4343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3124080" y="3049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4040" y="2438280"/>
            <a:ext cx="76104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h = b 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· 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sin </a:t>
            </a:r>
            <a:r>
              <a:rPr b="0" lang="de-DE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1371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191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x = b 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· cos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de-DE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38680" y="457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² = h²  +  y²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² = h²  +  (c-x)²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16765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² = h²  + c² -2cx + x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3048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30481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8150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² = b² sin²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+ b²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²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+ c² - 2cb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2743200"/>
            <a:ext cx="76176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38480" y="265284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22860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² = h²  + x² -2cx + c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472464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a² = b² + c² - 2bc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ir tauschen die Variablen zyklisch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35812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a² = b² + c² - 2bc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24196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c² = a² + b² - 2ab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40388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² = a² + c² - 2ac 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</a:t>
            </a:r>
            <a:r>
              <a:rPr b="1" lang="de-DE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DE" sz="4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20968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Der Kosinussatz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17:26:38Z</dcterms:created>
  <dc:creator>Standard</dc:creator>
  <dc:description/>
  <dc:language>en-US</dc:language>
  <cp:lastModifiedBy>Peter Hausladen</cp:lastModifiedBy>
  <dcterms:modified xsi:type="dcterms:W3CDTF">2003-10-24T09:27:34Z</dcterms:modified>
  <cp:revision>3</cp:revision>
  <dc:subject/>
  <dc:title>   Berechnungen beliebiger Dreiecke  </dc:title>
</cp:coreProperties>
</file>