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DB96-0C01-411A-8266-00ED9BDC6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71BA-4FC7-4333-8018-15A8CAD4B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6C6E-7D41-4D88-827C-EA3149603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9A4E-1C75-4787-AFB6-86BA6A37D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B3C5C-0E01-4609-A509-A3D0C8EA0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31EC6-E8E0-465D-B449-E9EF7B444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53F92-4100-43C0-A4E9-B1EC07B67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71195-E0A4-472B-90D6-49FA868D2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C0A1A-FB64-42EC-82DC-CAAD4DBEB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C5186-7367-4AC8-9EC9-E4447BE6A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B4BD1-228F-4EF1-8943-F0D58E1FE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B565-AA53-4450-A0F8-C9737EFD0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A0952-5111-4590-A5F4-511428007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BA286-08D8-4CB4-B633-8AC87C0C6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1390A-ECD1-451F-91B2-EE7A3CB45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6E482-956D-4CAE-A50C-D01D6EE7B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0EC1B-4DDB-4164-B0F5-A6120FE5F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43E2-9367-4C7F-885D-48AFA7565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92B7-F404-4499-9C2A-3A983C274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6A85-83FF-49E5-A011-2DC777089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1731-C6FF-4DCB-849A-3691967A2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ADDB-4AC5-4173-865E-022AD9C0A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4A16-8082-41F0-862E-DFE74C55B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AA2B-7074-457F-9FC3-A77E227A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E190C-B9E1-4E51-B380-09072022B8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DB58E-2B13-4137-AA38-AC869F8BFE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6858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erechnungen beliebiger Dreiecke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47920" y="3489480"/>
            <a:ext cx="6095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Der Kosinussatz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457200" y="304920"/>
            <a:ext cx="4343400" cy="2819160"/>
            <a:chOff x="457200" y="304920"/>
            <a:chExt cx="4343400" cy="2819160"/>
          </a:xfrm>
        </p:grpSpPr>
        <p:sp>
          <p:nvSpPr>
            <p:cNvPr id="90" name=""/>
            <p:cNvSpPr/>
            <p:nvPr/>
          </p:nvSpPr>
          <p:spPr>
            <a:xfrm flipH="1">
              <a:off x="457200" y="304920"/>
              <a:ext cx="2666880" cy="2819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124080" y="304920"/>
              <a:ext cx="1676520" cy="2819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57200" y="3124080"/>
              <a:ext cx="4343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3124080" y="304920"/>
            <a:ext cx="0" cy="2819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24080" y="1676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34040" y="2438280"/>
            <a:ext cx="76104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2590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133720" y="2666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733920" y="2666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37339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Times New Roman"/>
              </a:rPr>
              <a:t>h = b </a:t>
            </a:r>
            <a:r>
              <a:rPr b="0" lang="de-DE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· </a:t>
            </a:r>
            <a:r>
              <a:rPr b="0" lang="de-DE" sz="2400" spc="-1" strike="noStrike">
                <a:solidFill>
                  <a:srgbClr val="ffff00"/>
                </a:solidFill>
                <a:latin typeface="Times New Roman"/>
              </a:rPr>
              <a:t>sin </a:t>
            </a:r>
            <a:r>
              <a:rPr b="0" lang="de-DE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de-DE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13716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23880" y="129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41911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Times New Roman"/>
              </a:rPr>
              <a:t>x = b </a:t>
            </a:r>
            <a:r>
              <a:rPr b="0" lang="de-DE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· cos</a:t>
            </a:r>
            <a:r>
              <a:rPr b="0" lang="de-DE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de-DE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638680" y="457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² = h²  +  y²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638680" y="10666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² = h²  +  (c-x)²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638680" y="167652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² = h²  + c² -2cx + x²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90920" y="30481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553080" y="3048120"/>
            <a:ext cx="914400" cy="1600200"/>
          </a:xfrm>
          <a:prstGeom prst="downArrow">
            <a:avLst>
              <a:gd name="adj1" fmla="val 50000"/>
              <a:gd name="adj2" fmla="val 4375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38280" y="481500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a² = b² sin² </a:t>
            </a:r>
            <a:r>
              <a:rPr b="0" lang="de-DE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+ b² 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s²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+ c² - 2cb 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s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43200" y="2743200"/>
            <a:ext cx="76176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38480" y="265284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638680" y="22860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² = h²  + x² -2cx + c²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95480" y="5638680"/>
            <a:ext cx="472464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de-DE" sz="3600" spc="-1" strike="noStrike">
                <a:solidFill>
                  <a:srgbClr val="ff0000"/>
                </a:solidFill>
                <a:latin typeface="Times New Roman"/>
              </a:rPr>
              <a:t>a² = b² + c² - 2bc </a:t>
            </a:r>
            <a:r>
              <a:rPr b="1" lang="de-DE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s</a:t>
            </a:r>
            <a:r>
              <a:rPr b="1" lang="de-DE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de-DE" sz="36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ir tauschen die Variablen zyklisch!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35812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de-DE" sz="4000" spc="-1" strike="noStrike">
                <a:solidFill>
                  <a:srgbClr val="ff0000"/>
                </a:solidFill>
                <a:latin typeface="Times New Roman"/>
              </a:rPr>
              <a:t>a² = b² + c² - 2bc </a:t>
            </a:r>
            <a:r>
              <a:rPr b="1" lang="de-DE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s</a:t>
            </a:r>
            <a:r>
              <a:rPr b="1" lang="de-DE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de-DE" sz="40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5241960"/>
            <a:ext cx="533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de-DE" sz="4000" spc="-1" strike="noStrike">
                <a:solidFill>
                  <a:srgbClr val="ff0000"/>
                </a:solidFill>
                <a:latin typeface="Times New Roman"/>
              </a:rPr>
              <a:t>c² = a² + b² - 2ab </a:t>
            </a:r>
            <a:r>
              <a:rPr b="1" lang="de-DE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s</a:t>
            </a:r>
            <a:r>
              <a:rPr b="1" lang="de-DE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de-DE" sz="4000" spc="-1" strike="noStrike">
                <a:solidFill>
                  <a:srgbClr val="ff0000"/>
                </a:solidFill>
                <a:latin typeface="Symbol"/>
                <a:ea typeface="Symbol"/>
              </a:rPr>
              <a:t>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4403880"/>
            <a:ext cx="55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de-DE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de-DE" sz="4000" spc="-1" strike="noStrike">
                <a:solidFill>
                  <a:srgbClr val="ff0000"/>
                </a:solidFill>
                <a:latin typeface="Times New Roman"/>
              </a:rPr>
              <a:t>² = a² + c² - 2ac </a:t>
            </a:r>
            <a:r>
              <a:rPr b="1" lang="de-DE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s</a:t>
            </a:r>
            <a:r>
              <a:rPr b="1" lang="de-DE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de-DE" sz="40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2209680"/>
            <a:ext cx="6096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Der Kosinussatz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3T17:26:38Z</dcterms:created>
  <dc:creator>Standard</dc:creator>
  <dc:description/>
  <dc:language>en-US</dc:language>
  <cp:lastModifiedBy>Peter Hausladen</cp:lastModifiedBy>
  <dcterms:modified xsi:type="dcterms:W3CDTF">2003-10-24T09:27:34Z</dcterms:modified>
  <cp:revision>3</cp:revision>
  <dc:subject/>
  <dc:title>   Berechnungen beliebiger Dreiecke  </dc:title>
</cp:coreProperties>
</file>