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721-1076-4B10-AD9F-703B79B5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47D-6DA1-45CF-8440-D523F789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46F-3DB6-4E8C-9489-CA314506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7AE-82E8-402E-A674-2DF41C55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4E01-78B7-468A-BDF1-AC66BF0A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3340-F665-4CB9-B128-73C21987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3D76-1666-47ED-8756-ACFC2CF0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A6A-D8C0-4116-9E4E-010FE68C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560D-0654-41D9-9886-0DA3F383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C574-0871-43F1-BF39-2F4AB172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7321-64F2-4A4F-A84F-AE3BF380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70A-60EF-4B38-BAFF-68A23E2E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1CAE-E180-41FF-BCE1-9F9CFDC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06BA-2388-4EE5-ACA9-6A59EE07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9F1E-0680-43B5-8876-0BB0051E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2B3B-4320-4917-A86F-7C986214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E981-424D-4F3C-9C31-F5830379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765-D9F3-4ECC-9E97-C6C4B1DA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6D0-0850-4356-B050-327D3BE8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A1F-0A12-4004-9B93-74F48593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0A3-7EB6-4499-99B0-2783089E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AF7-56F4-4D10-BF4A-AB36401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4B4-8EA4-48AB-95F6-7697932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63A-24AB-40E4-B126-D8324AA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9A16-E4BD-4608-A5B0-11C4442516F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0120-6E17-4BD8-80EA-398F44DA9F0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cc66"/>
                </a:solidFill>
                <a:latin typeface="Arial"/>
              </a:rPr>
              <a:t>Wer wird </a:t>
            </a:r>
            <a:br>
              <a:rPr sz="7200"/>
            </a:br>
            <a:r>
              <a:rPr b="1" lang="de-DE" sz="7200" spc="-1" strike="noStrike">
                <a:solidFill>
                  <a:srgbClr val="ffcc66"/>
                </a:solidFill>
                <a:latin typeface="Arial"/>
              </a:rPr>
              <a:t>Küchenmeister?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8" name="BD07019_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62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alle in einer Gruppe zusammenarbeiten bilden sie 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n gutes</a:t>
            </a: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spiel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espü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rüpp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4120" y="41144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alle in einer Gruppe zusammenarbeiten bilden sie </a:t>
            </a:r>
            <a:br>
              <a:rPr sz="36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n gutes</a:t>
            </a: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engl. Mannsch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jemand beim Arbeiten denkt und so Kraft, Zeit und Geld spart, arbeitet 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funktion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ensation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ration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376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individue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Wenn jemand beim Arbeiten denkt und so Kraft, Zeit und Geld spart, arbeitet 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ration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mit Vernun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Beim Tischdecken liegt das Messer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361960"/>
            <a:ext cx="3962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links neben 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dem Teller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81120" y="2438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chts neben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dem Te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43434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) über dem Te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25744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)   auf dem 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Tellerr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Beim Tischdecken liegt das Messer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chts neben  dem Tell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man nimmt das Messer mit der rechten Han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Wasserverbrauch im Haushalt beträgt pro Kopf in Deutschland etwa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50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30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145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376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100 Li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Wasserverbrauch im Haushalt beträgt pro Kopf in Deutschland etwa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145 Li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ca. eine Badewanne vo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meiste Energie wird im Haushalt verbraucht für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as Ko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die Heizu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das Lich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0" y="41144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den Fernse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meiste Energie wird im Haushalt verbraucht für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die Heizung</a:t>
            </a: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= ca. 55 %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ein Küchengerät?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Tolle Ro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Flotte Lot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Fleißiges 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Lies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linde Ku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Kochen ohne Deckel verbraucht die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 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Energi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ppelte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nergi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dreifache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Energ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57440" y="411444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viertelte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nergi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Kochen ohne Deckel verbraucht d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dreifache  Energiemen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cc66"/>
                </a:solidFill>
                <a:latin typeface="Arial"/>
              </a:rPr>
              <a:t>Gut gemacht!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5400" spc="-1" strike="noStrike">
                <a:solidFill>
                  <a:srgbClr val="ffffff"/>
                </a:solidFill>
                <a:latin typeface="Times New Roman"/>
              </a:rPr>
              <a:t>Bis zum nächsten Mal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BD05309_" descr=""/>
          <p:cNvPicPr/>
          <p:nvPr/>
        </p:nvPicPr>
        <p:blipFill>
          <a:blip r:embed="rId1"/>
          <a:stretch/>
        </p:blipFill>
        <p:spPr>
          <a:xfrm>
            <a:off x="4648320" y="1998720"/>
            <a:ext cx="38098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ein Küchengerä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Flotte Lotte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5fb28"/>
                </a:solidFill>
                <a:latin typeface="Times New Roman"/>
                <a:ea typeface="Arial"/>
              </a:rPr>
              <a:t>= Passiergerä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ervollständige das Sprichwort:</a:t>
            </a:r>
            <a:br>
              <a:rPr sz="3600"/>
            </a:br>
            <a:r>
              <a:rPr b="1" i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iele Köche verderben ...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das E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den Käse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  den Bre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die Supp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ervollständige das Sprichwort:</a:t>
            </a:r>
            <a:br>
              <a:rPr sz="3600"/>
            </a:br>
            <a:r>
              <a:rPr b="1" i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Viele Köche verderben ...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  den Bre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Küchenkräuter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Basilik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Basilik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Basel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Baseba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obei handelt es sich um Küchenkräuter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A)   Basilik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5fb28"/>
                </a:solidFill>
                <a:latin typeface="Times New Roman"/>
                <a:ea typeface="Arial"/>
              </a:rPr>
              <a:t>= hauptsächlich in der italienischen Küche eingesetz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5fb28"/>
                </a:solidFill>
                <a:latin typeface="Times New Roman"/>
                <a:ea typeface="Arial"/>
              </a:rPr>
              <a:t>passt gut zu Gerichten mit Toma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Eine Salatsoße heißt in der Küchensprache auch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moul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Mari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Margarin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4120" y="41144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Pa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Eine Salatsoße heißt in der Küchensprache auch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Marina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5:42:25Z</dcterms:created>
  <dc:creator>Voggenreiter</dc:creator>
  <dc:description/>
  <dc:language>en-US</dc:language>
  <cp:lastModifiedBy>Voggenreiter</cp:lastModifiedBy>
  <dcterms:modified xsi:type="dcterms:W3CDTF">2001-10-25T07:13:36Z</dcterms:modified>
  <cp:revision>18</cp:revision>
  <dc:subject/>
  <dc:title>Wobei handelt es sich um ein Küchengerät? </dc:title>
</cp:coreProperties>
</file>