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833-08EF-485A-A721-695DF77A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230-FED4-415F-82B3-0BCB5A0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CB-D0E4-4DF8-9771-DF6FD51A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4C1-059E-4F25-BB12-FF98E1A0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FFE6-9E0B-44D7-A26B-C7B6031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70F7-6392-40A6-9776-43638CC2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E6B4-2555-4643-886A-920BEBE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5A59-A588-4FA1-9F11-D3A8168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E924-2CD0-4FB5-BEDC-2CA1577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31E-A53C-47EC-942F-F2E06B5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965F-AAE1-47FC-A7E1-3C196B8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CB8-4477-4A98-88B2-BDE764E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6964-D395-468F-9648-84E5E56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7B89-F8C7-4098-8B7C-E970E41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5E36-C2CA-48A9-8E71-1315923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B76-E745-4FF1-8B68-A36BE10C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C2FA-5BD1-4D39-BD11-DEC423CF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489-AE71-40FD-94AD-756A5B8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0B9-D44F-4579-BFD0-15597C9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AB8-8203-4720-A7CF-515B9193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04C-78C6-4FB0-ABBD-D0EF451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DD4-9EE1-4654-9047-8245146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7DC-AE4F-4E40-B302-009B7C9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D2D-0708-4FC4-8662-ED2946F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D4F-FD17-47ED-B672-F3D7A53B898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EE0-6A2E-4A2C-A98C-7F5DCA266EB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Wer wird </a:t>
            </a:r>
            <a:br>
              <a:rPr sz="7200"/>
            </a:b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Küchenmeister?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BD07019_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6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spi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espü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rüpp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engl. Mannsc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funk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ens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individu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it Vernu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36196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links neben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dem Teller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81120" y="2438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43434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über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25744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auf dem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Tellerr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  dem Tell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an nimmt das Messer mit der rechten Han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5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3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10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eine Badewanne vo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as Ko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as Lich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den Fernse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55 %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Tolle Ro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leißiges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Lie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linde Ku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pp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nerg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57440" y="411444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viert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  Energieme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D05309_" descr=""/>
          <p:cNvPicPr/>
          <p:nvPr/>
        </p:nvPicPr>
        <p:blipFill>
          <a:blip r:embed="rId1"/>
          <a:stretch/>
        </p:blipFill>
        <p:spPr>
          <a:xfrm>
            <a:off x="4648320" y="1998720"/>
            <a:ext cx="38098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5fb28"/>
                </a:solidFill>
                <a:latin typeface="Times New Roman"/>
                <a:ea typeface="Arial"/>
              </a:rPr>
              <a:t>= Passiergerä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das 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den Käse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die Supp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Basilik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Basel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Baseba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= hauptsächlich in der italienischen Küche eingesetz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passt gut zu Gerichten mit Toma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moul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Margarin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Pa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1-10-25T07:13:36Z</dcterms:modified>
  <cp:revision>18</cp:revision>
  <dc:subject/>
  <dc:title>Wobei handelt es sich um ein Küchengerät? </dc:title>
</cp:coreProperties>
</file>