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334-F569-4091-A4B0-8A31E7BB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D4F7-AFBF-4296-A84F-DED5EFBB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C761-18A3-43EB-B551-6D7A492C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FCAB-B6FE-4C4C-820A-EBE96CE5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2994-BC75-4937-B582-48D789D8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F8CB-42E2-4BA3-983C-FD536D30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F73F-5EBA-4BD0-93E8-96324899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10E3-26FB-4E3D-B780-1DB9D603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9963-9AD2-4694-BD6A-D8DF3DAF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CD57-6E86-488D-8A41-C6BF3FE7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D1EF-3347-4FAA-82E6-CF761D14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A3D-982D-4C0D-A2B2-81878D25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6399-029B-4BF8-8B6A-02565F29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1C62-C68E-4848-B05E-4F1B29DB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7C00-308B-4BA4-89DE-7529A4BE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3708-329F-4C66-A797-69CF7F8A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8FDC-C5FE-43B6-ADBD-98CA3D71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796-BF33-4790-ADBA-96934C2B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565-A8B9-455F-9418-41E46CA1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E8B-73E5-46B1-85A4-F1E3890B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1DF-0280-4D27-A0F6-2394AAD6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A0C-368F-425F-ACC0-3F2EDAC9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2EC-531A-4FD2-83BC-6239E93A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88FD-D162-4141-8F0B-8AE5B9DB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38D6-FAC0-4C6E-9EAB-02B670732780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F847-CE95-4347-B8D3-119961236F9A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ffcc66"/>
                </a:solidFill>
                <a:latin typeface="Arial"/>
              </a:rPr>
              <a:t>Wer wird </a:t>
            </a:r>
            <a:br>
              <a:rPr sz="7200"/>
            </a:br>
            <a:r>
              <a:rPr b="1" lang="de-DE" sz="7200" spc="-1" strike="noStrike">
                <a:solidFill>
                  <a:srgbClr val="ffcc66"/>
                </a:solidFill>
                <a:latin typeface="Arial"/>
              </a:rPr>
              <a:t>Küchenmeister?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8" name="BD07019_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362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Wenn alle in einer Gruppe zusammenarbeiten bilden sie </a:t>
            </a:r>
            <a:br>
              <a:rPr sz="36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in gutes</a:t>
            </a: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spiel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Gespü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Grüppc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34120" y="411444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Wenn alle in einer Gruppe zusammenarbeiten bilden sie </a:t>
            </a:r>
            <a:br>
              <a:rPr sz="36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in gutes</a:t>
            </a: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</a:t>
            </a: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= engl. Mannscha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Wenn jemand beim Arbeiten denkt und so Kraft, Zeit und Geld spart, arbeitet e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funktion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sensation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ration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3760" y="4114440"/>
            <a:ext cx="3429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individuel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Wenn jemand beim Arbeiten denkt und so Kraft, Zeit und Geld spart, arbeitet e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rationel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= mit Vernun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Beim Tischdecken liegt das Messer: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2361960"/>
            <a:ext cx="3962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)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links neben 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dem Teller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181120" y="2438280"/>
            <a:ext cx="350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echts neben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dem Tel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434340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) über dem Tel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257440" y="4114440"/>
            <a:ext cx="3429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)   auf dem 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Tellerr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Beim Tischdecken liegt das Messer: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chts neben  dem Tell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= man nimmt das Messer mit der rechten Han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er Wasserverbrauch im Haushalt beträgt pro Kopf in Deutschland etwa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50 Li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 30 Li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145 Li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3760" y="4114440"/>
            <a:ext cx="3429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100 Li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er Wasserverbrauch im Haushalt beträgt pro Kopf in Deutschland etwa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145 Lit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= ca. eine Badewanne vol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ie meiste Energie wird im Haushalt verbraucht für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das Koc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die Heizu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das Lich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0" y="4114440"/>
            <a:ext cx="4191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den Fernseh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ie meiste Energie wird im Haushalt verbraucht für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B)</a:t>
            </a: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die Heizung</a:t>
            </a: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= ca. 55 %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Wobei handelt es sich um ein Küchengerät?</a:t>
            </a: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Tolle Rol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7960" y="24382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Flotte Lot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Fleißiges 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Liesc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D)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linde Ku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Kochen ohne Deckel verbraucht die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520" y="2361960"/>
            <a:ext cx="403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be 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Energie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ppelte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Energie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dreifache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 Energ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257440" y="4114440"/>
            <a:ext cx="3505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viertelte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Energi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Kochen ohne Deckel verbraucht di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dreifache  Energiemen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cc66"/>
                </a:solidFill>
                <a:latin typeface="Arial"/>
              </a:rPr>
              <a:t>Gut gemacht!</a:t>
            </a:r>
            <a:endParaRPr b="0" lang="en-US" sz="9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5400" spc="-1" strike="noStrike">
                <a:solidFill>
                  <a:srgbClr val="ffffff"/>
                </a:solidFill>
                <a:latin typeface="Times New Roman"/>
              </a:rPr>
              <a:t>Bis zum nächsten Mal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BD05309_" descr=""/>
          <p:cNvPicPr/>
          <p:nvPr/>
        </p:nvPicPr>
        <p:blipFill>
          <a:blip r:embed="rId1"/>
          <a:stretch/>
        </p:blipFill>
        <p:spPr>
          <a:xfrm>
            <a:off x="4648320" y="1998720"/>
            <a:ext cx="380988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Wobei handelt es sich um ein Küchengerä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B) Flotte Lotte</a:t>
            </a: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5fb28"/>
                </a:solidFill>
                <a:latin typeface="Times New Roman"/>
                <a:ea typeface="Arial"/>
              </a:rPr>
              <a:t>= Passiergerä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Vervollständige das Sprichwort:</a:t>
            </a:r>
            <a:br>
              <a:rPr sz="3600"/>
            </a:br>
            <a:r>
              <a:rPr b="1" i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Viele Köche verderben ....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das E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-18504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-18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-1850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24382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den Käse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  den Bre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 die Suppe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Vervollständige das Sprichwort:</a:t>
            </a:r>
            <a:br>
              <a:rPr sz="3600"/>
            </a:br>
            <a:r>
              <a:rPr b="1" i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Viele Köche verderben ....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  den Bre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Wobei handelt es sich um Küchenkräuter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Basilik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7960" y="24382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Basilik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 Basel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Basebal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Wobei handelt es sich um Küchenkräuter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A)   Basiliku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5fb28"/>
                </a:solidFill>
                <a:latin typeface="Times New Roman"/>
                <a:ea typeface="Arial"/>
              </a:rPr>
              <a:t>= hauptsächlich in der italienischen Küche eingesetzt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5fb28"/>
                </a:solidFill>
                <a:latin typeface="Times New Roman"/>
                <a:ea typeface="Arial"/>
              </a:rPr>
              <a:t>passt gut zu Gerichten mit Toma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Eine Salatsoße heißt in der Küchensprache auch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moul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Marin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Margarin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4120" y="411444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Pan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Eine Salatsoße heißt in der Küchensprache auch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Marinad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05:42:25Z</dcterms:created>
  <dc:creator>Voggenreiter</dc:creator>
  <dc:description/>
  <dc:language>en-US</dc:language>
  <cp:lastModifiedBy>Voggenreiter</cp:lastModifiedBy>
  <dcterms:modified xsi:type="dcterms:W3CDTF">2001-10-25T07:13:36Z</dcterms:modified>
  <cp:revision>18</cp:revision>
  <dc:subject/>
  <dc:title>Wobei handelt es sich um ein Küchengerät? </dc:title>
</cp:coreProperties>
</file>