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032-DAE2-4598-A06E-98EBFCC0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D8B-9177-4CDC-A8F2-B5FECEC9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0EC-167B-44E5-B8EE-7051C54D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D60-B3D0-47DB-B7AC-C039F771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9E57-75BE-437C-8BB4-B3EB84A5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5467-2CB0-453F-9AA4-FC3E8F2B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ED46-B4A8-4905-BA96-55C56D13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4773-5D79-4E24-9EA4-291224F3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FBDB-99CE-4EA1-B9D6-7EBA52C6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9DCC-7F55-40D8-95C8-45F955CD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46C8-367E-4A62-884F-BEDA70B7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AA6-A32A-4823-9BDE-3B531F0F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6A27-0D28-4FFD-B353-711CE65A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B08E-2099-4935-8DF7-29D38F07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84B7-C33D-44BE-9996-BA0D2F4E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864F-EBC2-4D37-9315-895CEB32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FEA0-2DC9-461F-8613-82A3775D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B90-33AD-4BA3-B0C0-70FD3F94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FC1-FD40-490C-9B24-21BB8075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029-ADD2-4FFA-B07D-388FD502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0AE-1ADD-4ACB-AC13-B258AF26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EC6-3B39-49E4-AD04-8A216EF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142-A081-4B1B-9F49-07A7022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E26-4D0D-433C-A83D-53C8ABB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4BB7-AE57-42A1-99C4-596703A0C332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DB1C-837D-4C28-B82E-5719FF780F8E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and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3643200" cy="2355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438280" y="51814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3276720"/>
            <a:ext cx="838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457200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not" descr=""/>
          <p:cNvPicPr/>
          <p:nvPr/>
        </p:nvPicPr>
        <p:blipFill>
          <a:blip r:embed="rId2"/>
          <a:stretch/>
        </p:blipFill>
        <p:spPr>
          <a:xfrm>
            <a:off x="4400640" y="2602080"/>
            <a:ext cx="2990880" cy="24955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419720" y="51814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886200" y="3048120"/>
            <a:ext cx="3429000" cy="764280"/>
            <a:chOff x="3886200" y="3048120"/>
            <a:chExt cx="3429000" cy="764280"/>
          </a:xfrm>
        </p:grpSpPr>
        <p:sp>
          <p:nvSpPr>
            <p:cNvPr id="298" name=""/>
            <p:cNvSpPr/>
            <p:nvPr/>
          </p:nvSpPr>
          <p:spPr>
            <a:xfrm>
              <a:off x="38862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343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05120" y="5257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886200" y="5257800"/>
            <a:ext cx="2743200" cy="581400"/>
            <a:chOff x="3886200" y="5257800"/>
            <a:chExt cx="2743200" cy="581400"/>
          </a:xfrm>
        </p:grpSpPr>
        <p:sp>
          <p:nvSpPr>
            <p:cNvPr id="394" name=""/>
            <p:cNvSpPr/>
            <p:nvPr/>
          </p:nvSpPr>
          <p:spPr>
            <a:xfrm>
              <a:off x="3886200" y="52578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A = x </a:t>
              </a:r>
              <a:r>
                <a:rPr b="1" lang="de-DE" sz="32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</a:t>
              </a: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 y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306600" y="2514600"/>
            <a:ext cx="3703680" cy="2397240"/>
            <a:chOff x="3306600" y="2514600"/>
            <a:chExt cx="3703680" cy="2397240"/>
          </a:xfrm>
        </p:grpSpPr>
        <p:pic>
          <p:nvPicPr>
            <p:cNvPr id="397" name="or" descr=""/>
            <p:cNvPicPr/>
            <p:nvPr/>
          </p:nvPicPr>
          <p:blipFill>
            <a:blip r:embed="rId1"/>
            <a:stretch/>
          </p:blipFill>
          <p:spPr>
            <a:xfrm>
              <a:off x="3306600" y="2514600"/>
              <a:ext cx="3703680" cy="23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656320" y="3273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6477120" y="3200400"/>
            <a:ext cx="7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6172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4340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lle Eingänge 0 sin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croco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590920" y="2514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Times New Roman"/>
              </a:rPr>
              <a:t>Baue die Schaltung auf!!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and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2622600" cy="16952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1240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31240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411480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not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52800" cy="17953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72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114800" y="2819520"/>
            <a:ext cx="2590920" cy="688320"/>
            <a:chOff x="4114800" y="2819520"/>
            <a:chExt cx="2590920" cy="688320"/>
          </a:xfrm>
        </p:grpSpPr>
        <p:sp>
          <p:nvSpPr>
            <p:cNvPr id="314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990720" y="5059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510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Z = x </a:t>
            </a:r>
            <a:r>
              <a:rPr b="1" lang="de-DE" sz="2800" spc="-1" strike="noStrike">
                <a:solidFill>
                  <a:srgbClr val="003366"/>
                </a:solidFill>
                <a:latin typeface="Symbol"/>
                <a:ea typeface="Symbol"/>
              </a:rPr>
              <a:t></a:t>
            </a: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 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648320" y="5119560"/>
            <a:ext cx="1904760" cy="520560"/>
            <a:chOff x="4648320" y="5119560"/>
            <a:chExt cx="1904760" cy="520560"/>
          </a:xfrm>
        </p:grpSpPr>
        <p:sp>
          <p:nvSpPr>
            <p:cNvPr id="319" name=""/>
            <p:cNvSpPr/>
            <p:nvPr/>
          </p:nvSpPr>
          <p:spPr>
            <a:xfrm>
              <a:off x="4648320" y="51195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3366"/>
                  </a:solidFill>
                  <a:latin typeface="Times New Roman"/>
                </a:rPr>
                <a:t>A = Z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5181480"/>
              <a:ext cx="3459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3048120"/>
            <a:ext cx="3505320" cy="1600200"/>
          </a:xfrm>
          <a:prstGeom prst="rightArrow">
            <a:avLst>
              <a:gd name="adj1" fmla="val 50000"/>
              <a:gd name="adj2" fmla="val 54764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362320" y="2590920"/>
            <a:ext cx="4343400" cy="2135880"/>
            <a:chOff x="2362320" y="2590920"/>
            <a:chExt cx="4343400" cy="2135880"/>
          </a:xfrm>
        </p:grpSpPr>
        <p:pic>
          <p:nvPicPr>
            <p:cNvPr id="324" name="and" descr=""/>
            <p:cNvPicPr/>
            <p:nvPr/>
          </p:nvPicPr>
          <p:blipFill>
            <a:blip r:embed="rId1"/>
            <a:stretch/>
          </p:blipFill>
          <p:spPr>
            <a:xfrm>
              <a:off x="2362320" y="2590920"/>
              <a:ext cx="262260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124080" y="4267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2000" y="3124080"/>
              <a:ext cx="5335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7080" y="4114800"/>
              <a:ext cx="8384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328" name="not" descr=""/>
            <p:cNvPicPr/>
            <p:nvPr/>
          </p:nvPicPr>
          <p:blipFill>
            <a:blip r:embed="rId2"/>
            <a:stretch/>
          </p:blipFill>
          <p:spPr>
            <a:xfrm>
              <a:off x="4495680" y="2590920"/>
              <a:ext cx="215280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572000" y="4267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NO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676520" y="4876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Verknüpfung der beiden Funktion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905120" y="5257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86200" y="5257800"/>
            <a:ext cx="2743200" cy="581400"/>
            <a:chOff x="3886200" y="5257800"/>
            <a:chExt cx="2743200" cy="581400"/>
          </a:xfrm>
        </p:grpSpPr>
        <p:sp>
          <p:nvSpPr>
            <p:cNvPr id="337" name=""/>
            <p:cNvSpPr/>
            <p:nvPr/>
          </p:nvSpPr>
          <p:spPr>
            <a:xfrm>
              <a:off x="3886200" y="52578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A = x </a:t>
              </a:r>
              <a:r>
                <a:rPr b="1" lang="de-DE" sz="32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 y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124080" y="2438280"/>
            <a:ext cx="4024440" cy="2602080"/>
            <a:chOff x="3124080" y="2438280"/>
            <a:chExt cx="4024440" cy="2602080"/>
          </a:xfrm>
        </p:grpSpPr>
        <p:pic>
          <p:nvPicPr>
            <p:cNvPr id="340" name="and" descr=""/>
            <p:cNvPicPr/>
            <p:nvPr/>
          </p:nvPicPr>
          <p:blipFill>
            <a:blip r:embed="rId1"/>
            <a:stretch/>
          </p:blipFill>
          <p:spPr>
            <a:xfrm>
              <a:off x="3124080" y="2438280"/>
              <a:ext cx="402444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656320" y="3273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553080" y="3276720"/>
            <a:ext cx="762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6172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6172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indestens ein Eingang 0 ist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8" name="or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3703680" cy="23968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438280" y="51814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3276720"/>
            <a:ext cx="838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457200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2" name="not" descr=""/>
          <p:cNvPicPr/>
          <p:nvPr/>
        </p:nvPicPr>
        <p:blipFill>
          <a:blip r:embed="rId2"/>
          <a:stretch/>
        </p:blipFill>
        <p:spPr>
          <a:xfrm>
            <a:off x="4400640" y="2602080"/>
            <a:ext cx="2990880" cy="2495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419720" y="51814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886200" y="3048120"/>
            <a:ext cx="3429000" cy="764280"/>
            <a:chOff x="3886200" y="3048120"/>
            <a:chExt cx="3429000" cy="764280"/>
          </a:xfrm>
        </p:grpSpPr>
        <p:sp>
          <p:nvSpPr>
            <p:cNvPr id="355" name=""/>
            <p:cNvSpPr/>
            <p:nvPr/>
          </p:nvSpPr>
          <p:spPr>
            <a:xfrm>
              <a:off x="38862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343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0" name="croco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590920" y="2514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Times New Roman"/>
              </a:rPr>
              <a:t>Baue die Schaltung auf!!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r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2666880" cy="17269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31240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67080" y="411480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8" name="not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52800" cy="17953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572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114800" y="2819520"/>
            <a:ext cx="2590920" cy="688320"/>
            <a:chOff x="4114800" y="2819520"/>
            <a:chExt cx="2590920" cy="688320"/>
          </a:xfrm>
        </p:grpSpPr>
        <p:sp>
          <p:nvSpPr>
            <p:cNvPr id="371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990720" y="5059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510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Z = x </a:t>
            </a:r>
            <a:r>
              <a:rPr b="1" lang="de-DE" sz="2800" spc="-1" strike="noStrike">
                <a:solidFill>
                  <a:srgbClr val="003366"/>
                </a:solidFill>
                <a:latin typeface="Symbol"/>
                <a:ea typeface="Symbol"/>
              </a:rPr>
              <a:t></a:t>
            </a: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 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648320" y="5119560"/>
            <a:ext cx="1904760" cy="520560"/>
            <a:chOff x="4648320" y="5119560"/>
            <a:chExt cx="1904760" cy="520560"/>
          </a:xfrm>
        </p:grpSpPr>
        <p:sp>
          <p:nvSpPr>
            <p:cNvPr id="376" name=""/>
            <p:cNvSpPr/>
            <p:nvPr/>
          </p:nvSpPr>
          <p:spPr>
            <a:xfrm>
              <a:off x="4648320" y="51195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3366"/>
                  </a:solidFill>
                  <a:latin typeface="Times New Roman"/>
                </a:rPr>
                <a:t>A = Z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34120" y="5181480"/>
              <a:ext cx="3459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895480" y="3048120"/>
            <a:ext cx="3505320" cy="1600200"/>
          </a:xfrm>
          <a:prstGeom prst="rightArrow">
            <a:avLst>
              <a:gd name="adj1" fmla="val 50000"/>
              <a:gd name="adj2" fmla="val 54764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286000" y="2590920"/>
            <a:ext cx="4419720" cy="2135880"/>
            <a:chOff x="2286000" y="2590920"/>
            <a:chExt cx="4419720" cy="2135880"/>
          </a:xfrm>
        </p:grpSpPr>
        <p:pic>
          <p:nvPicPr>
            <p:cNvPr id="381" name="or" descr="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266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124080" y="4267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72000" y="3124080"/>
              <a:ext cx="5335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7080" y="4114800"/>
              <a:ext cx="8384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385" name="not" descr=""/>
            <p:cNvPicPr/>
            <p:nvPr/>
          </p:nvPicPr>
          <p:blipFill>
            <a:blip r:embed="rId2"/>
            <a:stretch/>
          </p:blipFill>
          <p:spPr>
            <a:xfrm>
              <a:off x="4495680" y="2590920"/>
              <a:ext cx="215280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572000" y="4267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NO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676520" y="4876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Verknüpfung der beiden Funktion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6:24:23Z</dcterms:created>
  <dc:creator>Matthias Ritter</dc:creator>
  <dc:description/>
  <dc:language>en-US</dc:language>
  <cp:lastModifiedBy>Matthias Ritter</cp:lastModifiedBy>
  <dcterms:modified xsi:type="dcterms:W3CDTF">2002-03-04T16:47:50Z</dcterms:modified>
  <cp:revision>39</cp:revision>
  <dc:subject/>
  <dc:title>Die OR - Funktion</dc:title>
</cp:coreProperties>
</file>