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F01-9A1E-401C-A3CE-B94DCAE1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61DD-C50C-4BF1-8D2C-A7148BCD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AAE-C0B5-4B32-A59F-4CF76DDA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82A-66C2-428B-8698-F1AB4F8E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CD16-8A28-44E3-8BF7-8F3D41DF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710D-535B-4C9E-B386-62DBB530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2C1D-B670-4428-A834-8760952A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58F2-65FB-49DE-87D4-D9571D82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A525-16A3-4CAD-A124-0DE54CCE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B658-51FD-41EC-BAFC-E8A13FD6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EEFA-7AC8-4BA6-A8D4-7B4D4671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EA4-F4EC-4911-908C-CF5236E5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9B05-D9AA-4899-8886-6522901C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D290-1569-4612-AE26-5E81D325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BCEA-5FD1-4299-BD37-BA41DE01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CD7A-67FD-4B14-AAF8-6DB69EC2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8D8D-E2F5-4CF2-A6DC-CDE60B52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767-6BBB-44F3-8E42-E1402341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67F-62B9-4472-A5FF-BDA5D69D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D29-A278-4AD6-9D8B-9B3D9028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2F6-D553-4F14-8B40-F2031AE1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072-EE13-419C-B19E-5E78CA6D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B5C-7EB0-4BB5-B27C-53BB54EE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163-36A7-4265-BEE5-1B6FADDB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AD0A-ED11-429A-98B3-EAA1807D72F5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6F7A-702E-42A9-8842-5335D719EC5D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1" name="and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3643200" cy="2355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438280" y="518148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19720" y="3276720"/>
            <a:ext cx="838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14800" y="4572000"/>
            <a:ext cx="1219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not" descr=""/>
          <p:cNvPicPr/>
          <p:nvPr/>
        </p:nvPicPr>
        <p:blipFill>
          <a:blip r:embed="rId2"/>
          <a:stretch/>
        </p:blipFill>
        <p:spPr>
          <a:xfrm>
            <a:off x="4400640" y="2602080"/>
            <a:ext cx="2990880" cy="24955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419720" y="51814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NO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886200" y="3048120"/>
            <a:ext cx="3429000" cy="764280"/>
            <a:chOff x="3886200" y="3048120"/>
            <a:chExt cx="3429000" cy="764280"/>
          </a:xfrm>
        </p:grpSpPr>
        <p:sp>
          <p:nvSpPr>
            <p:cNvPr id="298" name=""/>
            <p:cNvSpPr/>
            <p:nvPr/>
          </p:nvSpPr>
          <p:spPr>
            <a:xfrm>
              <a:off x="38862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3432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905120" y="5257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Funk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886200" y="5257800"/>
            <a:ext cx="2743200" cy="581400"/>
            <a:chOff x="3886200" y="5257800"/>
            <a:chExt cx="2743200" cy="581400"/>
          </a:xfrm>
        </p:grpSpPr>
        <p:sp>
          <p:nvSpPr>
            <p:cNvPr id="394" name=""/>
            <p:cNvSpPr/>
            <p:nvPr/>
          </p:nvSpPr>
          <p:spPr>
            <a:xfrm>
              <a:off x="3886200" y="52578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3366"/>
                  </a:solidFill>
                  <a:latin typeface="Times New Roman"/>
                </a:rPr>
                <a:t>A = x </a:t>
              </a:r>
              <a:r>
                <a:rPr b="1" lang="de-DE" sz="32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</a:t>
              </a:r>
              <a:r>
                <a:rPr b="1" lang="de-DE" sz="3200" spc="-1" strike="noStrike">
                  <a:solidFill>
                    <a:srgbClr val="003366"/>
                  </a:solidFill>
                  <a:latin typeface="Times New Roman"/>
                </a:rPr>
                <a:t> y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306600" y="2514600"/>
            <a:ext cx="3703680" cy="2397240"/>
            <a:chOff x="3306600" y="2514600"/>
            <a:chExt cx="3703680" cy="2397240"/>
          </a:xfrm>
        </p:grpSpPr>
        <p:pic>
          <p:nvPicPr>
            <p:cNvPr id="397" name="or" descr=""/>
            <p:cNvPicPr/>
            <p:nvPr/>
          </p:nvPicPr>
          <p:blipFill>
            <a:blip r:embed="rId1"/>
            <a:stretch/>
          </p:blipFill>
          <p:spPr>
            <a:xfrm>
              <a:off x="3306600" y="2514600"/>
              <a:ext cx="3703680" cy="23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5656320" y="3273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6477120" y="3200400"/>
            <a:ext cx="76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61722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Arial"/>
              </a:rPr>
              <a:t>Der Ausgang zeigt 1, wen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43400" y="6172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lle Eingänge 0 sin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croco" descr=""/>
          <p:cNvPicPr/>
          <p:nvPr/>
        </p:nvPicPr>
        <p:blipFill>
          <a:blip r:embed="rId1"/>
          <a:stretch/>
        </p:blipFill>
        <p:spPr>
          <a:xfrm>
            <a:off x="3886200" y="373392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590920" y="2514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Times New Roman"/>
              </a:rPr>
              <a:t>Baue die Schaltung auf!!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and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2622600" cy="16952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1240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31240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67080" y="411480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1" name="not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52800" cy="17953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572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114800" y="2819520"/>
            <a:ext cx="2590920" cy="688320"/>
            <a:chOff x="4114800" y="2819520"/>
            <a:chExt cx="2590920" cy="688320"/>
          </a:xfrm>
        </p:grpSpPr>
        <p:sp>
          <p:nvSpPr>
            <p:cNvPr id="314" name=""/>
            <p:cNvSpPr/>
            <p:nvPr/>
          </p:nvSpPr>
          <p:spPr>
            <a:xfrm>
              <a:off x="41148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244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990720" y="50594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Funk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5105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Times New Roman"/>
              </a:rPr>
              <a:t>Z = x </a:t>
            </a:r>
            <a:r>
              <a:rPr b="1" lang="de-DE" sz="2800" spc="-1" strike="noStrike">
                <a:solidFill>
                  <a:srgbClr val="003366"/>
                </a:solidFill>
                <a:latin typeface="Symbol"/>
                <a:ea typeface="Symbol"/>
              </a:rPr>
              <a:t></a:t>
            </a:r>
            <a:r>
              <a:rPr b="1" lang="de-DE" sz="2800" spc="-1" strike="noStrike">
                <a:solidFill>
                  <a:srgbClr val="003366"/>
                </a:solidFill>
                <a:latin typeface="Times New Roman"/>
              </a:rPr>
              <a:t> 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648320" y="5119560"/>
            <a:ext cx="1904760" cy="520560"/>
            <a:chOff x="4648320" y="5119560"/>
            <a:chExt cx="1904760" cy="520560"/>
          </a:xfrm>
        </p:grpSpPr>
        <p:sp>
          <p:nvSpPr>
            <p:cNvPr id="319" name=""/>
            <p:cNvSpPr/>
            <p:nvPr/>
          </p:nvSpPr>
          <p:spPr>
            <a:xfrm>
              <a:off x="4648320" y="51195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3366"/>
                  </a:solidFill>
                  <a:latin typeface="Times New Roman"/>
                </a:rPr>
                <a:t>A = Z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5181480"/>
              <a:ext cx="3459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895480" y="3048120"/>
            <a:ext cx="3505320" cy="1600200"/>
          </a:xfrm>
          <a:prstGeom prst="rightArrow">
            <a:avLst>
              <a:gd name="adj1" fmla="val 50000"/>
              <a:gd name="adj2" fmla="val 54764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362320" y="2590920"/>
            <a:ext cx="4343400" cy="2135880"/>
            <a:chOff x="2362320" y="2590920"/>
            <a:chExt cx="4343400" cy="2135880"/>
          </a:xfrm>
        </p:grpSpPr>
        <p:pic>
          <p:nvPicPr>
            <p:cNvPr id="324" name="and" descr=""/>
            <p:cNvPicPr/>
            <p:nvPr/>
          </p:nvPicPr>
          <p:blipFill>
            <a:blip r:embed="rId1"/>
            <a:stretch/>
          </p:blipFill>
          <p:spPr>
            <a:xfrm>
              <a:off x="2362320" y="2590920"/>
              <a:ext cx="262260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124080" y="4267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AND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72000" y="3124080"/>
              <a:ext cx="5335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7080" y="4114800"/>
              <a:ext cx="8384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328" name="not" descr=""/>
            <p:cNvPicPr/>
            <p:nvPr/>
          </p:nvPicPr>
          <p:blipFill>
            <a:blip r:embed="rId2"/>
            <a:stretch/>
          </p:blipFill>
          <p:spPr>
            <a:xfrm>
              <a:off x="4495680" y="2590920"/>
              <a:ext cx="2152800" cy="17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4572000" y="4267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NO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148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244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676520" y="4876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Verknüpfung der beiden Funktion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905120" y="5257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Funk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886200" y="5257800"/>
            <a:ext cx="2743200" cy="581400"/>
            <a:chOff x="3886200" y="5257800"/>
            <a:chExt cx="2743200" cy="581400"/>
          </a:xfrm>
        </p:grpSpPr>
        <p:sp>
          <p:nvSpPr>
            <p:cNvPr id="337" name=""/>
            <p:cNvSpPr/>
            <p:nvPr/>
          </p:nvSpPr>
          <p:spPr>
            <a:xfrm>
              <a:off x="3886200" y="52578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3366"/>
                  </a:solidFill>
                  <a:latin typeface="Times New Roman"/>
                </a:rPr>
                <a:t>A = x </a:t>
              </a:r>
              <a:r>
                <a:rPr b="1" lang="de-DE" sz="32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</a:t>
              </a:r>
              <a:r>
                <a:rPr b="1" lang="de-DE" sz="3200" spc="-1" strike="noStrike">
                  <a:solidFill>
                    <a:srgbClr val="003366"/>
                  </a:solidFill>
                  <a:latin typeface="Times New Roman"/>
                </a:rPr>
                <a:t> y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124080" y="2438280"/>
            <a:ext cx="4024440" cy="2602080"/>
            <a:chOff x="3124080" y="2438280"/>
            <a:chExt cx="4024440" cy="2602080"/>
          </a:xfrm>
        </p:grpSpPr>
        <p:pic>
          <p:nvPicPr>
            <p:cNvPr id="340" name="and" descr=""/>
            <p:cNvPicPr/>
            <p:nvPr/>
          </p:nvPicPr>
          <p:blipFill>
            <a:blip r:embed="rId1"/>
            <a:stretch/>
          </p:blipFill>
          <p:spPr>
            <a:xfrm>
              <a:off x="3124080" y="2438280"/>
              <a:ext cx="4024440" cy="26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656320" y="3273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553080" y="3276720"/>
            <a:ext cx="762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61722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Arial"/>
              </a:rPr>
              <a:t>Der Ausgang zeigt 1, wen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6172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indestens ein Eingang 0 ist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8" name="or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3703680" cy="23968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438280" y="518148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3276720"/>
            <a:ext cx="838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14800" y="4572000"/>
            <a:ext cx="1219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2" name="not" descr=""/>
          <p:cNvPicPr/>
          <p:nvPr/>
        </p:nvPicPr>
        <p:blipFill>
          <a:blip r:embed="rId2"/>
          <a:stretch/>
        </p:blipFill>
        <p:spPr>
          <a:xfrm>
            <a:off x="4400640" y="2602080"/>
            <a:ext cx="2990880" cy="24955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419720" y="51814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NO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886200" y="3048120"/>
            <a:ext cx="3429000" cy="764280"/>
            <a:chOff x="3886200" y="3048120"/>
            <a:chExt cx="3429000" cy="764280"/>
          </a:xfrm>
        </p:grpSpPr>
        <p:sp>
          <p:nvSpPr>
            <p:cNvPr id="355" name=""/>
            <p:cNvSpPr/>
            <p:nvPr/>
          </p:nvSpPr>
          <p:spPr>
            <a:xfrm>
              <a:off x="38862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3432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0" name="croco" descr=""/>
          <p:cNvPicPr/>
          <p:nvPr/>
        </p:nvPicPr>
        <p:blipFill>
          <a:blip r:embed="rId1"/>
          <a:stretch/>
        </p:blipFill>
        <p:spPr>
          <a:xfrm>
            <a:off x="3886200" y="373392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590920" y="2514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Times New Roman"/>
              </a:rPr>
              <a:t>Baue die Schaltung auf!!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or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2666880" cy="17269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31240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67080" y="411480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8" name="not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52800" cy="17953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572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114800" y="2819520"/>
            <a:ext cx="2590920" cy="688320"/>
            <a:chOff x="4114800" y="2819520"/>
            <a:chExt cx="2590920" cy="688320"/>
          </a:xfrm>
        </p:grpSpPr>
        <p:sp>
          <p:nvSpPr>
            <p:cNvPr id="371" name=""/>
            <p:cNvSpPr/>
            <p:nvPr/>
          </p:nvSpPr>
          <p:spPr>
            <a:xfrm>
              <a:off x="41148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990720" y="50594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Funk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5105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Times New Roman"/>
              </a:rPr>
              <a:t>Z = x </a:t>
            </a:r>
            <a:r>
              <a:rPr b="1" lang="de-DE" sz="2800" spc="-1" strike="noStrike">
                <a:solidFill>
                  <a:srgbClr val="003366"/>
                </a:solidFill>
                <a:latin typeface="Symbol"/>
                <a:ea typeface="Symbol"/>
              </a:rPr>
              <a:t></a:t>
            </a:r>
            <a:r>
              <a:rPr b="1" lang="de-DE" sz="2800" spc="-1" strike="noStrike">
                <a:solidFill>
                  <a:srgbClr val="003366"/>
                </a:solidFill>
                <a:latin typeface="Times New Roman"/>
              </a:rPr>
              <a:t> 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648320" y="5119560"/>
            <a:ext cx="1904760" cy="520560"/>
            <a:chOff x="4648320" y="5119560"/>
            <a:chExt cx="1904760" cy="520560"/>
          </a:xfrm>
        </p:grpSpPr>
        <p:sp>
          <p:nvSpPr>
            <p:cNvPr id="376" name=""/>
            <p:cNvSpPr/>
            <p:nvPr/>
          </p:nvSpPr>
          <p:spPr>
            <a:xfrm>
              <a:off x="4648320" y="51195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3366"/>
                  </a:solidFill>
                  <a:latin typeface="Times New Roman"/>
                </a:rPr>
                <a:t>A = Z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34120" y="5181480"/>
              <a:ext cx="3459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895480" y="3048120"/>
            <a:ext cx="3505320" cy="1600200"/>
          </a:xfrm>
          <a:prstGeom prst="rightArrow">
            <a:avLst>
              <a:gd name="adj1" fmla="val 50000"/>
              <a:gd name="adj2" fmla="val 54764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286000" y="2590920"/>
            <a:ext cx="4419720" cy="2135880"/>
            <a:chOff x="2286000" y="2590920"/>
            <a:chExt cx="4419720" cy="2135880"/>
          </a:xfrm>
        </p:grpSpPr>
        <p:pic>
          <p:nvPicPr>
            <p:cNvPr id="381" name="or" descr="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266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124080" y="4267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AND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72000" y="3124080"/>
              <a:ext cx="5335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7080" y="4114800"/>
              <a:ext cx="8384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385" name="not" descr=""/>
            <p:cNvPicPr/>
            <p:nvPr/>
          </p:nvPicPr>
          <p:blipFill>
            <a:blip r:embed="rId2"/>
            <a:stretch/>
          </p:blipFill>
          <p:spPr>
            <a:xfrm>
              <a:off x="4495680" y="2590920"/>
              <a:ext cx="2152800" cy="17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572000" y="4267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NO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148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244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676520" y="4876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Verknüpfung der beiden Funktion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6:24:23Z</dcterms:created>
  <dc:creator>Matthias Ritter</dc:creator>
  <dc:description/>
  <dc:language>en-US</dc:language>
  <cp:lastModifiedBy>Matthias Ritter</cp:lastModifiedBy>
  <dcterms:modified xsi:type="dcterms:W3CDTF">2002-03-04T16:47:50Z</dcterms:modified>
  <cp:revision>39</cp:revision>
  <dc:subject/>
  <dc:title>Die OR - Funktion</dc:title>
</cp:coreProperties>
</file>