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734-9AE8-4838-9686-7DF2FC75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F9B-B16A-40BA-9C62-58F93576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861-CE7E-4A98-B0CA-212C30D2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9E5-E54C-4002-AA8F-D8584C12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299-3474-4DBA-AC62-BEF309D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62D-6374-4968-9E60-EA98451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964A-2D89-4F3C-BEF4-5C2009C7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AE3-AF2E-4203-9667-B2249C3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ECD6-C685-4DD9-82E4-F00F68F3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624-EE5F-484B-9FDD-860B444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7C5-F994-4AA5-A1E7-D664893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D82-3475-4E07-BC2E-CFB6F16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B10E-5921-4859-A8C5-8DD97B0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2C6-06F9-4F2E-AFCF-D7616BB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6BE-DFAD-4530-9597-06CEBBE3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9CA6-C5A6-4244-967C-F98ECFE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E3C-E646-4968-9BF7-8B944B3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6B3-89CB-4DB5-A865-6DAEE200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8B-9922-4F33-B124-41B4E08D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EE4-3859-46BF-A4C0-9D61F63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268-123E-4936-BC9F-472A37C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D79-E653-4E58-93B8-366506F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A52-AF1A-4248-A9F5-989FB72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CF8-9DBB-417E-8F7B-57E1D4C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857D-6C22-4EA9-8709-8DD0C1315CD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CAB7-C4D9-47E5-B066-93233331CC70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CPU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5720" cy="319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095880" y="42670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or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19320" y="6095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ODER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PU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4280" cy="31924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and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nd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UN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and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pic>
        <p:nvPicPr>
          <p:cNvPr id="398" name="and2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3768840" cy="2436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or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8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4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5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809880"/>
            <a:ext cx="15264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9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UND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or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iel Erfolg beim Bau der Alarmanlage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1" name="croco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rschaltung4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beide Schalter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pic>
        <p:nvPicPr>
          <p:cNvPr id="309" name="or2" descr=""/>
          <p:cNvPicPr/>
          <p:nvPr/>
        </p:nvPicPr>
        <p:blipFill>
          <a:blip r:embed="rId2"/>
          <a:stretch/>
        </p:blipFill>
        <p:spPr>
          <a:xfrm>
            <a:off x="779400" y="2971800"/>
            <a:ext cx="3792600" cy="2454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52:50Z</dcterms:modified>
  <cp:revision>29</cp:revision>
  <dc:subject/>
  <dc:title>Die OR - Funktion</dc:title>
</cp:coreProperties>
</file>