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D3FA-39CA-466F-89EE-E4E4AF35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1505-212F-44E3-B22C-94D86758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1264-E4C9-40F1-8A7B-ECBB8227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8BE8-8DD6-400F-BDEC-92BB4D5E7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22D8-2DB2-4D20-BB3A-0DD17F953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378E-C8EC-466B-94A7-48A238DB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E4E1-B78A-4621-BF1D-52218E0C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1340-2418-4CAA-83D3-43D17111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290C-29F5-484E-82F9-EA845578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5E1F-F9F3-4019-A0EE-9D687EFD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D75B-7AC5-4441-884B-BA3FCB2C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7504-0E9C-4028-A49B-6E798AF7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EB34-18DF-40BB-BA77-2C717C9D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76FB-B5F9-4113-A1DC-4A3B41D6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83E1-841F-44E8-9799-87C24040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2F1B-2140-4281-93A6-05B2E7346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A3E4-1B3A-49BF-B416-00EA1C3B2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1C67-3286-4A89-8003-0A6F313A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2C72-72C6-43E7-B3DD-F7AE0715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32D4-1B45-454E-851C-D1AA9949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10EC-9EF2-42BA-9E37-A3FC2B9C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89D6-1FBD-4807-A674-2A78FDB8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A69C-6D90-41BA-A7E2-8BC9BF9C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F38A-D370-4E70-8B34-FDB8649E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C24F-B1AD-479D-AF94-45AB3B556B89}" type="slidenum"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BE3D-6905-4AE9-8F31-65E05F3BEEF7}" type="slidenum"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Logische Funktion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0" name="CPU2" descr=""/>
          <p:cNvPicPr/>
          <p:nvPr/>
        </p:nvPicPr>
        <p:blipFill>
          <a:blip r:embed="rId1"/>
          <a:stretch/>
        </p:blipFill>
        <p:spPr>
          <a:xfrm>
            <a:off x="2057400" y="2743200"/>
            <a:ext cx="6435720" cy="31924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5" name="or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79640" cy="24462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9" name="or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79640" cy="2446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095880" y="426708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4" name="or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79640" cy="24462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8" name="or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79640" cy="2446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990720" y="4419720"/>
            <a:ext cx="15228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or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79640" cy="24462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4" name=""/>
          <p:cNvSpPr/>
          <p:nvPr/>
        </p:nvSpPr>
        <p:spPr>
          <a:xfrm>
            <a:off x="990720" y="4419720"/>
            <a:ext cx="15228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733920" y="3809880"/>
            <a:ext cx="152280" cy="15264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or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79640" cy="244620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"/>
          <p:cNvSpPr/>
          <p:nvPr/>
        </p:nvSpPr>
        <p:spPr>
          <a:xfrm>
            <a:off x="990720" y="3200400"/>
            <a:ext cx="15228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or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79640" cy="24462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5" name=""/>
          <p:cNvSpPr/>
          <p:nvPr/>
        </p:nvSpPr>
        <p:spPr>
          <a:xfrm>
            <a:off x="990720" y="3200400"/>
            <a:ext cx="15228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33920" y="3809880"/>
            <a:ext cx="152280" cy="15264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or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79640" cy="24462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61" name=""/>
          <p:cNvSpPr/>
          <p:nvPr/>
        </p:nvSpPr>
        <p:spPr>
          <a:xfrm>
            <a:off x="990720" y="3200400"/>
            <a:ext cx="15228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990720" y="4419720"/>
            <a:ext cx="15228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or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79640" cy="24462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990720" y="3200400"/>
            <a:ext cx="15228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90720" y="4419720"/>
            <a:ext cx="15228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733920" y="3809880"/>
            <a:ext cx="152280" cy="15264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3" name="or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79640" cy="24462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1219320" y="60958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Am Ausgang liegt nur dann 1 an, wenn ............................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orschaltung1" descr=""/>
          <p:cNvPicPr/>
          <p:nvPr/>
        </p:nvPicPr>
        <p:blipFill>
          <a:blip r:embed="rId1"/>
          <a:stretch/>
        </p:blipFill>
        <p:spPr>
          <a:xfrm>
            <a:off x="2057400" y="2367000"/>
            <a:ext cx="6350040" cy="42624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Übertragen auf einen Stromkrei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426708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Die Lampe brennt, wenn..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8" name="or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79640" cy="2446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1219320" y="60958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Am Ausgang liegt nur dann 1 an, wen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172200" y="6095880"/>
            <a:ext cx="24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101"/>
                </a:solidFill>
                <a:latin typeface="Times New Roman"/>
              </a:rPr>
              <a:t>x ODER y 1 sind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Logische Funktion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3" name="CPU" descr=""/>
          <p:cNvPicPr/>
          <p:nvPr/>
        </p:nvPicPr>
        <p:blipFill>
          <a:blip r:embed="rId1"/>
          <a:stretch/>
        </p:blipFill>
        <p:spPr>
          <a:xfrm>
            <a:off x="2057400" y="2743200"/>
            <a:ext cx="6434280" cy="319248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andschaltung1" descr=""/>
          <p:cNvPicPr/>
          <p:nvPr/>
        </p:nvPicPr>
        <p:blipFill>
          <a:blip r:embed="rId1"/>
          <a:stretch/>
        </p:blipFill>
        <p:spPr>
          <a:xfrm>
            <a:off x="2057400" y="2367000"/>
            <a:ext cx="6350040" cy="426240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Übertragen auf einen Stromkrei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0" y="426708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Die Lampe brennt, wenn..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andschaltung3" descr=""/>
          <p:cNvPicPr/>
          <p:nvPr/>
        </p:nvPicPr>
        <p:blipFill>
          <a:blip r:embed="rId1"/>
          <a:stretch/>
        </p:blipFill>
        <p:spPr>
          <a:xfrm>
            <a:off x="2057400" y="2367000"/>
            <a:ext cx="6350040" cy="426240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Schalter 1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4191120"/>
            <a:ext cx="25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003366"/>
                </a:solidFill>
                <a:latin typeface="Times New Roman"/>
              </a:rPr>
              <a:t>UND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andschaltung2" descr=""/>
          <p:cNvPicPr/>
          <p:nvPr/>
        </p:nvPicPr>
        <p:blipFill>
          <a:blip r:embed="rId1"/>
          <a:stretch/>
        </p:blipFill>
        <p:spPr>
          <a:xfrm>
            <a:off x="2057400" y="2367000"/>
            <a:ext cx="6350040" cy="42624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Schalter 2 geschlossen sind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AND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7" name="and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783240" cy="2446200"/>
          </a:xfrm>
          <a:prstGeom prst="rect">
            <a:avLst/>
          </a:prstGeom>
          <a:ln w="0">
            <a:noFill/>
          </a:ln>
        </p:spPr>
      </p:pic>
      <p:pic>
        <p:nvPicPr>
          <p:cNvPr id="398" name="and2" descr=""/>
          <p:cNvPicPr/>
          <p:nvPr/>
        </p:nvPicPr>
        <p:blipFill>
          <a:blip r:embed="rId2"/>
          <a:stretch/>
        </p:blipFill>
        <p:spPr>
          <a:xfrm>
            <a:off x="838080" y="2971800"/>
            <a:ext cx="3768840" cy="24368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Und nun folgt die Anwendung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2578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mi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02" name="croco" descr=""/>
          <p:cNvPicPr/>
          <p:nvPr/>
        </p:nvPicPr>
        <p:blipFill>
          <a:blip r:embed="rId1"/>
          <a:stretch/>
        </p:blipFill>
        <p:spPr>
          <a:xfrm>
            <a:off x="4343400" y="3657600"/>
            <a:ext cx="2438280" cy="21636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AND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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6" name="and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783240" cy="24462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AND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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10" name="and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783240" cy="24462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AND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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14" name="and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783240" cy="24462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orschaltung2" descr=""/>
          <p:cNvPicPr/>
          <p:nvPr/>
        </p:nvPicPr>
        <p:blipFill>
          <a:blip r:embed="rId1"/>
          <a:stretch/>
        </p:blipFill>
        <p:spPr>
          <a:xfrm>
            <a:off x="2057400" y="2367000"/>
            <a:ext cx="6350040" cy="426240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Schalter 1 geschlossen is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4191120"/>
            <a:ext cx="25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003366"/>
                </a:solidFill>
                <a:latin typeface="Times New Roman"/>
              </a:rPr>
              <a:t>ODER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AND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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18" name="and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783240" cy="24462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AND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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2" name="and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783240" cy="24462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AND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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6" name="and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783240" cy="24462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1066680" y="4419720"/>
            <a:ext cx="15264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AND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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1" name="and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783240" cy="24462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1066680" y="4419720"/>
            <a:ext cx="15264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AND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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6" name="and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783240" cy="24462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1066680" y="3200400"/>
            <a:ext cx="15264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AND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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1" name="and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783240" cy="24462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1066680" y="3200400"/>
            <a:ext cx="15264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AND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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446" name="and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783240" cy="24462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1066680" y="3200400"/>
            <a:ext cx="15264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066680" y="4419720"/>
            <a:ext cx="15264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AND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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452" name="and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783240" cy="24462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066680" y="3200400"/>
            <a:ext cx="15264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066680" y="4419720"/>
            <a:ext cx="15264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9880" y="3809880"/>
            <a:ext cx="152640" cy="15264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AND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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9" name="and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783240" cy="244620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1219320" y="60958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Am Ausgang liegt nur dann 1 an, wenn ............................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AND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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4" name="and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783240" cy="244620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219320" y="60958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Am Ausgang liegt nur dann 1 an, wen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172200" y="6095880"/>
            <a:ext cx="24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101"/>
                </a:solidFill>
                <a:latin typeface="Times New Roman"/>
              </a:rPr>
              <a:t>x UND y 1 sind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orschaltung3" descr=""/>
          <p:cNvPicPr/>
          <p:nvPr/>
        </p:nvPicPr>
        <p:blipFill>
          <a:blip r:embed="rId1"/>
          <a:stretch/>
        </p:blipFill>
        <p:spPr>
          <a:xfrm>
            <a:off x="2057400" y="2367000"/>
            <a:ext cx="6350040" cy="42624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Schalter 2 geschlossen is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6200" y="4191120"/>
            <a:ext cx="25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003366"/>
                </a:solidFill>
                <a:latin typeface="Times New Roman"/>
              </a:rPr>
              <a:t>ODER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Und nun folgt die Anwendung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19520" y="24382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Viel Erfolg beim Bau der Alarmanlage!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769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mi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71" name="croco" descr=""/>
          <p:cNvPicPr/>
          <p:nvPr/>
        </p:nvPicPr>
        <p:blipFill>
          <a:blip r:embed="rId1"/>
          <a:stretch/>
        </p:blipFill>
        <p:spPr>
          <a:xfrm>
            <a:off x="3962520" y="4114800"/>
            <a:ext cx="2438280" cy="21636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orschaltung4" descr=""/>
          <p:cNvPicPr/>
          <p:nvPr/>
        </p:nvPicPr>
        <p:blipFill>
          <a:blip r:embed="rId1"/>
          <a:stretch/>
        </p:blipFill>
        <p:spPr>
          <a:xfrm>
            <a:off x="2057400" y="2367000"/>
            <a:ext cx="6350040" cy="426240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beide Schalter geschlossen sind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8" name="or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79640" cy="2446200"/>
          </a:xfrm>
          <a:prstGeom prst="rect">
            <a:avLst/>
          </a:prstGeom>
          <a:ln w="0">
            <a:noFill/>
          </a:ln>
        </p:spPr>
      </p:pic>
      <p:pic>
        <p:nvPicPr>
          <p:cNvPr id="309" name="or2" descr=""/>
          <p:cNvPicPr/>
          <p:nvPr/>
        </p:nvPicPr>
        <p:blipFill>
          <a:blip r:embed="rId2"/>
          <a:stretch/>
        </p:blipFill>
        <p:spPr>
          <a:xfrm>
            <a:off x="779400" y="2971800"/>
            <a:ext cx="3792600" cy="24541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Und nun folgt die Anwendung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2578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mi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3" name="croco" descr=""/>
          <p:cNvPicPr/>
          <p:nvPr/>
        </p:nvPicPr>
        <p:blipFill>
          <a:blip r:embed="rId1"/>
          <a:stretch/>
        </p:blipFill>
        <p:spPr>
          <a:xfrm>
            <a:off x="4343400" y="3657600"/>
            <a:ext cx="2438280" cy="21636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7" name="or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79640" cy="24462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1" name="or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79640" cy="2446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7T16:24:23Z</dcterms:created>
  <dc:creator>Matthias Ritter</dc:creator>
  <dc:description/>
  <dc:language>en-US</dc:language>
  <cp:lastModifiedBy>Matthias Ritter</cp:lastModifiedBy>
  <dcterms:modified xsi:type="dcterms:W3CDTF">2002-03-04T16:52:50Z</dcterms:modified>
  <cp:revision>29</cp:revision>
  <dc:subject/>
  <dc:title>Die OR - Funktion</dc:title>
</cp:coreProperties>
</file>