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2AD-4D72-4132-BF3E-50202D1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1D4-794D-455C-B679-5F855ED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D67-5363-4772-9638-6A61D967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F22-FE36-4899-975B-697D01A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A1CA-C69C-46ED-B771-1DDAEC46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E7E3-71C9-4064-ABEA-7EE8BB5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398-D855-4709-9BD6-7093382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AE81-FCD8-4CE7-9BD4-722E256E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100-1C56-468A-A512-90A4FAD8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089A-DFC7-4042-AB0A-7D18CE7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B33-5F94-4C7E-A220-38D79ED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F3B-39E4-4539-A020-2BA50ABA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8D96-FFBD-4168-8540-BE573EF7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50E9-50B1-4A96-A7AD-BC3F9523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5A18-901B-4A0B-82AE-EB1C3101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193B-050F-4BE1-9105-AFCA37CF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39BD-3DAE-48CB-B90C-399A46A9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4C1-38D8-41BF-9542-9E07FD25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F28-B415-429C-857B-5D35537A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A63-7CE3-4CF4-97BB-0E690E00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E22-DA7E-4639-B31B-C5CE98C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4D4-5E33-4686-BC7A-A6E493CE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4C0-D2A9-4CB4-9806-0F89096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C19-0994-41CC-9CD0-3EDF0F2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70A2-1195-4B2C-A985-1779CBC38960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A223-144C-4C0D-B4CD-2FD546DD9E49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0" name="CPU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5720" cy="319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095880" y="42670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990720" y="320040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4419720"/>
            <a:ext cx="15228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3809880"/>
            <a:ext cx="15228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or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19320" y="6095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ODER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Logische Funktion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CPU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6434280" cy="31924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andschaltung1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Übertragen auf einen Stromkre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4267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Die Lampe brennt, wenn..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and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UN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and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7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pic>
        <p:nvPicPr>
          <p:cNvPr id="398" name="and2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3768840" cy="2436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0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orschaltung2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1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8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1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46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52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4419720"/>
            <a:ext cx="152640" cy="15228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809880"/>
            <a:ext cx="152640" cy="152640"/>
          </a:xfrm>
          <a:prstGeom prst="rect">
            <a:avLst/>
          </a:prstGeom>
          <a:solidFill>
            <a:srgbClr val="ff010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9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 ............................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AND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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4" name="and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783240" cy="24462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219320" y="60958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Am Ausgang liegt nur dann 1 an, wen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60958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101"/>
                </a:solidFill>
                <a:latin typeface="Times New Roman"/>
              </a:rPr>
              <a:t>x UND y 1 sin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orschaltung3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Schalter 2 geschlossen i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1911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3366"/>
                </a:solidFill>
                <a:latin typeface="Times New Roman"/>
              </a:rPr>
              <a:t>ODER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19520" y="2438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Viel Erfolg beim Bau der Alarmanlage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71" name="croco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rschaltung4" descr=""/>
          <p:cNvPicPr/>
          <p:nvPr/>
        </p:nvPicPr>
        <p:blipFill>
          <a:blip r:embed="rId1"/>
          <a:stretch/>
        </p:blipFill>
        <p:spPr>
          <a:xfrm>
            <a:off x="2057400" y="2367000"/>
            <a:ext cx="6350040" cy="42624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Times New Roman"/>
              </a:rPr>
              <a:t>beide Schalter geschlossen sind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pic>
        <p:nvPicPr>
          <p:cNvPr id="309" name="or2" descr=""/>
          <p:cNvPicPr/>
          <p:nvPr/>
        </p:nvPicPr>
        <p:blipFill>
          <a:blip r:embed="rId2"/>
          <a:stretch/>
        </p:blipFill>
        <p:spPr>
          <a:xfrm>
            <a:off x="779400" y="2971800"/>
            <a:ext cx="3792600" cy="2454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Und nun folgt die Anwendung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3" name="croco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438280" cy="2163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7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Times New Roman"/>
              </a:rPr>
              <a:t>Die OR - Funk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952880" y="2666880"/>
          <a:ext cx="3810240" cy="2990880"/>
        </p:xfrm>
        <a:graphic>
          <a:graphicData uri="http://schemas.openxmlformats.org/drawingml/2006/table">
            <a:tbl>
              <a:tblPr/>
              <a:tblGrid>
                <a:gridCol w="990720"/>
                <a:gridCol w="993600"/>
                <a:gridCol w="18259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in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ga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r>
                        <a:rPr b="0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6767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r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79640" cy="2446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003366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16:24:23Z</dcterms:created>
  <dc:creator>Matthias Ritter</dc:creator>
  <dc:description/>
  <dc:language>en-US</dc:language>
  <cp:lastModifiedBy>Matthias Ritter</cp:lastModifiedBy>
  <dcterms:modified xsi:type="dcterms:W3CDTF">2002-03-04T16:52:50Z</dcterms:modified>
  <cp:revision>29</cp:revision>
  <dc:subject/>
  <dc:title>Die OR - Funktion</dc:title>
</cp:coreProperties>
</file>