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F41-AC03-4FBB-9E2A-6B9C2EAC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B36-FD1A-4136-BCD7-3B9B5147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070-0A2B-4F94-9316-AC049422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CD1-7174-4A59-9B7D-F8D16D40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AB98-5053-4DF0-8810-D5532D9D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E51D-8A5E-4440-A9BB-4A0C6FA3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539C-9727-42AD-A68F-F71DA0AB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B0BB-C618-4D7E-B950-C910CF91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1F80-C6EB-457D-B409-789E8066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7702-7714-40FA-93C4-84C1E3AD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38E0-07CE-49B5-A35C-66968096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FD7-B08D-4CB9-A12A-5E4B2ADE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5772-06B6-4E3C-BCEB-88F00B3B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1AAA-EF4C-47D9-858F-C29EC22C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44B3-182A-4C21-8A1C-BF60D485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51A8-82F9-434D-A6C9-1C4B593C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EBC2-769F-4229-9059-2F4585E8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DB5-2FDD-4199-AF7F-9AE2A731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009-55AC-4F05-8186-AB3E606A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AAE-4998-452D-87B2-F5A337DC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57A-5C35-4D8D-AEC4-2060BA40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420-938C-46D5-818B-41B305BB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D8F-7E3A-4A19-93FB-F46C3CAF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C37-2E49-4AB2-A4F6-54D08211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FF62-AA1B-4105-9E45-F224A8CF5162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441B-AA6A-48E2-A828-7848A0A5F543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70000" y="1045800"/>
            <a:ext cx="751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3366"/>
                </a:solidFill>
                <a:latin typeface="Times New Roman"/>
              </a:rPr>
              <a:t>Weitere Kombinationen von Grundfunktionen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23880" y="2819160"/>
            <a:ext cx="666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00000"/>
                </a:solidFill>
                <a:latin typeface="Arial"/>
              </a:rPr>
              <a:t>Wann leuchtet die Lampe??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BD04924_" descr=""/>
          <p:cNvPicPr/>
          <p:nvPr/>
        </p:nvPicPr>
        <p:blipFill>
          <a:blip r:embed="rId1"/>
          <a:stretch/>
        </p:blipFill>
        <p:spPr>
          <a:xfrm>
            <a:off x="3505320" y="3505320"/>
            <a:ext cx="1904760" cy="2568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Äquivalenz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0" name="Äquivalenzsymbol" descr=""/>
          <p:cNvPicPr/>
          <p:nvPr/>
        </p:nvPicPr>
        <p:blipFill>
          <a:blip r:embed="rId1"/>
          <a:stretch/>
        </p:blipFill>
        <p:spPr>
          <a:xfrm>
            <a:off x="3352680" y="2819520"/>
            <a:ext cx="3429000" cy="21034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7621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5334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Äquivalenzschaltu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gnet si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5867280"/>
            <a:ext cx="716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m</a:t>
            </a: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 Vergleichen von zwei Bits (E</a:t>
            </a:r>
            <a:r>
              <a:rPr b="1" lang="de-DE" sz="2400" spc="-1" strike="noStrike" baseline="-25000">
                <a:solidFill>
                  <a:srgbClr val="800000"/>
                </a:solidFill>
                <a:latin typeface="Arial"/>
              </a:rPr>
              <a:t>1</a:t>
            </a: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 und E</a:t>
            </a:r>
            <a:r>
              <a:rPr b="1" lang="de-DE" sz="2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Umkehrung der Äquivalenz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14400" y="50292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Arial"/>
              </a:rPr>
              <a:t>Die Antivalenzfunk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7" name="Äquivalenzsymbol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3429000" cy="21034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800600" y="380988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9" name="not" descr=""/>
          <p:cNvPicPr/>
          <p:nvPr/>
        </p:nvPicPr>
        <p:blipFill>
          <a:blip r:embed="rId2"/>
          <a:stretch/>
        </p:blipFill>
        <p:spPr>
          <a:xfrm>
            <a:off x="5105520" y="2666880"/>
            <a:ext cx="2590560" cy="21621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447920" y="2362320"/>
            <a:ext cx="6553080" cy="28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1" name="Antivalenzsymbol" descr=""/>
          <p:cNvPicPr/>
          <p:nvPr/>
        </p:nvPicPr>
        <p:blipFill>
          <a:blip r:embed="rId3"/>
          <a:stretch/>
        </p:blipFill>
        <p:spPr>
          <a:xfrm>
            <a:off x="3048120" y="2514600"/>
            <a:ext cx="3429000" cy="2136600"/>
          </a:xfrm>
          <a:prstGeom prst="rect">
            <a:avLst/>
          </a:prstGeom>
          <a:ln w="0">
            <a:noFill/>
          </a:ln>
        </p:spPr>
      </p:pic>
      <p:grpSp>
        <p:nvGrpSpPr>
          <p:cNvPr id="362" name=""/>
          <p:cNvGrpSpPr/>
          <p:nvPr/>
        </p:nvGrpSpPr>
        <p:grpSpPr>
          <a:xfrm>
            <a:off x="2209680" y="5791320"/>
            <a:ext cx="5333760" cy="648720"/>
            <a:chOff x="2209680" y="5791320"/>
            <a:chExt cx="5333760" cy="648720"/>
          </a:xfrm>
        </p:grpSpPr>
        <p:sp>
          <p:nvSpPr>
            <p:cNvPr id="363" name=""/>
            <p:cNvSpPr/>
            <p:nvPr/>
          </p:nvSpPr>
          <p:spPr>
            <a:xfrm>
              <a:off x="2209680" y="5791320"/>
              <a:ext cx="5333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A = (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1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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2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)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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(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1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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2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57200" y="5880960"/>
              <a:ext cx="381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43240" y="588096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Vergleich mit einem Stromkr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8" name="Antivalenz%20off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Vergleich mit einem Stromkr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1" name="Antivalenz%20on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Vergleich mit einem Stromkr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4" name="Antivalenz%20on2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Vergleich mit einem Stromkr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7" name="Antivalenz%20off2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Wertetab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5410080" y="2819520"/>
          <a:ext cx="3504960" cy="264780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5486400" y="3429000"/>
            <a:ext cx="1066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3429000"/>
            <a:ext cx="1067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9246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24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4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24680" y="5029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Antivalenz%20off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4457520" cy="235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66680" y="58672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Arial"/>
              </a:rPr>
              <a:t>Der Ausgang zeigt 1, wenn 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66680" y="6248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nur an einem Eingang der Wert 1 anlieg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990720" y="2666880"/>
          <a:ext cx="3504960" cy="26481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1066680" y="3276720"/>
            <a:ext cx="1067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33720" y="3276720"/>
            <a:ext cx="1066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5257800" y="2666880"/>
          <a:ext cx="3504960" cy="26481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5334120" y="3276720"/>
            <a:ext cx="1066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00800" y="3276720"/>
            <a:ext cx="1066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77240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7240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7240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4876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90720" y="21337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tivalenzfunk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81480" y="2133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R - Funk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Vergleich von Antivalenz- und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56386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Die OR – Funktion liefert auch dann 1, wenn beide Eingänge 1 sind die Antivalenz nicht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6248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Arial"/>
              </a:rPr>
              <a:t>Deshalb wird die Antivalenz auch als Exklusiv-OR bzw. </a:t>
            </a:r>
            <a:r>
              <a:rPr b="1" lang="de-DE" sz="2000" spc="-1" strike="noStrike" u="sng">
                <a:solidFill>
                  <a:srgbClr val="800000"/>
                </a:solidFill>
                <a:uFillTx/>
                <a:latin typeface="Arial"/>
              </a:rPr>
              <a:t>XOR</a:t>
            </a:r>
            <a:r>
              <a:rPr b="0" lang="de-DE" sz="2000" spc="-1" strike="noStrike">
                <a:solidFill>
                  <a:srgbClr val="800000"/>
                </a:solidFill>
                <a:latin typeface="Arial"/>
              </a:rPr>
              <a:t> bezeichne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276720"/>
            <a:ext cx="1067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er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Äquivalenzschaltung%20off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er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Äquivalenzschaltung%20on" descr=""/>
          <p:cNvPicPr/>
          <p:nvPr/>
        </p:nvPicPr>
        <p:blipFill>
          <a:blip r:embed="rId1"/>
          <a:stretch/>
        </p:blipFill>
        <p:spPr>
          <a:xfrm>
            <a:off x="19810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er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Äquivalenzschaltung%20on2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er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Äquivalenzschaltung%20off2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Wertetab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410080" y="2819520"/>
          <a:ext cx="3504960" cy="264780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Äquivalenzschaltung%20off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4419720" cy="2332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486400" y="3429000"/>
            <a:ext cx="1066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53080" y="3429000"/>
            <a:ext cx="1067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246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24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24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24680" y="5029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58672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Arial"/>
              </a:rPr>
              <a:t>Der Ausgang zeigt 1, wenn 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6248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lle Eingänge den gleichen Zustand aufweise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Funktion der Schaltu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9" name="Äquivalenzschaltung1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715000" cy="392112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1981080" y="2057400"/>
            <a:ext cx="5334120" cy="648720"/>
            <a:chOff x="1981080" y="2057400"/>
            <a:chExt cx="5334120" cy="648720"/>
          </a:xfrm>
        </p:grpSpPr>
        <p:sp>
          <p:nvSpPr>
            <p:cNvPr id="321" name=""/>
            <p:cNvSpPr/>
            <p:nvPr/>
          </p:nvSpPr>
          <p:spPr>
            <a:xfrm>
              <a:off x="1981080" y="2057400"/>
              <a:ext cx="5334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A = (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1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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2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)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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(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1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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2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28960" y="214740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67040" y="21474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648320" y="2590920"/>
            <a:ext cx="1828800" cy="2361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588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101"/>
                </a:solidFill>
                <a:latin typeface="Symbol"/>
                <a:ea typeface="Symbol"/>
              </a:rPr>
              <a:t></a:t>
            </a:r>
            <a:r>
              <a:rPr b="1" lang="de-DE" sz="32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2590920"/>
            <a:ext cx="762120" cy="3047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05320" y="2590920"/>
            <a:ext cx="1143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101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101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429000" y="2590920"/>
            <a:ext cx="5335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8120" y="2590920"/>
            <a:ext cx="2286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441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7" name="croco" descr=""/>
          <p:cNvPicPr/>
          <p:nvPr/>
        </p:nvPicPr>
        <p:blipFill>
          <a:blip r:embed="rId1"/>
          <a:stretch/>
        </p:blipFill>
        <p:spPr>
          <a:xfrm>
            <a:off x="3886200" y="373392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124080" y="2514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Times New Roman"/>
              </a:rPr>
              <a:t>Baue die Schaltu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er Schaltpla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828800" y="2286000"/>
            <a:ext cx="5715000" cy="3921120"/>
            <a:chOff x="1828800" y="2286000"/>
            <a:chExt cx="5715000" cy="3921120"/>
          </a:xfrm>
        </p:grpSpPr>
        <p:pic>
          <p:nvPicPr>
            <p:cNvPr id="342" name="Äquivalenzschaltung1" descr=""/>
            <p:cNvPicPr/>
            <p:nvPr/>
          </p:nvPicPr>
          <p:blipFill>
            <a:blip r:embed="rId1"/>
            <a:stretch/>
          </p:blipFill>
          <p:spPr>
            <a:xfrm>
              <a:off x="1828800" y="2286000"/>
              <a:ext cx="5715000" cy="39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5943600" y="4343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1972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19720" y="3276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7180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71800" y="2743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6:24:23Z</dcterms:created>
  <dc:creator>Matthias Ritter</dc:creator>
  <dc:description/>
  <dc:language>en-US</dc:language>
  <cp:lastModifiedBy>Matthias Ritter</cp:lastModifiedBy>
  <dcterms:modified xsi:type="dcterms:W3CDTF">2002-03-04T16:49:54Z</dcterms:modified>
  <cp:revision>59</cp:revision>
  <dc:subject/>
  <dc:title>Die OR - Funktion</dc:title>
</cp:coreProperties>
</file>