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BFC-B9AF-47A9-BDFD-352259BD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16F5-18DE-4AEF-B8CB-2156267B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4568-C998-4DD1-817D-B7C2AA48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140-AE9C-4C9D-9A6F-123F04D3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7B54-0655-4C38-A1E9-63976F2A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0930-516B-4D79-9502-00F722E3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BBD1-A55C-402B-B118-FCA666A0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8D61-09E0-41F6-9155-88884965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16D9-CA0A-4DCC-88B9-577251D6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03A1-D770-4351-95F9-E61DC6E1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3FEE-9E4B-403A-BF93-BA4DC64B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D3C-9735-4D46-933B-2B294807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A3D2-2A51-4BAF-88BD-42595414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BA6D-C558-4C21-9EF0-EE0A7979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AB9B-64D5-4C44-9C36-DFB592DC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6E7E-5E83-4E20-AE35-DEE3BDF0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E54C-4D43-4BFF-A36F-F2895784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04B-43FB-470B-9954-EFDE2393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E5E-E053-475F-BE0F-91ACE107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A39-7B04-44BD-8BA3-83112207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366-A18F-48A6-B9F8-41BAE723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6EE-EAEA-450A-82C5-41C64C16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CEDF-17AA-4946-BAE8-A2A6615C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224-D97A-4C9D-90A7-CF8659B5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C909-DAA4-43CE-9B72-C3897BA22B96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73FD-3E07-4098-9CFE-8F6C9794F182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70000" y="1045800"/>
            <a:ext cx="751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3366"/>
                </a:solidFill>
                <a:latin typeface="Times New Roman"/>
              </a:rPr>
              <a:t>Weitere Kombinationen von Grundfunktionen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23880" y="2819160"/>
            <a:ext cx="6662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00000"/>
                </a:solidFill>
                <a:latin typeface="Arial"/>
              </a:rPr>
              <a:t>Wann leuchtet die Lampe??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BD04924_" descr=""/>
          <p:cNvPicPr/>
          <p:nvPr/>
        </p:nvPicPr>
        <p:blipFill>
          <a:blip r:embed="rId1"/>
          <a:stretch/>
        </p:blipFill>
        <p:spPr>
          <a:xfrm>
            <a:off x="3505320" y="3505320"/>
            <a:ext cx="1904760" cy="2568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Äquivalenz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0" name="Äquivalenzsymbol" descr=""/>
          <p:cNvPicPr/>
          <p:nvPr/>
        </p:nvPicPr>
        <p:blipFill>
          <a:blip r:embed="rId1"/>
          <a:stretch/>
        </p:blipFill>
        <p:spPr>
          <a:xfrm>
            <a:off x="3352680" y="2819520"/>
            <a:ext cx="3429000" cy="21034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7621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5334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0000"/>
                </a:solidFill>
                <a:latin typeface="Arial"/>
              </a:rPr>
              <a:t>Äquivalenzschaltu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gnet si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5867280"/>
            <a:ext cx="716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m</a:t>
            </a:r>
            <a:r>
              <a:rPr b="1" lang="de-DE" sz="2400" spc="-1" strike="noStrike">
                <a:solidFill>
                  <a:srgbClr val="800000"/>
                </a:solidFill>
                <a:latin typeface="Arial"/>
              </a:rPr>
              <a:t> Vergleichen von zwei Bits (E</a:t>
            </a:r>
            <a:r>
              <a:rPr b="1" lang="de-DE" sz="2400" spc="-1" strike="noStrike" baseline="-25000">
                <a:solidFill>
                  <a:srgbClr val="800000"/>
                </a:solidFill>
                <a:latin typeface="Arial"/>
              </a:rPr>
              <a:t>1</a:t>
            </a:r>
            <a:r>
              <a:rPr b="1" lang="de-DE" sz="2400" spc="-1" strike="noStrike">
                <a:solidFill>
                  <a:srgbClr val="800000"/>
                </a:solidFill>
                <a:latin typeface="Arial"/>
              </a:rPr>
              <a:t> und E</a:t>
            </a:r>
            <a:r>
              <a:rPr b="1" lang="de-DE" sz="24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lang="de-DE" sz="2400" spc="-1" strike="noStrike">
                <a:solidFill>
                  <a:srgbClr val="8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Umkehrung der Äquivalenz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14400" y="50292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800000"/>
                </a:solidFill>
                <a:latin typeface="Arial"/>
              </a:rPr>
              <a:t>Die Antivalenzfunk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7" name="Äquivalenzsymbol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3429000" cy="21034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800600" y="3809880"/>
            <a:ext cx="533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9" name="not" descr=""/>
          <p:cNvPicPr/>
          <p:nvPr/>
        </p:nvPicPr>
        <p:blipFill>
          <a:blip r:embed="rId2"/>
          <a:stretch/>
        </p:blipFill>
        <p:spPr>
          <a:xfrm>
            <a:off x="5105520" y="2666880"/>
            <a:ext cx="2590560" cy="21621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447920" y="2362320"/>
            <a:ext cx="6553080" cy="28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1" name="Antivalenzsymbol" descr=""/>
          <p:cNvPicPr/>
          <p:nvPr/>
        </p:nvPicPr>
        <p:blipFill>
          <a:blip r:embed="rId3"/>
          <a:stretch/>
        </p:blipFill>
        <p:spPr>
          <a:xfrm>
            <a:off x="3048120" y="2514600"/>
            <a:ext cx="3429000" cy="2136600"/>
          </a:xfrm>
          <a:prstGeom prst="rect">
            <a:avLst/>
          </a:prstGeom>
          <a:ln w="0">
            <a:noFill/>
          </a:ln>
        </p:spPr>
      </p:pic>
      <p:grpSp>
        <p:nvGrpSpPr>
          <p:cNvPr id="362" name=""/>
          <p:cNvGrpSpPr/>
          <p:nvPr/>
        </p:nvGrpSpPr>
        <p:grpSpPr>
          <a:xfrm>
            <a:off x="2209680" y="5791320"/>
            <a:ext cx="5333760" cy="648720"/>
            <a:chOff x="2209680" y="5791320"/>
            <a:chExt cx="5333760" cy="648720"/>
          </a:xfrm>
        </p:grpSpPr>
        <p:sp>
          <p:nvSpPr>
            <p:cNvPr id="363" name=""/>
            <p:cNvSpPr/>
            <p:nvPr/>
          </p:nvSpPr>
          <p:spPr>
            <a:xfrm>
              <a:off x="2209680" y="5791320"/>
              <a:ext cx="5333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A = (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1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</a:t>
              </a:r>
              <a:r>
                <a:rPr b="1" lang="de-DE" sz="3200" spc="-1" strike="noStrike">
                  <a:solidFill>
                    <a:srgbClr val="ff0101"/>
                  </a:solidFill>
                  <a:latin typeface="Symbol"/>
                  <a:ea typeface="Symbol"/>
                </a:rPr>
                <a:t>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2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) </a:t>
              </a:r>
              <a:r>
                <a:rPr b="1" lang="de-DE" sz="3200" spc="-1" strike="noStrike">
                  <a:solidFill>
                    <a:srgbClr val="ff0101"/>
                  </a:solidFill>
                  <a:latin typeface="Symbol"/>
                  <a:ea typeface="Symbol"/>
                </a:rPr>
                <a:t>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(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1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</a:t>
              </a:r>
              <a:r>
                <a:rPr b="1" lang="de-DE" sz="3200" spc="-1" strike="noStrike">
                  <a:solidFill>
                    <a:srgbClr val="ff0101"/>
                  </a:solidFill>
                  <a:latin typeface="Symbol"/>
                  <a:ea typeface="Symbol"/>
                </a:rPr>
                <a:t>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2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157200" y="5880960"/>
              <a:ext cx="381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43240" y="588096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Vergleich mit einem Stromkre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8" name="Antivalenz%20off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Vergleich mit einem Stromkre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1" name="Antivalenz%20on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Vergleich mit einem Stromkre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4" name="Antivalenz%20on2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Vergleich mit einem Stromkre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7" name="Antivalenz%20off2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Wertetabel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5410080" y="2819520"/>
          <a:ext cx="3504960" cy="264780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5486400" y="3429000"/>
            <a:ext cx="1066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53080" y="3429000"/>
            <a:ext cx="1067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9246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24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924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924680" y="5029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Antivalenz%20off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4457520" cy="23544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066680" y="58672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101"/>
                </a:solidFill>
                <a:latin typeface="Arial"/>
              </a:rPr>
              <a:t>Der Ausgang zeigt 1, wenn 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66680" y="6248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nur an einem Eingang der Wert 1 anlieg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990720" y="2666880"/>
          <a:ext cx="3504960" cy="26481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1066680" y="3276720"/>
            <a:ext cx="1067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33720" y="3276720"/>
            <a:ext cx="1066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5257800" y="2666880"/>
          <a:ext cx="3504960" cy="264816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5334120" y="3276720"/>
            <a:ext cx="1066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00800" y="3276720"/>
            <a:ext cx="1066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77240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7240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77240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72400" y="4876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90720" y="21337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tivalenzfunk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81480" y="2133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R - Funk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Vergleich von Antivalenz- und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56386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Die OR – Funktion liefert auch dann 1, wenn beide Eingänge 1 sind die Antivalenz nicht</a:t>
            </a:r>
            <a:r>
              <a:rPr b="0" lang="de-DE" sz="20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62485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Arial"/>
              </a:rPr>
              <a:t>Deshalb wird die Antivalenz auch als Exklusiv-OR bzw. </a:t>
            </a:r>
            <a:r>
              <a:rPr b="1" lang="de-DE" sz="2000" spc="-1" strike="noStrike" u="sng">
                <a:solidFill>
                  <a:srgbClr val="800000"/>
                </a:solidFill>
                <a:uFillTx/>
                <a:latin typeface="Arial"/>
              </a:rPr>
              <a:t>XOR</a:t>
            </a:r>
            <a:r>
              <a:rPr b="0" lang="de-DE" sz="2000" spc="-1" strike="noStrike">
                <a:solidFill>
                  <a:srgbClr val="800000"/>
                </a:solidFill>
                <a:latin typeface="Arial"/>
              </a:rPr>
              <a:t> bezeichne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276720"/>
            <a:ext cx="1067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Der Stromkre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Äquivalenzschaltung%20off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Der Stromkre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Äquivalenzschaltung%20on" descr=""/>
          <p:cNvPicPr/>
          <p:nvPr/>
        </p:nvPicPr>
        <p:blipFill>
          <a:blip r:embed="rId1"/>
          <a:stretch/>
        </p:blipFill>
        <p:spPr>
          <a:xfrm>
            <a:off x="19810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Der Stromkre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Äquivalenzschaltung%20on2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Der Stromkre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Äquivalenzschaltung%20off2" descr=""/>
          <p:cNvPicPr/>
          <p:nvPr/>
        </p:nvPicPr>
        <p:blipFill>
          <a:blip r:embed="rId1"/>
          <a:stretch/>
        </p:blipFill>
        <p:spPr>
          <a:xfrm>
            <a:off x="1982880" y="2701800"/>
            <a:ext cx="5715000" cy="30178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Wertetabel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410080" y="2819520"/>
          <a:ext cx="3504960" cy="264780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200"/>
              </a:tblGrid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de-DE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8" name="Äquivalenzschaltung%20off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4419720" cy="23320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486400" y="3429000"/>
            <a:ext cx="1066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53080" y="3429000"/>
            <a:ext cx="1067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246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924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924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924680" y="5029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58672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101"/>
                </a:solidFill>
                <a:latin typeface="Arial"/>
              </a:rPr>
              <a:t>Der Ausgang zeigt 1, wenn 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6248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lle Eingänge den gleichen Zustand aufweise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Funktion der Schaltu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9" name="Äquivalenzschaltung1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715000" cy="392112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1981080" y="2057400"/>
            <a:ext cx="5334120" cy="648720"/>
            <a:chOff x="1981080" y="2057400"/>
            <a:chExt cx="5334120" cy="648720"/>
          </a:xfrm>
        </p:grpSpPr>
        <p:sp>
          <p:nvSpPr>
            <p:cNvPr id="321" name=""/>
            <p:cNvSpPr/>
            <p:nvPr/>
          </p:nvSpPr>
          <p:spPr>
            <a:xfrm>
              <a:off x="1981080" y="2057400"/>
              <a:ext cx="5334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A = (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1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</a:t>
              </a:r>
              <a:r>
                <a:rPr b="1" lang="de-DE" sz="3200" spc="-1" strike="noStrike">
                  <a:solidFill>
                    <a:srgbClr val="ff0101"/>
                  </a:solidFill>
                  <a:latin typeface="Symbol"/>
                  <a:ea typeface="Symbol"/>
                </a:rPr>
                <a:t>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2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) </a:t>
              </a:r>
              <a:r>
                <a:rPr b="1" lang="de-DE" sz="3200" spc="-1" strike="noStrike">
                  <a:solidFill>
                    <a:srgbClr val="ff0101"/>
                  </a:solidFill>
                  <a:latin typeface="Symbol"/>
                  <a:ea typeface="Symbol"/>
                </a:rPr>
                <a:t>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(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1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</a:t>
              </a:r>
              <a:r>
                <a:rPr b="1" lang="de-DE" sz="3200" spc="-1" strike="noStrike">
                  <a:solidFill>
                    <a:srgbClr val="ff0101"/>
                  </a:solidFill>
                  <a:latin typeface="Symbol"/>
                  <a:ea typeface="Symbol"/>
                </a:rPr>
                <a:t>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 E</a:t>
              </a:r>
              <a:r>
                <a:rPr b="1" lang="de-DE" sz="3200" spc="-1" strike="noStrike" baseline="-25000">
                  <a:solidFill>
                    <a:srgbClr val="ff0101"/>
                  </a:solidFill>
                  <a:latin typeface="Arial"/>
                </a:rPr>
                <a:t>2</a:t>
              </a:r>
              <a:r>
                <a:rPr b="1" lang="de-DE" sz="3200" spc="-1" strike="noStrike">
                  <a:solidFill>
                    <a:srgbClr val="ff0101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28960" y="2147400"/>
              <a:ext cx="380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67040" y="214740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4648320" y="2590920"/>
            <a:ext cx="1828800" cy="2361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5880" y="4800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101"/>
                </a:solidFill>
                <a:latin typeface="Symbol"/>
                <a:ea typeface="Symbol"/>
              </a:rPr>
              <a:t></a:t>
            </a:r>
            <a:r>
              <a:rPr b="1" lang="de-DE" sz="32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2590920"/>
            <a:ext cx="762120" cy="3047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05320" y="2590920"/>
            <a:ext cx="1143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0" y="5638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101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3733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101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429000" y="2590920"/>
            <a:ext cx="5335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8120" y="2590920"/>
            <a:ext cx="2286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4419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101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Und nun folgt die Anwendung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24280" y="3276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7" name="croco" descr=""/>
          <p:cNvPicPr/>
          <p:nvPr/>
        </p:nvPicPr>
        <p:blipFill>
          <a:blip r:embed="rId1"/>
          <a:stretch/>
        </p:blipFill>
        <p:spPr>
          <a:xfrm>
            <a:off x="3886200" y="3733920"/>
            <a:ext cx="2438280" cy="21636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124080" y="2514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Times New Roman"/>
              </a:rPr>
              <a:t>Baue die Schaltu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er Schaltpla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828800" y="2286000"/>
            <a:ext cx="5715000" cy="3921120"/>
            <a:chOff x="1828800" y="2286000"/>
            <a:chExt cx="5715000" cy="3921120"/>
          </a:xfrm>
        </p:grpSpPr>
        <p:pic>
          <p:nvPicPr>
            <p:cNvPr id="342" name="Äquivalenzschaltung1" descr=""/>
            <p:cNvPicPr/>
            <p:nvPr/>
          </p:nvPicPr>
          <p:blipFill>
            <a:blip r:embed="rId1"/>
            <a:stretch/>
          </p:blipFill>
          <p:spPr>
            <a:xfrm>
              <a:off x="1828800" y="2286000"/>
              <a:ext cx="5715000" cy="39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5943600" y="4343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19720" y="5181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19720" y="32767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71800" y="39625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71800" y="27432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6:24:23Z</dcterms:created>
  <dc:creator>Matthias Ritter</dc:creator>
  <dc:description/>
  <dc:language>en-US</dc:language>
  <cp:lastModifiedBy>Matthias Ritter</cp:lastModifiedBy>
  <dcterms:modified xsi:type="dcterms:W3CDTF">2002-03-04T16:49:54Z</dcterms:modified>
  <cp:revision>59</cp:revision>
  <dc:subject/>
  <dc:title>Die OR - Funktion</dc:title>
</cp:coreProperties>
</file>