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F15-DE45-443A-A43A-C3DDF9CC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5A9-9DD9-474C-8878-D0F7BC41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290-F859-4111-995A-F2BF4BB2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0F2-3FA5-4F7B-BEBA-8CFB5223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78A-DDE6-4D6C-B678-9F68BF22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C4D-E148-46ED-8C34-692225F6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EAA-BFD1-4579-81C9-471849D6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D1B-36EC-4B7C-8D1A-F5DEA053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C29-B8E5-4140-811D-A004083F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CF9-DE33-4C17-8A9A-60F6E54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308-5530-467C-BC9A-E98F6DE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0D3-2CB6-44A7-B4AF-05FE443F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4B7C-754C-4851-BA1F-C5826F7EF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enmaschine Dezimalzah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371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ffernfol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9548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en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41972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13372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6576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8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4479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297180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449568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205740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358128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380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3341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4648320"/>
            <a:ext cx="152280" cy="152280"/>
            <a:chOff x="6477120" y="4648320"/>
            <a:chExt cx="152280" cy="152280"/>
          </a:xfrm>
        </p:grpSpPr>
        <p:sp>
          <p:nvSpPr>
            <p:cNvPr id="56" name=""/>
            <p:cNvSpPr/>
            <p:nvPr/>
          </p:nvSpPr>
          <p:spPr>
            <a:xfrm>
              <a:off x="6477120" y="472428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53440" y="46483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334120" y="14479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97180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49568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05740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358128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105520" y="4648320"/>
            <a:ext cx="152280" cy="152280"/>
            <a:chOff x="5105520" y="4648320"/>
            <a:chExt cx="152280" cy="152280"/>
          </a:xfrm>
        </p:grpSpPr>
        <p:sp>
          <p:nvSpPr>
            <p:cNvPr id="64" name=""/>
            <p:cNvSpPr/>
            <p:nvPr/>
          </p:nvSpPr>
          <p:spPr>
            <a:xfrm>
              <a:off x="5105520" y="472428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81840" y="46483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86200" y="14479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97180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449568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057400"/>
            <a:ext cx="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581280"/>
            <a:ext cx="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enmaschine Dualzahl Dezimalzah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371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en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41972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13372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6576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52578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14479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53280" y="2971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53280" y="449568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4479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2971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449568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14479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971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449568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24080" y="2057400"/>
            <a:ext cx="5334120" cy="685800"/>
            <a:chOff x="3124080" y="2057400"/>
            <a:chExt cx="5334120" cy="685800"/>
          </a:xfrm>
        </p:grpSpPr>
        <p:sp>
          <p:nvSpPr>
            <p:cNvPr id="104" name=""/>
            <p:cNvSpPr/>
            <p:nvPr/>
          </p:nvSpPr>
          <p:spPr>
            <a:xfrm>
              <a:off x="845820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9608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3432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220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1008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408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124080" y="3581280"/>
            <a:ext cx="5334120" cy="685800"/>
            <a:chOff x="3124080" y="3581280"/>
            <a:chExt cx="5334120" cy="685800"/>
          </a:xfrm>
        </p:grpSpPr>
        <p:sp>
          <p:nvSpPr>
            <p:cNvPr id="113" name=""/>
            <p:cNvSpPr/>
            <p:nvPr/>
          </p:nvSpPr>
          <p:spPr>
            <a:xfrm>
              <a:off x="845820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3432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7220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832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20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408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00100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72428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472428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53341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15:16Z</dcterms:created>
  <dc:creator>johannes</dc:creator>
  <dc:description/>
  <dc:language>en-US</dc:language>
  <cp:lastModifiedBy>johannes</cp:lastModifiedBy>
  <dcterms:modified xsi:type="dcterms:W3CDTF">2004-04-06T07:28:43Z</dcterms:modified>
  <cp:revision>10</cp:revision>
  <dc:subject/>
  <dc:title>Rechenmaschine Dezimalzahl Dualzahl</dc:title>
</cp:coreProperties>
</file>