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0781-59EC-4A42-9B1F-0871F572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F684-227C-4D4B-B8EE-0302C830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4202-1C49-4F41-BC5E-5DB2E796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0F78-66FC-4AAF-A673-289AE59B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F751-0F14-4105-A517-DA542778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46A3-4E2A-4AFC-8F52-5B65CC28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05A6-F06A-4CEE-BD31-EAAFCD8C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B4B1-C0E2-41AE-8C3F-5B8BDD6F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0140-FB99-43E4-A670-6E11BF29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9E38-E59A-4CEF-BABC-07C814DB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9707-8700-41EE-8BAE-78675D5E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248D-94D4-4DD1-96EA-F54415E5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C309-B902-4DB9-A0DB-4CCE0361F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chenmaschine Dezimalzahl Dualzah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219320"/>
            <a:ext cx="6098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14300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zimalz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365760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llenw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502920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z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971800"/>
            <a:ext cx="23619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eilt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4343400"/>
            <a:ext cx="23619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i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514600"/>
            <a:ext cx="2361960" cy="27648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REST(ZAHL;DIVIS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5715000"/>
            <a:ext cx="2361960" cy="27648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ABRUNDEN(ZAHL;STEL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82880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3657600"/>
            <a:ext cx="60984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5029200"/>
            <a:ext cx="6098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1828800"/>
            <a:ext cx="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426708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8288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36576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502920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24382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62520" y="426708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200400" y="1447920"/>
            <a:ext cx="762120" cy="4419360"/>
            <a:chOff x="3200400" y="1447920"/>
            <a:chExt cx="762120" cy="4419360"/>
          </a:xfrm>
        </p:grpSpPr>
        <p:sp>
          <p:nvSpPr>
            <p:cNvPr id="61" name=""/>
            <p:cNvSpPr/>
            <p:nvPr/>
          </p:nvSpPr>
          <p:spPr>
            <a:xfrm>
              <a:off x="3200400" y="5638680"/>
              <a:ext cx="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62520" y="14479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81280" y="1447920"/>
              <a:ext cx="0" cy="441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81280" y="1447920"/>
              <a:ext cx="381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00400" y="58672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4419720" y="18288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962520" y="1447920"/>
            <a:ext cx="761760" cy="4419360"/>
            <a:chOff x="3962520" y="1447920"/>
            <a:chExt cx="761760" cy="4419360"/>
          </a:xfrm>
        </p:grpSpPr>
        <p:sp>
          <p:nvSpPr>
            <p:cNvPr id="68" name=""/>
            <p:cNvSpPr/>
            <p:nvPr/>
          </p:nvSpPr>
          <p:spPr>
            <a:xfrm>
              <a:off x="3962520" y="5638680"/>
              <a:ext cx="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62520" y="58672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24280" y="14479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447920"/>
              <a:ext cx="0" cy="441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343400" y="14479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419720" y="36576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502920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24382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26708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1828800"/>
            <a:ext cx="60984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724280" y="1447920"/>
            <a:ext cx="762120" cy="4419360"/>
            <a:chOff x="4724280" y="1447920"/>
            <a:chExt cx="762120" cy="4419360"/>
          </a:xfrm>
        </p:grpSpPr>
        <p:sp>
          <p:nvSpPr>
            <p:cNvPr id="79" name=""/>
            <p:cNvSpPr/>
            <p:nvPr/>
          </p:nvSpPr>
          <p:spPr>
            <a:xfrm>
              <a:off x="4724280" y="5638680"/>
              <a:ext cx="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24280" y="5867280"/>
              <a:ext cx="381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86400" y="14479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05520" y="1447920"/>
              <a:ext cx="0" cy="441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05520" y="14479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5181480" y="3657600"/>
            <a:ext cx="60984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81480" y="5029200"/>
            <a:ext cx="6098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24382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26708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3600" y="18288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486400" y="1447920"/>
            <a:ext cx="762120" cy="4419360"/>
            <a:chOff x="5486400" y="1447920"/>
            <a:chExt cx="762120" cy="4419360"/>
          </a:xfrm>
        </p:grpSpPr>
        <p:sp>
          <p:nvSpPr>
            <p:cNvPr id="90" name=""/>
            <p:cNvSpPr/>
            <p:nvPr/>
          </p:nvSpPr>
          <p:spPr>
            <a:xfrm>
              <a:off x="5486400" y="5638680"/>
              <a:ext cx="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86400" y="58672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48520" y="14479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1447920"/>
              <a:ext cx="0" cy="441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7280" y="1447920"/>
              <a:ext cx="381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5943600" y="36576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502920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24382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426708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18288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248520" y="1447920"/>
            <a:ext cx="761760" cy="4419360"/>
            <a:chOff x="6248520" y="1447920"/>
            <a:chExt cx="761760" cy="4419360"/>
          </a:xfrm>
        </p:grpSpPr>
        <p:sp>
          <p:nvSpPr>
            <p:cNvPr id="101" name=""/>
            <p:cNvSpPr/>
            <p:nvPr/>
          </p:nvSpPr>
          <p:spPr>
            <a:xfrm>
              <a:off x="6248520" y="5638680"/>
              <a:ext cx="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48520" y="58672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10280" y="14479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29400" y="1447920"/>
              <a:ext cx="0" cy="441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29400" y="14479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705720" y="36576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502920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24382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426708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67480" y="1828800"/>
            <a:ext cx="60984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010280" y="1447920"/>
            <a:ext cx="762120" cy="4419360"/>
            <a:chOff x="7010280" y="1447920"/>
            <a:chExt cx="762120" cy="4419360"/>
          </a:xfrm>
        </p:grpSpPr>
        <p:sp>
          <p:nvSpPr>
            <p:cNvPr id="112" name=""/>
            <p:cNvSpPr/>
            <p:nvPr/>
          </p:nvSpPr>
          <p:spPr>
            <a:xfrm>
              <a:off x="7010280" y="5638680"/>
              <a:ext cx="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0280" y="5867280"/>
              <a:ext cx="381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772400" y="14479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91520" y="1447920"/>
              <a:ext cx="0" cy="441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91520" y="14479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7467480" y="3657600"/>
            <a:ext cx="60984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67480" y="5029200"/>
            <a:ext cx="6098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72400" y="24382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772400" y="426708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29600" y="18288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772400" y="1447920"/>
            <a:ext cx="762120" cy="4419360"/>
            <a:chOff x="7772400" y="1447920"/>
            <a:chExt cx="762120" cy="4419360"/>
          </a:xfrm>
        </p:grpSpPr>
        <p:sp>
          <p:nvSpPr>
            <p:cNvPr id="123" name=""/>
            <p:cNvSpPr/>
            <p:nvPr/>
          </p:nvSpPr>
          <p:spPr>
            <a:xfrm>
              <a:off x="7772400" y="5638680"/>
              <a:ext cx="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72400" y="58672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534520" y="1447920"/>
              <a:ext cx="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53280" y="1447920"/>
              <a:ext cx="0" cy="441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53280" y="1447920"/>
              <a:ext cx="381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8229600" y="36576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29600" y="502920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534520" y="24382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534520" y="426708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43800" y="632448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Johannes M. L. Pasqu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15:16Z</dcterms:created>
  <dc:creator>johannes</dc:creator>
  <dc:description/>
  <dc:language>en-US</dc:language>
  <cp:lastModifiedBy>johannes</cp:lastModifiedBy>
  <dcterms:modified xsi:type="dcterms:W3CDTF">2004-03-23T14:22:42Z</dcterms:modified>
  <cp:revision>6</cp:revision>
  <dc:subject/>
  <dc:title>Rechenmaschine Dezimalzahl Dualzahl</dc:title>
</cp:coreProperties>
</file>