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732-92C7-4D11-B4AF-313E9F3F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7B5-8F4B-4C57-BC8E-AECD1B3C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0FD-3DF6-40C5-8FB6-C83DD976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B38-4B03-44FF-8FAA-36F41F93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8010-C0D8-4E01-A2DE-24D4A3F3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E10-FD56-4B97-B1AA-9A196C64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B44-4044-4C1D-B60C-8DD26661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C22-0A95-44CA-B3F6-D11B6F53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E2F-9DAD-4867-A1AC-8F15C4C6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CF2-AF31-4A6B-A265-5BA20819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91D-4C1B-4802-AFB2-63D936E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683-EEEF-4DF1-913B-F15ACF38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4AEF-31F5-4C03-AE79-7844FF969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enmaschine Dezimalzah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371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ffernfol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9548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en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41972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13372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6576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8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4479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297180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449568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205740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358128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380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3341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477120" y="4648320"/>
            <a:ext cx="152280" cy="152280"/>
            <a:chOff x="6477120" y="4648320"/>
            <a:chExt cx="152280" cy="152280"/>
          </a:xfrm>
        </p:grpSpPr>
        <p:sp>
          <p:nvSpPr>
            <p:cNvPr id="56" name=""/>
            <p:cNvSpPr/>
            <p:nvPr/>
          </p:nvSpPr>
          <p:spPr>
            <a:xfrm>
              <a:off x="6477120" y="472428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53440" y="46483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334120" y="14479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97180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49568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05740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358128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105520" y="4648320"/>
            <a:ext cx="152280" cy="152280"/>
            <a:chOff x="5105520" y="4648320"/>
            <a:chExt cx="152280" cy="152280"/>
          </a:xfrm>
        </p:grpSpPr>
        <p:sp>
          <p:nvSpPr>
            <p:cNvPr id="64" name=""/>
            <p:cNvSpPr/>
            <p:nvPr/>
          </p:nvSpPr>
          <p:spPr>
            <a:xfrm>
              <a:off x="5105520" y="4724280"/>
              <a:ext cx="152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81840" y="4648320"/>
              <a:ext cx="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86200" y="1447920"/>
            <a:ext cx="1066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97180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4495680"/>
            <a:ext cx="10666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057400"/>
            <a:ext cx="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3581280"/>
            <a:ext cx="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enmaschine Dualzahl Dezimalzah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371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89548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en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41972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13372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6576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52578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14479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53280" y="2971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53280" y="449568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632448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4479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2971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449568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144792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97180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4495680"/>
            <a:ext cx="60984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14479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97180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495680"/>
            <a:ext cx="609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24080" y="2057400"/>
            <a:ext cx="5334120" cy="685800"/>
            <a:chOff x="3124080" y="2057400"/>
            <a:chExt cx="5334120" cy="685800"/>
          </a:xfrm>
        </p:grpSpPr>
        <p:sp>
          <p:nvSpPr>
            <p:cNvPr id="104" name=""/>
            <p:cNvSpPr/>
            <p:nvPr/>
          </p:nvSpPr>
          <p:spPr>
            <a:xfrm>
              <a:off x="845820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9608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3432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7220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1008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832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4080" y="205740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124080" y="3581280"/>
            <a:ext cx="5334120" cy="685800"/>
            <a:chOff x="3124080" y="3581280"/>
            <a:chExt cx="5334120" cy="685800"/>
          </a:xfrm>
        </p:grpSpPr>
        <p:sp>
          <p:nvSpPr>
            <p:cNvPr id="113" name=""/>
            <p:cNvSpPr/>
            <p:nvPr/>
          </p:nvSpPr>
          <p:spPr>
            <a:xfrm>
              <a:off x="845820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3432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7220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832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20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4080" y="35812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800100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72428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472428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4724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648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53341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15:16Z</dcterms:created>
  <dc:creator>johannes</dc:creator>
  <dc:description/>
  <dc:language>en-US</dc:language>
  <cp:lastModifiedBy>johannes</cp:lastModifiedBy>
  <dcterms:modified xsi:type="dcterms:W3CDTF">2004-04-06T07:28:43Z</dcterms:modified>
  <cp:revision>10</cp:revision>
  <dc:subject/>
  <dc:title>Rechenmaschine Dezimalzahl Dualzahl</dc:title>
</cp:coreProperties>
</file>