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A1F-6FD3-4C8F-AD4E-28C04266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02B-5FBC-4AC5-A1FA-7D16401F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66F-FB6C-47DA-9FE9-A1CF5EFE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DF7-FA48-4AB8-A6B0-21AC529E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B24-1C25-49C4-A1D8-93205A7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E37-92F8-4F30-89D0-2EE4C367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8DE-A456-4014-A67C-B880A82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DC5-43DF-4F46-8626-FECDA848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19B-538C-4745-88EA-582E8122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C31-756B-4545-974C-D0B09D9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5C5-A50E-47C6-B14C-A20CCC41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AA4-D557-4F90-86CA-BA1772F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0385-D635-4DF7-984D-51AC0A0C4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che Schaltung „and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06668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106668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106668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8288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18288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182880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43828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243828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43828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6576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6576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65760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0481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7467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fals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StarSymbol"/>
              </a:rPr>
              <a:t>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wah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 (fal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114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entspricht „nein“; 1 entspricht „ja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4206960" cy="113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38680" y="5486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E1, E2) = E1 ∧ 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gische Schaltung „or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371600"/>
            <a:ext cx="23619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1371600"/>
            <a:ext cx="23619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1337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13372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2133720"/>
            <a:ext cx="6094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35268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7467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fals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Uc_220"/>
                <a:ea typeface="Uc_220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(wah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(wa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274320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962520"/>
            <a:ext cx="60948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41972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entspricht „nein“; 1 entspricht „ja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146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5334120"/>
            <a:ext cx="3581280" cy="1104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81480" y="5562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E1, E2) = E1 ∨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gische Schaltung „not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295280"/>
            <a:ext cx="23623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ühlschrankt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295280"/>
            <a:ext cx="23623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</a:rPr>
              <a:t>Johannes M. L. Pasqu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0574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057400"/>
            <a:ext cx="60984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200400"/>
            <a:ext cx="723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 entspricht „offen“ (Schalter nicht betätigt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zw. (Licht) „aus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entspricht „geschlossen“(Schalter betätig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zw. (Licht) „an“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2743200"/>
            <a:ext cx="609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50292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4457880"/>
            <a:ext cx="259056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79720" y="4425840"/>
                <a:ext cx="1652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257800" y="4800600"/>
            <a:ext cx="11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486400" y="4952880"/>
                <a:ext cx="1219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15:16Z</dcterms:created>
  <dc:creator>johannes</dc:creator>
  <dc:description/>
  <dc:language>en-US</dc:language>
  <cp:lastModifiedBy>Teilnehmer</cp:lastModifiedBy>
  <dcterms:modified xsi:type="dcterms:W3CDTF">2004-03-30T14:58:28Z</dcterms:modified>
  <cp:revision>11</cp:revision>
  <dc:subject/>
  <dc:title>Rechenmaschine Dezimalzahl Dualzahl</dc:title>
</cp:coreProperties>
</file>