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35E-C15F-4B46-9BE8-EC23DB74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CCF-4B92-4BCB-97F7-9C41A063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D34-DB3B-4996-ADEF-8E60E204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640-6AFB-4793-8BEB-A95D227F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5FC-5DBF-4756-8884-785F73B6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5DB-C8BB-4818-BCEB-9506417A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10B-1987-4B5B-B75A-EFD5C6AA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643-5942-44AA-B1EB-3E60E3BF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71F-E79F-439B-A5F9-E4DA07B3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8C1-FEC8-4A4A-A227-83E3CB49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6C1-EB7B-411F-A2E4-C16BD46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F0D-94C0-4725-AB9F-0CFAA2B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883D-2BDA-493B-B2DA-328ABB527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che Schaltung „and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066680"/>
            <a:ext cx="23623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106668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06668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8288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18288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182880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43828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243828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43828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0481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6576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6576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65760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0481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0481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419720"/>
            <a:ext cx="7467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fals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StarSymbol"/>
              </a:rPr>
              <a:t>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wah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(fal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entspricht „nein“; 1 entspricht „ja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5105520"/>
            <a:ext cx="4206960" cy="113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38680" y="5486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E1, E2) = E1 ∧  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gische Schaltung „or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23623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371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13716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1337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1337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213372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35268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35268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35268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7467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fals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c_220"/>
                <a:ea typeface="Uc_220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(wah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(wa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74320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274320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274320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9625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39625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9625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41972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entspricht „nein“; 1 entspricht „ja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146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5334120"/>
            <a:ext cx="3581280" cy="110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1480" y="5562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E1, E2) = E1 ∨ 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gische Schaltung „not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295280"/>
            <a:ext cx="23623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ühlschranktü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295280"/>
            <a:ext cx="23623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0574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2057400"/>
            <a:ext cx="60984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200400"/>
            <a:ext cx="723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 entspricht „offen“ (Schalter nicht betätigt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zw. (Licht) „aus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entspricht „geschlossen“(Schalter betätig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zw. (Licht) „an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743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50292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4457880"/>
            <a:ext cx="259056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79720" y="4425840"/>
                <a:ext cx="1652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257800" y="4800600"/>
            <a:ext cx="11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486400" y="4952880"/>
                <a:ext cx="1219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15:16Z</dcterms:created>
  <dc:creator>johannes</dc:creator>
  <dc:description/>
  <dc:language>en-US</dc:language>
  <cp:lastModifiedBy>Teilnehmer</cp:lastModifiedBy>
  <dcterms:modified xsi:type="dcterms:W3CDTF">2004-03-30T14:58:28Z</dcterms:modified>
  <cp:revision>11</cp:revision>
  <dc:subject/>
  <dc:title>Rechenmaschine Dezimalzahl Dualzahl</dc:title>
</cp:coreProperties>
</file>