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A8E-B6AA-4B5B-9673-FCD83740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058-D9AA-478C-AA10-EAE32AAD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155-C2EE-4647-9CD6-1B3CC617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14D-E195-4552-839C-0ADF3E55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3D7-C015-42A1-9277-0E0CEFB3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983-0947-4DC0-A4D0-35A0FB83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975-D709-4FD4-9BC8-9F7954DC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E7A-EC01-42E0-9BC8-73803AB5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91E-2E8F-44D7-A0F6-AF71DBDD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7DA-BAE4-4C20-9273-439C219C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E47-8EB8-4B85-86BD-329122C8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467-EDBA-4264-BE25-16A2D578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D73B-B5B3-4AFB-B400-01295C1E4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che Schaltung „and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066680"/>
            <a:ext cx="23623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106668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06668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62485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8288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18288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182880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43828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243828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43828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0481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6576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6576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365760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0481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30481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419720"/>
            <a:ext cx="7467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falsch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StarSymbol"/>
              </a:rPr>
              <a:t>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wah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 (fal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entspricht „nein“; 1 entspricht „ja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5105520"/>
            <a:ext cx="4206960" cy="113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38680" y="5486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E1, E2) = E1 ∧  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gische Schaltung „or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23623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371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13716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62485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1337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1337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213372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35268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35268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335268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7467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falsch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c_220"/>
                <a:ea typeface="Uc_220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(wah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(wa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274320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274320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274320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9625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39625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39625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41972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entspricht „nein“; 1 entspricht „ja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146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5334120"/>
            <a:ext cx="3581280" cy="1104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1480" y="5562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E1, E2) = E1 ∨ 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gische Schaltung „not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295280"/>
            <a:ext cx="23623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ühlschranktü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295280"/>
            <a:ext cx="23623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62485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0574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2057400"/>
            <a:ext cx="60984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200400"/>
            <a:ext cx="723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 entspricht „offen“ (Schalter nicht betätigt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zw. (Licht) „aus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entspricht „geschlossen“(Schalter betätig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zw. (Licht) „an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743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743200"/>
            <a:ext cx="60984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50292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4457880"/>
            <a:ext cx="259056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879720" y="4425840"/>
                <a:ext cx="1652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257800" y="4800600"/>
            <a:ext cx="11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486400" y="4952880"/>
                <a:ext cx="1219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15:16Z</dcterms:created>
  <dc:creator>johannes</dc:creator>
  <dc:description/>
  <dc:language>en-US</dc:language>
  <cp:lastModifiedBy>Teilnehmer</cp:lastModifiedBy>
  <dcterms:modified xsi:type="dcterms:W3CDTF">2004-03-30T14:58:28Z</dcterms:modified>
  <cp:revision>11</cp:revision>
  <dc:subject/>
  <dc:title>Rechenmaschine Dezimalzahl Dualzahl</dc:title>
</cp:coreProperties>
</file>