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FAA-3801-47B7-AEE8-0C4507F5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3AA-B7AE-4C21-BD6C-F9BE11B3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56F-8184-4ABC-AF53-491EBFA9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881-C84E-45F3-96CD-F673A5F6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484-1A87-4911-B899-3EEC2E59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804-A0FA-4EA7-8CF0-64CD23F5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F2E-1EFA-4215-8F18-C1817ADA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731-3279-44F5-A123-7985FC71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930-82CC-438D-B46A-BCB6C86C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5A1-C8EE-477E-8013-475AC374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A54-6143-4B1E-A4CC-A928569E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3C1-2A39-49A7-959A-01B4E4DE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CE40-D043-421E-B187-2C8BA653B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enmaschine Dezimalzahl Dualzah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2193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430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imal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657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en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50292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9718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eil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3434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514600"/>
            <a:ext cx="2361960" cy="2764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REST(ZAHL;DIVIS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715000"/>
            <a:ext cx="2361960" cy="2764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BRUNDEN(ZAHL;STEL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8288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36576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5029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828800"/>
            <a:ext cx="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00400" y="1447920"/>
            <a:ext cx="762120" cy="4419360"/>
            <a:chOff x="3200400" y="1447920"/>
            <a:chExt cx="762120" cy="4419360"/>
          </a:xfrm>
        </p:grpSpPr>
        <p:sp>
          <p:nvSpPr>
            <p:cNvPr id="61" name=""/>
            <p:cNvSpPr/>
            <p:nvPr/>
          </p:nvSpPr>
          <p:spPr>
            <a:xfrm>
              <a:off x="320040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252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1280" y="14479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0040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41972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962520" y="1447920"/>
            <a:ext cx="761760" cy="4419360"/>
            <a:chOff x="3962520" y="1447920"/>
            <a:chExt cx="761760" cy="4419360"/>
          </a:xfrm>
        </p:grpSpPr>
        <p:sp>
          <p:nvSpPr>
            <p:cNvPr id="68" name=""/>
            <p:cNvSpPr/>
            <p:nvPr/>
          </p:nvSpPr>
          <p:spPr>
            <a:xfrm>
              <a:off x="396252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6252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4340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41972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828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724280" y="1447920"/>
            <a:ext cx="762120" cy="4419360"/>
            <a:chOff x="4724280" y="1447920"/>
            <a:chExt cx="762120" cy="4419360"/>
          </a:xfrm>
        </p:grpSpPr>
        <p:sp>
          <p:nvSpPr>
            <p:cNvPr id="79" name=""/>
            <p:cNvSpPr/>
            <p:nvPr/>
          </p:nvSpPr>
          <p:spPr>
            <a:xfrm>
              <a:off x="472428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4280" y="586728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8640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0552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181480" y="36576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5029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486400" y="1447920"/>
            <a:ext cx="762120" cy="4419360"/>
            <a:chOff x="5486400" y="1447920"/>
            <a:chExt cx="762120" cy="4419360"/>
          </a:xfrm>
        </p:grpSpPr>
        <p:sp>
          <p:nvSpPr>
            <p:cNvPr id="90" name=""/>
            <p:cNvSpPr/>
            <p:nvPr/>
          </p:nvSpPr>
          <p:spPr>
            <a:xfrm>
              <a:off x="548640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8640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4852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14479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94360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248520" y="1447920"/>
            <a:ext cx="761760" cy="4419360"/>
            <a:chOff x="6248520" y="1447920"/>
            <a:chExt cx="761760" cy="4419360"/>
          </a:xfrm>
        </p:grpSpPr>
        <p:sp>
          <p:nvSpPr>
            <p:cNvPr id="101" name=""/>
            <p:cNvSpPr/>
            <p:nvPr/>
          </p:nvSpPr>
          <p:spPr>
            <a:xfrm>
              <a:off x="624852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52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2940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40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70572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1828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010280" y="1447920"/>
            <a:ext cx="762120" cy="4419360"/>
            <a:chOff x="7010280" y="1447920"/>
            <a:chExt cx="762120" cy="4419360"/>
          </a:xfrm>
        </p:grpSpPr>
        <p:sp>
          <p:nvSpPr>
            <p:cNvPr id="112" name=""/>
            <p:cNvSpPr/>
            <p:nvPr/>
          </p:nvSpPr>
          <p:spPr>
            <a:xfrm>
              <a:off x="701028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0280" y="586728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7240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467480" y="36576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5029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2960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72400" y="1447920"/>
            <a:ext cx="762120" cy="4419360"/>
            <a:chOff x="7772400" y="1447920"/>
            <a:chExt cx="762120" cy="4419360"/>
          </a:xfrm>
        </p:grpSpPr>
        <p:sp>
          <p:nvSpPr>
            <p:cNvPr id="123" name=""/>
            <p:cNvSpPr/>
            <p:nvPr/>
          </p:nvSpPr>
          <p:spPr>
            <a:xfrm>
              <a:off x="777240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240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3452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5328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53280" y="14479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22960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15:16Z</dcterms:created>
  <dc:creator>johannes</dc:creator>
  <dc:description/>
  <dc:language>en-US</dc:language>
  <cp:lastModifiedBy>johannes</cp:lastModifiedBy>
  <dcterms:modified xsi:type="dcterms:W3CDTF">2004-03-23T14:22:42Z</dcterms:modified>
  <cp:revision>6</cp:revision>
  <dc:subject/>
  <dc:title>Rechenmaschine Dezimalzahl Dualzahl</dc:title>
</cp:coreProperties>
</file>