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A93-E516-47CF-B26C-91D1CF77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040-7AFA-4B9C-B7A6-65D7DE2D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4A6-F12D-4B21-908E-2C13C870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9C4-59F7-4E18-A16B-BF531FC4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C90-36B2-4B51-9D0D-828CBBC9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893-E5EE-4FDC-B0C1-CF3A48DA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A7A-07A9-45A6-8466-F97B611D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0A0-B54C-4000-B2E6-FDB78BCE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DE8-CF9B-46CE-B22A-8CC3E35A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774-05EA-4ABE-99A5-A1CA16A6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6DA-43E1-43EC-B8CB-5AD6E529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BEF-3CD4-4C1B-817C-14AD115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9ACF-10CB-4BA7-A843-63127098C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enmaschine Dezimalzahl Dualza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2193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430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imal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657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0292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9718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eil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3434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514600"/>
            <a:ext cx="2361960" cy="2764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REST(ZAHL;DIVIS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715000"/>
            <a:ext cx="2361960" cy="2764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BRUNDEN(ZAHL;STEL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8288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36576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5029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82880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00400" y="1447920"/>
            <a:ext cx="762120" cy="4419360"/>
            <a:chOff x="3200400" y="1447920"/>
            <a:chExt cx="762120" cy="4419360"/>
          </a:xfrm>
        </p:grpSpPr>
        <p:sp>
          <p:nvSpPr>
            <p:cNvPr id="61" name=""/>
            <p:cNvSpPr/>
            <p:nvPr/>
          </p:nvSpPr>
          <p:spPr>
            <a:xfrm>
              <a:off x="320040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252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14479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0040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41972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62520" y="1447920"/>
            <a:ext cx="761760" cy="4419360"/>
            <a:chOff x="3962520" y="1447920"/>
            <a:chExt cx="761760" cy="4419360"/>
          </a:xfrm>
        </p:grpSpPr>
        <p:sp>
          <p:nvSpPr>
            <p:cNvPr id="68" name=""/>
            <p:cNvSpPr/>
            <p:nvPr/>
          </p:nvSpPr>
          <p:spPr>
            <a:xfrm>
              <a:off x="396252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6252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340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1972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828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724280" y="1447920"/>
            <a:ext cx="762120" cy="4419360"/>
            <a:chOff x="4724280" y="1447920"/>
            <a:chExt cx="762120" cy="4419360"/>
          </a:xfrm>
        </p:grpSpPr>
        <p:sp>
          <p:nvSpPr>
            <p:cNvPr id="79" name=""/>
            <p:cNvSpPr/>
            <p:nvPr/>
          </p:nvSpPr>
          <p:spPr>
            <a:xfrm>
              <a:off x="472428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586728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8640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0552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181480" y="36576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029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486400" y="1447920"/>
            <a:ext cx="762120" cy="4419360"/>
            <a:chOff x="5486400" y="1447920"/>
            <a:chExt cx="762120" cy="4419360"/>
          </a:xfrm>
        </p:grpSpPr>
        <p:sp>
          <p:nvSpPr>
            <p:cNvPr id="90" name=""/>
            <p:cNvSpPr/>
            <p:nvPr/>
          </p:nvSpPr>
          <p:spPr>
            <a:xfrm>
              <a:off x="548640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640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4852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14479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94360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248520" y="1447920"/>
            <a:ext cx="761760" cy="4419360"/>
            <a:chOff x="6248520" y="1447920"/>
            <a:chExt cx="761760" cy="4419360"/>
          </a:xfrm>
        </p:grpSpPr>
        <p:sp>
          <p:nvSpPr>
            <p:cNvPr id="101" name=""/>
            <p:cNvSpPr/>
            <p:nvPr/>
          </p:nvSpPr>
          <p:spPr>
            <a:xfrm>
              <a:off x="624852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52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2940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70572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1828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010280" y="1447920"/>
            <a:ext cx="762120" cy="4419360"/>
            <a:chOff x="7010280" y="1447920"/>
            <a:chExt cx="762120" cy="4419360"/>
          </a:xfrm>
        </p:grpSpPr>
        <p:sp>
          <p:nvSpPr>
            <p:cNvPr id="112" name=""/>
            <p:cNvSpPr/>
            <p:nvPr/>
          </p:nvSpPr>
          <p:spPr>
            <a:xfrm>
              <a:off x="701028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0280" y="586728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7240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467480" y="36576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5029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960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72400" y="1447920"/>
            <a:ext cx="762120" cy="4419360"/>
            <a:chOff x="7772400" y="1447920"/>
            <a:chExt cx="762120" cy="4419360"/>
          </a:xfrm>
        </p:grpSpPr>
        <p:sp>
          <p:nvSpPr>
            <p:cNvPr id="123" name=""/>
            <p:cNvSpPr/>
            <p:nvPr/>
          </p:nvSpPr>
          <p:spPr>
            <a:xfrm>
              <a:off x="777240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240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3452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5328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14479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22960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15:16Z</dcterms:created>
  <dc:creator>johannes</dc:creator>
  <dc:description/>
  <dc:language>en-US</dc:language>
  <cp:lastModifiedBy>johannes</cp:lastModifiedBy>
  <dcterms:modified xsi:type="dcterms:W3CDTF">2004-03-23T14:22:42Z</dcterms:modified>
  <cp:revision>6</cp:revision>
  <dc:subject/>
  <dc:title>Rechenmaschine Dezimalzahl Dualzahl</dc:title>
</cp:coreProperties>
</file>