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DF3-F56A-45DE-B43E-83F6DCC1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FC9-E029-455A-8559-612806CD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E66-8B1C-45FD-8A65-234E99A0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7F4-67F7-402C-81CE-E61DB55F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83A-8763-4C92-B00F-97625206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3D0-DC6B-42BB-B63D-9AA8159D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BEE-DF1C-45A8-9755-D6783C0D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DAB-6702-4723-B35E-3700E1D5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372-C1BB-4EA0-A0E6-59948485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0BC-CBBC-461C-804F-C665EB4C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6D3-8AAE-4ADF-A114-2A2A47B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B0D-942D-4010-8D74-03A403B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1F58-BCED-4ED2-9B66-2F28B05B8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enmaschine Dezimalzah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371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ffernfol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9548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en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41972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13372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6576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8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4479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297180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449568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205740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358128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380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3341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4648320"/>
            <a:ext cx="152280" cy="152280"/>
            <a:chOff x="6477120" y="4648320"/>
            <a:chExt cx="152280" cy="152280"/>
          </a:xfrm>
        </p:grpSpPr>
        <p:sp>
          <p:nvSpPr>
            <p:cNvPr id="56" name=""/>
            <p:cNvSpPr/>
            <p:nvPr/>
          </p:nvSpPr>
          <p:spPr>
            <a:xfrm>
              <a:off x="6477120" y="472428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53440" y="46483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334120" y="14479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97180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49568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05740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358128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105520" y="4648320"/>
            <a:ext cx="152280" cy="152280"/>
            <a:chOff x="5105520" y="4648320"/>
            <a:chExt cx="152280" cy="152280"/>
          </a:xfrm>
        </p:grpSpPr>
        <p:sp>
          <p:nvSpPr>
            <p:cNvPr id="64" name=""/>
            <p:cNvSpPr/>
            <p:nvPr/>
          </p:nvSpPr>
          <p:spPr>
            <a:xfrm>
              <a:off x="5105520" y="472428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81840" y="46483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86200" y="14479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97180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449568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057400"/>
            <a:ext cx="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581280"/>
            <a:ext cx="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enmaschine Dualzahl Dezimalzah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371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en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41972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13372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6576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52578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14479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53280" y="2971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53280" y="449568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4479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2971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449568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14479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971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449568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24080" y="2057400"/>
            <a:ext cx="5334120" cy="685800"/>
            <a:chOff x="3124080" y="2057400"/>
            <a:chExt cx="5334120" cy="685800"/>
          </a:xfrm>
        </p:grpSpPr>
        <p:sp>
          <p:nvSpPr>
            <p:cNvPr id="104" name=""/>
            <p:cNvSpPr/>
            <p:nvPr/>
          </p:nvSpPr>
          <p:spPr>
            <a:xfrm>
              <a:off x="845820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9608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3432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220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1008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408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124080" y="3581280"/>
            <a:ext cx="5334120" cy="685800"/>
            <a:chOff x="3124080" y="3581280"/>
            <a:chExt cx="5334120" cy="685800"/>
          </a:xfrm>
        </p:grpSpPr>
        <p:sp>
          <p:nvSpPr>
            <p:cNvPr id="113" name=""/>
            <p:cNvSpPr/>
            <p:nvPr/>
          </p:nvSpPr>
          <p:spPr>
            <a:xfrm>
              <a:off x="845820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3432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7220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832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20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408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00100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72428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472428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53341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15:16Z</dcterms:created>
  <dc:creator>johannes</dc:creator>
  <dc:description/>
  <dc:language>en-US</dc:language>
  <cp:lastModifiedBy>johannes</cp:lastModifiedBy>
  <dcterms:modified xsi:type="dcterms:W3CDTF">2004-04-06T07:28:43Z</dcterms:modified>
  <cp:revision>10</cp:revision>
  <dc:subject/>
  <dc:title>Rechenmaschine Dezimalzahl Dualzahl</dc:title>
</cp:coreProperties>
</file>