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21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276720" y="2205000"/>
            <a:ext cx="4044960" cy="2595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139760" y="1387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Teile eines Pfer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pf, Mähne, Schweif, Huf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35640" y="981000"/>
            <a:ext cx="3311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igenschaften (Merkma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ines Pfer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warze Haare, vier Hufe, bis zu 50 km sch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5529240"/>
            <a:ext cx="324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Tätigkeiten eines Pfer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ssen, Beißen, Galoppieren, Traben, Spr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765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Calligraph421 BT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26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Calligraph421 BT"/>
              </a:rPr>
              <a:t>Attri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3080" y="465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Calligraph421 BT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2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-2521080" y="2522880"/>
            <a:ext cx="6859440" cy="1810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ligraph421 BT"/>
              </a:rPr>
              <a:t>Objekte – Attribute – Oper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32000" y="2492280"/>
            <a:ext cx="7213680" cy="3975120"/>
            <a:chOff x="1332000" y="2492280"/>
            <a:chExt cx="7213680" cy="397512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7236000" y="4724280"/>
              <a:ext cx="130968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 flipH="1">
              <a:off x="1332000" y="2492280"/>
              <a:ext cx="1309680" cy="1743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968400" y="5830920"/>
            <a:ext cx="7634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rstellen, Auswählen, Verwalten, Kopieren, Einfügen, Löschen, Umbenennen, Senden an,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ormatieren, Skalieren, Füllen, Ausschneiden, Anim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ffcc"/>
                </a:solidFill>
                <a:latin typeface="Calligraph421 BT"/>
              </a:rPr>
              <a:t>Prä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138400" y="907920"/>
            <a:ext cx="5979960" cy="843120"/>
            <a:chOff x="2138400" y="907920"/>
            <a:chExt cx="5979960" cy="843120"/>
          </a:xfrm>
        </p:grpSpPr>
        <p:sp>
          <p:nvSpPr>
            <p:cNvPr id="343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Präsentation/Foli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07000" y="966960"/>
              <a:ext cx="2511360" cy="784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rafik/B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extfeld/Autofor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348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Far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us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intergru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353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nha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Folienlayou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358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tomatis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Zufal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on ob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Folienüberga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363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inien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Far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ah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368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373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003640" y="2233440"/>
            <a:ext cx="3800160" cy="2813040"/>
            <a:chOff x="5003640" y="2233440"/>
            <a:chExt cx="3800160" cy="2813040"/>
          </a:xfrm>
        </p:grpSpPr>
        <p:sp>
          <p:nvSpPr>
            <p:cNvPr id="380" name=""/>
            <p:cNvSpPr/>
            <p:nvPr/>
          </p:nvSpPr>
          <p:spPr>
            <a:xfrm>
              <a:off x="7640280" y="3727080"/>
              <a:ext cx="114768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infarbi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echtec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re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asse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81600" y="2301480"/>
              <a:ext cx="1222200" cy="56052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arbe, 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03640" y="22334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56160" y="28634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968400" y="5830920"/>
            <a:ext cx="7634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nfügen, Auswählen, Löschen, Bewegen, Aufnehmen, Wieder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ffcc"/>
                </a:solidFill>
                <a:latin typeface="Calligraph421 BT"/>
              </a:rPr>
              <a:t>Prä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138400" y="907920"/>
            <a:ext cx="5979960" cy="843120"/>
            <a:chOff x="2138400" y="907920"/>
            <a:chExt cx="5979960" cy="843120"/>
          </a:xfrm>
        </p:grpSpPr>
        <p:sp>
          <p:nvSpPr>
            <p:cNvPr id="387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ni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07000" y="966960"/>
              <a:ext cx="2511360" cy="784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ilm/Soun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er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392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Bilder pro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Sekun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397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chn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it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angs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eschwindigke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402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on lin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on unt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on ob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icht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407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autstär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Wieder-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gabefol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CD/Caset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412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infa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pez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ffek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417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003640" y="2233440"/>
            <a:ext cx="3800520" cy="2813400"/>
            <a:chOff x="5003640" y="2233440"/>
            <a:chExt cx="3800520" cy="2813400"/>
          </a:xfrm>
        </p:grpSpPr>
        <p:sp>
          <p:nvSpPr>
            <p:cNvPr id="424" name=""/>
            <p:cNvSpPr/>
            <p:nvPr/>
          </p:nvSpPr>
          <p:spPr>
            <a:xfrm>
              <a:off x="7640640" y="3727440"/>
              <a:ext cx="114768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e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UR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-Ma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1960" y="2533680"/>
              <a:ext cx="1222200" cy="3286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Zieladres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03640" y="2233440"/>
              <a:ext cx="2586240" cy="373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56520" y="286380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68400" y="5830920"/>
            <a:ext cx="7634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rstellen, Auswählen, Zusammenführen, Löschen, Verwalten,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ffcc"/>
                </a:solidFill>
                <a:latin typeface="Calligraph421 BT"/>
              </a:rPr>
              <a:t>Daten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138400" y="907920"/>
            <a:ext cx="5979960" cy="588960"/>
            <a:chOff x="2138400" y="907920"/>
            <a:chExt cx="5979960" cy="588960"/>
          </a:xfrm>
        </p:grpSpPr>
        <p:sp>
          <p:nvSpPr>
            <p:cNvPr id="431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abelle/Abf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07000" y="1052640"/>
              <a:ext cx="2511360" cy="360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ormular/Beric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436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or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etailberei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441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Feld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Feldty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98560" y="2577960"/>
              <a:ext cx="1222200" cy="56376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atensat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atenfel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446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n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rupp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Funk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451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Bil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eitenkop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456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größer a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leiner a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riteri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461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003640" y="2233440"/>
            <a:ext cx="3800520" cy="2813400"/>
            <a:chOff x="5003640" y="2233440"/>
            <a:chExt cx="3800520" cy="2813400"/>
          </a:xfrm>
        </p:grpSpPr>
        <p:sp>
          <p:nvSpPr>
            <p:cNvPr id="468" name=""/>
            <p:cNvSpPr/>
            <p:nvPr/>
          </p:nvSpPr>
          <p:spPr>
            <a:xfrm>
              <a:off x="7640640" y="3727440"/>
              <a:ext cx="114768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e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ffek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81960" y="2533680"/>
              <a:ext cx="1222200" cy="3286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eitenfu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03640" y="2233440"/>
              <a:ext cx="2586240" cy="373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6520" y="286380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ffcc"/>
                </a:solidFill>
                <a:latin typeface="Calligraph421 BT"/>
              </a:rPr>
              <a:t>Daten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4360" y="981000"/>
            <a:ext cx="824364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LEKTION =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tensätze werden ausgewä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JEKTION =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tenfelder werden ausgewä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BUND =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abellen werden zusammengefüh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7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 rot="20575200">
            <a:off x="-756720" y="76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Noch eine Frage zu</a:t>
            </a:r>
            <a:br>
              <a:rPr sz="4000"/>
            </a:b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Objekt, Attribut, Op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61960" y="2633760"/>
            <a:ext cx="3828960" cy="24573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845320" y="1600200"/>
            <a:ext cx="1643040" cy="21859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845320" y="3938760"/>
            <a:ext cx="164448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620640"/>
            <a:ext cx="2130480" cy="1922400"/>
          </a:xfrm>
          <a:prstGeom prst="rightArrow">
            <a:avLst>
              <a:gd name="adj1" fmla="val 50000"/>
              <a:gd name="adj2" fmla="val 277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692280"/>
            <a:ext cx="2609640" cy="2131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jekte sind Elemente, die erstellt, bearbeitet und gespeichert we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 Objekt ist ein individuelles Exemplar von Dingen, Personen und Begri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3933720"/>
            <a:ext cx="2605320" cy="180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genschaften der Objekte werden als Attribute bezeichn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 Attribut beschreibt die Eigenschaft eines Objek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692280"/>
            <a:ext cx="2447640" cy="1942920"/>
          </a:xfrm>
          <a:prstGeom prst="leftArrow">
            <a:avLst>
              <a:gd name="adj1" fmla="val 50000"/>
              <a:gd name="adj2" fmla="val 314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3645000"/>
            <a:ext cx="2447640" cy="1942920"/>
          </a:xfrm>
          <a:prstGeom prst="leftArrow">
            <a:avLst>
              <a:gd name="adj1" fmla="val 50000"/>
              <a:gd name="adj2" fmla="val 314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3645000"/>
            <a:ext cx="2130480" cy="1922400"/>
          </a:xfrm>
          <a:prstGeom prst="rightArrow">
            <a:avLst>
              <a:gd name="adj1" fmla="val 50000"/>
              <a:gd name="adj2" fmla="val 277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ttri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2763360" y="2766600"/>
            <a:ext cx="6859440" cy="132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ligraph421 BT"/>
              </a:rPr>
              <a:t>Fachbegri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59320" y="4005360"/>
            <a:ext cx="2717640" cy="2200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perationen sind ausführbare Tätigkeiten, die auf die Objekte wirken, um sie zu bearbei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e Operation beschreibt das Verhalten des Objektes bei der Kommunik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052640"/>
            <a:ext cx="2813040" cy="1800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Eigenschaften der Attribute werden als Attributwert bezeichn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 Attributwert beschreibt die Eigenschaft eines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765000"/>
            <a:ext cx="2448000" cy="2233800"/>
          </a:xfrm>
          <a:prstGeom prst="leftArrow">
            <a:avLst>
              <a:gd name="adj1" fmla="val 50000"/>
              <a:gd name="adj2" fmla="val 273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765000"/>
            <a:ext cx="2274840" cy="2616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Attribut-w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3645000"/>
            <a:ext cx="2274840" cy="2616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11960" y="3789360"/>
            <a:ext cx="2448000" cy="2233440"/>
          </a:xfrm>
          <a:prstGeom prst="leftArrow">
            <a:avLst>
              <a:gd name="adj1" fmla="val 50000"/>
              <a:gd name="adj2" fmla="val 274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bjektorienti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xtverarbeitu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bellenkalkul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äsent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2764800" y="2766600"/>
            <a:ext cx="6859440" cy="132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ligraph421 BT"/>
              </a:rPr>
              <a:t>Fachbegri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swählen, Kopieren, Umbenennen, Einfügen, Verwalten, Löschen, Verschieben, Suchen, Verändern, Senden an, Verknüpfung erstel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-3310560" y="3313800"/>
            <a:ext cx="685944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124000" y="907920"/>
            <a:ext cx="5394240" cy="588960"/>
            <a:chOff x="2124000" y="907920"/>
            <a:chExt cx="5394240" cy="588960"/>
          </a:xfrm>
        </p:grpSpPr>
        <p:sp>
          <p:nvSpPr>
            <p:cNvPr id="69" name=""/>
            <p:cNvSpPr/>
            <p:nvPr/>
          </p:nvSpPr>
          <p:spPr>
            <a:xfrm>
              <a:off x="21240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rd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753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ate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1256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79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74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x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d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Ty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26920" y="2205000"/>
            <a:ext cx="3890520" cy="2830680"/>
            <a:chOff x="826920" y="2205000"/>
            <a:chExt cx="3890520" cy="2830680"/>
          </a:xfrm>
        </p:grpSpPr>
        <p:sp>
          <p:nvSpPr>
            <p:cNvPr id="79" name=""/>
            <p:cNvSpPr/>
            <p:nvPr/>
          </p:nvSpPr>
          <p:spPr>
            <a:xfrm>
              <a:off x="900000" y="3716280"/>
              <a:ext cx="116676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lüss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692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ha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97892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7600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84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G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Größ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89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rstell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019840" y="2222640"/>
            <a:ext cx="4124160" cy="2813040"/>
            <a:chOff x="5019840" y="2222640"/>
            <a:chExt cx="4124160" cy="2813040"/>
          </a:xfrm>
        </p:grpSpPr>
        <p:sp>
          <p:nvSpPr>
            <p:cNvPr id="94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äkch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Indi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97800" y="2290680"/>
              <a:ext cx="1546200" cy="5605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chreibgeschütz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ersteckt, Arch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99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104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724000" y="1484280"/>
            <a:ext cx="1366560" cy="1081080"/>
            <a:chOff x="5724000" y="1484280"/>
            <a:chExt cx="1366560" cy="1081080"/>
          </a:xfrm>
        </p:grpSpPr>
        <p:sp>
          <p:nvSpPr>
            <p:cNvPr id="111" name=""/>
            <p:cNvSpPr/>
            <p:nvPr/>
          </p:nvSpPr>
          <p:spPr>
            <a:xfrm flipH="1">
              <a:off x="5724000" y="1484280"/>
              <a:ext cx="1079640" cy="10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8991800">
              <a:off x="6156720" y="18442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3300"/>
                  </a:solidFill>
                  <a:latin typeface="Arial"/>
                </a:rPr>
                <a:t>n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042560" y="1557360"/>
            <a:ext cx="1366560" cy="1081080"/>
            <a:chOff x="1042560" y="1557360"/>
            <a:chExt cx="1366560" cy="1081080"/>
          </a:xfrm>
        </p:grpSpPr>
        <p:sp>
          <p:nvSpPr>
            <p:cNvPr id="114" name=""/>
            <p:cNvSpPr/>
            <p:nvPr/>
          </p:nvSpPr>
          <p:spPr>
            <a:xfrm flipH="1">
              <a:off x="1042560" y="1557360"/>
              <a:ext cx="1079640" cy="10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91800">
              <a:off x="1475280" y="19173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3300"/>
                  </a:solidFill>
                  <a:latin typeface="Arial"/>
                </a:rPr>
                <a:t>n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swählen, Kopieren, Ausschneiden, Überschreiben, Löschen, Verschieben, Einfügen, Suchen, Ersetz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Calligraph421 BT"/>
              </a:rPr>
              <a:t>Textverarb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138400" y="907920"/>
            <a:ext cx="5394240" cy="588960"/>
            <a:chOff x="2138400" y="907920"/>
            <a:chExt cx="5394240" cy="588960"/>
          </a:xfrm>
        </p:grpSpPr>
        <p:sp>
          <p:nvSpPr>
            <p:cNvPr id="119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Zeichen, W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97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atz, Ze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124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10 p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12 p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riftgr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129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ri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Cour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rift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134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fet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ursi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riftschnit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139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war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o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riftfar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019840" y="2222640"/>
            <a:ext cx="3800160" cy="2813040"/>
            <a:chOff x="5019840" y="2222640"/>
            <a:chExt cx="3800160" cy="2813040"/>
          </a:xfrm>
        </p:grpSpPr>
        <p:sp>
          <p:nvSpPr>
            <p:cNvPr id="144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we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öher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stell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97800" y="2290680"/>
              <a:ext cx="1222200" cy="5605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aufwe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149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och- 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gestell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apitäl-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 ch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rifteffek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154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uswählen, Kopieren, Ausschneiden, Überschreiben, Löschen, Verschieben, Einfügen, Setzen, Rand optim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Calligraph421 BT"/>
              </a:rPr>
              <a:t>Textverarb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138400" y="907920"/>
            <a:ext cx="5394240" cy="588960"/>
            <a:chOff x="2138400" y="907920"/>
            <a:chExt cx="5394240" cy="588960"/>
          </a:xfrm>
        </p:grpSpPr>
        <p:sp>
          <p:nvSpPr>
            <p:cNvPr id="163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bsa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897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bschni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168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inien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inienfar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chatt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ah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173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zentriert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ksbünd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Blocksat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usricht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178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ech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rstzeilen-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 einzu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inzu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183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n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Bre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bst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palt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019840" y="2222640"/>
            <a:ext cx="3800160" cy="2813040"/>
            <a:chOff x="5019840" y="2222640"/>
            <a:chExt cx="3800160" cy="2813040"/>
          </a:xfrm>
        </p:grpSpPr>
        <p:sp>
          <p:nvSpPr>
            <p:cNvPr id="188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fe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unk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97800" y="2290680"/>
              <a:ext cx="1222200" cy="5605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Nummer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ufzähl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193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infa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1,5 Zeil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oppel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Zeilenabst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198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nrichten, Kopieren, Löschen, Verwalten, Seite ansehen,              Erstellen, Tabulieren, Füllen, Formatieren, Skalieren, Ausschne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Calligraph421 BT"/>
              </a:rPr>
              <a:t>Textverarbei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207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inien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inienfar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chatt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ah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212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eiten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opfze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217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ech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ob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unt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eitenrän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222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ech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ezim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Tabstop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019840" y="2222640"/>
            <a:ext cx="3800160" cy="2813040"/>
            <a:chOff x="5019840" y="2222640"/>
            <a:chExt cx="3800160" cy="2813040"/>
          </a:xfrm>
        </p:grpSpPr>
        <p:sp>
          <p:nvSpPr>
            <p:cNvPr id="227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infarbi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attie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Höhe/Bre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asse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echteck 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7800" y="2290680"/>
              <a:ext cx="1222200" cy="56052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arbe, Größ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232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oc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qu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apierforma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237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8400" y="907920"/>
            <a:ext cx="6608880" cy="1154160"/>
            <a:chOff x="2138400" y="907920"/>
            <a:chExt cx="6608880" cy="1154160"/>
          </a:xfrm>
        </p:grpSpPr>
        <p:sp>
          <p:nvSpPr>
            <p:cNvPr id="244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e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89720" y="988920"/>
              <a:ext cx="1287360" cy="505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ab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04000" y="1557360"/>
              <a:ext cx="1943280" cy="50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extfeld/Grafi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ild, Autofo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04000" y="1413000"/>
              <a:ext cx="216000" cy="215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68400" y="5830920"/>
            <a:ext cx="7634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rstellen, Auswählen, Verwalten, Kopieren, Einfügen, Löschen, Umbenennen, Verschieben, Schützen, Sende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cc"/>
                </a:solidFill>
                <a:latin typeface="Calligraph421 BT"/>
              </a:rPr>
              <a:t>Tabellenkalk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138400" y="907920"/>
            <a:ext cx="5394240" cy="588960"/>
            <a:chOff x="2138400" y="907920"/>
            <a:chExt cx="5394240" cy="588960"/>
          </a:xfrm>
        </p:grpSpPr>
        <p:sp>
          <p:nvSpPr>
            <p:cNvPr id="253" name=""/>
            <p:cNvSpPr/>
            <p:nvPr/>
          </p:nvSpPr>
          <p:spPr>
            <a:xfrm>
              <a:off x="2138400" y="992160"/>
              <a:ext cx="1942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rbeitsma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97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rbeitsbla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1400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23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258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apierforma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263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atum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Erstell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268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G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Größ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950000" y="2259000"/>
            <a:ext cx="2530440" cy="2776680"/>
            <a:chOff x="4950000" y="2259000"/>
            <a:chExt cx="2530440" cy="2776680"/>
          </a:xfrm>
        </p:grpSpPr>
        <p:sp>
          <p:nvSpPr>
            <p:cNvPr id="273" name=""/>
            <p:cNvSpPr/>
            <p:nvPr/>
          </p:nvSpPr>
          <p:spPr>
            <a:xfrm>
              <a:off x="631980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Ob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Unt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ech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5788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eitenrän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0000" y="225900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770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019840" y="2222640"/>
            <a:ext cx="3800160" cy="2813040"/>
            <a:chOff x="5019840" y="2222640"/>
            <a:chExt cx="3800160" cy="2813040"/>
          </a:xfrm>
        </p:grpSpPr>
        <p:sp>
          <p:nvSpPr>
            <p:cNvPr id="278" name=""/>
            <p:cNvSpPr/>
            <p:nvPr/>
          </p:nvSpPr>
          <p:spPr>
            <a:xfrm>
              <a:off x="7656480" y="3716280"/>
              <a:ext cx="114768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eiten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Uhrze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97800" y="2290680"/>
              <a:ext cx="1222200" cy="56052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Kopf- u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Fußzei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19840" y="22226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7236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283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288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68400" y="5830920"/>
            <a:ext cx="7634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swählen, Kopieren, Einfügen, Löschen, Verschieben, Ausschneiden, Ausfüllen, Verbinden, Schützen, Sortieren, Addieren, Subtrahieren, Multiplizieren, Dividieren , Erstellen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Diagra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-3103560" y="3106800"/>
            <a:ext cx="6859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cc"/>
                </a:solidFill>
                <a:latin typeface="Calligraph421 BT"/>
              </a:rPr>
              <a:t>Tabellenkalk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917960" y="2246400"/>
            <a:ext cx="1222560" cy="2789280"/>
            <a:chOff x="4917960" y="2246400"/>
            <a:chExt cx="1222560" cy="2789280"/>
          </a:xfrm>
        </p:grpSpPr>
        <p:sp>
          <p:nvSpPr>
            <p:cNvPr id="297" name=""/>
            <p:cNvSpPr/>
            <p:nvPr/>
          </p:nvSpPr>
          <p:spPr>
            <a:xfrm>
              <a:off x="5637240" y="286056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83120" y="3716280"/>
              <a:ext cx="113832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vertik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Zellengröß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17960" y="2577960"/>
              <a:ext cx="122256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usricht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30920" y="2246400"/>
              <a:ext cx="449280" cy="3366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98560" y="2205000"/>
            <a:ext cx="3890520" cy="2830680"/>
            <a:chOff x="898560" y="2205000"/>
            <a:chExt cx="3890520" cy="2830680"/>
          </a:xfrm>
        </p:grpSpPr>
        <p:sp>
          <p:nvSpPr>
            <p:cNvPr id="302" name=""/>
            <p:cNvSpPr/>
            <p:nvPr/>
          </p:nvSpPr>
          <p:spPr>
            <a:xfrm>
              <a:off x="971640" y="3716280"/>
              <a:ext cx="116676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Zah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Währ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roz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9856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Zahl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050560" y="2205000"/>
              <a:ext cx="2738520" cy="41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4764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238480" y="2241720"/>
            <a:ext cx="2620800" cy="2793960"/>
            <a:chOff x="2238480" y="2241720"/>
            <a:chExt cx="2620800" cy="2793960"/>
          </a:xfrm>
        </p:grpSpPr>
        <p:sp>
          <p:nvSpPr>
            <p:cNvPr id="307" name=""/>
            <p:cNvSpPr/>
            <p:nvPr/>
          </p:nvSpPr>
          <p:spPr>
            <a:xfrm>
              <a:off x="2284560" y="3716280"/>
              <a:ext cx="1157040" cy="131940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-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-schnit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-größ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38480" y="2577960"/>
              <a:ext cx="1222200" cy="27324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rif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87600" y="2241720"/>
              <a:ext cx="1471680" cy="350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43280" y="285264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530520" y="2238480"/>
            <a:ext cx="1299960" cy="2806200"/>
            <a:chOff x="3530520" y="2238480"/>
            <a:chExt cx="1299960" cy="2806200"/>
          </a:xfrm>
        </p:grpSpPr>
        <p:sp>
          <p:nvSpPr>
            <p:cNvPr id="312" name=""/>
            <p:cNvSpPr/>
            <p:nvPr/>
          </p:nvSpPr>
          <p:spPr>
            <a:xfrm>
              <a:off x="3592080" y="3725640"/>
              <a:ext cx="114480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inien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Farb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chattier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30520" y="2587320"/>
              <a:ext cx="1222200" cy="2728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Rah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381200" y="2238480"/>
              <a:ext cx="449280" cy="3362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19400" y="2862000"/>
              <a:ext cx="0" cy="863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649680" y="141120"/>
            <a:ext cx="2479680" cy="5488200"/>
            <a:chOff x="3649680" y="141120"/>
            <a:chExt cx="2479680" cy="5488200"/>
          </a:xfrm>
        </p:grpSpPr>
        <p:sp>
          <p:nvSpPr>
            <p:cNvPr id="317" name=""/>
            <p:cNvSpPr/>
            <p:nvPr/>
          </p:nvSpPr>
          <p:spPr>
            <a:xfrm>
              <a:off x="3681360" y="141120"/>
              <a:ext cx="2376720" cy="7351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06920" y="1668600"/>
              <a:ext cx="2376360" cy="57600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49680" y="311148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Attributw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53000" y="5138640"/>
              <a:ext cx="2376360" cy="4906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ligraph421 BT"/>
                </a:rPr>
                <a:t>Operation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62520" y="907920"/>
              <a:ext cx="0" cy="72072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858920" y="2206800"/>
              <a:ext cx="17640" cy="863280"/>
            </a:xfrm>
            <a:prstGeom prst="line">
              <a:avLst/>
            </a:prstGeom>
            <a:ln w="7632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124000" y="907920"/>
            <a:ext cx="6623280" cy="1154160"/>
            <a:chOff x="2124000" y="907920"/>
            <a:chExt cx="6623280" cy="1154160"/>
          </a:xfrm>
        </p:grpSpPr>
        <p:sp>
          <p:nvSpPr>
            <p:cNvPr id="324" name=""/>
            <p:cNvSpPr/>
            <p:nvPr/>
          </p:nvSpPr>
          <p:spPr>
            <a:xfrm>
              <a:off x="2124000" y="992160"/>
              <a:ext cx="1943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ktive Z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75320" y="988920"/>
              <a:ext cx="1942920" cy="505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Zeile/Spal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12560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17960" y="907920"/>
              <a:ext cx="647640" cy="28908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04000" y="1557360"/>
              <a:ext cx="1943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iagra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04000" y="1484280"/>
              <a:ext cx="216000" cy="144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62680" y="2247840"/>
            <a:ext cx="3800160" cy="2813040"/>
            <a:chOff x="5062680" y="2247840"/>
            <a:chExt cx="3800160" cy="2813040"/>
          </a:xfrm>
        </p:grpSpPr>
        <p:sp>
          <p:nvSpPr>
            <p:cNvPr id="331" name=""/>
            <p:cNvSpPr/>
            <p:nvPr/>
          </p:nvSpPr>
          <p:spPr>
            <a:xfrm>
              <a:off x="7640640" y="2421000"/>
              <a:ext cx="1222200" cy="72072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Achs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Legen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schrif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2680" y="2247840"/>
              <a:ext cx="258588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9320" y="3741840"/>
              <a:ext cx="114768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imärach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Gitternet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Wertanga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Proz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15200" y="287820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960800" y="2262240"/>
            <a:ext cx="2530440" cy="2776320"/>
            <a:chOff x="4960800" y="2262240"/>
            <a:chExt cx="2530440" cy="2776320"/>
          </a:xfrm>
        </p:grpSpPr>
        <p:sp>
          <p:nvSpPr>
            <p:cNvPr id="336" name=""/>
            <p:cNvSpPr/>
            <p:nvPr/>
          </p:nvSpPr>
          <p:spPr>
            <a:xfrm>
              <a:off x="6330960" y="3719520"/>
              <a:ext cx="1137960" cy="13190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Hinter-</a:t>
              </a:r>
              <a:br>
                <a:rPr sz="1500"/>
              </a:b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 gru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uster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gesper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usgeblend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69040" y="2581200"/>
              <a:ext cx="1222200" cy="490680"/>
            </a:xfrm>
            <a:prstGeom prst="flowChartTerminator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Mus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0800" y="2262240"/>
              <a:ext cx="1384200" cy="33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87880" y="2855880"/>
              <a:ext cx="0" cy="8636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6:22:53Z</dcterms:created>
  <dc:creator>Helga Robeller-Zink</dc:creator>
  <dc:description/>
  <dc:language>en-US</dc:language>
  <cp:lastModifiedBy>Helga Robeller-Zink</cp:lastModifiedBy>
  <dcterms:modified xsi:type="dcterms:W3CDTF">2004-02-29T16:01:16Z</dcterms:modified>
  <cp:revision>25</cp:revision>
  <dc:subject/>
  <dc:title>Fortbildung 1. März 2004</dc:title>
</cp:coreProperties>
</file>