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21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276720" y="2205000"/>
            <a:ext cx="4044960" cy="25956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139760" y="13874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ile eines Pfer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35640" y="981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genschaften (Merkma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nes Pfer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55292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ätigkeiten eines Pfer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765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ligraph421 BT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26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ligraph421 BT"/>
              </a:rPr>
              <a:t>Attri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3080" y="465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ligraph421 BT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2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-2521080" y="2522880"/>
            <a:ext cx="6859440" cy="1810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ligraph421 BT"/>
              </a:rPr>
              <a:t>Objekte – Attribute – Oper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32000" y="2492280"/>
            <a:ext cx="7213680" cy="3975120"/>
            <a:chOff x="1332000" y="2492280"/>
            <a:chExt cx="7213680" cy="397512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7236000" y="4724280"/>
              <a:ext cx="130968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 flipH="1">
              <a:off x="1332000" y="2492280"/>
              <a:ext cx="1309680" cy="1743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68400" y="5830920"/>
            <a:ext cx="76341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stellen, Auswählen, Verwalten, Kopieren, Einfügen, Löschen, Umbenennen, Senden a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tieren, Skalieren, Füllen, Ausschneiden, Anim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Calligraph421 BT"/>
              </a:rPr>
              <a:t>Prä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138400" y="907920"/>
            <a:ext cx="5979960" cy="843120"/>
            <a:chOff x="2138400" y="907920"/>
            <a:chExt cx="5979960" cy="843120"/>
          </a:xfrm>
        </p:grpSpPr>
        <p:sp>
          <p:nvSpPr>
            <p:cNvPr id="342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äsentation/Foli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07000" y="966960"/>
              <a:ext cx="2511360" cy="784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fik/B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feld/Autofor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347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Farb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us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intergru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352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ha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olienlayou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357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tomatis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Zufal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on ob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362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inien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arb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ahm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367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u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372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003640" y="2233440"/>
            <a:ext cx="3800160" cy="2813040"/>
            <a:chOff x="5003640" y="2233440"/>
            <a:chExt cx="3800160" cy="2813040"/>
          </a:xfrm>
        </p:grpSpPr>
        <p:sp>
          <p:nvSpPr>
            <p:cNvPr id="379" name=""/>
            <p:cNvSpPr/>
            <p:nvPr/>
          </p:nvSpPr>
          <p:spPr>
            <a:xfrm>
              <a:off x="7640280" y="3727080"/>
              <a:ext cx="114768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infarbi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chtec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Kre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asse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81600" y="2301480"/>
              <a:ext cx="1222200" cy="56052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03640" y="22334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56160" y="28634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968400" y="5830920"/>
            <a:ext cx="76341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nfügen, Auswählen, Löschen, Bewegen, Aufnehmen, Wieder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ligraph421 BT"/>
              </a:rPr>
              <a:t>Prä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138400" y="907920"/>
            <a:ext cx="5979960" cy="843120"/>
            <a:chOff x="2138400" y="907920"/>
            <a:chExt cx="5979960" cy="843120"/>
          </a:xfrm>
        </p:grpSpPr>
        <p:sp>
          <p:nvSpPr>
            <p:cNvPr id="386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07000" y="966960"/>
              <a:ext cx="2511360" cy="784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lm/Sound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Hyper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391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Bilder pro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Sekun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396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n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ngs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schwindigke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401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on lin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on unt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on ob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406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autstär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Wieder-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gabefol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CD/Caset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411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infac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pez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416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003640" y="2233440"/>
            <a:ext cx="3800520" cy="2813400"/>
            <a:chOff x="5003640" y="2233440"/>
            <a:chExt cx="3800520" cy="2813400"/>
          </a:xfrm>
        </p:grpSpPr>
        <p:sp>
          <p:nvSpPr>
            <p:cNvPr id="423" name=""/>
            <p:cNvSpPr/>
            <p:nvPr/>
          </p:nvSpPr>
          <p:spPr>
            <a:xfrm>
              <a:off x="7640640" y="3727440"/>
              <a:ext cx="114768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R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-Mai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81960" y="2533680"/>
              <a:ext cx="1222200" cy="3286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03640" y="2233440"/>
              <a:ext cx="2586240" cy="373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56520" y="286380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68400" y="5830920"/>
            <a:ext cx="76341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stellen, Auswählen, Zusammenführen, Löschen, Verwalten,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ligraph421 BT"/>
              </a:rPr>
              <a:t>Daten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138400" y="907920"/>
            <a:ext cx="5979960" cy="588960"/>
            <a:chOff x="2138400" y="907920"/>
            <a:chExt cx="5979960" cy="588960"/>
          </a:xfrm>
        </p:grpSpPr>
        <p:sp>
          <p:nvSpPr>
            <p:cNvPr id="430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belle/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Abf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07000" y="1052640"/>
              <a:ext cx="2511360" cy="360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mular/Beric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435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or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tailbereic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440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98560" y="2577960"/>
              <a:ext cx="1222200" cy="56376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tensat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tenfel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445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nzah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uppier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450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455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460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003640" y="2233440"/>
            <a:ext cx="3800520" cy="2813400"/>
            <a:chOff x="5003640" y="2233440"/>
            <a:chExt cx="3800520" cy="2813400"/>
          </a:xfrm>
        </p:grpSpPr>
        <p:sp>
          <p:nvSpPr>
            <p:cNvPr id="467" name=""/>
            <p:cNvSpPr/>
            <p:nvPr/>
          </p:nvSpPr>
          <p:spPr>
            <a:xfrm>
              <a:off x="7640640" y="3727440"/>
              <a:ext cx="114768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t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ffek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81960" y="2533680"/>
              <a:ext cx="1222200" cy="3286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itenfu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03640" y="2233440"/>
              <a:ext cx="2586240" cy="373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56520" y="286380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ligraph421 BT"/>
              </a:rPr>
              <a:t>Daten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258920" y="981000"/>
            <a:ext cx="3457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KTI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BUND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7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 rot="20575200">
            <a:off x="-972720" y="61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ch eine Frage zu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kt, Attribut, Ope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561960" y="2633760"/>
            <a:ext cx="3828960" cy="24573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5845320" y="1600200"/>
            <a:ext cx="1643040" cy="21859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5845320" y="3938760"/>
            <a:ext cx="164448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620640"/>
            <a:ext cx="2130480" cy="1922400"/>
          </a:xfrm>
          <a:prstGeom prst="rightArrow">
            <a:avLst>
              <a:gd name="adj1" fmla="val 50000"/>
              <a:gd name="adj2" fmla="val 277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692280"/>
            <a:ext cx="2609640" cy="2131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kte sind Elemente, die erstellt, bearbeitet und gespeich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 Objekt ist ein individuelles Exemplar von Dingen, Personen und Begri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3933720"/>
            <a:ext cx="2605320" cy="180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Eigenschaften der Objekte werden als Attribute bezeichn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 Attribut beschreibt die Eigenschaft eines Objek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692280"/>
            <a:ext cx="2447640" cy="1942920"/>
          </a:xfrm>
          <a:prstGeom prst="leftArrow">
            <a:avLst>
              <a:gd name="adj1" fmla="val 50000"/>
              <a:gd name="adj2" fmla="val 314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ktorienti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verarbeitu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ellenkalkul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äsent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3645000"/>
            <a:ext cx="2447640" cy="1942920"/>
          </a:xfrm>
          <a:prstGeom prst="leftArrow">
            <a:avLst>
              <a:gd name="adj1" fmla="val 50000"/>
              <a:gd name="adj2" fmla="val 314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ktorienti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verarbeitu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ellenkalkul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äsent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3645000"/>
            <a:ext cx="2130480" cy="1922400"/>
          </a:xfrm>
          <a:prstGeom prst="rightArrow">
            <a:avLst>
              <a:gd name="adj1" fmla="val 50000"/>
              <a:gd name="adj2" fmla="val 277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ri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2763360" y="2766600"/>
            <a:ext cx="6859440" cy="132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ligraph421 BT"/>
              </a:rPr>
              <a:t>Fachbegri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59320" y="4005360"/>
            <a:ext cx="2717640" cy="2200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en sind ausführbare Tätigkeiten, die auf die Objekte wirken, um sie zu bearbei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e Operation beschreibt das Verhalten des Objektes bei der Kommunik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052640"/>
            <a:ext cx="2813040" cy="1800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Eigenschaften der Attribute werden als Attributwert bezeichn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 Attributwert beschreibt die Eigenschaft eines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765000"/>
            <a:ext cx="2448000" cy="2233800"/>
          </a:xfrm>
          <a:prstGeom prst="leftArrow">
            <a:avLst>
              <a:gd name="adj1" fmla="val 50000"/>
              <a:gd name="adj2" fmla="val 273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ktorienti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verarbeitu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ellenkalkul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äsent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765000"/>
            <a:ext cx="2274840" cy="2616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Attribut-w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3645000"/>
            <a:ext cx="2274840" cy="2616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11960" y="3789360"/>
            <a:ext cx="2448000" cy="2233440"/>
          </a:xfrm>
          <a:prstGeom prst="leftArrow">
            <a:avLst>
              <a:gd name="adj1" fmla="val 50000"/>
              <a:gd name="adj2" fmla="val 274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ktorienti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verarbeitu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ellenkalkul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äsent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-2764800" y="2766600"/>
            <a:ext cx="6859440" cy="132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ligraph421 BT"/>
              </a:rPr>
              <a:t>Fachbegri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68400" y="5830920"/>
            <a:ext cx="7634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wählen, Kopieren, Umbenennen, Einfügen, Verwalten, Löschen, Verschieben, Suchen, Verändern, Senden an, Verknüpfung erstel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124000" y="907920"/>
            <a:ext cx="5394240" cy="588960"/>
            <a:chOff x="2124000" y="907920"/>
            <a:chExt cx="5394240" cy="588960"/>
          </a:xfrm>
        </p:grpSpPr>
        <p:sp>
          <p:nvSpPr>
            <p:cNvPr id="68" name=""/>
            <p:cNvSpPr/>
            <p:nvPr/>
          </p:nvSpPr>
          <p:spPr>
            <a:xfrm>
              <a:off x="21240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d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75320" y="988920"/>
              <a:ext cx="1942920" cy="505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1256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179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003640" y="2276640"/>
            <a:ext cx="1222560" cy="2788560"/>
            <a:chOff x="5003640" y="2276640"/>
            <a:chExt cx="1222560" cy="2788560"/>
          </a:xfrm>
        </p:grpSpPr>
        <p:sp>
          <p:nvSpPr>
            <p:cNvPr id="73" name=""/>
            <p:cNvSpPr/>
            <p:nvPr/>
          </p:nvSpPr>
          <p:spPr>
            <a:xfrm>
              <a:off x="5722920" y="289044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68800" y="3746160"/>
              <a:ext cx="1138320" cy="131904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03640" y="2607840"/>
              <a:ext cx="1222560" cy="2728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16600" y="227664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26920" y="2205000"/>
            <a:ext cx="3890520" cy="2830680"/>
            <a:chOff x="826920" y="2205000"/>
            <a:chExt cx="3890520" cy="2830680"/>
          </a:xfrm>
        </p:grpSpPr>
        <p:sp>
          <p:nvSpPr>
            <p:cNvPr id="78" name=""/>
            <p:cNvSpPr/>
            <p:nvPr/>
          </p:nvSpPr>
          <p:spPr>
            <a:xfrm>
              <a:off x="900000" y="3716280"/>
              <a:ext cx="116676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nzahl der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Dateien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2692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97892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7600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83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röß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88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t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rstell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19840" y="2222640"/>
            <a:ext cx="4124160" cy="2813040"/>
            <a:chOff x="5019840" y="2222640"/>
            <a:chExt cx="4124160" cy="2813040"/>
          </a:xfrm>
        </p:grpSpPr>
        <p:sp>
          <p:nvSpPr>
            <p:cNvPr id="93" name=""/>
            <p:cNvSpPr/>
            <p:nvPr/>
          </p:nvSpPr>
          <p:spPr>
            <a:xfrm>
              <a:off x="7656480" y="3716280"/>
              <a:ext cx="114768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äkch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di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7800" y="2290680"/>
              <a:ext cx="1546200" cy="5605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reibgeschütz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steckt, Arch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19840" y="22226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7236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98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103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724000" y="1484280"/>
            <a:ext cx="1366560" cy="1081080"/>
            <a:chOff x="5724000" y="1484280"/>
            <a:chExt cx="1366560" cy="1081080"/>
          </a:xfrm>
        </p:grpSpPr>
        <p:sp>
          <p:nvSpPr>
            <p:cNvPr id="110" name=""/>
            <p:cNvSpPr/>
            <p:nvPr/>
          </p:nvSpPr>
          <p:spPr>
            <a:xfrm flipH="1">
              <a:off x="5724000" y="1484280"/>
              <a:ext cx="1079640" cy="1081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8991800">
              <a:off x="6156720" y="184428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n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42560" y="1557360"/>
            <a:ext cx="1366560" cy="1081080"/>
            <a:chOff x="1042560" y="1557360"/>
            <a:chExt cx="1366560" cy="1081080"/>
          </a:xfrm>
        </p:grpSpPr>
        <p:sp>
          <p:nvSpPr>
            <p:cNvPr id="113" name=""/>
            <p:cNvSpPr/>
            <p:nvPr/>
          </p:nvSpPr>
          <p:spPr>
            <a:xfrm flipH="1">
              <a:off x="1042560" y="1557360"/>
              <a:ext cx="1079640" cy="1081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8991800">
              <a:off x="1475280" y="19173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n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68400" y="5830920"/>
            <a:ext cx="7634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wählen, Kopieren, Ausschneiden, Überschreiben, Löschen, Verschieben, Einfügen, Suchen, Ersetz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ligraph421 BT"/>
              </a:rPr>
              <a:t>Textverarb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138400" y="907920"/>
            <a:ext cx="5394240" cy="588960"/>
            <a:chOff x="2138400" y="907920"/>
            <a:chExt cx="5394240" cy="588960"/>
          </a:xfrm>
        </p:grpSpPr>
        <p:sp>
          <p:nvSpPr>
            <p:cNvPr id="118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89720" y="988920"/>
              <a:ext cx="1942920" cy="505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123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10 p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12 p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chriftgra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128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i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uri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chrift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133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et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kursi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chriftschnit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138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chwar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chriftfarb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19840" y="2222640"/>
            <a:ext cx="3800160" cy="2813040"/>
            <a:chOff x="5019840" y="2222640"/>
            <a:chExt cx="3800160" cy="2813040"/>
          </a:xfrm>
        </p:grpSpPr>
        <p:sp>
          <p:nvSpPr>
            <p:cNvPr id="143" name=""/>
            <p:cNvSpPr/>
            <p:nvPr/>
          </p:nvSpPr>
          <p:spPr>
            <a:xfrm>
              <a:off x="7656480" y="3716280"/>
              <a:ext cx="114768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öher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stell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97800" y="2290680"/>
              <a:ext cx="1222200" cy="5605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aufwe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19840" y="22226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7236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148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hoch- 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gestell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apitäl-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 ch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chrifteffek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153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68400" y="5830920"/>
            <a:ext cx="7634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swählen, Kopieren, Ausschneiden, Überschreiben, Löschen, Verschieben, Einfügen, Setzen, Rand optimie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ligraph421 BT"/>
              </a:rPr>
              <a:t>Textverarb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38400" y="907920"/>
            <a:ext cx="5394240" cy="588960"/>
            <a:chOff x="2138400" y="907920"/>
            <a:chExt cx="5394240" cy="588960"/>
          </a:xfrm>
        </p:grpSpPr>
        <p:sp>
          <p:nvSpPr>
            <p:cNvPr id="162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sat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89720" y="988920"/>
              <a:ext cx="1942920" cy="505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schni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167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inien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nienfar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attier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172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zentriert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sbünd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locksat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177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rstzeilen-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 einzu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182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nzah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re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bsta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019840" y="2222640"/>
            <a:ext cx="3800160" cy="2813040"/>
            <a:chOff x="5019840" y="2222640"/>
            <a:chExt cx="3800160" cy="2813040"/>
          </a:xfrm>
        </p:grpSpPr>
        <p:sp>
          <p:nvSpPr>
            <p:cNvPr id="187" name=""/>
            <p:cNvSpPr/>
            <p:nvPr/>
          </p:nvSpPr>
          <p:spPr>
            <a:xfrm>
              <a:off x="7656480" y="3716280"/>
              <a:ext cx="114768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fei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unk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97800" y="2290680"/>
              <a:ext cx="1222200" cy="5605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merier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ufzähl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19840" y="22226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7236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192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infac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,5 Zeil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oppel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ilenabst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197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68400" y="5830920"/>
            <a:ext cx="7634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nrichten, Kopieren, Löschen, Verwalten, Seite ansehen,              Erstellen, Tabulieren, Füllen, Formatieren, Skalieren, Ausschne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ligraph421 BT"/>
              </a:rPr>
              <a:t>Textverarb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206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inien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nienfar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attier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ahm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211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itenzah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Kopfzei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216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221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ch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zim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abstop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019840" y="2222640"/>
            <a:ext cx="3800160" cy="2813040"/>
            <a:chOff x="5019840" y="2222640"/>
            <a:chExt cx="3800160" cy="2813040"/>
          </a:xfrm>
        </p:grpSpPr>
        <p:sp>
          <p:nvSpPr>
            <p:cNvPr id="226" name=""/>
            <p:cNvSpPr/>
            <p:nvPr/>
          </p:nvSpPr>
          <p:spPr>
            <a:xfrm>
              <a:off x="7656480" y="3716280"/>
              <a:ext cx="114768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infarbi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chattie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öhe/Bre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asse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chteck 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97800" y="2290680"/>
              <a:ext cx="1222200" cy="5605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arbe, Größ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19840" y="22226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7236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231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236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138400" y="907920"/>
            <a:ext cx="6608880" cy="1154160"/>
            <a:chOff x="2138400" y="907920"/>
            <a:chExt cx="6608880" cy="1154160"/>
          </a:xfrm>
        </p:grpSpPr>
        <p:sp>
          <p:nvSpPr>
            <p:cNvPr id="243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89720" y="988920"/>
              <a:ext cx="1287360" cy="505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b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04000" y="1557360"/>
              <a:ext cx="1943280" cy="50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feld/Grafi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ld, Autofo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04000" y="1413000"/>
              <a:ext cx="216000" cy="215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68400" y="5830920"/>
            <a:ext cx="7634160" cy="69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ligraph421 BT"/>
              </a:rPr>
              <a:t>Tabellenkalk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138400" y="907920"/>
            <a:ext cx="5394240" cy="588960"/>
            <a:chOff x="2138400" y="907920"/>
            <a:chExt cx="5394240" cy="588960"/>
          </a:xfrm>
        </p:grpSpPr>
        <p:sp>
          <p:nvSpPr>
            <p:cNvPr id="252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beitsmap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89720" y="988920"/>
              <a:ext cx="1942920" cy="505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beitsbla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257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262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267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röß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272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b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t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ch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itenrän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019840" y="2222640"/>
            <a:ext cx="3800160" cy="2813040"/>
            <a:chOff x="5019840" y="2222640"/>
            <a:chExt cx="3800160" cy="2813040"/>
          </a:xfrm>
        </p:grpSpPr>
        <p:sp>
          <p:nvSpPr>
            <p:cNvPr id="277" name=""/>
            <p:cNvSpPr/>
            <p:nvPr/>
          </p:nvSpPr>
          <p:spPr>
            <a:xfrm>
              <a:off x="7656480" y="3716280"/>
              <a:ext cx="114768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itenzah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t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hrze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97800" y="2290680"/>
              <a:ext cx="1222200" cy="56052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Kopf- u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ußzei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19840" y="22226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7236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282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u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287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68400" y="5830920"/>
            <a:ext cx="76341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wählen, Kopieren, Einfügen, Löschen, Verschieben, Ausschneiden, Ausfüllen, Verbinden, Schützen, Sortieren, Addieren, Subtrahieren, Multiplizieren, Dividieren , Erstellen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Diagra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ligraph421 BT"/>
              </a:rPr>
              <a:t>Tabellenkalk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296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ertik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ellengröß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301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306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schnit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größ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chrif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311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inien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arb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attier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ahm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316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124000" y="907920"/>
            <a:ext cx="6623280" cy="1154160"/>
            <a:chOff x="2124000" y="907920"/>
            <a:chExt cx="6623280" cy="1154160"/>
          </a:xfrm>
        </p:grpSpPr>
        <p:sp>
          <p:nvSpPr>
            <p:cNvPr id="323" name=""/>
            <p:cNvSpPr/>
            <p:nvPr/>
          </p:nvSpPr>
          <p:spPr>
            <a:xfrm>
              <a:off x="2124000" y="992160"/>
              <a:ext cx="1943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ktive Z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75320" y="988920"/>
              <a:ext cx="1942920" cy="505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eile/Spal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1256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179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04000" y="1557360"/>
              <a:ext cx="1943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gra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04000" y="1484280"/>
              <a:ext cx="216000" cy="144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062680" y="2247840"/>
            <a:ext cx="3800160" cy="2813040"/>
            <a:chOff x="5062680" y="2247840"/>
            <a:chExt cx="3800160" cy="2813040"/>
          </a:xfrm>
        </p:grpSpPr>
        <p:sp>
          <p:nvSpPr>
            <p:cNvPr id="330" name=""/>
            <p:cNvSpPr/>
            <p:nvPr/>
          </p:nvSpPr>
          <p:spPr>
            <a:xfrm>
              <a:off x="7640640" y="2421000"/>
              <a:ext cx="1222200" cy="72072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ch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egen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schrif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62680" y="22478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9320" y="3741840"/>
              <a:ext cx="114768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eaeaea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15200" y="287820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960800" y="2262240"/>
            <a:ext cx="2530440" cy="2776320"/>
            <a:chOff x="4960800" y="2262240"/>
            <a:chExt cx="2530440" cy="2776320"/>
          </a:xfrm>
        </p:grpSpPr>
        <p:sp>
          <p:nvSpPr>
            <p:cNvPr id="335" name=""/>
            <p:cNvSpPr/>
            <p:nvPr/>
          </p:nvSpPr>
          <p:spPr>
            <a:xfrm>
              <a:off x="6330960" y="3719520"/>
              <a:ext cx="113796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Hinter-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gru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Muster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gesper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usgeblend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69040" y="2581200"/>
              <a:ext cx="1222200" cy="4906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us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60800" y="226224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87880" y="285588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6:22:53Z</dcterms:created>
  <dc:creator>Helga Robeller-Zink</dc:creator>
  <dc:description/>
  <dc:language>en-US</dc:language>
  <cp:lastModifiedBy>Helga Robeller-Zink</cp:lastModifiedBy>
  <dcterms:modified xsi:type="dcterms:W3CDTF">2004-03-04T18:28:01Z</dcterms:modified>
  <cp:revision>27</cp:revision>
  <dc:subject/>
  <dc:title>Fortbildung 1. März 2004</dc:title>
</cp:coreProperties>
</file>