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219-E0EC-4C1F-990B-B3F14A31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4DB-6162-47A9-9DDE-523D60A9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3B7-8EB6-4AB3-8068-4B8CC2C3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DF2-99E8-44AF-90C3-2A7A9174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788-F313-4178-A320-FFA5BE3B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BFB-4FE0-4A27-9476-63CC7BB5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6BD-458E-44B2-BBB5-A7E2DEF6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D8B-3436-4EE4-A66C-1961FDDB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650-CB54-49B1-BBFC-7FEC0794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09B-8ADF-4A03-BDE8-8E778CAD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DAC-472E-4895-A31C-59CE2BC9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FA3-1E25-4BDB-AEEF-067DFA55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E073-C752-47EE-B0CD-3C889FA70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8672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3376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0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12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15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18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440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938320" y="2286000"/>
            <a:ext cx="178596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181480" y="2906640"/>
            <a:ext cx="3505320" cy="97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34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37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40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924280" y="2286000"/>
            <a:ext cx="1785960" cy="1376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486400" y="2286000"/>
            <a:ext cx="266688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6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48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56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59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62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924280" y="2286000"/>
            <a:ext cx="1785960" cy="2087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257800" y="2666880"/>
            <a:ext cx="3200400" cy="1173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8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70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78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81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84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440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924280" y="2286000"/>
            <a:ext cx="1785960" cy="13762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5867280" y="2743200"/>
            <a:ext cx="1828800" cy="1230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0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92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00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03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06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09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22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25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28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31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1004760" cy="1268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1004760" cy="6350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6705720" y="5156280"/>
            <a:ext cx="1004760" cy="6350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2286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iteneinteilung (Anordnung der Objek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ierung der Objekte zu einem einheitlichen B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3476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3429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ordnung der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sammengehörigkeit von Objek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3131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426564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f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flockerung, Erklä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51516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510372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r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hl, Bedeutung, 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4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55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58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61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64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2286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hriftenw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hl der Schriftart, Anzahl begrenz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33242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327672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ukturmit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Überschriften, Hervorhebungen, Unterlegu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43131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42656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ri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6691320" y="2354400"/>
            <a:ext cx="1004760" cy="693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705720" y="3417840"/>
            <a:ext cx="1004760" cy="84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7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85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88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91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94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71600" y="2286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urze und einfache Sätze, Fachbegriffe erklä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33242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327672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Übersichtlichkeit, Hervorhebung von Wesentlic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1004760" cy="585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0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412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415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418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421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2286000"/>
            <a:ext cx="3886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on (Lin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erkennbar, schlüssig, einheitlich und keine Sackga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629400" y="2514600"/>
            <a:ext cx="1004760" cy="79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7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29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813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14400" y="1371600"/>
            <a:ext cx="3505320" cy="533520"/>
            <a:chOff x="914400" y="1371600"/>
            <a:chExt cx="3505320" cy="533520"/>
          </a:xfrm>
        </p:grpSpPr>
        <p:sp>
          <p:nvSpPr>
            <p:cNvPr id="438" name=""/>
            <p:cNvSpPr/>
            <p:nvPr/>
          </p:nvSpPr>
          <p:spPr>
            <a:xfrm>
              <a:off x="990720" y="1447920"/>
              <a:ext cx="342900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14400" y="1371600"/>
              <a:ext cx="341136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ldschirmprä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648320" y="1371600"/>
            <a:ext cx="3504600" cy="533520"/>
            <a:chOff x="4648320" y="1371600"/>
            <a:chExt cx="3504600" cy="533520"/>
          </a:xfrm>
        </p:grpSpPr>
        <p:sp>
          <p:nvSpPr>
            <p:cNvPr id="441" name=""/>
            <p:cNvSpPr/>
            <p:nvPr/>
          </p:nvSpPr>
          <p:spPr>
            <a:xfrm>
              <a:off x="4724280" y="1447920"/>
              <a:ext cx="34286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48320" y="1371600"/>
              <a:ext cx="3411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-S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5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1176480" y="9144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Lernziel 8.4 im Lehrplan für Informationstechn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1447920"/>
            <a:ext cx="7391160" cy="44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T 8.4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en für die Präsentation aufbereit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(ca. 12 Std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 Schüler erarbeiten eine Bildschirmpräsentation und eine Web-Seite. Dabei strukturieren sie die Informationen, bereiten diese auf und fügen sie zusamm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ildschirmpräsenta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erkmale und Vorte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Grundregeln der Gestaltung von Präsenta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jekte und Attribute einer Prä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in Präsentationswerkzeug kennen lern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ine Präsentation er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Web-Seit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ufbau und Merkmale des Intern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jekte und Attribute einer Web-S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Gestaltungsbeispiele von Web-Seiten analysieren; Gestaltungsgrundsätze entwickel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Web-Seiten er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813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14400" y="1371600"/>
            <a:ext cx="3505320" cy="533520"/>
            <a:chOff x="914400" y="1371600"/>
            <a:chExt cx="3505320" cy="533520"/>
          </a:xfrm>
        </p:grpSpPr>
        <p:sp>
          <p:nvSpPr>
            <p:cNvPr id="455" name=""/>
            <p:cNvSpPr/>
            <p:nvPr/>
          </p:nvSpPr>
          <p:spPr>
            <a:xfrm>
              <a:off x="990720" y="1447920"/>
              <a:ext cx="342900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4400" y="1371600"/>
              <a:ext cx="341136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Bildschirmprä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648320" y="1371600"/>
            <a:ext cx="3504600" cy="533520"/>
            <a:chOff x="4648320" y="1371600"/>
            <a:chExt cx="3504600" cy="533520"/>
          </a:xfrm>
        </p:grpSpPr>
        <p:sp>
          <p:nvSpPr>
            <p:cNvPr id="458" name=""/>
            <p:cNvSpPr/>
            <p:nvPr/>
          </p:nvSpPr>
          <p:spPr>
            <a:xfrm>
              <a:off x="4724280" y="1447920"/>
              <a:ext cx="34286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8320" y="1371600"/>
              <a:ext cx="3411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Web-S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4252680" cy="32097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486400" y="2362320"/>
            <a:ext cx="25146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7543800" y="2438280"/>
            <a:ext cx="517680" cy="5652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7391520" y="3352680"/>
            <a:ext cx="682560" cy="97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6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813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914400" y="1371600"/>
            <a:ext cx="3505320" cy="533520"/>
            <a:chOff x="914400" y="1371600"/>
            <a:chExt cx="3505320" cy="533520"/>
          </a:xfrm>
        </p:grpSpPr>
        <p:sp>
          <p:nvSpPr>
            <p:cNvPr id="476" name=""/>
            <p:cNvSpPr/>
            <p:nvPr/>
          </p:nvSpPr>
          <p:spPr>
            <a:xfrm>
              <a:off x="990720" y="1447920"/>
              <a:ext cx="342900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14400" y="1371600"/>
              <a:ext cx="341136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Bildschirmprä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648320" y="1371600"/>
            <a:ext cx="3504600" cy="533520"/>
            <a:chOff x="4648320" y="1371600"/>
            <a:chExt cx="3504600" cy="533520"/>
          </a:xfrm>
        </p:grpSpPr>
        <p:sp>
          <p:nvSpPr>
            <p:cNvPr id="479" name=""/>
            <p:cNvSpPr/>
            <p:nvPr/>
          </p:nvSpPr>
          <p:spPr>
            <a:xfrm>
              <a:off x="4724280" y="1447920"/>
              <a:ext cx="34286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8320" y="1371600"/>
              <a:ext cx="3411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eb-S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219320" y="487692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ntpag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955880" y="2057400"/>
            <a:ext cx="5511600" cy="27226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581280" y="487692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scape 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7280" y="487692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scape 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752480" y="5867280"/>
            <a:ext cx="917640" cy="459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6629400" y="5867280"/>
            <a:ext cx="614520" cy="4780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4343400" y="5891040"/>
            <a:ext cx="644400" cy="586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9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91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" name=""/>
          <p:cNvSpPr/>
          <p:nvPr/>
        </p:nvSpPr>
        <p:spPr>
          <a:xfrm>
            <a:off x="685800" y="762120"/>
            <a:ext cx="533412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sation von Präsent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90720" y="1371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ögliche Reihenfolge der Seiten dargestellt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gra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23880" y="22860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lineare 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23479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141720" cy="546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523880" y="341316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hierarchische 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43000" y="3475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3880" y="447984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hierarchische Struktur mit Weiterl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3000" y="45417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715000" y="2971800"/>
            <a:ext cx="2313000" cy="14446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638680" y="5105520"/>
            <a:ext cx="2313000" cy="1444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9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11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685800" y="762120"/>
            <a:ext cx="5486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1371600"/>
            <a:ext cx="2286000" cy="533520"/>
            <a:chOff x="914400" y="1371600"/>
            <a:chExt cx="2286000" cy="533520"/>
          </a:xfrm>
        </p:grpSpPr>
        <p:sp>
          <p:nvSpPr>
            <p:cNvPr id="519" name=""/>
            <p:cNvSpPr/>
            <p:nvPr/>
          </p:nvSpPr>
          <p:spPr>
            <a:xfrm>
              <a:off x="9907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chtlini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429000" y="1371600"/>
            <a:ext cx="2286000" cy="533520"/>
            <a:chOff x="3429000" y="1371600"/>
            <a:chExt cx="2286000" cy="533520"/>
          </a:xfrm>
        </p:grpSpPr>
        <p:sp>
          <p:nvSpPr>
            <p:cNvPr id="522" name=""/>
            <p:cNvSpPr/>
            <p:nvPr/>
          </p:nvSpPr>
          <p:spPr>
            <a:xfrm>
              <a:off x="35053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290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the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2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1338120" y="21337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beschaffung und Erstellung zu H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57240" y="219564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38120" y="27273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ell Zusammenarbeit in kleinen Gru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57240" y="27892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38120" y="333684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e Themen oder aus einer Vorschlagsl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57240" y="33987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38120" y="39466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stellung eines Organigramms und gliederungsartige Beschreibung der Inhalte der einzelnen S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57240" y="40086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38120" y="48610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ämierung der besten Arbeit(en) durch Schülerj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57240" y="49230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914400" y="1371600"/>
            <a:ext cx="2286000" cy="533520"/>
            <a:chOff x="914400" y="1371600"/>
            <a:chExt cx="2286000" cy="533520"/>
          </a:xfrm>
        </p:grpSpPr>
        <p:sp>
          <p:nvSpPr>
            <p:cNvPr id="544" name=""/>
            <p:cNvSpPr/>
            <p:nvPr/>
          </p:nvSpPr>
          <p:spPr>
            <a:xfrm>
              <a:off x="9907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44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htlini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429000" y="1371600"/>
            <a:ext cx="2286000" cy="533520"/>
            <a:chOff x="3429000" y="1371600"/>
            <a:chExt cx="2286000" cy="533520"/>
          </a:xfrm>
        </p:grpSpPr>
        <p:sp>
          <p:nvSpPr>
            <p:cNvPr id="547" name=""/>
            <p:cNvSpPr/>
            <p:nvPr/>
          </p:nvSpPr>
          <p:spPr>
            <a:xfrm>
              <a:off x="35053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290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Beispielthe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85800" y="762120"/>
            <a:ext cx="5486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1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53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1338120" y="21337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in Hob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57240" y="219564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38120" y="27273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ch stelle mich v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57240" y="27892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38120" y="333684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e flicke ich einen Fahrradreifen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57240" y="33987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38120" y="39466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e kleine Geschichte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57240" y="40086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38120" y="45720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er Wüns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57240" y="46339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914400" y="1371600"/>
            <a:ext cx="2286000" cy="533520"/>
            <a:chOff x="914400" y="1371600"/>
            <a:chExt cx="2286000" cy="533520"/>
          </a:xfrm>
        </p:grpSpPr>
        <p:sp>
          <p:nvSpPr>
            <p:cNvPr id="570" name=""/>
            <p:cNvSpPr/>
            <p:nvPr/>
          </p:nvSpPr>
          <p:spPr>
            <a:xfrm>
              <a:off x="9907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144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Richtlini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429000" y="1371600"/>
            <a:ext cx="2286000" cy="533520"/>
            <a:chOff x="3429000" y="1371600"/>
            <a:chExt cx="2286000" cy="533520"/>
          </a:xfrm>
        </p:grpSpPr>
        <p:sp>
          <p:nvSpPr>
            <p:cNvPr id="573" name=""/>
            <p:cNvSpPr/>
            <p:nvPr/>
          </p:nvSpPr>
          <p:spPr>
            <a:xfrm>
              <a:off x="35053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290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Beispielthe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371600" y="51814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......................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0720" y="52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762120"/>
            <a:ext cx="5486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9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81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458200" cy="60958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495680" y="624852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Hausladen, Mai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838080" y="914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setzung des Themas im Unt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523880"/>
            <a:ext cx="2743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rüber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133720"/>
            <a:ext cx="40384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74320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3352680"/>
            <a:ext cx="373356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3962520"/>
            <a:ext cx="5029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sation von Präsent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4572000"/>
            <a:ext cx="510516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600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209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819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4290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038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46483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6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88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353376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914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chlag einer Stundenver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stdvert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4890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0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685800" y="762120"/>
            <a:ext cx="327672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rüber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447920"/>
            <a:ext cx="6858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Art der Präsentation soll gewählt werd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Dauer und der Umfang der Präsentation müssen im Vorfeld genau überleg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 welchem Werkzeug soll die Präsentation erstellt werd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Objekte eignen sich für die Präsentation? Technische oder auch qualitative Gründe schließen manchmal die Wahl eines Objektes a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stimmte Regeln sollten bei der Erstellung der Präsentation beacht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4954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19526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71476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4909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5576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136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938320" y="2266920"/>
            <a:ext cx="1785960" cy="2838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257800" y="3048120"/>
            <a:ext cx="3505320" cy="9046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27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30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33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38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46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49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52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136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938320" y="2286000"/>
            <a:ext cx="1785960" cy="2487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486400" y="25909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60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68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71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74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943360" y="2286000"/>
            <a:ext cx="1785960" cy="663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181480" y="2286000"/>
            <a:ext cx="342900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0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2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90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93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96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938320" y="2286000"/>
            <a:ext cx="1785960" cy="1376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410080" y="2286000"/>
            <a:ext cx="2667240" cy="201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09:54:20Z</dcterms:created>
  <dc:creator>Peter Hausladen</dc:creator>
  <dc:description/>
  <dc:language>en-US</dc:language>
  <cp:lastModifiedBy>Peter Hausladen</cp:lastModifiedBy>
  <dcterms:modified xsi:type="dcterms:W3CDTF">2002-05-11T08:23:58Z</dcterms:modified>
  <cp:revision>21</cp:revision>
  <dc:subject/>
  <dc:title>PowerPoint-Präsentation</dc:title>
</cp:coreProperties>
</file>