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1B7-069C-4760-893F-F129CA83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7B8-14AC-4759-B282-78544B0D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5DC-BC89-474A-8689-727B0ED3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3CB-A4B9-4FFE-95FE-D9C6C3F0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AD1-6394-4915-8520-C6E0427E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C56-489D-4C48-A49A-59595765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293-790F-46FD-90BA-ACF2B411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A61-9C5A-4E57-93D9-90443CE1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EC63-8F9D-4D82-95EC-004D572E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49D-56B2-42A8-891B-5D1F926C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857-0222-40BF-8765-CEA0AB65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089-A0E8-4038-BEA8-C82416CA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FA21-4C7A-444C-A0B9-0E69745B3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8672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3376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2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04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212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215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218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2440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938320" y="2286000"/>
            <a:ext cx="1785960" cy="1727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181480" y="2906640"/>
            <a:ext cx="3505320" cy="979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4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234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237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240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312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924280" y="2286000"/>
            <a:ext cx="1785960" cy="1376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486400" y="2286000"/>
            <a:ext cx="266688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6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48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256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259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262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312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924280" y="2286000"/>
            <a:ext cx="1785960" cy="2087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257800" y="2666880"/>
            <a:ext cx="3200400" cy="1173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8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70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278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281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284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2440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924280" y="2286000"/>
            <a:ext cx="1785960" cy="13762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5867280" y="2743200"/>
            <a:ext cx="1828800" cy="1230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0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92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300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666880" y="1371600"/>
            <a:ext cx="1600200" cy="533520"/>
            <a:chOff x="2666880" y="1371600"/>
            <a:chExt cx="1600200" cy="533520"/>
          </a:xfrm>
        </p:grpSpPr>
        <p:sp>
          <p:nvSpPr>
            <p:cNvPr id="303" name=""/>
            <p:cNvSpPr/>
            <p:nvPr/>
          </p:nvSpPr>
          <p:spPr>
            <a:xfrm>
              <a:off x="274320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6688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419720" y="1371600"/>
            <a:ext cx="1600200" cy="533520"/>
            <a:chOff x="4419720" y="1371600"/>
            <a:chExt cx="1600200" cy="533520"/>
          </a:xfrm>
        </p:grpSpPr>
        <p:sp>
          <p:nvSpPr>
            <p:cNvPr id="306" name=""/>
            <p:cNvSpPr/>
            <p:nvPr/>
          </p:nvSpPr>
          <p:spPr>
            <a:xfrm>
              <a:off x="449604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197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r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172200" y="1371600"/>
            <a:ext cx="1600200" cy="533520"/>
            <a:chOff x="6172200" y="1371600"/>
            <a:chExt cx="1600200" cy="533520"/>
          </a:xfrm>
        </p:grpSpPr>
        <p:sp>
          <p:nvSpPr>
            <p:cNvPr id="309" name=""/>
            <p:cNvSpPr/>
            <p:nvPr/>
          </p:nvSpPr>
          <p:spPr>
            <a:xfrm>
              <a:off x="62485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722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2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14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0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322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666880" y="1371600"/>
            <a:ext cx="1600200" cy="533520"/>
            <a:chOff x="2666880" y="1371600"/>
            <a:chExt cx="1600200" cy="533520"/>
          </a:xfrm>
        </p:grpSpPr>
        <p:sp>
          <p:nvSpPr>
            <p:cNvPr id="325" name=""/>
            <p:cNvSpPr/>
            <p:nvPr/>
          </p:nvSpPr>
          <p:spPr>
            <a:xfrm>
              <a:off x="274320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6688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419720" y="1371600"/>
            <a:ext cx="1600200" cy="533520"/>
            <a:chOff x="4419720" y="1371600"/>
            <a:chExt cx="1600200" cy="533520"/>
          </a:xfrm>
        </p:grpSpPr>
        <p:sp>
          <p:nvSpPr>
            <p:cNvPr id="328" name=""/>
            <p:cNvSpPr/>
            <p:nvPr/>
          </p:nvSpPr>
          <p:spPr>
            <a:xfrm>
              <a:off x="449604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197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Spr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172200" y="1371600"/>
            <a:ext cx="1600200" cy="533520"/>
            <a:chOff x="6172200" y="1371600"/>
            <a:chExt cx="1600200" cy="533520"/>
          </a:xfrm>
        </p:grpSpPr>
        <p:sp>
          <p:nvSpPr>
            <p:cNvPr id="331" name=""/>
            <p:cNvSpPr/>
            <p:nvPr/>
          </p:nvSpPr>
          <p:spPr>
            <a:xfrm>
              <a:off x="62485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722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1004760" cy="1268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705720" y="3657600"/>
            <a:ext cx="1004760" cy="6350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6705720" y="5156280"/>
            <a:ext cx="1004760" cy="6350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990720" y="23335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228600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iteneinteilung (Anordnung der Objek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ierung der Objekte zu einem einheitlichen B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34765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342900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ordnung der Ob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sammengehörigkeit von Objek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43131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71600" y="426564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f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flockerung, Erklä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90720" y="515160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510372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r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ahl, Bedeutung, 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5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47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355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666880" y="1371600"/>
            <a:ext cx="1600200" cy="533520"/>
            <a:chOff x="2666880" y="1371600"/>
            <a:chExt cx="1600200" cy="533520"/>
          </a:xfrm>
        </p:grpSpPr>
        <p:sp>
          <p:nvSpPr>
            <p:cNvPr id="358" name=""/>
            <p:cNvSpPr/>
            <p:nvPr/>
          </p:nvSpPr>
          <p:spPr>
            <a:xfrm>
              <a:off x="274320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6688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419720" y="1371600"/>
            <a:ext cx="1600200" cy="533520"/>
            <a:chOff x="4419720" y="1371600"/>
            <a:chExt cx="1600200" cy="533520"/>
          </a:xfrm>
        </p:grpSpPr>
        <p:sp>
          <p:nvSpPr>
            <p:cNvPr id="361" name=""/>
            <p:cNvSpPr/>
            <p:nvPr/>
          </p:nvSpPr>
          <p:spPr>
            <a:xfrm>
              <a:off x="449604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197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Spr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172200" y="1371600"/>
            <a:ext cx="1600200" cy="533520"/>
            <a:chOff x="6172200" y="1371600"/>
            <a:chExt cx="1600200" cy="533520"/>
          </a:xfrm>
        </p:grpSpPr>
        <p:sp>
          <p:nvSpPr>
            <p:cNvPr id="364" name=""/>
            <p:cNvSpPr/>
            <p:nvPr/>
          </p:nvSpPr>
          <p:spPr>
            <a:xfrm>
              <a:off x="62485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722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990720" y="23335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228600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hriftenwa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ahl der Schriftart, Anzahl begrenz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332424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327672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ukturmit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Überschriften, Hervorhebungen, Unterlegun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43131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426564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srich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6691320" y="2354400"/>
            <a:ext cx="1004760" cy="6937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705720" y="3417840"/>
            <a:ext cx="1004760" cy="849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5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77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385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666880" y="1371600"/>
            <a:ext cx="1600200" cy="533520"/>
            <a:chOff x="2666880" y="1371600"/>
            <a:chExt cx="1600200" cy="533520"/>
          </a:xfrm>
        </p:grpSpPr>
        <p:sp>
          <p:nvSpPr>
            <p:cNvPr id="388" name=""/>
            <p:cNvSpPr/>
            <p:nvPr/>
          </p:nvSpPr>
          <p:spPr>
            <a:xfrm>
              <a:off x="274320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6688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419720" y="1371600"/>
            <a:ext cx="1600200" cy="533520"/>
            <a:chOff x="4419720" y="1371600"/>
            <a:chExt cx="1600200" cy="533520"/>
          </a:xfrm>
        </p:grpSpPr>
        <p:sp>
          <p:nvSpPr>
            <p:cNvPr id="391" name=""/>
            <p:cNvSpPr/>
            <p:nvPr/>
          </p:nvSpPr>
          <p:spPr>
            <a:xfrm>
              <a:off x="449604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197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pr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172200" y="1371600"/>
            <a:ext cx="1600200" cy="533520"/>
            <a:chOff x="6172200" y="1371600"/>
            <a:chExt cx="1600200" cy="533520"/>
          </a:xfrm>
        </p:grpSpPr>
        <p:sp>
          <p:nvSpPr>
            <p:cNvPr id="394" name=""/>
            <p:cNvSpPr/>
            <p:nvPr/>
          </p:nvSpPr>
          <p:spPr>
            <a:xfrm>
              <a:off x="62485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722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990720" y="23335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71600" y="228600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urze und einfache Sätze, Fachbegriffe erklä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90720" y="332424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3276720"/>
            <a:ext cx="52578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Übersichtlichkeit, Hervorhebung von Wesentlic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6705720" y="2362320"/>
            <a:ext cx="1004760" cy="585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2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04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412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666880" y="1371600"/>
            <a:ext cx="1600200" cy="533520"/>
            <a:chOff x="2666880" y="1371600"/>
            <a:chExt cx="1600200" cy="533520"/>
          </a:xfrm>
        </p:grpSpPr>
        <p:sp>
          <p:nvSpPr>
            <p:cNvPr id="415" name=""/>
            <p:cNvSpPr/>
            <p:nvPr/>
          </p:nvSpPr>
          <p:spPr>
            <a:xfrm>
              <a:off x="274320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6688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419720" y="1371600"/>
            <a:ext cx="1600200" cy="533520"/>
            <a:chOff x="4419720" y="1371600"/>
            <a:chExt cx="1600200" cy="533520"/>
          </a:xfrm>
        </p:grpSpPr>
        <p:sp>
          <p:nvSpPr>
            <p:cNvPr id="418" name=""/>
            <p:cNvSpPr/>
            <p:nvPr/>
          </p:nvSpPr>
          <p:spPr>
            <a:xfrm>
              <a:off x="449604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197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Spr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172200" y="1371600"/>
            <a:ext cx="1600200" cy="533520"/>
            <a:chOff x="6172200" y="1371600"/>
            <a:chExt cx="1600200" cy="533520"/>
          </a:xfrm>
        </p:grpSpPr>
        <p:sp>
          <p:nvSpPr>
            <p:cNvPr id="421" name=""/>
            <p:cNvSpPr/>
            <p:nvPr/>
          </p:nvSpPr>
          <p:spPr>
            <a:xfrm>
              <a:off x="62485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722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990720" y="23335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2286000"/>
            <a:ext cx="3886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ion (Lin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erkennbar, schlüssig, einheitlich und keine Sackga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629400" y="2514600"/>
            <a:ext cx="1004760" cy="79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7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29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en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813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14400" y="1371600"/>
            <a:ext cx="3505320" cy="533520"/>
            <a:chOff x="914400" y="1371600"/>
            <a:chExt cx="3505320" cy="533520"/>
          </a:xfrm>
        </p:grpSpPr>
        <p:sp>
          <p:nvSpPr>
            <p:cNvPr id="438" name=""/>
            <p:cNvSpPr/>
            <p:nvPr/>
          </p:nvSpPr>
          <p:spPr>
            <a:xfrm>
              <a:off x="990720" y="1447920"/>
              <a:ext cx="342900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14400" y="1371600"/>
              <a:ext cx="341136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ldschirmprä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648320" y="1371600"/>
            <a:ext cx="3504600" cy="533520"/>
            <a:chOff x="4648320" y="1371600"/>
            <a:chExt cx="3504600" cy="533520"/>
          </a:xfrm>
        </p:grpSpPr>
        <p:sp>
          <p:nvSpPr>
            <p:cNvPr id="441" name=""/>
            <p:cNvSpPr/>
            <p:nvPr/>
          </p:nvSpPr>
          <p:spPr>
            <a:xfrm>
              <a:off x="4724280" y="1447920"/>
              <a:ext cx="34286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48320" y="1371600"/>
              <a:ext cx="3411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b-Sei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5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1176480" y="9144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Lernziel 8.4 im Lehrplan für Informationstechn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1447920"/>
            <a:ext cx="7391160" cy="44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T 8.4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en für die Präsentation aufbereit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(ca. 12 Std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 Schüler erarbeiten eine Bildschirmpräsentation und eine Web-Seite. Dabei strukturieren sie die Informationen, bereiten diese auf und fügen sie zusamm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ildschirmpräsenta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erkmale und Vorte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Grundregeln der Gestaltung von Präsenta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jekte und Attribute einer Prä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in Präsentationswerkzeug kennen lern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ine Präsentation er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Web-Seit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ufbau und Merkmale des Intern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jekte und Attribute einer Web-Se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Gestaltungsbeispiele von Web-Seiten analysieren; Gestaltungsgrundsätze entwickel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Web-Seiten er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4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46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2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en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813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914400" y="1371600"/>
            <a:ext cx="3505320" cy="533520"/>
            <a:chOff x="914400" y="1371600"/>
            <a:chExt cx="3505320" cy="533520"/>
          </a:xfrm>
        </p:grpSpPr>
        <p:sp>
          <p:nvSpPr>
            <p:cNvPr id="455" name=""/>
            <p:cNvSpPr/>
            <p:nvPr/>
          </p:nvSpPr>
          <p:spPr>
            <a:xfrm>
              <a:off x="990720" y="1447920"/>
              <a:ext cx="342900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14400" y="1371600"/>
              <a:ext cx="341136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Bildschirmprä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648320" y="1371600"/>
            <a:ext cx="3504600" cy="533520"/>
            <a:chOff x="4648320" y="1371600"/>
            <a:chExt cx="3504600" cy="533520"/>
          </a:xfrm>
        </p:grpSpPr>
        <p:sp>
          <p:nvSpPr>
            <p:cNvPr id="458" name=""/>
            <p:cNvSpPr/>
            <p:nvPr/>
          </p:nvSpPr>
          <p:spPr>
            <a:xfrm>
              <a:off x="4724280" y="1447920"/>
              <a:ext cx="34286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8320" y="1371600"/>
              <a:ext cx="3411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Web-Sei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4252680" cy="32097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486400" y="2362320"/>
            <a:ext cx="25146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7543800" y="2438280"/>
            <a:ext cx="517680" cy="5652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7391520" y="3352680"/>
            <a:ext cx="682560" cy="97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67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685800" y="762120"/>
            <a:ext cx="4343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en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813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914400" y="1371600"/>
            <a:ext cx="3505320" cy="533520"/>
            <a:chOff x="914400" y="1371600"/>
            <a:chExt cx="3505320" cy="533520"/>
          </a:xfrm>
        </p:grpSpPr>
        <p:sp>
          <p:nvSpPr>
            <p:cNvPr id="476" name=""/>
            <p:cNvSpPr/>
            <p:nvPr/>
          </p:nvSpPr>
          <p:spPr>
            <a:xfrm>
              <a:off x="990720" y="1447920"/>
              <a:ext cx="342900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14400" y="1371600"/>
              <a:ext cx="341136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Bildschirmprä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648320" y="1371600"/>
            <a:ext cx="3504600" cy="533520"/>
            <a:chOff x="4648320" y="1371600"/>
            <a:chExt cx="3504600" cy="533520"/>
          </a:xfrm>
        </p:grpSpPr>
        <p:sp>
          <p:nvSpPr>
            <p:cNvPr id="479" name=""/>
            <p:cNvSpPr/>
            <p:nvPr/>
          </p:nvSpPr>
          <p:spPr>
            <a:xfrm>
              <a:off x="4724280" y="1447920"/>
              <a:ext cx="34286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48320" y="1371600"/>
              <a:ext cx="3411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eb-Sei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219320" y="487692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ntpage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955880" y="2057400"/>
            <a:ext cx="5511600" cy="272268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581280" y="4876920"/>
            <a:ext cx="2133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scape 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67280" y="4876920"/>
            <a:ext cx="2133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scape 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1752480" y="5867280"/>
            <a:ext cx="917640" cy="459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6629400" y="5867280"/>
            <a:ext cx="614520" cy="4780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4343400" y="5891040"/>
            <a:ext cx="644400" cy="586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9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91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7" name=""/>
          <p:cNvSpPr/>
          <p:nvPr/>
        </p:nvSpPr>
        <p:spPr>
          <a:xfrm>
            <a:off x="685800" y="762120"/>
            <a:ext cx="533412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isation von Präsent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90720" y="13716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ögliche Reihenfolge der Seiten dargestellt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ganigram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523880" y="22860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lineare Struk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23479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141720" cy="5461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523880" y="341316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hierarchische Struk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43000" y="34750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3880" y="447984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hierarchische Struktur mit Weiterl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43000" y="45417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715000" y="2971800"/>
            <a:ext cx="2313000" cy="14446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5638680" y="5105520"/>
            <a:ext cx="2313000" cy="1444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9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11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685800" y="762120"/>
            <a:ext cx="5486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ine Präsentation selbst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1371600"/>
            <a:ext cx="2286000" cy="533520"/>
            <a:chOff x="914400" y="1371600"/>
            <a:chExt cx="2286000" cy="533520"/>
          </a:xfrm>
        </p:grpSpPr>
        <p:sp>
          <p:nvSpPr>
            <p:cNvPr id="519" name=""/>
            <p:cNvSpPr/>
            <p:nvPr/>
          </p:nvSpPr>
          <p:spPr>
            <a:xfrm>
              <a:off x="9907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ichtlini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429000" y="1371600"/>
            <a:ext cx="2286000" cy="533520"/>
            <a:chOff x="3429000" y="1371600"/>
            <a:chExt cx="2286000" cy="533520"/>
          </a:xfrm>
        </p:grpSpPr>
        <p:sp>
          <p:nvSpPr>
            <p:cNvPr id="522" name=""/>
            <p:cNvSpPr/>
            <p:nvPr/>
          </p:nvSpPr>
          <p:spPr>
            <a:xfrm>
              <a:off x="35053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290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the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5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27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3" name=""/>
          <p:cNvSpPr/>
          <p:nvPr/>
        </p:nvSpPr>
        <p:spPr>
          <a:xfrm>
            <a:off x="1338120" y="21337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beschaffung und Erstellung zu H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57240" y="219564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38120" y="272736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ell Zusammenarbeit in kleinen Gru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57240" y="27892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38120" y="333684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e Themen oder aus einer Vorschlagsl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57240" y="33987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38120" y="39466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stellung eines Organigramms und gliederungsartige Beschreibung der Inhalte der einzelnen S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57240" y="400860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38120" y="48610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ämierung der besten Arbeit(en) durch Schülerj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57240" y="492300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914400" y="1371600"/>
            <a:ext cx="2286000" cy="533520"/>
            <a:chOff x="914400" y="1371600"/>
            <a:chExt cx="2286000" cy="533520"/>
          </a:xfrm>
        </p:grpSpPr>
        <p:sp>
          <p:nvSpPr>
            <p:cNvPr id="544" name=""/>
            <p:cNvSpPr/>
            <p:nvPr/>
          </p:nvSpPr>
          <p:spPr>
            <a:xfrm>
              <a:off x="9907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144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ichtlini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429000" y="1371600"/>
            <a:ext cx="2286000" cy="533520"/>
            <a:chOff x="3429000" y="1371600"/>
            <a:chExt cx="2286000" cy="533520"/>
          </a:xfrm>
        </p:grpSpPr>
        <p:sp>
          <p:nvSpPr>
            <p:cNvPr id="547" name=""/>
            <p:cNvSpPr/>
            <p:nvPr/>
          </p:nvSpPr>
          <p:spPr>
            <a:xfrm>
              <a:off x="35053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290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Beispielthe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685800" y="762120"/>
            <a:ext cx="5486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ine Präsentation selbst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1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53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9" name=""/>
          <p:cNvSpPr/>
          <p:nvPr/>
        </p:nvSpPr>
        <p:spPr>
          <a:xfrm>
            <a:off x="1338120" y="21337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in Hob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57240" y="219564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38120" y="272736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ch stelle mich v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57240" y="27892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338120" y="333684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e flicke ich einen Fahrradreifen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57240" y="33987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38120" y="39466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ine kleine Geschichte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57240" y="400860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38120" y="45720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er Wüns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57240" y="46339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914400" y="1371600"/>
            <a:ext cx="2286000" cy="533520"/>
            <a:chOff x="914400" y="1371600"/>
            <a:chExt cx="2286000" cy="533520"/>
          </a:xfrm>
        </p:grpSpPr>
        <p:sp>
          <p:nvSpPr>
            <p:cNvPr id="570" name=""/>
            <p:cNvSpPr/>
            <p:nvPr/>
          </p:nvSpPr>
          <p:spPr>
            <a:xfrm>
              <a:off x="9907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144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"/>
                </a:rPr>
                <a:t>Richtlini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429000" y="1371600"/>
            <a:ext cx="2286000" cy="533520"/>
            <a:chOff x="3429000" y="1371600"/>
            <a:chExt cx="2286000" cy="533520"/>
          </a:xfrm>
        </p:grpSpPr>
        <p:sp>
          <p:nvSpPr>
            <p:cNvPr id="573" name=""/>
            <p:cNvSpPr/>
            <p:nvPr/>
          </p:nvSpPr>
          <p:spPr>
            <a:xfrm>
              <a:off x="3505320" y="144792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29000" y="1371600"/>
              <a:ext cx="2209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Beispielthe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1371600" y="51814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........................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0720" y="52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762120"/>
            <a:ext cx="54864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ine Präsentation selbst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9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81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8458200" cy="60958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4495680" y="6248520"/>
            <a:ext cx="37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Hausladen, Mai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4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6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838080" y="9144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setzung des Themas im Unterr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523880"/>
            <a:ext cx="2743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rüber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133720"/>
            <a:ext cx="40384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743200"/>
            <a:ext cx="3886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eln für die 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3352680"/>
            <a:ext cx="373356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en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3962520"/>
            <a:ext cx="502920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isation von Präsent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4572000"/>
            <a:ext cx="510516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ine Präsentation selbst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600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2209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2819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4290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40384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46483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6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88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353376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9144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chlag einer Stundenvertei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stdvert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81680" cy="4890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0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685800" y="762120"/>
            <a:ext cx="327672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rüberl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447920"/>
            <a:ext cx="6858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Art der Präsentation soll gewählt werd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Dauer und der Umfang der Präsentation müssen im Vorfeld genau überleg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 welchem Werkzeug soll die Präsentation erstellt werd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Objekte eignen sich für die Präsentation? Technische oder auch qualitative Gründe schließen manchmal die Wahl eines Objektes a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stimmte Regeln sollten bei der Erstellung der Präsentation beachte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49544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195264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271476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349092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45576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99cc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2136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938320" y="2266920"/>
            <a:ext cx="1785960" cy="2838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257800" y="3048120"/>
            <a:ext cx="3505320" cy="9046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127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130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133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38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146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149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152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2136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938320" y="2286000"/>
            <a:ext cx="1785960" cy="2487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486400" y="2590920"/>
            <a:ext cx="304812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60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168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171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174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312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943360" y="2286000"/>
            <a:ext cx="1785960" cy="663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181480" y="2286000"/>
            <a:ext cx="3429000" cy="158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0" name=""/>
            <p:cNvSpPr/>
            <p:nvPr/>
          </p:nvSpPr>
          <p:spPr>
            <a:xfrm>
              <a:off x="0" y="762120"/>
              <a:ext cx="685800" cy="609588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82" name=""/>
              <p:cNvSpPr/>
              <p:nvPr/>
            </p:nvSpPr>
            <p:spPr>
              <a:xfrm>
                <a:off x="685800" y="30492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Präsentation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5800" y="0"/>
                <a:ext cx="8458200" cy="304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T-Multiplikatorentagung 13. – 15. Mai 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304920"/>
                <a:ext cx="685800" cy="457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0"/>
                <a:ext cx="685800" cy="304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647712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© P.H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0"/>
                <a:ext cx="6858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I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685800" y="762120"/>
            <a:ext cx="449568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e ein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14400" y="1371600"/>
            <a:ext cx="1600200" cy="533520"/>
            <a:chOff x="914400" y="1371600"/>
            <a:chExt cx="1600200" cy="533520"/>
          </a:xfrm>
        </p:grpSpPr>
        <p:sp>
          <p:nvSpPr>
            <p:cNvPr id="190" name=""/>
            <p:cNvSpPr/>
            <p:nvPr/>
          </p:nvSpPr>
          <p:spPr>
            <a:xfrm>
              <a:off x="990720" y="144792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440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bje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048120" y="1371600"/>
            <a:ext cx="1600200" cy="533520"/>
            <a:chOff x="3048120" y="1371600"/>
            <a:chExt cx="1600200" cy="533520"/>
          </a:xfrm>
        </p:grpSpPr>
        <p:sp>
          <p:nvSpPr>
            <p:cNvPr id="193" name=""/>
            <p:cNvSpPr/>
            <p:nvPr/>
          </p:nvSpPr>
          <p:spPr>
            <a:xfrm>
              <a:off x="31240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81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019920" y="1371600"/>
            <a:ext cx="1600200" cy="533520"/>
            <a:chOff x="6019920" y="1371600"/>
            <a:chExt cx="1600200" cy="533520"/>
          </a:xfrm>
        </p:grpSpPr>
        <p:sp>
          <p:nvSpPr>
            <p:cNvPr id="196" name=""/>
            <p:cNvSpPr/>
            <p:nvPr/>
          </p:nvSpPr>
          <p:spPr>
            <a:xfrm>
              <a:off x="6095880" y="1447920"/>
              <a:ext cx="1524240" cy="4572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19920" y="1371600"/>
              <a:ext cx="15238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ispi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1531800" cy="312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938320" y="2286000"/>
            <a:ext cx="1785960" cy="1376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410080" y="2286000"/>
            <a:ext cx="2667240" cy="2013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3T09:54:20Z</dcterms:created>
  <dc:creator>Peter Hausladen</dc:creator>
  <dc:description/>
  <dc:language>en-US</dc:language>
  <cp:lastModifiedBy>Peter Hausladen</cp:lastModifiedBy>
  <dcterms:modified xsi:type="dcterms:W3CDTF">2002-05-11T08:23:58Z</dcterms:modified>
  <cp:revision>21</cp:revision>
  <dc:subject/>
  <dc:title>PowerPoint-Präsentation</dc:title>
</cp:coreProperties>
</file>