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A7E8-F201-4B99-B16A-B7161D2D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77E5-3E40-49A6-9173-6D078A0E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FE17-67DA-484F-A005-87C53626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BAC6-9E83-450A-BCCE-20D9388A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DB5A-1F2C-41CE-8CF6-F2DEEB47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7831-35DB-4468-9029-C342BEF9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D465-D178-4845-93E0-DD8F7556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662B-D38A-4E4A-966A-9CE45219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CC76-3940-4945-87DE-89D7C2C1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0E7-E182-486C-9BE0-E3E6E485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3F08-ABCF-4F99-96CF-B0B4436D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831B-B9FB-4811-8CF9-1A0BE3CE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81A3-287C-4AA9-92A3-18C152113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4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48672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3376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2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04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0" name=""/>
          <p:cNvSpPr/>
          <p:nvPr/>
        </p:nvSpPr>
        <p:spPr>
          <a:xfrm>
            <a:off x="685800" y="762120"/>
            <a:ext cx="44956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e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212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048120" y="1371600"/>
            <a:ext cx="1600200" cy="533520"/>
            <a:chOff x="3048120" y="1371600"/>
            <a:chExt cx="1600200" cy="533520"/>
          </a:xfrm>
        </p:grpSpPr>
        <p:sp>
          <p:nvSpPr>
            <p:cNvPr id="215" name=""/>
            <p:cNvSpPr/>
            <p:nvPr/>
          </p:nvSpPr>
          <p:spPr>
            <a:xfrm>
              <a:off x="31240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481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019920" y="1371600"/>
            <a:ext cx="1600200" cy="533520"/>
            <a:chOff x="6019920" y="1371600"/>
            <a:chExt cx="1600200" cy="533520"/>
          </a:xfrm>
        </p:grpSpPr>
        <p:sp>
          <p:nvSpPr>
            <p:cNvPr id="218" name=""/>
            <p:cNvSpPr/>
            <p:nvPr/>
          </p:nvSpPr>
          <p:spPr>
            <a:xfrm>
              <a:off x="60958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199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isp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1531800" cy="2440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938320" y="2286000"/>
            <a:ext cx="1785960" cy="1727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5181480" y="2906640"/>
            <a:ext cx="3505320" cy="979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4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26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"/>
          <p:cNvSpPr/>
          <p:nvPr/>
        </p:nvSpPr>
        <p:spPr>
          <a:xfrm>
            <a:off x="685800" y="762120"/>
            <a:ext cx="44956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e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234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048120" y="1371600"/>
            <a:ext cx="1600200" cy="533520"/>
            <a:chOff x="3048120" y="1371600"/>
            <a:chExt cx="1600200" cy="533520"/>
          </a:xfrm>
        </p:grpSpPr>
        <p:sp>
          <p:nvSpPr>
            <p:cNvPr id="237" name=""/>
            <p:cNvSpPr/>
            <p:nvPr/>
          </p:nvSpPr>
          <p:spPr>
            <a:xfrm>
              <a:off x="31240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81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019920" y="1371600"/>
            <a:ext cx="1600200" cy="533520"/>
            <a:chOff x="6019920" y="1371600"/>
            <a:chExt cx="1600200" cy="533520"/>
          </a:xfrm>
        </p:grpSpPr>
        <p:sp>
          <p:nvSpPr>
            <p:cNvPr id="240" name=""/>
            <p:cNvSpPr/>
            <p:nvPr/>
          </p:nvSpPr>
          <p:spPr>
            <a:xfrm>
              <a:off x="60958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199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isp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1531800" cy="312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924280" y="2286000"/>
            <a:ext cx="1785960" cy="13762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486400" y="2286000"/>
            <a:ext cx="266688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6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48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4" name=""/>
          <p:cNvSpPr/>
          <p:nvPr/>
        </p:nvSpPr>
        <p:spPr>
          <a:xfrm>
            <a:off x="685800" y="762120"/>
            <a:ext cx="44956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e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256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048120" y="1371600"/>
            <a:ext cx="1600200" cy="533520"/>
            <a:chOff x="3048120" y="1371600"/>
            <a:chExt cx="1600200" cy="533520"/>
          </a:xfrm>
        </p:grpSpPr>
        <p:sp>
          <p:nvSpPr>
            <p:cNvPr id="259" name=""/>
            <p:cNvSpPr/>
            <p:nvPr/>
          </p:nvSpPr>
          <p:spPr>
            <a:xfrm>
              <a:off x="31240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481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019920" y="1371600"/>
            <a:ext cx="1600200" cy="533520"/>
            <a:chOff x="6019920" y="1371600"/>
            <a:chExt cx="1600200" cy="533520"/>
          </a:xfrm>
        </p:grpSpPr>
        <p:sp>
          <p:nvSpPr>
            <p:cNvPr id="262" name=""/>
            <p:cNvSpPr/>
            <p:nvPr/>
          </p:nvSpPr>
          <p:spPr>
            <a:xfrm>
              <a:off x="60958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199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isp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1531800" cy="3128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2924280" y="2286000"/>
            <a:ext cx="1785960" cy="20876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5257800" y="2666880"/>
            <a:ext cx="3200400" cy="1173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8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70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"/>
          <p:cNvSpPr/>
          <p:nvPr/>
        </p:nvSpPr>
        <p:spPr>
          <a:xfrm>
            <a:off x="685800" y="762120"/>
            <a:ext cx="44956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e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278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048120" y="1371600"/>
            <a:ext cx="1600200" cy="533520"/>
            <a:chOff x="3048120" y="1371600"/>
            <a:chExt cx="1600200" cy="533520"/>
          </a:xfrm>
        </p:grpSpPr>
        <p:sp>
          <p:nvSpPr>
            <p:cNvPr id="281" name=""/>
            <p:cNvSpPr/>
            <p:nvPr/>
          </p:nvSpPr>
          <p:spPr>
            <a:xfrm>
              <a:off x="31240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481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019920" y="1371600"/>
            <a:ext cx="1600200" cy="533520"/>
            <a:chOff x="6019920" y="1371600"/>
            <a:chExt cx="1600200" cy="533520"/>
          </a:xfrm>
        </p:grpSpPr>
        <p:sp>
          <p:nvSpPr>
            <p:cNvPr id="284" name=""/>
            <p:cNvSpPr/>
            <p:nvPr/>
          </p:nvSpPr>
          <p:spPr>
            <a:xfrm>
              <a:off x="60958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199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isp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1531800" cy="24400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2924280" y="2286000"/>
            <a:ext cx="1785960" cy="13762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5867280" y="2743200"/>
            <a:ext cx="1828800" cy="1230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0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92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"/>
          <p:cNvSpPr/>
          <p:nvPr/>
        </p:nvSpPr>
        <p:spPr>
          <a:xfrm>
            <a:off x="685800" y="762120"/>
            <a:ext cx="4343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eln für die Gest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300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666880" y="1371600"/>
            <a:ext cx="1600200" cy="533520"/>
            <a:chOff x="2666880" y="1371600"/>
            <a:chExt cx="1600200" cy="533520"/>
          </a:xfrm>
        </p:grpSpPr>
        <p:sp>
          <p:nvSpPr>
            <p:cNvPr id="303" name=""/>
            <p:cNvSpPr/>
            <p:nvPr/>
          </p:nvSpPr>
          <p:spPr>
            <a:xfrm>
              <a:off x="274320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6688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419720" y="1371600"/>
            <a:ext cx="1600200" cy="533520"/>
            <a:chOff x="4419720" y="1371600"/>
            <a:chExt cx="1600200" cy="533520"/>
          </a:xfrm>
        </p:grpSpPr>
        <p:sp>
          <p:nvSpPr>
            <p:cNvPr id="306" name=""/>
            <p:cNvSpPr/>
            <p:nvPr/>
          </p:nvSpPr>
          <p:spPr>
            <a:xfrm>
              <a:off x="449604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197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pr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172200" y="1371600"/>
            <a:ext cx="1600200" cy="533520"/>
            <a:chOff x="6172200" y="1371600"/>
            <a:chExt cx="1600200" cy="533520"/>
          </a:xfrm>
        </p:grpSpPr>
        <p:sp>
          <p:nvSpPr>
            <p:cNvPr id="309" name=""/>
            <p:cNvSpPr/>
            <p:nvPr/>
          </p:nvSpPr>
          <p:spPr>
            <a:xfrm>
              <a:off x="62485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722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avig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2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14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" name=""/>
          <p:cNvSpPr/>
          <p:nvPr/>
        </p:nvSpPr>
        <p:spPr>
          <a:xfrm>
            <a:off x="685800" y="762120"/>
            <a:ext cx="4343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eln für die Gest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322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2666880" y="1371600"/>
            <a:ext cx="1600200" cy="533520"/>
            <a:chOff x="2666880" y="1371600"/>
            <a:chExt cx="1600200" cy="533520"/>
          </a:xfrm>
        </p:grpSpPr>
        <p:sp>
          <p:nvSpPr>
            <p:cNvPr id="325" name=""/>
            <p:cNvSpPr/>
            <p:nvPr/>
          </p:nvSpPr>
          <p:spPr>
            <a:xfrm>
              <a:off x="274320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6688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419720" y="1371600"/>
            <a:ext cx="1600200" cy="533520"/>
            <a:chOff x="4419720" y="1371600"/>
            <a:chExt cx="1600200" cy="533520"/>
          </a:xfrm>
        </p:grpSpPr>
        <p:sp>
          <p:nvSpPr>
            <p:cNvPr id="328" name=""/>
            <p:cNvSpPr/>
            <p:nvPr/>
          </p:nvSpPr>
          <p:spPr>
            <a:xfrm>
              <a:off x="449604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197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Spr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172200" y="1371600"/>
            <a:ext cx="1600200" cy="533520"/>
            <a:chOff x="6172200" y="1371600"/>
            <a:chExt cx="1600200" cy="533520"/>
          </a:xfrm>
        </p:grpSpPr>
        <p:sp>
          <p:nvSpPr>
            <p:cNvPr id="331" name=""/>
            <p:cNvSpPr/>
            <p:nvPr/>
          </p:nvSpPr>
          <p:spPr>
            <a:xfrm>
              <a:off x="62485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722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Navig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705720" y="2286000"/>
            <a:ext cx="1004760" cy="12682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6705720" y="3657600"/>
            <a:ext cx="1004760" cy="6350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6705720" y="5156280"/>
            <a:ext cx="1004760" cy="6350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990720" y="233352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2286000"/>
            <a:ext cx="5257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iteneinteilung (Anordnung der Objek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ierung der Objekte zu einem einheitlichen Bi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90720" y="347652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71600" y="3429000"/>
            <a:ext cx="5257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ordnung der Ob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usammengehörigkeit von Objek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431316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371600" y="4265640"/>
            <a:ext cx="5257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af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uflockerung, Erklä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90720" y="515160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71600" y="5103720"/>
            <a:ext cx="5257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r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ahl, Bedeutung, Anz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45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47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3" name=""/>
          <p:cNvSpPr/>
          <p:nvPr/>
        </p:nvSpPr>
        <p:spPr>
          <a:xfrm>
            <a:off x="685800" y="762120"/>
            <a:ext cx="4343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eln für die Gest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355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666880" y="1371600"/>
            <a:ext cx="1600200" cy="533520"/>
            <a:chOff x="2666880" y="1371600"/>
            <a:chExt cx="1600200" cy="533520"/>
          </a:xfrm>
        </p:grpSpPr>
        <p:sp>
          <p:nvSpPr>
            <p:cNvPr id="358" name=""/>
            <p:cNvSpPr/>
            <p:nvPr/>
          </p:nvSpPr>
          <p:spPr>
            <a:xfrm>
              <a:off x="274320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6688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419720" y="1371600"/>
            <a:ext cx="1600200" cy="533520"/>
            <a:chOff x="4419720" y="1371600"/>
            <a:chExt cx="1600200" cy="533520"/>
          </a:xfrm>
        </p:grpSpPr>
        <p:sp>
          <p:nvSpPr>
            <p:cNvPr id="361" name=""/>
            <p:cNvSpPr/>
            <p:nvPr/>
          </p:nvSpPr>
          <p:spPr>
            <a:xfrm>
              <a:off x="449604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4197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Spr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172200" y="1371600"/>
            <a:ext cx="1600200" cy="533520"/>
            <a:chOff x="6172200" y="1371600"/>
            <a:chExt cx="1600200" cy="533520"/>
          </a:xfrm>
        </p:grpSpPr>
        <p:sp>
          <p:nvSpPr>
            <p:cNvPr id="364" name=""/>
            <p:cNvSpPr/>
            <p:nvPr/>
          </p:nvSpPr>
          <p:spPr>
            <a:xfrm>
              <a:off x="62485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722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Navig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990720" y="233352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71600" y="2286000"/>
            <a:ext cx="5257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hriftenwa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ahl der Schriftart, Anzahl begrenz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90720" y="332424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3276720"/>
            <a:ext cx="5257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rukturmit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Überschriften, Hervorhebungen, Unterlegung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90720" y="431316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71600" y="426564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srich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6691320" y="2354400"/>
            <a:ext cx="1004760" cy="6937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6705720" y="3417840"/>
            <a:ext cx="1004760" cy="849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75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77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3" name=""/>
          <p:cNvSpPr/>
          <p:nvPr/>
        </p:nvSpPr>
        <p:spPr>
          <a:xfrm>
            <a:off x="685800" y="762120"/>
            <a:ext cx="4343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eln für die Gest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385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666880" y="1371600"/>
            <a:ext cx="1600200" cy="533520"/>
            <a:chOff x="2666880" y="1371600"/>
            <a:chExt cx="1600200" cy="533520"/>
          </a:xfrm>
        </p:grpSpPr>
        <p:sp>
          <p:nvSpPr>
            <p:cNvPr id="388" name=""/>
            <p:cNvSpPr/>
            <p:nvPr/>
          </p:nvSpPr>
          <p:spPr>
            <a:xfrm>
              <a:off x="274320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6688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419720" y="1371600"/>
            <a:ext cx="1600200" cy="533520"/>
            <a:chOff x="4419720" y="1371600"/>
            <a:chExt cx="1600200" cy="533520"/>
          </a:xfrm>
        </p:grpSpPr>
        <p:sp>
          <p:nvSpPr>
            <p:cNvPr id="391" name=""/>
            <p:cNvSpPr/>
            <p:nvPr/>
          </p:nvSpPr>
          <p:spPr>
            <a:xfrm>
              <a:off x="449604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197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pr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6172200" y="1371600"/>
            <a:ext cx="1600200" cy="533520"/>
            <a:chOff x="6172200" y="1371600"/>
            <a:chExt cx="1600200" cy="533520"/>
          </a:xfrm>
        </p:grpSpPr>
        <p:sp>
          <p:nvSpPr>
            <p:cNvPr id="394" name=""/>
            <p:cNvSpPr/>
            <p:nvPr/>
          </p:nvSpPr>
          <p:spPr>
            <a:xfrm>
              <a:off x="62485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1722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Navig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990720" y="233352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371600" y="2286000"/>
            <a:ext cx="5257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mu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urze und einfache Sätze, Fachbegriffe erklä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90720" y="332424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71600" y="3276720"/>
            <a:ext cx="5257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Übersichtlichkeit, Hervorhebung von Wesentlic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6705720" y="2362320"/>
            <a:ext cx="1004760" cy="585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2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04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"/>
          <p:cNvSpPr/>
          <p:nvPr/>
        </p:nvSpPr>
        <p:spPr>
          <a:xfrm>
            <a:off x="685800" y="762120"/>
            <a:ext cx="4343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eln für die Gest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412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2666880" y="1371600"/>
            <a:ext cx="1600200" cy="533520"/>
            <a:chOff x="2666880" y="1371600"/>
            <a:chExt cx="1600200" cy="533520"/>
          </a:xfrm>
        </p:grpSpPr>
        <p:sp>
          <p:nvSpPr>
            <p:cNvPr id="415" name=""/>
            <p:cNvSpPr/>
            <p:nvPr/>
          </p:nvSpPr>
          <p:spPr>
            <a:xfrm>
              <a:off x="274320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6688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419720" y="1371600"/>
            <a:ext cx="1600200" cy="533520"/>
            <a:chOff x="4419720" y="1371600"/>
            <a:chExt cx="1600200" cy="533520"/>
          </a:xfrm>
        </p:grpSpPr>
        <p:sp>
          <p:nvSpPr>
            <p:cNvPr id="418" name=""/>
            <p:cNvSpPr/>
            <p:nvPr/>
          </p:nvSpPr>
          <p:spPr>
            <a:xfrm>
              <a:off x="449604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197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Spr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172200" y="1371600"/>
            <a:ext cx="1600200" cy="533520"/>
            <a:chOff x="6172200" y="1371600"/>
            <a:chExt cx="1600200" cy="533520"/>
          </a:xfrm>
        </p:grpSpPr>
        <p:sp>
          <p:nvSpPr>
            <p:cNvPr id="421" name=""/>
            <p:cNvSpPr/>
            <p:nvPr/>
          </p:nvSpPr>
          <p:spPr>
            <a:xfrm>
              <a:off x="62485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1722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Navig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990720" y="233352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71600" y="2286000"/>
            <a:ext cx="38862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ion (Lin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utlich erkennbar, schlüssig, einheitlich und keine Sackga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6629400" y="2514600"/>
            <a:ext cx="1004760" cy="79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7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29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"/>
          <p:cNvSpPr/>
          <p:nvPr/>
        </p:nvSpPr>
        <p:spPr>
          <a:xfrm>
            <a:off x="685800" y="762120"/>
            <a:ext cx="4343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en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08132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914400" y="1371600"/>
            <a:ext cx="3505320" cy="533520"/>
            <a:chOff x="914400" y="1371600"/>
            <a:chExt cx="3505320" cy="533520"/>
          </a:xfrm>
        </p:grpSpPr>
        <p:sp>
          <p:nvSpPr>
            <p:cNvPr id="438" name=""/>
            <p:cNvSpPr/>
            <p:nvPr/>
          </p:nvSpPr>
          <p:spPr>
            <a:xfrm>
              <a:off x="990720" y="1447920"/>
              <a:ext cx="342900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914400" y="1371600"/>
              <a:ext cx="341136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ldschirmpräs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4648320" y="1371600"/>
            <a:ext cx="3504600" cy="533520"/>
            <a:chOff x="4648320" y="1371600"/>
            <a:chExt cx="3504600" cy="533520"/>
          </a:xfrm>
        </p:grpSpPr>
        <p:sp>
          <p:nvSpPr>
            <p:cNvPr id="441" name=""/>
            <p:cNvSpPr/>
            <p:nvPr/>
          </p:nvSpPr>
          <p:spPr>
            <a:xfrm>
              <a:off x="4724280" y="1447920"/>
              <a:ext cx="34286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48320" y="1371600"/>
              <a:ext cx="341100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eb-Sei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5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1176480" y="91440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Lernziel 8.4 im Lehrplan für Informationstechno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1447920"/>
            <a:ext cx="7391160" cy="44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IT 8.4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en für die Präsentation aufbereit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(ca. 12 Std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ie Schüler erarbeiten eine Bildschirmpräsentation und eine Web-Seite. Dabei strukturieren sie die Informationen, bereiten diese auf und fügen sie zusamm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Bildschirmpräsentatio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erkmale und Vorte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Grundregeln der Gestaltung von Präsentatio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bjekte und Attribute einer Prä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in Präsentationswerkzeug kennen lern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ine Präsentation erste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Web-Seit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ufbau und Merkmale des Intern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bjekte und Attribute einer Web-Se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Gestaltungsbeispiele von Web-Seiten analysieren; Gestaltungsgrundsätze entwickel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Web-Seiten erste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44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46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2" name=""/>
          <p:cNvSpPr/>
          <p:nvPr/>
        </p:nvSpPr>
        <p:spPr>
          <a:xfrm>
            <a:off x="685800" y="762120"/>
            <a:ext cx="4343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en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08132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914400" y="1371600"/>
            <a:ext cx="3505320" cy="533520"/>
            <a:chOff x="914400" y="1371600"/>
            <a:chExt cx="3505320" cy="533520"/>
          </a:xfrm>
        </p:grpSpPr>
        <p:sp>
          <p:nvSpPr>
            <p:cNvPr id="455" name=""/>
            <p:cNvSpPr/>
            <p:nvPr/>
          </p:nvSpPr>
          <p:spPr>
            <a:xfrm>
              <a:off x="990720" y="1447920"/>
              <a:ext cx="342900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14400" y="1371600"/>
              <a:ext cx="341136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Bildschirmpräs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4648320" y="1371600"/>
            <a:ext cx="3504600" cy="533520"/>
            <a:chOff x="4648320" y="1371600"/>
            <a:chExt cx="3504600" cy="533520"/>
          </a:xfrm>
        </p:grpSpPr>
        <p:sp>
          <p:nvSpPr>
            <p:cNvPr id="458" name=""/>
            <p:cNvSpPr/>
            <p:nvPr/>
          </p:nvSpPr>
          <p:spPr>
            <a:xfrm>
              <a:off x="4724280" y="1447920"/>
              <a:ext cx="34286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48320" y="1371600"/>
              <a:ext cx="341100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Web-Sei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4252680" cy="32097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5486400" y="2362320"/>
            <a:ext cx="25146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7543800" y="2438280"/>
            <a:ext cx="517680" cy="56520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7391520" y="3352680"/>
            <a:ext cx="682560" cy="97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67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685800" y="762120"/>
            <a:ext cx="4343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en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8132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914400" y="1371600"/>
            <a:ext cx="3505320" cy="533520"/>
            <a:chOff x="914400" y="1371600"/>
            <a:chExt cx="3505320" cy="533520"/>
          </a:xfrm>
        </p:grpSpPr>
        <p:sp>
          <p:nvSpPr>
            <p:cNvPr id="476" name=""/>
            <p:cNvSpPr/>
            <p:nvPr/>
          </p:nvSpPr>
          <p:spPr>
            <a:xfrm>
              <a:off x="990720" y="1447920"/>
              <a:ext cx="342900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14400" y="1371600"/>
              <a:ext cx="341136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Bildschirmpräs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648320" y="1371600"/>
            <a:ext cx="3504600" cy="533520"/>
            <a:chOff x="4648320" y="1371600"/>
            <a:chExt cx="3504600" cy="533520"/>
          </a:xfrm>
        </p:grpSpPr>
        <p:sp>
          <p:nvSpPr>
            <p:cNvPr id="479" name=""/>
            <p:cNvSpPr/>
            <p:nvPr/>
          </p:nvSpPr>
          <p:spPr>
            <a:xfrm>
              <a:off x="4724280" y="1447920"/>
              <a:ext cx="34286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48320" y="1371600"/>
              <a:ext cx="341100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eb-Sei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219320" y="487692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ntpage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955880" y="2057400"/>
            <a:ext cx="5511600" cy="272268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581280" y="4876920"/>
            <a:ext cx="2133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scape 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67280" y="4876920"/>
            <a:ext cx="2133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scape 6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1752480" y="5867280"/>
            <a:ext cx="917640" cy="4590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6629400" y="5867280"/>
            <a:ext cx="614520" cy="47808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4343400" y="5891040"/>
            <a:ext cx="644400" cy="586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9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91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7" name=""/>
          <p:cNvSpPr/>
          <p:nvPr/>
        </p:nvSpPr>
        <p:spPr>
          <a:xfrm>
            <a:off x="685800" y="762120"/>
            <a:ext cx="533412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ganisation von Präsent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990720" y="137160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ögliche Reihenfolge der Seiten dargestellt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ganigram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523880" y="22860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 lineare Struk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43000" y="234792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3141720" cy="5461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523880" y="341316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 hierarchische Struk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143000" y="34750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23880" y="447984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 hierarchische Struktur mit Weiterl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43000" y="454176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5715000" y="2971800"/>
            <a:ext cx="2313000" cy="144468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5638680" y="5105520"/>
            <a:ext cx="2313000" cy="1444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9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11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7" name=""/>
          <p:cNvSpPr/>
          <p:nvPr/>
        </p:nvSpPr>
        <p:spPr>
          <a:xfrm>
            <a:off x="685800" y="762120"/>
            <a:ext cx="5486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ine Präsentation selbst 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14400" y="1371600"/>
            <a:ext cx="2286000" cy="533520"/>
            <a:chOff x="914400" y="1371600"/>
            <a:chExt cx="2286000" cy="533520"/>
          </a:xfrm>
        </p:grpSpPr>
        <p:sp>
          <p:nvSpPr>
            <p:cNvPr id="519" name=""/>
            <p:cNvSpPr/>
            <p:nvPr/>
          </p:nvSpPr>
          <p:spPr>
            <a:xfrm>
              <a:off x="990720" y="144792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14400" y="137160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ichtlini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3429000" y="1371600"/>
            <a:ext cx="2286000" cy="533520"/>
            <a:chOff x="3429000" y="1371600"/>
            <a:chExt cx="2286000" cy="533520"/>
          </a:xfrm>
        </p:grpSpPr>
        <p:sp>
          <p:nvSpPr>
            <p:cNvPr id="522" name=""/>
            <p:cNvSpPr/>
            <p:nvPr/>
          </p:nvSpPr>
          <p:spPr>
            <a:xfrm>
              <a:off x="3505320" y="144792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29000" y="137160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ispielthem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5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27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3" name=""/>
          <p:cNvSpPr/>
          <p:nvPr/>
        </p:nvSpPr>
        <p:spPr>
          <a:xfrm>
            <a:off x="1338120" y="21337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beschaffung und Erstellung zu H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57240" y="219564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38120" y="272736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ell Zusammenarbeit in kleinen Grup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57240" y="27892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338120" y="333684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e Themen oder aus einer Vorschlagsli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57240" y="339876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338120" y="394668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stellung eines Organigramms und gliederungsartige Beschreibung der Inhalte der einzelnen S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957240" y="400860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338120" y="486108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ämierung der besten Arbeit(en) durch Schülerj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57240" y="492300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914400" y="1371600"/>
            <a:ext cx="2286000" cy="533520"/>
            <a:chOff x="914400" y="1371600"/>
            <a:chExt cx="2286000" cy="533520"/>
          </a:xfrm>
        </p:grpSpPr>
        <p:sp>
          <p:nvSpPr>
            <p:cNvPr id="544" name=""/>
            <p:cNvSpPr/>
            <p:nvPr/>
          </p:nvSpPr>
          <p:spPr>
            <a:xfrm>
              <a:off x="990720" y="144792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14400" y="137160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Richtlini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429000" y="1371600"/>
            <a:ext cx="2286000" cy="533520"/>
            <a:chOff x="3429000" y="1371600"/>
            <a:chExt cx="2286000" cy="533520"/>
          </a:xfrm>
        </p:grpSpPr>
        <p:sp>
          <p:nvSpPr>
            <p:cNvPr id="547" name=""/>
            <p:cNvSpPr/>
            <p:nvPr/>
          </p:nvSpPr>
          <p:spPr>
            <a:xfrm>
              <a:off x="3505320" y="144792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429000" y="137160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Beispielthem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685800" y="762120"/>
            <a:ext cx="5486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ine Präsentation selbst 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1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53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9" name=""/>
          <p:cNvSpPr/>
          <p:nvPr/>
        </p:nvSpPr>
        <p:spPr>
          <a:xfrm>
            <a:off x="1338120" y="21337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in Hobb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57240" y="219564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338120" y="272736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ch stelle mich v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957240" y="27892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338120" y="333684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ie flicke ich einen Fahrradreifen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57240" y="339876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38120" y="394668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ine kleine Geschichte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957240" y="400860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338120" y="45720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ier Wüns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957240" y="463392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914400" y="1371600"/>
            <a:ext cx="2286000" cy="533520"/>
            <a:chOff x="914400" y="1371600"/>
            <a:chExt cx="2286000" cy="533520"/>
          </a:xfrm>
        </p:grpSpPr>
        <p:sp>
          <p:nvSpPr>
            <p:cNvPr id="570" name=""/>
            <p:cNvSpPr/>
            <p:nvPr/>
          </p:nvSpPr>
          <p:spPr>
            <a:xfrm>
              <a:off x="990720" y="144792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14400" y="137160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Richtlini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3429000" y="1371600"/>
            <a:ext cx="2286000" cy="533520"/>
            <a:chOff x="3429000" y="1371600"/>
            <a:chExt cx="2286000" cy="533520"/>
          </a:xfrm>
        </p:grpSpPr>
        <p:sp>
          <p:nvSpPr>
            <p:cNvPr id="573" name=""/>
            <p:cNvSpPr/>
            <p:nvPr/>
          </p:nvSpPr>
          <p:spPr>
            <a:xfrm>
              <a:off x="3505320" y="144792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429000" y="137160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Beispielthem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1371600" y="518148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.........................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0720" y="5243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762120"/>
            <a:ext cx="5486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ine Präsentation selbst 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9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81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8458200" cy="60958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4495680" y="6248520"/>
            <a:ext cx="373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Hausladen, Mai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4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6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"/>
          <p:cNvSpPr/>
          <p:nvPr/>
        </p:nvSpPr>
        <p:spPr>
          <a:xfrm>
            <a:off x="838080" y="9144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setzung des Themas im Unterr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1523880"/>
            <a:ext cx="2743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rüberl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133720"/>
            <a:ext cx="40384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e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274320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eln für die Gest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3352680"/>
            <a:ext cx="373356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en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3962520"/>
            <a:ext cx="5029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ganisation von Präsent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4572000"/>
            <a:ext cx="510516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ine Präsentation selbst 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1600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2209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2819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34290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40384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46483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6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88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353376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9144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chlag einer Stundenvertei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stdvert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781680" cy="4890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8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0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685800" y="762120"/>
            <a:ext cx="327672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rüberl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1447920"/>
            <a:ext cx="68580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Art der Präsentation soll gewählt werd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 Dauer und der Umfang der Präsentation müssen im Vorfeld genau überleg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t welchem Werkzeug soll die Präsentation erstellt werd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Objekte eignen sich für die Präsentation? Technische oder auch qualitative Gründe schließen manchmal die Wahl eines Objektes au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stimmte Regeln sollten bei der Erstellung der Präsentation beachte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149544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195264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71476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349092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45576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685800" y="762120"/>
            <a:ext cx="44956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e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1531800" cy="2136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938320" y="2266920"/>
            <a:ext cx="1785960" cy="2838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257800" y="3048120"/>
            <a:ext cx="3505320" cy="90468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127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8120" y="1371600"/>
            <a:ext cx="1600200" cy="533520"/>
            <a:chOff x="3048120" y="1371600"/>
            <a:chExt cx="1600200" cy="533520"/>
          </a:xfrm>
        </p:grpSpPr>
        <p:sp>
          <p:nvSpPr>
            <p:cNvPr id="130" name=""/>
            <p:cNvSpPr/>
            <p:nvPr/>
          </p:nvSpPr>
          <p:spPr>
            <a:xfrm>
              <a:off x="31240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81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019920" y="1371600"/>
            <a:ext cx="1600200" cy="533520"/>
            <a:chOff x="6019920" y="1371600"/>
            <a:chExt cx="1600200" cy="533520"/>
          </a:xfrm>
        </p:grpSpPr>
        <p:sp>
          <p:nvSpPr>
            <p:cNvPr id="133" name=""/>
            <p:cNvSpPr/>
            <p:nvPr/>
          </p:nvSpPr>
          <p:spPr>
            <a:xfrm>
              <a:off x="60958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199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isp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6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38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" name=""/>
          <p:cNvSpPr/>
          <p:nvPr/>
        </p:nvSpPr>
        <p:spPr>
          <a:xfrm>
            <a:off x="685800" y="762120"/>
            <a:ext cx="44956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e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146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48120" y="1371600"/>
            <a:ext cx="1600200" cy="533520"/>
            <a:chOff x="3048120" y="1371600"/>
            <a:chExt cx="1600200" cy="533520"/>
          </a:xfrm>
        </p:grpSpPr>
        <p:sp>
          <p:nvSpPr>
            <p:cNvPr id="149" name=""/>
            <p:cNvSpPr/>
            <p:nvPr/>
          </p:nvSpPr>
          <p:spPr>
            <a:xfrm>
              <a:off x="31240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019920" y="1371600"/>
            <a:ext cx="1600200" cy="533520"/>
            <a:chOff x="6019920" y="1371600"/>
            <a:chExt cx="1600200" cy="533520"/>
          </a:xfrm>
        </p:grpSpPr>
        <p:sp>
          <p:nvSpPr>
            <p:cNvPr id="152" name=""/>
            <p:cNvSpPr/>
            <p:nvPr/>
          </p:nvSpPr>
          <p:spPr>
            <a:xfrm>
              <a:off x="60958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199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isp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1531800" cy="2136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938320" y="2286000"/>
            <a:ext cx="1785960" cy="2487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486400" y="2590920"/>
            <a:ext cx="304812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60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"/>
          <p:cNvSpPr/>
          <p:nvPr/>
        </p:nvSpPr>
        <p:spPr>
          <a:xfrm>
            <a:off x="685800" y="762120"/>
            <a:ext cx="44956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e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168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048120" y="1371600"/>
            <a:ext cx="1600200" cy="533520"/>
            <a:chOff x="3048120" y="1371600"/>
            <a:chExt cx="1600200" cy="533520"/>
          </a:xfrm>
        </p:grpSpPr>
        <p:sp>
          <p:nvSpPr>
            <p:cNvPr id="171" name=""/>
            <p:cNvSpPr/>
            <p:nvPr/>
          </p:nvSpPr>
          <p:spPr>
            <a:xfrm>
              <a:off x="31240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481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19920" y="1371600"/>
            <a:ext cx="1600200" cy="533520"/>
            <a:chOff x="6019920" y="1371600"/>
            <a:chExt cx="1600200" cy="533520"/>
          </a:xfrm>
        </p:grpSpPr>
        <p:sp>
          <p:nvSpPr>
            <p:cNvPr id="174" name=""/>
            <p:cNvSpPr/>
            <p:nvPr/>
          </p:nvSpPr>
          <p:spPr>
            <a:xfrm>
              <a:off x="60958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199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isp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1531800" cy="312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943360" y="2286000"/>
            <a:ext cx="1785960" cy="6634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181480" y="2286000"/>
            <a:ext cx="3429000" cy="1585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0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82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685800" y="762120"/>
            <a:ext cx="44956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e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190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048120" y="1371600"/>
            <a:ext cx="1600200" cy="533520"/>
            <a:chOff x="3048120" y="1371600"/>
            <a:chExt cx="1600200" cy="533520"/>
          </a:xfrm>
        </p:grpSpPr>
        <p:sp>
          <p:nvSpPr>
            <p:cNvPr id="193" name=""/>
            <p:cNvSpPr/>
            <p:nvPr/>
          </p:nvSpPr>
          <p:spPr>
            <a:xfrm>
              <a:off x="31240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481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019920" y="1371600"/>
            <a:ext cx="1600200" cy="533520"/>
            <a:chOff x="6019920" y="1371600"/>
            <a:chExt cx="1600200" cy="533520"/>
          </a:xfrm>
        </p:grpSpPr>
        <p:sp>
          <p:nvSpPr>
            <p:cNvPr id="196" name=""/>
            <p:cNvSpPr/>
            <p:nvPr/>
          </p:nvSpPr>
          <p:spPr>
            <a:xfrm>
              <a:off x="60958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199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isp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1531800" cy="3128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938320" y="2286000"/>
            <a:ext cx="1785960" cy="1376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410080" y="2286000"/>
            <a:ext cx="2667240" cy="2013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3T09:54:20Z</dcterms:created>
  <dc:creator>Peter Hausladen</dc:creator>
  <dc:description/>
  <dc:language>en-US</dc:language>
  <cp:lastModifiedBy>Peter Hausladen</cp:lastModifiedBy>
  <dcterms:modified xsi:type="dcterms:W3CDTF">2002-05-11T08:23:58Z</dcterms:modified>
  <cp:revision>21</cp:revision>
  <dc:subject/>
  <dc:title>PowerPoint-Präsentation</dc:title>
</cp:coreProperties>
</file>