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2B6E-F4BB-4545-83C6-75818ACC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52480" y="4219200"/>
            <a:ext cx="69343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B60B-DBA1-4575-AD58-E5F7B5CF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05680" y="213372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52480" y="421920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05680" y="421920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DD8-5C0B-4AA8-BC7E-58004EE3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2232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97160" y="2133720"/>
            <a:ext cx="2232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41840" y="2133720"/>
            <a:ext cx="2232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52480" y="4219200"/>
            <a:ext cx="2232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97160" y="4219200"/>
            <a:ext cx="2232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41840" y="4219200"/>
            <a:ext cx="2232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4B1-BA0E-4027-B5C2-78FE7C60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C4F5-71ED-48C0-9497-CC5E984A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C386-6983-4844-97DE-7441F657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33836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05680" y="2133720"/>
            <a:ext cx="33836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D43-44F7-4BAA-A7A6-2614C9DC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6DCB-8F81-47E3-8D2A-5F1F1D6E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C9F-A852-4474-905E-E6220AE6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5680" y="2133720"/>
            <a:ext cx="33836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52480" y="421920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EFF-50B5-498B-9D43-3F050035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33836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05680" y="213372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05680" y="421920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983-511B-4F40-9707-C2D05BC2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05680" y="213372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52480" y="4219200"/>
            <a:ext cx="69343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90E-3CD5-4CE8-9EAB-89E9126B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6CE5-C96A-4C62-B027-615BA1DDF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9236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tbildung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. Langg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692360" y="0"/>
            <a:ext cx="7451640" cy="1655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1692360" cy="6885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br>
              <a:rPr sz="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us Langgu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92000" y="-27360"/>
            <a:ext cx="7451640" cy="1655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2133720"/>
            <a:ext cx="70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1773360"/>
            <a:ext cx="69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852480"/>
            <a:ext cx="716292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RLFB</a:t>
            </a:r>
            <a:br>
              <a:rPr sz="5400"/>
            </a:b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en gewinnen, bereitstellen, beurteilen – Webseit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e Anfänge – der Erfinder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othy J. Berners-L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* 8. Juni 1955 in London) gilt 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finder des World Wide We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8000" y="3193920"/>
            <a:ext cx="3672000" cy="2521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67280" y="2660760"/>
            <a:ext cx="2086200" cy="3024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000" y="2438280"/>
            <a:ext cx="68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e Anfänge - Ursprung des ww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schlug Berners-Lee seinem Arbeitgeber CERN e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kt vor, das auf dem Prinzip des Hypertexts beruh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ck: Weltweiter Austausch von Informationen zwisch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senschaftler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des Projekts: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e Anfänge - Säulen des Konzept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 Säulen des Konzep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pezifikation für die Kommunikation zwischen Web-Clients und Web-Servern - das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TTP-Protokol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pezifikation für die Adressierung beliebiger Dateien und Datenquellen im Web und im übrigen Internet: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pezifikation einer Auszeichnungssprache für Web-Dokumente, der Berners-Lee den Nam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gab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TML = Hypertext Markup Language, Hypertext Auszeichnungssprach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ext Auszeichnungssprache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ls Auszeichnungssprache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Markup Language),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enthält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TML daher Befehle zum Markieren typischer Elemente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ines Dokuments, wie Überschriften, Textabsätze, Listen,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Tabellen oder Grafikrefere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TML als "lingua franca" des Web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HTML können Si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Überschriften, Textabsätze, Listen und Tabellen erzeu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nklickbare Verweise auf beliebige andere Web-Seiten oder Datenquellen im Internet erzeu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Nicht-textuelle Inhalte (z.B. Bilder) referenz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ML als software-unabhängiges Klartext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ist ein so genanntes Klartext-Form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-Dateien können Sie mit jedem beliebigen Texteditor bearbei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gibt also keine bestimmte Software, die man zum Erstellen von HTML-Dateien benötig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ist nicht an irgendein bestimmtes, kommerzielles Software-Produkt gebund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ute: ...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eine neue Küch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ein Patent für das WWW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rners-Lee soll in Helsinki den mit einer Million Euro dotierten Millennium-Technology- Preis erhalten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ine später Geldsegen ist das, für einen echten Computermenschen, dessen Ideen viele halbechte Businessmenschen zu Millionären, manche zu Milliardären gemacht haben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TML Fortbildu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ell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lf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ttp://de.selfhtml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08:24:19Z</dcterms:created>
  <dc:creator>Lehrer</dc:creator>
  <dc:description/>
  <dc:language>en-US</dc:language>
  <cp:lastModifiedBy>M.L.</cp:lastModifiedBy>
  <dcterms:modified xsi:type="dcterms:W3CDTF">2004-07-18T12:37:10Z</dcterms:modified>
  <cp:revision>22</cp:revision>
  <dc:subject/>
  <dc:title>HTML Fortbildung  M. Langguth</dc:title>
</cp:coreProperties>
</file>