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941-47D4-4841-8B3B-3F86BA65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480" y="421920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4D6-30B1-46F6-B2B2-97AA329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056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402-6E06-46DA-A4F8-92C5871C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716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84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48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716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84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C10-28F3-4D8D-851F-1A7378F7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122-2AA9-4D9E-8627-A72CDE6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822-1F50-4332-A23E-96287FD6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EC3-C6C8-4F16-A52B-CE0EDD5A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DC8-894D-4D83-9BDC-935263B4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6E8-4615-4256-81C5-362C4E05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FFD-F647-42B7-AD8C-183DECE9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056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8B5-8CF4-4C15-B9CA-55A569B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577-068A-4F7A-90C4-D7C7A02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DB2-8B39-4F8D-8139-82012C30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tbildung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 Langg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92360" y="0"/>
            <a:ext cx="7451640" cy="1655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1692360" cy="6885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us Langg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-27360"/>
            <a:ext cx="7451640" cy="1655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2133720"/>
            <a:ext cx="70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77336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52480"/>
            <a:ext cx="71629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RLFB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en gewinnen, bereitstellen, beurteilen – Websei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Anfänge – der Erfinder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othy J. Berners-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* 8. Juni 1955 in London) gil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finder des World Wide We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3193920"/>
            <a:ext cx="3672000" cy="252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2660760"/>
            <a:ext cx="208620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2438280"/>
            <a:ext cx="68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e Anfänge - Ursprung des ww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schlug Berners-Lee seinem Arbeitgeber CERN e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 vor, das auf dem Prinzip des Hypertexts beru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ck: Weltweiter Austausch von Informationen zwisc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schaftler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des Projekts: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Anfänge - Säulen des Konzept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Säulen des Konzep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für die Kommunikation zwischen Web-Clients und Web-Servern - da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-Protoko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für die Adressierung beliebiger Dateien und Datenquellen im Web und im übrigen Internet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einer Auszeichnungssprache für Web-Dokumente, der Berners-Lee den Nam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ab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TML = Hypertext Markup Language, Hypertext Auszeichnungssprac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xt Auszeichnungssprach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s Auszeichnungssprache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arkup Language)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enthält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TML daher Befehle zum Markieren typischer Elemente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es Dokuments, wie Überschriften, Textabsätze, Listen,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Tabellen oder Grafik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als "lingua franca" des Web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HTML können Si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Überschriften, Textabsätze, Listen und Tabellen erzeu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nklickbare Verweise auf beliebige andere Web-Seiten oder Datenquellen im Internet erzeu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Nicht-textuelle Inhalte (z.B. Bilder) re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ML als software-unabhängiges Klartext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ist ein so genanntes Klartext-Form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-Dateien können Sie mit jedem beliebigen Texteditor bearbei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ibt also keine bestimmte Software, die man zum Erstellen von HTML-Dateien benötig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ist nicht an irgendein bestimmtes, kommerzielles Software-Produkt gebun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ute: ...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eine neue Küch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in Patent für das WWW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ners-Lee soll in Helsinki den mit einer Million Euro dotierten Millennium-Technology- Preis erhalt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e später Geldsegen ist das, für einen echten Computermenschen, dessen Ideen viele halbechte Businessmenschen zu Millionären, manche zu Milliardären gemacht hab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ML Fortbildu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el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f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de.selfht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8:24:19Z</dcterms:created>
  <dc:creator>Lehrer</dc:creator>
  <dc:description/>
  <dc:language>en-US</dc:language>
  <cp:lastModifiedBy>M.L.</cp:lastModifiedBy>
  <dcterms:modified xsi:type="dcterms:W3CDTF">2004-07-18T12:37:10Z</dcterms:modified>
  <cp:revision>22</cp:revision>
  <dc:subject/>
  <dc:title>HTML Fortbildung  M. Langguth</dc:title>
</cp:coreProperties>
</file>