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9C1-033C-4E9F-BD0D-0E1CB0D7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DC2-C4DD-478E-A65A-23FEBB63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F6C-B21D-4C15-BB4C-85B60EB9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716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1840" y="213372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48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716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1840" y="4219200"/>
            <a:ext cx="22327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381-43D4-4F14-A203-A29EEEB3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A56-6448-4D6A-B4A9-ED7247D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905-050C-4954-A59F-7D3CD1F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5DC-B1F9-49E0-BD94-9F6BD92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4D9-FBB4-4C4D-8726-4D0CB72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F2F-307A-4D4F-BE49-07F0CE1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0E8-050C-427C-ABC8-9FD4013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05680" y="421920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0ED-4E98-43C8-A25C-D359520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5680" y="2133720"/>
            <a:ext cx="33836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480" y="4219200"/>
            <a:ext cx="69343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980-E9D8-49A7-A871-3B7BDF2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275-43DD-421C-83D8-3C148B72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tbildung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 Langg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92360" y="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1692360" cy="6885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us Langg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-27360"/>
            <a:ext cx="7451640" cy="1655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2133720"/>
            <a:ext cx="70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77336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52480"/>
            <a:ext cx="71629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RLFB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en gewinnen, bereitstellen, beurteilen – Websei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Anfänge – der Erfinder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othy J. Berners-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* 8. Juni 1955 in London) gilt 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finder des World Wide We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3193920"/>
            <a:ext cx="367200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2660760"/>
            <a:ext cx="2086200" cy="302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243828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Anfänge - Ursprung des ww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schlug Berners-Lee seinem Arbeitgeber CERN e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 vor, das auf dem Prinzip des Hypertexts beru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ck: Weltweiter Austausch von Informationen zwisc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schaftler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des Projekts: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Anfänge - Säulen des Konzept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Säulen des Konzep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Kommunikation zwischen Web-Clients und Web-Servern - da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-Protoko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für die Adressierung beliebiger Dateien und Datenquellen im Web und im übrigen Internet: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kation einer Auszeichnungssprache für Web-Dokumente, der Berners-Lee den Nam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ab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TML = Hypertext Markup Language, Hypertext Auszeichnungssprac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xt Auszeichnungssprach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s Auszeichnungssprache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arkup Language)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enthält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TML daher Befehle zum Markieren typischer Elemente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ines Dokuments, wie Überschriften, Textabsätze, Listen,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abellen oder Grafikrefer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als "lingua franca" des Web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HTML können Si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Überschriften, Textabsätze, Listen und Tabellen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nklickbare Verweise auf beliebige andere Web-Seiten oder Datenquellen im Internet erzeu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Nicht-textuelle Inhalte (z.B. Bilder) re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ML als software-unabhängiges Klartext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ein so genanntes Klartext-Form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-Dateien können Sie mit jedem beliebigen Texteditor bearbei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ibt also keine bestimmte Software, die man zum Erstellen von HTML-Dateien benötig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ist nicht an irgendein bestimmtes, kommerzielles Software-Produkt gebun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ute: ...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eine neue Küch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in Patent für das WWW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ners-Lee soll in Helsinki den mit einer Million Euro dotierten Millennium-Technology- Preis erhalt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später Geldsegen ist das, für einen echten Computermenschen, dessen Ideen viele halbechte Businessmenschen zu Millionären, manche zu Milliardären gemacht haben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ML Fortbildu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el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f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de.selfht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8:24:19Z</dcterms:created>
  <dc:creator>Lehrer</dc:creator>
  <dc:description/>
  <dc:language>en-US</dc:language>
  <cp:lastModifiedBy>M.L.</cp:lastModifiedBy>
  <dcterms:modified xsi:type="dcterms:W3CDTF">2004-07-18T12:37:10Z</dcterms:modified>
  <cp:revision>22</cp:revision>
  <dc:subject/>
  <dc:title>HTML Fortbildung  M. Langguth</dc:title>
</cp:coreProperties>
</file>