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6.png" ContentType="image/png"/>
  <Override PartName="/ppt/media/image5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DBE-79A9-4958-AF36-33546B37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515-A174-498D-803A-3BF4CF80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F4D-6BF0-48E0-BA1A-1B4EDEF5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5DD-69D3-4E41-82A7-580C0E73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DD2-C934-4BFC-A49A-CC0D5F5F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2B8-DA49-4AC9-9751-12EF2F87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7D4-24D3-4D1B-AB73-B22AA73B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C85-D750-451C-8EB4-FE1068D9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62C-E17B-4874-B4FE-8F17CA34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434-6918-4535-B0F8-73D75B02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FE7-C861-4335-8AC7-2C8F6C8E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1E7-7B5F-4741-95D0-017588C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3309-C7FB-431C-AF21-CB9CC18FAE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533520"/>
            <a:ext cx="6808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bjektorientierte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Zustandsorientierte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unktionale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ten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hasen der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aktische Beispi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lassifizierung von Lernin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5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. Phasen der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66680" y="990720"/>
            <a:ext cx="1368720" cy="1687320"/>
            <a:chOff x="1066680" y="990720"/>
            <a:chExt cx="1368720" cy="1687320"/>
          </a:xfrm>
        </p:grpSpPr>
        <p:sp>
          <p:nvSpPr>
            <p:cNvPr id="137" name=""/>
            <p:cNvSpPr/>
            <p:nvPr/>
          </p:nvSpPr>
          <p:spPr>
            <a:xfrm>
              <a:off x="1066680" y="9907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143000" y="1523880"/>
              <a:ext cx="1292400" cy="115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1066680" y="2971800"/>
            <a:ext cx="1825920" cy="1809720"/>
            <a:chOff x="1066680" y="2971800"/>
            <a:chExt cx="1825920" cy="1809720"/>
          </a:xfrm>
        </p:grpSpPr>
        <p:sp>
          <p:nvSpPr>
            <p:cNvPr id="140" name=""/>
            <p:cNvSpPr/>
            <p:nvPr/>
          </p:nvSpPr>
          <p:spPr>
            <a:xfrm>
              <a:off x="1066680" y="2971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wu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143000" y="3581280"/>
              <a:ext cx="174960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4648320" y="1066680"/>
            <a:ext cx="1904760" cy="1679760"/>
            <a:chOff x="4648320" y="1066680"/>
            <a:chExt cx="1904760" cy="1679760"/>
          </a:xfrm>
        </p:grpSpPr>
        <p:sp>
          <p:nvSpPr>
            <p:cNvPr id="143" name=""/>
            <p:cNvSpPr/>
            <p:nvPr/>
          </p:nvSpPr>
          <p:spPr>
            <a:xfrm>
              <a:off x="4648320" y="106668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4724280" y="1523880"/>
              <a:ext cx="1714680" cy="122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4648320" y="2971800"/>
            <a:ext cx="3390840" cy="3451320"/>
            <a:chOff x="4648320" y="2971800"/>
            <a:chExt cx="3390840" cy="3451320"/>
          </a:xfrm>
        </p:grpSpPr>
        <p:sp>
          <p:nvSpPr>
            <p:cNvPr id="146" name=""/>
            <p:cNvSpPr/>
            <p:nvPr/>
          </p:nvSpPr>
          <p:spPr>
            <a:xfrm>
              <a:off x="4648320" y="29718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lis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4724280" y="3429000"/>
              <a:ext cx="3314880" cy="299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335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aktische Beispiele für Ablaufmodellierung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9907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Reste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1600200" cy="1344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505320" y="1066680"/>
            <a:ext cx="3240000" cy="3353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505320" y="4572000"/>
            <a:ext cx="4913280" cy="820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143000" y="4952880"/>
            <a:ext cx="39625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5335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aktische Beispiele für Ablaufmodellierung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9907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Iterationsverfahren nach He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819520" y="4572000"/>
            <a:ext cx="3124080" cy="1917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43000" y="14479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952880" y="1143000"/>
            <a:ext cx="30402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533520"/>
            <a:ext cx="76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Klassifizierung von Lerninhalte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nach Allgemeingült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148428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47640" y="1197000"/>
          <a:ext cx="7296480" cy="5062680"/>
        </p:xfrm>
        <a:graphic>
          <a:graphicData uri="http://schemas.openxmlformats.org/drawingml/2006/table">
            <a:tbl>
              <a:tblPr/>
              <a:tblGrid>
                <a:gridCol w="943200"/>
                <a:gridCol w="3017880"/>
                <a:gridCol w="333540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reib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wendung auch außerhalb des Bereiches der EDV mögli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erungstechniken, Problemlösungsstrategi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kteristisch für alle elektronischen Informatiksyste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lexitätsklassen, Grenzen der Berechenbarke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wendung beschränkt sich auf eine Klasse von Informatiksyste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ierparadigmen, spezielle Datenstrukturen, Netzwerktopologien, Sortieralgorith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rifft nur ein konkretes Sy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tax einer Programmiersprache, Menüstruktur eines Anwendersystems, Architektur eines Mikroprozess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3903840" y="49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645336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ist ei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47760" y="1447920"/>
            <a:ext cx="1800360" cy="368280"/>
            <a:chOff x="1247760" y="1447920"/>
            <a:chExt cx="1800360" cy="368280"/>
          </a:xfrm>
        </p:grpSpPr>
        <p:sp>
          <p:nvSpPr>
            <p:cNvPr id="47" name=""/>
            <p:cNvSpPr/>
            <p:nvPr/>
          </p:nvSpPr>
          <p:spPr>
            <a:xfrm>
              <a:off x="160020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ispie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47760" y="148608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266840" y="2757600"/>
            <a:ext cx="1800360" cy="368280"/>
            <a:chOff x="1266840" y="2757600"/>
            <a:chExt cx="1800360" cy="368280"/>
          </a:xfrm>
        </p:grpSpPr>
        <p:sp>
          <p:nvSpPr>
            <p:cNvPr id="50" name=""/>
            <p:cNvSpPr/>
            <p:nvPr/>
          </p:nvSpPr>
          <p:spPr>
            <a:xfrm>
              <a:off x="1619280" y="27576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66840" y="27957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38360" y="3219480"/>
            <a:ext cx="6750000" cy="916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 ein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steht man die Gesamtheit von Gegenständen (Systemkomponenten), die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zieh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zw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chselwirk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ueinander ste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19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, Computer, Fußpumpe, Eisenbahn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ist ein Model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47760" y="1447920"/>
            <a:ext cx="1800360" cy="368280"/>
            <a:chOff x="1247760" y="1447920"/>
            <a:chExt cx="1800360" cy="368280"/>
          </a:xfrm>
        </p:grpSpPr>
        <p:sp>
          <p:nvSpPr>
            <p:cNvPr id="58" name=""/>
            <p:cNvSpPr/>
            <p:nvPr/>
          </p:nvSpPr>
          <p:spPr>
            <a:xfrm>
              <a:off x="160020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ispie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47760" y="148608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43200" y="1447920"/>
            <a:ext cx="3030480" cy="1066680"/>
            <a:chOff x="2743200" y="1447920"/>
            <a:chExt cx="3030480" cy="10666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3880"/>
              <a:ext cx="144792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4343400" y="1523880"/>
              <a:ext cx="716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5181480" y="1447920"/>
              <a:ext cx="5922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1266840" y="2757600"/>
            <a:ext cx="1800360" cy="368280"/>
            <a:chOff x="1266840" y="2757600"/>
            <a:chExt cx="1800360" cy="368280"/>
          </a:xfrm>
        </p:grpSpPr>
        <p:sp>
          <p:nvSpPr>
            <p:cNvPr id="65" name=""/>
            <p:cNvSpPr/>
            <p:nvPr/>
          </p:nvSpPr>
          <p:spPr>
            <a:xfrm>
              <a:off x="1619280" y="27576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66840" y="27957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638360" y="3219480"/>
            <a:ext cx="6678720" cy="2383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 ein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ndelt es sich um eine vereinfachte Beschreibung eines realen, geplanten oder eines gedachten Systems. Das Modell beinhaltet nur Teile des Originals. Unwichtige Informationen werden weggelassen, um entscheidende Merkmale besser herauszustellen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duk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ier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ersteht man das Erstellen des Abbildes eines gedachten, geplanten oder eines realen Objekts bzw. eines System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247760" y="2819520"/>
            <a:ext cx="1800360" cy="368280"/>
            <a:chOff x="1247760" y="2819520"/>
            <a:chExt cx="1800360" cy="368280"/>
          </a:xfrm>
        </p:grpSpPr>
        <p:sp>
          <p:nvSpPr>
            <p:cNvPr id="71" name=""/>
            <p:cNvSpPr/>
            <p:nvPr/>
          </p:nvSpPr>
          <p:spPr>
            <a:xfrm>
              <a:off x="1600200" y="2819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 Begrif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47760" y="285768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143000" y="533520"/>
            <a:ext cx="4724280" cy="2361600"/>
            <a:chOff x="1143000" y="533520"/>
            <a:chExt cx="4724280" cy="2361600"/>
          </a:xfrm>
        </p:grpSpPr>
        <p:sp>
          <p:nvSpPr>
            <p:cNvPr id="74" name=""/>
            <p:cNvSpPr/>
            <p:nvPr/>
          </p:nvSpPr>
          <p:spPr>
            <a:xfrm>
              <a:off x="1143000" y="990720"/>
              <a:ext cx="472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 Objektstrukt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657600" y="533520"/>
              <a:ext cx="2209680" cy="2361600"/>
              <a:chOff x="3657600" y="533520"/>
              <a:chExt cx="2209680" cy="2361600"/>
            </a:xfrm>
          </p:grpSpPr>
          <p:pic>
            <p:nvPicPr>
              <p:cNvPr id="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57600" y="533520"/>
                <a:ext cx="2209680" cy="136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8280" y="1911960"/>
                <a:ext cx="853920" cy="98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8" name="modl-b08" descr=""/>
          <p:cNvPicPr/>
          <p:nvPr/>
        </p:nvPicPr>
        <p:blipFill>
          <a:blip r:embed="rId4"/>
          <a:stretch/>
        </p:blipFill>
        <p:spPr>
          <a:xfrm>
            <a:off x="1219320" y="3382920"/>
            <a:ext cx="6526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47760" y="2666880"/>
            <a:ext cx="5915160" cy="642600"/>
            <a:chOff x="1247760" y="2666880"/>
            <a:chExt cx="5915160" cy="642600"/>
          </a:xfrm>
        </p:grpSpPr>
        <p:sp>
          <p:nvSpPr>
            <p:cNvPr id="82" name=""/>
            <p:cNvSpPr/>
            <p:nvPr/>
          </p:nvSpPr>
          <p:spPr>
            <a:xfrm>
              <a:off x="1600200" y="266688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ispiele bei einem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xtverarbeitungssyste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47760" y="270504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04960" y="3429000"/>
            <a:ext cx="3733920" cy="32241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143000" y="533520"/>
            <a:ext cx="4724280" cy="2361600"/>
            <a:chOff x="1143000" y="533520"/>
            <a:chExt cx="4724280" cy="2361600"/>
          </a:xfrm>
        </p:grpSpPr>
        <p:sp>
          <p:nvSpPr>
            <p:cNvPr id="86" name=""/>
            <p:cNvSpPr/>
            <p:nvPr/>
          </p:nvSpPr>
          <p:spPr>
            <a:xfrm>
              <a:off x="1143000" y="990720"/>
              <a:ext cx="472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 Objektstrukt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657600" y="533520"/>
              <a:ext cx="2209680" cy="2361600"/>
              <a:chOff x="3657600" y="533520"/>
              <a:chExt cx="2209680" cy="2361600"/>
            </a:xfrm>
          </p:grpSpPr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7600" y="533520"/>
                <a:ext cx="2209680" cy="136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18280" y="1911960"/>
                <a:ext cx="853920" cy="98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93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objektorientiert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52480" y="2116080"/>
            <a:ext cx="6400800" cy="2243160"/>
            <a:chOff x="1752480" y="2116080"/>
            <a:chExt cx="6400800" cy="224316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752480" y="2116080"/>
              <a:ext cx="213372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4419720" y="2209680"/>
              <a:ext cx="3733560" cy="214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102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dynamisch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04960" y="1965240"/>
            <a:ext cx="5486400" cy="3139920"/>
            <a:chOff x="1704960" y="1965240"/>
            <a:chExt cx="5486400" cy="313992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04960" y="2041200"/>
              <a:ext cx="1635120" cy="29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3533760" y="2346120"/>
              <a:ext cx="3657600" cy="27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067280" y="196524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ktivitätsdia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112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funktional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609560" y="1981080"/>
            <a:ext cx="2784600" cy="3657600"/>
            <a:chOff x="1609560" y="1981080"/>
            <a:chExt cx="2784600" cy="36576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676520" y="2514600"/>
              <a:ext cx="271764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609560" y="1981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ktionsdia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876920" y="2000160"/>
            <a:ext cx="2390760" cy="3820680"/>
            <a:chOff x="4876920" y="2000160"/>
            <a:chExt cx="2390760" cy="3820680"/>
          </a:xfrm>
        </p:grpSpPr>
        <p:sp>
          <p:nvSpPr>
            <p:cNvPr id="119" name=""/>
            <p:cNvSpPr/>
            <p:nvPr/>
          </p:nvSpPr>
          <p:spPr>
            <a:xfrm>
              <a:off x="4952880" y="200016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ussdia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4876920" y="2457000"/>
              <a:ext cx="2390760" cy="3363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124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funktional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09560" y="1981080"/>
            <a:ext cx="1905120" cy="2776680"/>
            <a:chOff x="1609560" y="1981080"/>
            <a:chExt cx="1905120" cy="2776680"/>
          </a:xfrm>
        </p:grpSpPr>
        <p:sp>
          <p:nvSpPr>
            <p:cNvPr id="128" name=""/>
            <p:cNvSpPr/>
            <p:nvPr/>
          </p:nvSpPr>
          <p:spPr>
            <a:xfrm>
              <a:off x="1609560" y="1981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ränkeautom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1676520" y="2362320"/>
              <a:ext cx="1469880" cy="239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4740120" cy="23763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371600" y="5334120"/>
            <a:ext cx="2438280" cy="307080"/>
            <a:chOff x="1371600" y="5334120"/>
            <a:chExt cx="2438280" cy="307080"/>
          </a:xfrm>
        </p:grpSpPr>
        <p:sp>
          <p:nvSpPr>
            <p:cNvPr id="132" name=""/>
            <p:cNvSpPr/>
            <p:nvPr/>
          </p:nvSpPr>
          <p:spPr>
            <a:xfrm>
              <a:off x="1371600" y="533412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05120" y="53341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aktive Web-Se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3:11:10Z</dcterms:created>
  <dc:creator>Peter Hausladen</dc:creator>
  <dc:description/>
  <dc:language>en-US</dc:language>
  <cp:lastModifiedBy>Peter Hausladen</cp:lastModifiedBy>
  <dcterms:modified xsi:type="dcterms:W3CDTF">2004-04-02T19:13:38Z</dcterms:modified>
  <cp:revision>19</cp:revision>
  <dc:subject/>
  <dc:title>PowerPoint-Präsentation</dc:title>
</cp:coreProperties>
</file>