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01B5-7EAB-4D82-86FA-B25C1349D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0A8C-2D3D-4907-ACCF-F7E302A8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52E1-919A-4A26-A009-02A8A4DBD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ABAB-7A9E-4B91-B703-07C177E8F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4A85-6B35-402C-8EEB-0A4BC38F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5B9A-EC74-43B8-8538-213AA756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5B14-FEF9-486B-A868-B5889729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B3AA-3BF5-4F2E-B8A6-CDA64A6E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21A2-7554-4A25-9DBC-461C956C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4DA4-25AC-46B2-894C-4407D76D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481A-470F-4691-9B14-0B94E3C0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2741-4B09-427B-8C62-9343E484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D48D-4985-4304-BA6B-5C4C60E23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4.png"/><Relationship Id="rId6" Type="http://schemas.openxmlformats.org/officeDocument/2006/relationships/slide" Target="slide2.xml"/><Relationship Id="rId7" Type="http://schemas.openxmlformats.org/officeDocument/2006/relationships/image" Target="../media/image5.png"/><Relationship Id="rId8" Type="http://schemas.openxmlformats.org/officeDocument/2006/relationships/slide" Target="slide2.xml"/><Relationship Id="rId9" Type="http://schemas.openxmlformats.org/officeDocument/2006/relationships/slide" Target="slide9.xml"/><Relationship Id="rId10" Type="http://schemas.openxmlformats.org/officeDocument/2006/relationships/image" Target="../media/image6.png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image" Target="../media/image7.png"/><Relationship Id="rId14" Type="http://schemas.openxmlformats.org/officeDocument/2006/relationships/slide" Target="slide14.xml"/><Relationship Id="rId15" Type="http://schemas.openxmlformats.org/officeDocument/2006/relationships/slide" Target="slide25.xml"/><Relationship Id="rId16" Type="http://schemas.openxmlformats.org/officeDocument/2006/relationships/image" Target="../media/image8.png"/><Relationship Id="rId17" Type="http://schemas.openxmlformats.org/officeDocument/2006/relationships/slide" Target="slide25.xml"/><Relationship Id="rId18" Type="http://schemas.openxmlformats.org/officeDocument/2006/relationships/slide" Target="slide19.xml"/><Relationship Id="rId19" Type="http://schemas.openxmlformats.org/officeDocument/2006/relationships/slide" Target="slide19.xml"/><Relationship Id="rId20" Type="http://schemas.openxmlformats.org/officeDocument/2006/relationships/image" Target="../media/image9.png"/><Relationship Id="rId2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6.png"/><Relationship Id="rId6" Type="http://schemas.openxmlformats.org/officeDocument/2006/relationships/slide" Target="slide1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6.png"/><Relationship Id="rId6" Type="http://schemas.openxmlformats.org/officeDocument/2006/relationships/image" Target="../media/image10.png"/><Relationship Id="rId7" Type="http://schemas.openxmlformats.org/officeDocument/2006/relationships/slide" Target="slide1.xml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6.png"/><Relationship Id="rId6" Type="http://schemas.openxmlformats.org/officeDocument/2006/relationships/slide" Target="slide1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6.png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image" Target="../media/image13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image" Target="../media/image14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image" Target="../media/image15.jpeg"/><Relationship Id="rId7" Type="http://schemas.openxmlformats.org/officeDocument/2006/relationships/slide" Target="slide1.xml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slide" Target="slide1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8.png"/><Relationship Id="rId6" Type="http://schemas.openxmlformats.org/officeDocument/2006/relationships/slide" Target="slide1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6.png"/><Relationship Id="rId6" Type="http://schemas.openxmlformats.org/officeDocument/2006/relationships/slide" Target="slide1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50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ogo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914400" y="1066680"/>
            <a:ext cx="3352680" cy="1962360"/>
            <a:chOff x="914400" y="1066680"/>
            <a:chExt cx="3352680" cy="1962360"/>
          </a:xfrm>
        </p:grpSpPr>
        <p:pic>
          <p:nvPicPr>
            <p:cNvPr id="56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1447920" y="1447920"/>
              <a:ext cx="225396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>
              <a:hlinkClick r:id="rId8" action="ppaction://hlinksldjump"/>
            </p:cNvPr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gische Struktur von Rechnernetz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800600" y="1063800"/>
            <a:ext cx="3352680" cy="1961640"/>
            <a:chOff x="4800600" y="1063800"/>
            <a:chExt cx="3352680" cy="1961640"/>
          </a:xfrm>
        </p:grpSpPr>
        <p:pic>
          <p:nvPicPr>
            <p:cNvPr id="59" name="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5189400" y="1444680"/>
              <a:ext cx="2506680" cy="15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>
              <a:hlinkClick r:id="rId11" action="ppaction://hlinksldjump"/>
            </p:cNvPr>
            <p:cNvSpPr/>
            <p:nvPr/>
          </p:nvSpPr>
          <p:spPr>
            <a:xfrm>
              <a:off x="4800600" y="1063800"/>
              <a:ext cx="3352680" cy="30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e Übertragung der Da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914400" y="3352680"/>
            <a:ext cx="3505320" cy="1316160"/>
            <a:chOff x="914400" y="3352680"/>
            <a:chExt cx="3505320" cy="1316160"/>
          </a:xfrm>
        </p:grpSpPr>
        <p:pic>
          <p:nvPicPr>
            <p:cNvPr id="62" name="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1523880" y="3809880"/>
              <a:ext cx="228312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>
              <a:hlinkClick r:id="rId14" action="ppaction://hlinksldjump"/>
            </p:cNvPr>
            <p:cNvSpPr/>
            <p:nvPr/>
          </p:nvSpPr>
          <p:spPr>
            <a:xfrm>
              <a:off x="914400" y="3352680"/>
              <a:ext cx="350532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Übertragungsmedien, Netzkomponen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990720" y="5105520"/>
            <a:ext cx="7729560" cy="1581120"/>
            <a:chOff x="990720" y="5105520"/>
            <a:chExt cx="7729560" cy="1581120"/>
          </a:xfrm>
        </p:grpSpPr>
        <p:pic>
          <p:nvPicPr>
            <p:cNvPr id="65" name="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7315200" y="5105520"/>
              <a:ext cx="140508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>
              <a:hlinkClick r:id="rId17" action="ppaction://hlinksldjump"/>
            </p:cNvPr>
            <p:cNvSpPr/>
            <p:nvPr/>
          </p:nvSpPr>
          <p:spPr>
            <a:xfrm>
              <a:off x="990720" y="5257800"/>
              <a:ext cx="579096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cherheit in Rechnernetzen; wirtschaftliche und soziale Bedeutu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800600" y="3352680"/>
            <a:ext cx="3352680" cy="1579680"/>
            <a:chOff x="4800600" y="3352680"/>
            <a:chExt cx="3352680" cy="1579680"/>
          </a:xfrm>
        </p:grpSpPr>
        <p:sp>
          <p:nvSpPr>
            <p:cNvPr id="68" name="">
              <a:hlinkClick r:id="rId18" action="ppaction://hlinksldjump"/>
            </p:cNvPr>
            <p:cNvSpPr/>
            <p:nvPr/>
          </p:nvSpPr>
          <p:spPr>
            <a:xfrm>
              <a:off x="4800600" y="3352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enste im Netzwerk (Interne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" descr="">
              <a:hlinkClick r:id="rId19" action="ppaction://hlinksldjump"/>
            </p:cNvPr>
            <p:cNvPicPr/>
            <p:nvPr/>
          </p:nvPicPr>
          <p:blipFill>
            <a:blip r:embed="rId20"/>
            <a:stretch/>
          </p:blipFill>
          <p:spPr>
            <a:xfrm>
              <a:off x="5486400" y="3809880"/>
              <a:ext cx="1892160" cy="1122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274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7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0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282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4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287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ie groß ist das TCP-Datenpaket und aus welchen Teilen besteht der TCP-header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990720" y="4876920"/>
            <a:ext cx="7619760" cy="687960"/>
            <a:chOff x="990720" y="4876920"/>
            <a:chExt cx="7619760" cy="687960"/>
          </a:xfrm>
        </p:grpSpPr>
        <p:sp>
          <p:nvSpPr>
            <p:cNvPr id="292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90720" y="5257800"/>
              <a:ext cx="76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36 Byte, Sequenznummer und Prüfsumm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914400" y="1066680"/>
            <a:ext cx="3352680" cy="1962360"/>
            <a:chOff x="914400" y="1066680"/>
            <a:chExt cx="3352680" cy="1962360"/>
          </a:xfrm>
        </p:grpSpPr>
        <p:pic>
          <p:nvPicPr>
            <p:cNvPr id="295" name="" descr=""/>
            <p:cNvPicPr/>
            <p:nvPr/>
          </p:nvPicPr>
          <p:blipFill>
            <a:blip r:embed="rId5"/>
            <a:stretch/>
          </p:blipFill>
          <p:spPr>
            <a:xfrm>
              <a:off x="1303200" y="1447920"/>
              <a:ext cx="250668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e Übertragung der Da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7" name="logo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299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0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5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307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9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0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312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elche Teile beinhaltet ein TCP/IP-Datenpak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914400" y="1066680"/>
            <a:ext cx="3352680" cy="1962360"/>
            <a:chOff x="914400" y="1066680"/>
            <a:chExt cx="3352680" cy="1962360"/>
          </a:xfrm>
        </p:grpSpPr>
        <p:pic>
          <p:nvPicPr>
            <p:cNvPr id="317" name="" descr=""/>
            <p:cNvPicPr/>
            <p:nvPr/>
          </p:nvPicPr>
          <p:blipFill>
            <a:blip r:embed="rId5"/>
            <a:stretch/>
          </p:blipFill>
          <p:spPr>
            <a:xfrm>
              <a:off x="1303200" y="1447920"/>
              <a:ext cx="250668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e Übertragung der Da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271476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990720" y="4876920"/>
            <a:ext cx="8152920" cy="1314360"/>
            <a:chOff x="990720" y="4876920"/>
            <a:chExt cx="8152920" cy="1314360"/>
          </a:xfrm>
        </p:grpSpPr>
        <p:grpSp>
          <p:nvGrpSpPr>
            <p:cNvPr id="321" name=""/>
            <p:cNvGrpSpPr/>
            <p:nvPr/>
          </p:nvGrpSpPr>
          <p:grpSpPr>
            <a:xfrm>
              <a:off x="990720" y="4876920"/>
              <a:ext cx="8152920" cy="687960"/>
              <a:chOff x="990720" y="4876920"/>
              <a:chExt cx="8152920" cy="687960"/>
            </a:xfrm>
          </p:grpSpPr>
          <p:sp>
            <p:nvSpPr>
              <p:cNvPr id="322" name=""/>
              <p:cNvSpPr/>
              <p:nvPr/>
            </p:nvSpPr>
            <p:spPr>
              <a:xfrm>
                <a:off x="990720" y="4876920"/>
                <a:ext cx="97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cc"/>
                    </a:solidFill>
                    <a:latin typeface="Arial"/>
                  </a:rPr>
                  <a:t>Antwor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990720" y="5257800"/>
                <a:ext cx="8152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enderadresse, Empfängeradresse, Zahl für Lebenzeit, TCP-header und Datenteil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24" name="protokoll3" descr=""/>
            <p:cNvPicPr/>
            <p:nvPr/>
          </p:nvPicPr>
          <p:blipFill>
            <a:blip r:embed="rId6"/>
            <a:stretch/>
          </p:blipFill>
          <p:spPr>
            <a:xfrm>
              <a:off x="2438280" y="5715000"/>
              <a:ext cx="3714840" cy="476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5" name="logo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327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3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3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335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7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8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340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ofür steht die Abkürzung OSI beim OSI-Schichtenmodell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990720" y="4876920"/>
            <a:ext cx="7619760" cy="687960"/>
            <a:chOff x="990720" y="4876920"/>
            <a:chExt cx="7619760" cy="687960"/>
          </a:xfrm>
        </p:grpSpPr>
        <p:sp>
          <p:nvSpPr>
            <p:cNvPr id="345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90720" y="5257800"/>
              <a:ext cx="76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pen System Interconnection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914400" y="1066680"/>
            <a:ext cx="3352680" cy="1962360"/>
            <a:chOff x="914400" y="1066680"/>
            <a:chExt cx="3352680" cy="1962360"/>
          </a:xfrm>
        </p:grpSpPr>
        <p:pic>
          <p:nvPicPr>
            <p:cNvPr id="348" name="" descr=""/>
            <p:cNvPicPr/>
            <p:nvPr/>
          </p:nvPicPr>
          <p:blipFill>
            <a:blip r:embed="rId5"/>
            <a:stretch/>
          </p:blipFill>
          <p:spPr>
            <a:xfrm>
              <a:off x="1303200" y="1447920"/>
              <a:ext cx="250668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e Übertragung der Da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0" name="logo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352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353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5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58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360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2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365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90720" y="3962520"/>
            <a:ext cx="761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ie viele Schichten besitzt das OSI-Schichtenmodell und wie heißt die unterste? Gib auch deren englische Bezeichnung a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990720" y="4876920"/>
            <a:ext cx="7619760" cy="687960"/>
            <a:chOff x="990720" y="4876920"/>
            <a:chExt cx="7619760" cy="687960"/>
          </a:xfrm>
        </p:grpSpPr>
        <p:sp>
          <p:nvSpPr>
            <p:cNvPr id="370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90720" y="5257800"/>
              <a:ext cx="76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, Bitübertragungsschicht (physical layer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914400" y="1066680"/>
            <a:ext cx="3352680" cy="1962360"/>
            <a:chOff x="914400" y="1066680"/>
            <a:chExt cx="3352680" cy="1962360"/>
          </a:xfrm>
        </p:grpSpPr>
        <p:pic>
          <p:nvPicPr>
            <p:cNvPr id="373" name="" descr=""/>
            <p:cNvPicPr/>
            <p:nvPr/>
          </p:nvPicPr>
          <p:blipFill>
            <a:blip r:embed="rId5"/>
            <a:stretch/>
          </p:blipFill>
          <p:spPr>
            <a:xfrm>
              <a:off x="1303200" y="1447920"/>
              <a:ext cx="250668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e Übertragung der Da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8344080" y="6058080"/>
            <a:ext cx="418680" cy="418680"/>
            <a:chOff x="8344080" y="6058080"/>
            <a:chExt cx="418680" cy="418680"/>
          </a:xfrm>
        </p:grpSpPr>
        <p:sp>
          <p:nvSpPr>
            <p:cNvPr id="376" name=""/>
            <p:cNvSpPr/>
            <p:nvPr/>
          </p:nvSpPr>
          <p:spPr>
            <a:xfrm>
              <a:off x="8381880" y="6095880"/>
              <a:ext cx="380880" cy="3808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>
              <a:hlinkClick r:id="rId6" action="ppaction://hlinksldjump"/>
            </p:cNvPr>
            <p:cNvSpPr/>
            <p:nvPr/>
          </p:nvSpPr>
          <p:spPr>
            <a:xfrm>
              <a:off x="8344080" y="6058080"/>
              <a:ext cx="380880" cy="38088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8" name="logo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380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381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8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6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388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1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393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elche zwei Kabelarten sind heutzutage für Netzwerksysteme am gebräuchlichsten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914400" y="1066680"/>
            <a:ext cx="3505320" cy="1316160"/>
            <a:chOff x="914400" y="1066680"/>
            <a:chExt cx="3505320" cy="1316160"/>
          </a:xfrm>
        </p:grpSpPr>
        <p:pic>
          <p:nvPicPr>
            <p:cNvPr id="398" name="" descr=""/>
            <p:cNvPicPr/>
            <p:nvPr/>
          </p:nvPicPr>
          <p:blipFill>
            <a:blip r:embed="rId5"/>
            <a:stretch/>
          </p:blipFill>
          <p:spPr>
            <a:xfrm>
              <a:off x="1523880" y="1523880"/>
              <a:ext cx="228312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914400" y="1066680"/>
              <a:ext cx="350532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Übertragungsmedien, Netzkomponen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47652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48156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990720" y="4876920"/>
            <a:ext cx="7619760" cy="1828800"/>
            <a:chOff x="990720" y="4876920"/>
            <a:chExt cx="7619760" cy="1828800"/>
          </a:xfrm>
        </p:grpSpPr>
        <p:grpSp>
          <p:nvGrpSpPr>
            <p:cNvPr id="403" name=""/>
            <p:cNvGrpSpPr/>
            <p:nvPr/>
          </p:nvGrpSpPr>
          <p:grpSpPr>
            <a:xfrm>
              <a:off x="990720" y="4876920"/>
              <a:ext cx="7619760" cy="687960"/>
              <a:chOff x="990720" y="4876920"/>
              <a:chExt cx="7619760" cy="687960"/>
            </a:xfrm>
          </p:grpSpPr>
          <p:sp>
            <p:nvSpPr>
              <p:cNvPr id="404" name=""/>
              <p:cNvSpPr/>
              <p:nvPr/>
            </p:nvSpPr>
            <p:spPr>
              <a:xfrm>
                <a:off x="990720" y="4876920"/>
                <a:ext cx="91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cc"/>
                    </a:solidFill>
                    <a:latin typeface="Arial"/>
                  </a:rPr>
                  <a:t>Antwor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990720" y="5257800"/>
                <a:ext cx="7619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hielded Twisted Pair (STP) - und Glasfaserkabel</a:t>
                </a: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1066680" y="5562720"/>
              <a:ext cx="4695840" cy="1143000"/>
              <a:chOff x="1066680" y="5562720"/>
              <a:chExt cx="4695840" cy="1143000"/>
            </a:xfrm>
          </p:grpSpPr>
          <p:pic>
            <p:nvPicPr>
              <p:cNvPr id="407" name="netzeb402a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5715000"/>
                <a:ext cx="2190960" cy="93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glasfaser" descr=""/>
              <p:cNvPicPr/>
              <p:nvPr/>
            </p:nvPicPr>
            <p:blipFill>
              <a:blip r:embed="rId7"/>
              <a:stretch/>
            </p:blipFill>
            <p:spPr>
              <a:xfrm>
                <a:off x="3581280" y="5562720"/>
                <a:ext cx="2181240" cy="114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409" name="logo" descr=""/>
          <p:cNvPicPr/>
          <p:nvPr/>
        </p:nvPicPr>
        <p:blipFill>
          <a:blip r:embed="rId8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411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1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17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419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1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2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424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elchen Stecker hat ein STP-Kabel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914400" y="1066680"/>
            <a:ext cx="3505320" cy="1316160"/>
            <a:chOff x="914400" y="1066680"/>
            <a:chExt cx="3505320" cy="1316160"/>
          </a:xfrm>
        </p:grpSpPr>
        <p:pic>
          <p:nvPicPr>
            <p:cNvPr id="429" name="" descr=""/>
            <p:cNvPicPr/>
            <p:nvPr/>
          </p:nvPicPr>
          <p:blipFill>
            <a:blip r:embed="rId5"/>
            <a:stretch/>
          </p:blipFill>
          <p:spPr>
            <a:xfrm>
              <a:off x="1523880" y="1523880"/>
              <a:ext cx="228312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914400" y="1066680"/>
              <a:ext cx="350532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Übertragungsmedien, Netzkomponen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390060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990720" y="4876920"/>
            <a:ext cx="7619760" cy="1428480"/>
            <a:chOff x="990720" y="4876920"/>
            <a:chExt cx="7619760" cy="1428480"/>
          </a:xfrm>
        </p:grpSpPr>
        <p:grpSp>
          <p:nvGrpSpPr>
            <p:cNvPr id="433" name=""/>
            <p:cNvGrpSpPr/>
            <p:nvPr/>
          </p:nvGrpSpPr>
          <p:grpSpPr>
            <a:xfrm>
              <a:off x="990720" y="4876920"/>
              <a:ext cx="7619760" cy="687960"/>
              <a:chOff x="990720" y="4876920"/>
              <a:chExt cx="7619760" cy="687960"/>
            </a:xfrm>
          </p:grpSpPr>
          <p:sp>
            <p:nvSpPr>
              <p:cNvPr id="434" name=""/>
              <p:cNvSpPr/>
              <p:nvPr/>
            </p:nvSpPr>
            <p:spPr>
              <a:xfrm>
                <a:off x="990720" y="4876920"/>
                <a:ext cx="91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cc"/>
                    </a:solidFill>
                    <a:latin typeface="Arial"/>
                  </a:rPr>
                  <a:t>Antwor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990720" y="5257800"/>
                <a:ext cx="7619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J-45 Stec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36" name="rj45" descr=""/>
            <p:cNvPicPr/>
            <p:nvPr/>
          </p:nvPicPr>
          <p:blipFill>
            <a:blip r:embed="rId6"/>
            <a:stretch/>
          </p:blipFill>
          <p:spPr>
            <a:xfrm>
              <a:off x="2895480" y="4952880"/>
              <a:ext cx="1343160" cy="1352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7" name="logo" descr=""/>
          <p:cNvPicPr/>
          <p:nvPr/>
        </p:nvPicPr>
        <p:blipFill>
          <a:blip r:embed="rId7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439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440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45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447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9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0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452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elche englische Bezeichnung trägt ein Funknetz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1066680"/>
            <a:ext cx="3505320" cy="1316160"/>
            <a:chOff x="914400" y="1066680"/>
            <a:chExt cx="3505320" cy="1316160"/>
          </a:xfrm>
        </p:grpSpPr>
        <p:pic>
          <p:nvPicPr>
            <p:cNvPr id="457" name="" descr=""/>
            <p:cNvPicPr/>
            <p:nvPr/>
          </p:nvPicPr>
          <p:blipFill>
            <a:blip r:embed="rId5"/>
            <a:stretch/>
          </p:blipFill>
          <p:spPr>
            <a:xfrm>
              <a:off x="1523880" y="1523880"/>
              <a:ext cx="228312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914400" y="1066680"/>
              <a:ext cx="350532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Übertragungsmedien, Netzkomponen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360036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990720" y="4876920"/>
            <a:ext cx="7619760" cy="1676160"/>
            <a:chOff x="990720" y="4876920"/>
            <a:chExt cx="7619760" cy="1676160"/>
          </a:xfrm>
        </p:grpSpPr>
        <p:grpSp>
          <p:nvGrpSpPr>
            <p:cNvPr id="461" name=""/>
            <p:cNvGrpSpPr/>
            <p:nvPr/>
          </p:nvGrpSpPr>
          <p:grpSpPr>
            <a:xfrm>
              <a:off x="990720" y="4876920"/>
              <a:ext cx="7619760" cy="687960"/>
              <a:chOff x="990720" y="4876920"/>
              <a:chExt cx="7619760" cy="687960"/>
            </a:xfrm>
          </p:grpSpPr>
          <p:sp>
            <p:nvSpPr>
              <p:cNvPr id="462" name=""/>
              <p:cNvSpPr/>
              <p:nvPr/>
            </p:nvSpPr>
            <p:spPr>
              <a:xfrm>
                <a:off x="990720" y="4876920"/>
                <a:ext cx="91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cc"/>
                    </a:solidFill>
                    <a:latin typeface="Arial"/>
                  </a:rPr>
                  <a:t>Antwor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990720" y="5257800"/>
                <a:ext cx="7619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Wireless LAN</a:t>
                </a: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64" name="wirelesslan" descr=""/>
            <p:cNvPicPr/>
            <p:nvPr/>
          </p:nvPicPr>
          <p:blipFill>
            <a:blip r:embed="rId6"/>
            <a:stretch/>
          </p:blipFill>
          <p:spPr>
            <a:xfrm>
              <a:off x="1066680" y="5638680"/>
              <a:ext cx="1943280" cy="914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5" name="logo" descr=""/>
          <p:cNvPicPr/>
          <p:nvPr/>
        </p:nvPicPr>
        <p:blipFill>
          <a:blip r:embed="rId7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467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468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7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73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475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7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480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990720" y="3962520"/>
            <a:ext cx="761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elche Software bzw. welches Gerät stellt die Verbindung zwischen einem Computer und dem Internet her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990720" y="4876920"/>
            <a:ext cx="7619760" cy="687960"/>
            <a:chOff x="990720" y="4876920"/>
            <a:chExt cx="7619760" cy="687960"/>
          </a:xfrm>
        </p:grpSpPr>
        <p:sp>
          <p:nvSpPr>
            <p:cNvPr id="485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90720" y="5257800"/>
              <a:ext cx="76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outer oder Proxi-Server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914400" y="1066680"/>
            <a:ext cx="3505320" cy="1316160"/>
            <a:chOff x="914400" y="1066680"/>
            <a:chExt cx="3505320" cy="1316160"/>
          </a:xfrm>
        </p:grpSpPr>
        <p:pic>
          <p:nvPicPr>
            <p:cNvPr id="488" name="" descr=""/>
            <p:cNvPicPr/>
            <p:nvPr/>
          </p:nvPicPr>
          <p:blipFill>
            <a:blip r:embed="rId5"/>
            <a:stretch/>
          </p:blipFill>
          <p:spPr>
            <a:xfrm>
              <a:off x="1523880" y="1523880"/>
              <a:ext cx="228312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914400" y="1066680"/>
              <a:ext cx="350532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Übertragungsmedien, Netzkomponen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0" name="logo" descr=""/>
          <p:cNvPicPr/>
          <p:nvPr/>
        </p:nvPicPr>
        <p:blipFill>
          <a:blip r:embed="rId6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492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493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9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98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500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2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3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505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nne Medien zur Datenübertragung über größere Strecken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914400" y="1066680"/>
            <a:ext cx="3505320" cy="1316160"/>
            <a:chOff x="914400" y="1066680"/>
            <a:chExt cx="3505320" cy="1316160"/>
          </a:xfrm>
        </p:grpSpPr>
        <p:pic>
          <p:nvPicPr>
            <p:cNvPr id="510" name="" descr=""/>
            <p:cNvPicPr/>
            <p:nvPr/>
          </p:nvPicPr>
          <p:blipFill>
            <a:blip r:embed="rId5"/>
            <a:stretch/>
          </p:blipFill>
          <p:spPr>
            <a:xfrm>
              <a:off x="1523880" y="1523880"/>
              <a:ext cx="228312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914400" y="1066680"/>
              <a:ext cx="350532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Übertragungsmedien, Netzkomponen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361944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990720" y="4876920"/>
            <a:ext cx="7619760" cy="1504800"/>
            <a:chOff x="990720" y="4876920"/>
            <a:chExt cx="7619760" cy="1504800"/>
          </a:xfrm>
        </p:grpSpPr>
        <p:grpSp>
          <p:nvGrpSpPr>
            <p:cNvPr id="514" name=""/>
            <p:cNvGrpSpPr/>
            <p:nvPr/>
          </p:nvGrpSpPr>
          <p:grpSpPr>
            <a:xfrm>
              <a:off x="990720" y="4876920"/>
              <a:ext cx="7619760" cy="687960"/>
              <a:chOff x="990720" y="4876920"/>
              <a:chExt cx="7619760" cy="687960"/>
            </a:xfrm>
          </p:grpSpPr>
          <p:sp>
            <p:nvSpPr>
              <p:cNvPr id="515" name=""/>
              <p:cNvSpPr/>
              <p:nvPr/>
            </p:nvSpPr>
            <p:spPr>
              <a:xfrm>
                <a:off x="990720" y="4876920"/>
                <a:ext cx="91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cc"/>
                    </a:solidFill>
                    <a:latin typeface="Arial"/>
                  </a:rPr>
                  <a:t>Antwor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990720" y="5257800"/>
                <a:ext cx="7619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ichtfunkanlagen, Satelliten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17" name="satellit" descr=""/>
            <p:cNvPicPr/>
            <p:nvPr/>
          </p:nvPicPr>
          <p:blipFill>
            <a:blip r:embed="rId6"/>
            <a:stretch/>
          </p:blipFill>
          <p:spPr>
            <a:xfrm>
              <a:off x="3505320" y="4952880"/>
              <a:ext cx="1904760" cy="142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8" name=""/>
          <p:cNvGrpSpPr/>
          <p:nvPr/>
        </p:nvGrpSpPr>
        <p:grpSpPr>
          <a:xfrm>
            <a:off x="8344080" y="6058080"/>
            <a:ext cx="418680" cy="418680"/>
            <a:chOff x="8344080" y="6058080"/>
            <a:chExt cx="418680" cy="418680"/>
          </a:xfrm>
        </p:grpSpPr>
        <p:sp>
          <p:nvSpPr>
            <p:cNvPr id="519" name=""/>
            <p:cNvSpPr/>
            <p:nvPr/>
          </p:nvSpPr>
          <p:spPr>
            <a:xfrm>
              <a:off x="8381880" y="6095880"/>
              <a:ext cx="380880" cy="3808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>
              <a:hlinkClick r:id="rId7" action="ppaction://hlinksldjump"/>
            </p:cNvPr>
            <p:cNvSpPr/>
            <p:nvPr/>
          </p:nvSpPr>
          <p:spPr>
            <a:xfrm>
              <a:off x="8344080" y="6058080"/>
              <a:ext cx="380880" cy="38088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1" name="logo" descr=""/>
          <p:cNvPicPr/>
          <p:nvPr/>
        </p:nvPicPr>
        <p:blipFill>
          <a:blip r:embed="rId8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523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524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52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29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531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3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4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536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nne die drei am häufígsten genutzten Internetdienste.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990720" y="4876920"/>
            <a:ext cx="7619760" cy="687960"/>
            <a:chOff x="990720" y="4876920"/>
            <a:chExt cx="7619760" cy="687960"/>
          </a:xfrm>
        </p:grpSpPr>
        <p:sp>
          <p:nvSpPr>
            <p:cNvPr id="541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990720" y="5257800"/>
              <a:ext cx="76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WW, E-Mail, Chat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914400" y="1066680"/>
            <a:ext cx="3352680" cy="1579680"/>
            <a:chOff x="914400" y="1066680"/>
            <a:chExt cx="3352680" cy="1579680"/>
          </a:xfrm>
        </p:grpSpPr>
        <p:sp>
          <p:nvSpPr>
            <p:cNvPr id="544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enste im Netzwerk (Interne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5" name="" descr=""/>
            <p:cNvPicPr/>
            <p:nvPr/>
          </p:nvPicPr>
          <p:blipFill>
            <a:blip r:embed="rId5"/>
            <a:stretch/>
          </p:blipFill>
          <p:spPr>
            <a:xfrm>
              <a:off x="1600200" y="1523880"/>
              <a:ext cx="1892160" cy="1122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6" name="logo" descr=""/>
          <p:cNvPicPr/>
          <p:nvPr/>
        </p:nvPicPr>
        <p:blipFill>
          <a:blip r:embed="rId6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71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7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7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79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914400" y="1066680"/>
            <a:ext cx="3352680" cy="1962360"/>
            <a:chOff x="914400" y="1066680"/>
            <a:chExt cx="3352680" cy="1962360"/>
          </a:xfrm>
        </p:grpSpPr>
        <p:pic>
          <p:nvPicPr>
            <p:cNvPr id="84" name="" descr=""/>
            <p:cNvPicPr/>
            <p:nvPr/>
          </p:nvPicPr>
          <p:blipFill>
            <a:blip r:embed="rId4"/>
            <a:stretch/>
          </p:blipFill>
          <p:spPr>
            <a:xfrm>
              <a:off x="1447920" y="1447920"/>
              <a:ext cx="225396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gische Struktur von Rechnernetz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87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>
              <a:hlinkClick r:id="rId5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elche Verbindungsarten von Computern kennst du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990720" y="4876920"/>
            <a:ext cx="7619760" cy="687960"/>
            <a:chOff x="990720" y="4876920"/>
            <a:chExt cx="7619760" cy="687960"/>
          </a:xfrm>
        </p:grpSpPr>
        <p:sp>
          <p:nvSpPr>
            <p:cNvPr id="92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90720" y="5257800"/>
              <a:ext cx="76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ernstruktur, Ringstruktur, Busstruktu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4" name="logo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548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549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55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54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556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8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9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561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elches Protokoll wird von einem Browser beim „Serven“ verwendet?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990720" y="4876920"/>
            <a:ext cx="7619760" cy="687960"/>
            <a:chOff x="990720" y="4876920"/>
            <a:chExt cx="7619760" cy="687960"/>
          </a:xfrm>
        </p:grpSpPr>
        <p:sp>
          <p:nvSpPr>
            <p:cNvPr id="566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990720" y="5257800"/>
              <a:ext cx="76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ttp, Hypertext-Transfer-Protocol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914400" y="1066680"/>
            <a:ext cx="3352680" cy="1579680"/>
            <a:chOff x="914400" y="1066680"/>
            <a:chExt cx="3352680" cy="1579680"/>
          </a:xfrm>
        </p:grpSpPr>
        <p:sp>
          <p:nvSpPr>
            <p:cNvPr id="569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enste im Netzwerk (Interne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0" name="" descr=""/>
            <p:cNvPicPr/>
            <p:nvPr/>
          </p:nvPicPr>
          <p:blipFill>
            <a:blip r:embed="rId5"/>
            <a:stretch/>
          </p:blipFill>
          <p:spPr>
            <a:xfrm>
              <a:off x="1600200" y="1523880"/>
              <a:ext cx="1892160" cy="1122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1" name="logo" descr=""/>
          <p:cNvPicPr/>
          <p:nvPr/>
        </p:nvPicPr>
        <p:blipFill>
          <a:blip r:embed="rId6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573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574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57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79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581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3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4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586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elches Protokoll wird bei der elektronischen Post verwendet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990720" y="4876920"/>
            <a:ext cx="7619760" cy="687960"/>
            <a:chOff x="990720" y="4876920"/>
            <a:chExt cx="7619760" cy="687960"/>
          </a:xfrm>
        </p:grpSpPr>
        <p:sp>
          <p:nvSpPr>
            <p:cNvPr id="591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990720" y="5257800"/>
              <a:ext cx="76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CP/IP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914400" y="1066680"/>
            <a:ext cx="3352680" cy="1579680"/>
            <a:chOff x="914400" y="1066680"/>
            <a:chExt cx="3352680" cy="1579680"/>
          </a:xfrm>
        </p:grpSpPr>
        <p:sp>
          <p:nvSpPr>
            <p:cNvPr id="594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enste im Netzwerk (Interne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5" name="" descr=""/>
            <p:cNvPicPr/>
            <p:nvPr/>
          </p:nvPicPr>
          <p:blipFill>
            <a:blip r:embed="rId5"/>
            <a:stretch/>
          </p:blipFill>
          <p:spPr>
            <a:xfrm>
              <a:off x="1600200" y="1523880"/>
              <a:ext cx="1892160" cy="1122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6" name="logo" descr=""/>
          <p:cNvPicPr/>
          <p:nvPr/>
        </p:nvPicPr>
        <p:blipFill>
          <a:blip r:embed="rId6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598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599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60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04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606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8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611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990720" y="3962520"/>
            <a:ext cx="761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elche Bedeutung haben bei der elektronischen Post die kürzel „cc“ und bcc“ und wofür stehen diese Abkürzungen?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990720" y="4876920"/>
            <a:ext cx="7619760" cy="1438560"/>
            <a:chOff x="990720" y="4876920"/>
            <a:chExt cx="7619760" cy="1438560"/>
          </a:xfrm>
        </p:grpSpPr>
        <p:sp>
          <p:nvSpPr>
            <p:cNvPr id="616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990720" y="5257800"/>
              <a:ext cx="761976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„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c“ steht für „carbon copy“; Eine weitere Person oder mehrere bekommen eine Kopie des Mail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„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cc“ steht für „blind carbon copy“; Eine weitere Person oder mehrere bekommen eine Kopie des Mails, wobei der Adressat dies nicht erkennen kann.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914400" y="1066680"/>
            <a:ext cx="3352680" cy="1579680"/>
            <a:chOff x="914400" y="1066680"/>
            <a:chExt cx="3352680" cy="1579680"/>
          </a:xfrm>
        </p:grpSpPr>
        <p:sp>
          <p:nvSpPr>
            <p:cNvPr id="619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enste im Netzwerk (Interne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0" name="" descr=""/>
            <p:cNvPicPr/>
            <p:nvPr/>
          </p:nvPicPr>
          <p:blipFill>
            <a:blip r:embed="rId5"/>
            <a:stretch/>
          </p:blipFill>
          <p:spPr>
            <a:xfrm>
              <a:off x="1600200" y="1523880"/>
              <a:ext cx="1892160" cy="1122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1" name="logo" descr=""/>
          <p:cNvPicPr/>
          <p:nvPr/>
        </p:nvPicPr>
        <p:blipFill>
          <a:blip r:embed="rId6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623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624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62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29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631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3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4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636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990720" y="3962520"/>
            <a:ext cx="761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it welchem gängigen Internetdienst lassen sich Daten auf einen Server „uploaden“ und wofür steht dieser Ausdruck?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990720" y="4876920"/>
            <a:ext cx="7619760" cy="687960"/>
            <a:chOff x="990720" y="4876920"/>
            <a:chExt cx="7619760" cy="687960"/>
          </a:xfrm>
        </p:grpSpPr>
        <p:sp>
          <p:nvSpPr>
            <p:cNvPr id="641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990720" y="5257800"/>
              <a:ext cx="76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TP, file transfer protocol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914400" y="1066680"/>
            <a:ext cx="3352680" cy="1579680"/>
            <a:chOff x="914400" y="1066680"/>
            <a:chExt cx="3352680" cy="1579680"/>
          </a:xfrm>
        </p:grpSpPr>
        <p:sp>
          <p:nvSpPr>
            <p:cNvPr id="644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enste im Netzwerk (Interne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5" name="" descr=""/>
            <p:cNvPicPr/>
            <p:nvPr/>
          </p:nvPicPr>
          <p:blipFill>
            <a:blip r:embed="rId5"/>
            <a:stretch/>
          </p:blipFill>
          <p:spPr>
            <a:xfrm>
              <a:off x="1600200" y="1523880"/>
              <a:ext cx="1892160" cy="1122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6" name="logo" descr=""/>
          <p:cNvPicPr/>
          <p:nvPr/>
        </p:nvPicPr>
        <p:blipFill>
          <a:blip r:embed="rId6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648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649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65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4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656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8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9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661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nne die Internetadressen von 4 Suchmaschinen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990720" y="4876920"/>
            <a:ext cx="7619760" cy="901080"/>
            <a:chOff x="990720" y="4876920"/>
            <a:chExt cx="7619760" cy="901080"/>
          </a:xfrm>
        </p:grpSpPr>
        <p:sp>
          <p:nvSpPr>
            <p:cNvPr id="666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990720" y="5257800"/>
              <a:ext cx="7619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ww.altavista.de, www.fireball.de, www.google.de, www.lycos.de, www.yahoo.de, www.blinde-kuh.de, ...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914400" y="1066680"/>
            <a:ext cx="3352680" cy="1579680"/>
            <a:chOff x="914400" y="1066680"/>
            <a:chExt cx="3352680" cy="1579680"/>
          </a:xfrm>
        </p:grpSpPr>
        <p:sp>
          <p:nvSpPr>
            <p:cNvPr id="669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enste im Netzwerk (Interne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0" name="" descr=""/>
            <p:cNvPicPr/>
            <p:nvPr/>
          </p:nvPicPr>
          <p:blipFill>
            <a:blip r:embed="rId5"/>
            <a:stretch/>
          </p:blipFill>
          <p:spPr>
            <a:xfrm>
              <a:off x="1600200" y="1523880"/>
              <a:ext cx="1892160" cy="112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1" name=""/>
          <p:cNvGrpSpPr/>
          <p:nvPr/>
        </p:nvGrpSpPr>
        <p:grpSpPr>
          <a:xfrm>
            <a:off x="8344080" y="6058080"/>
            <a:ext cx="418680" cy="418680"/>
            <a:chOff x="8344080" y="6058080"/>
            <a:chExt cx="418680" cy="418680"/>
          </a:xfrm>
        </p:grpSpPr>
        <p:sp>
          <p:nvSpPr>
            <p:cNvPr id="672" name=""/>
            <p:cNvSpPr/>
            <p:nvPr/>
          </p:nvSpPr>
          <p:spPr>
            <a:xfrm>
              <a:off x="8381880" y="6095880"/>
              <a:ext cx="380880" cy="3808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>
              <a:hlinkClick r:id="rId6" action="ppaction://hlinksldjump"/>
            </p:cNvPr>
            <p:cNvSpPr/>
            <p:nvPr/>
          </p:nvSpPr>
          <p:spPr>
            <a:xfrm>
              <a:off x="8344080" y="6058080"/>
              <a:ext cx="380880" cy="38088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74" name="logo" descr=""/>
          <p:cNvPicPr/>
          <p:nvPr/>
        </p:nvPicPr>
        <p:blipFill>
          <a:blip r:embed="rId7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676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677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678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68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2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684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6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689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ozu dient eine Firewall?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990720" y="4876920"/>
            <a:ext cx="7619760" cy="901080"/>
            <a:chOff x="990720" y="4876920"/>
            <a:chExt cx="7619760" cy="901080"/>
          </a:xfrm>
        </p:grpSpPr>
        <p:sp>
          <p:nvSpPr>
            <p:cNvPr id="694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990720" y="5257800"/>
              <a:ext cx="7619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ie soll den Datentransfer überwachen und unerwünschte Zugriffe von außen vermeiden. Zusammen mit dem Betriebsystem lassen sich mit Firewalls Fremdattacken verhindern.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96" name="" descr=""/>
          <p:cNvPicPr/>
          <p:nvPr/>
        </p:nvPicPr>
        <p:blipFill>
          <a:blip r:embed="rId5"/>
          <a:stretch/>
        </p:blipFill>
        <p:spPr>
          <a:xfrm>
            <a:off x="914400" y="1523880"/>
            <a:ext cx="1405080" cy="158112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914400" y="1066680"/>
            <a:ext cx="579132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cherheit in Rechnernetzen; wirtschaftliche und sozial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8" name="logo" descr=""/>
          <p:cNvPicPr/>
          <p:nvPr/>
        </p:nvPicPr>
        <p:blipFill>
          <a:blip r:embed="rId6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9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700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701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70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06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708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0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713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990720" y="3962520"/>
            <a:ext cx="761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ie heißen die Programm, die selbstständig 190er-Nummern anwählen und wie schütz man sich von ihnen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990720" y="4876920"/>
            <a:ext cx="7619760" cy="1225440"/>
            <a:chOff x="990720" y="4876920"/>
            <a:chExt cx="7619760" cy="1225440"/>
          </a:xfrm>
        </p:grpSpPr>
        <p:sp>
          <p:nvSpPr>
            <p:cNvPr id="718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990720" y="5257800"/>
              <a:ext cx="76197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ler-Program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nche Virenscanner beinhalten einen Schutz gegen Dialer-Programme, es gibt eigene Anti-Dialer-Programm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0" name="" descr=""/>
          <p:cNvPicPr/>
          <p:nvPr/>
        </p:nvPicPr>
        <p:blipFill>
          <a:blip r:embed="rId5"/>
          <a:stretch/>
        </p:blipFill>
        <p:spPr>
          <a:xfrm>
            <a:off x="914400" y="1523880"/>
            <a:ext cx="1405080" cy="158112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914400" y="1066680"/>
            <a:ext cx="579132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cherheit in Rechnernetzen; wirtschaftliche und sozial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2" name="logo" descr=""/>
          <p:cNvPicPr/>
          <p:nvPr/>
        </p:nvPicPr>
        <p:blipFill>
          <a:blip r:embed="rId6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724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725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72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30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732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4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737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9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990720" y="3962520"/>
            <a:ext cx="761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ofür steht die Abkürzung SPAM und worum handelt es sich dabei? Welche Arten unterscheidet man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990720" y="4876920"/>
            <a:ext cx="7619760" cy="1549800"/>
            <a:chOff x="990720" y="4876920"/>
            <a:chExt cx="7619760" cy="1549800"/>
          </a:xfrm>
        </p:grpSpPr>
        <p:sp>
          <p:nvSpPr>
            <p:cNvPr id="742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990720" y="5257800"/>
              <a:ext cx="7619760" cy="11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„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iced 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c and H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m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 handelt sich um unerwünschte Mail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n unterscheidet kommerzielle Spams, Kettenbriefe/Viruswarnungen und durch Viren versandte E-Mails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4" name="" descr=""/>
          <p:cNvPicPr/>
          <p:nvPr/>
        </p:nvPicPr>
        <p:blipFill>
          <a:blip r:embed="rId5"/>
          <a:stretch/>
        </p:blipFill>
        <p:spPr>
          <a:xfrm>
            <a:off x="914400" y="1523880"/>
            <a:ext cx="1405080" cy="1581120"/>
          </a:xfrm>
          <a:prstGeom prst="rect">
            <a:avLst/>
          </a:prstGeom>
          <a:ln w="0">
            <a:noFill/>
          </a:ln>
        </p:spPr>
      </p:pic>
      <p:sp>
        <p:nvSpPr>
          <p:cNvPr id="745" name=""/>
          <p:cNvSpPr/>
          <p:nvPr/>
        </p:nvSpPr>
        <p:spPr>
          <a:xfrm>
            <a:off x="914400" y="1066680"/>
            <a:ext cx="579132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cherheit in Rechnernetzen; wirtschaftliche und sozial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6" name="logo" descr=""/>
          <p:cNvPicPr/>
          <p:nvPr/>
        </p:nvPicPr>
        <p:blipFill>
          <a:blip r:embed="rId6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7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748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749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75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54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756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8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761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elche Bereiche der weltweiten Vernetzung nehmen einen wirtschaftlichen Einflus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990720" y="4876920"/>
            <a:ext cx="7619760" cy="901080"/>
            <a:chOff x="990720" y="4876920"/>
            <a:chExt cx="7619760" cy="901080"/>
          </a:xfrm>
        </p:grpSpPr>
        <p:sp>
          <p:nvSpPr>
            <p:cNvPr id="766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990720" y="5257800"/>
              <a:ext cx="7619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nline-Einkauf, Elektronischer Zahlungsverkehr im Internet, Reisebuchungen, Weltweite Eigendarstellung der Firmen im Internet, Kommerzielle Werbung im Internet, oder andere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8" name="" descr=""/>
          <p:cNvPicPr/>
          <p:nvPr/>
        </p:nvPicPr>
        <p:blipFill>
          <a:blip r:embed="rId5"/>
          <a:stretch/>
        </p:blipFill>
        <p:spPr>
          <a:xfrm>
            <a:off x="914400" y="1523880"/>
            <a:ext cx="1405080" cy="1581120"/>
          </a:xfrm>
          <a:prstGeom prst="rect">
            <a:avLst/>
          </a:prstGeom>
          <a:ln w="0">
            <a:noFill/>
          </a:ln>
        </p:spPr>
      </p:pic>
      <p:sp>
        <p:nvSpPr>
          <p:cNvPr id="769" name=""/>
          <p:cNvSpPr/>
          <p:nvPr/>
        </p:nvSpPr>
        <p:spPr>
          <a:xfrm>
            <a:off x="914400" y="1066680"/>
            <a:ext cx="579132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cherheit in Rechnernetzen; wirtschaftliche und sozial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logo" descr=""/>
          <p:cNvPicPr/>
          <p:nvPr/>
        </p:nvPicPr>
        <p:blipFill>
          <a:blip r:embed="rId6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772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773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774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77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78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780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2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785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ür welche sozialen Bereiche hat die weltweite Vernetzung eine Bedeutung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990720" y="4876920"/>
            <a:ext cx="7619760" cy="687960"/>
            <a:chOff x="990720" y="4876920"/>
            <a:chExt cx="7619760" cy="687960"/>
          </a:xfrm>
        </p:grpSpPr>
        <p:sp>
          <p:nvSpPr>
            <p:cNvPr id="790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990720" y="5257800"/>
              <a:ext cx="76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rbeit, Lernen, gesellschaftliche Kommunikation sowie Lebensstandard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2" name="" descr=""/>
          <p:cNvPicPr/>
          <p:nvPr/>
        </p:nvPicPr>
        <p:blipFill>
          <a:blip r:embed="rId5"/>
          <a:stretch/>
        </p:blipFill>
        <p:spPr>
          <a:xfrm>
            <a:off x="914400" y="1523880"/>
            <a:ext cx="1405080" cy="15811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914400" y="1066680"/>
            <a:ext cx="579132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cherheit in Rechnernetzen; wirtschaftliche und sozial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8344080" y="6058080"/>
            <a:ext cx="418680" cy="418680"/>
            <a:chOff x="8344080" y="6058080"/>
            <a:chExt cx="418680" cy="418680"/>
          </a:xfrm>
        </p:grpSpPr>
        <p:sp>
          <p:nvSpPr>
            <p:cNvPr id="795" name=""/>
            <p:cNvSpPr/>
            <p:nvPr/>
          </p:nvSpPr>
          <p:spPr>
            <a:xfrm>
              <a:off x="8381880" y="6095880"/>
              <a:ext cx="380880" cy="3808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>
              <a:hlinkClick r:id="rId6" action="ppaction://hlinksldjump"/>
            </p:cNvPr>
            <p:cNvSpPr/>
            <p:nvPr/>
          </p:nvSpPr>
          <p:spPr>
            <a:xfrm>
              <a:off x="8344080" y="6058080"/>
              <a:ext cx="380880" cy="38088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7" name="logo" descr=""/>
          <p:cNvPicPr/>
          <p:nvPr/>
        </p:nvPicPr>
        <p:blipFill>
          <a:blip r:embed="rId7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96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97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0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2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104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914400" y="1066680"/>
            <a:ext cx="3352680" cy="1962360"/>
            <a:chOff x="914400" y="1066680"/>
            <a:chExt cx="3352680" cy="1962360"/>
          </a:xfrm>
        </p:grpSpPr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1447920" y="1447920"/>
              <a:ext cx="225396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gische Struktur von Rechnernetz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112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>
              <a:hlinkClick r:id="rId5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elche anderer Bezeichnung gibt es für den Begriff „Verbindungsarten“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90720" y="4876920"/>
            <a:ext cx="7619760" cy="687960"/>
            <a:chOff x="990720" y="4876920"/>
            <a:chExt cx="7619760" cy="687960"/>
          </a:xfrm>
        </p:grpSpPr>
        <p:sp>
          <p:nvSpPr>
            <p:cNvPr id="117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90720" y="5257800"/>
              <a:ext cx="76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opologi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" name="logo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121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2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7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129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914400" y="1066680"/>
            <a:ext cx="3352680" cy="1962360"/>
            <a:chOff x="914400" y="1066680"/>
            <a:chExt cx="3352680" cy="1962360"/>
          </a:xfrm>
        </p:grpSpPr>
        <p:pic>
          <p:nvPicPr>
            <p:cNvPr id="134" name="" descr=""/>
            <p:cNvPicPr/>
            <p:nvPr/>
          </p:nvPicPr>
          <p:blipFill>
            <a:blip r:embed="rId4"/>
            <a:stretch/>
          </p:blipFill>
          <p:spPr>
            <a:xfrm>
              <a:off x="1447920" y="1447920"/>
              <a:ext cx="225396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gische Struktur von Rechnernetz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137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>
              <a:hlinkClick r:id="rId5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3962520"/>
            <a:ext cx="761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elches Verbindungsmaterial wird zum Aufbau eines Rechnernetzes mit 3 PCs und einem Server benötigt und wie nennt man ein solches Netzwerk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990720" y="4876920"/>
            <a:ext cx="8152920" cy="1012320"/>
            <a:chOff x="990720" y="4876920"/>
            <a:chExt cx="8152920" cy="1012320"/>
          </a:xfrm>
        </p:grpSpPr>
        <p:sp>
          <p:nvSpPr>
            <p:cNvPr id="142" name=""/>
            <p:cNvSpPr/>
            <p:nvPr/>
          </p:nvSpPr>
          <p:spPr>
            <a:xfrm>
              <a:off x="990720" y="4876920"/>
              <a:ext cx="97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90720" y="5257800"/>
              <a:ext cx="81529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Netzkabel (Cat5, STP) , 1 Hub bzw. Switch, 1 Netzkabel für die Verbindung vom Server zum Hu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ient-Server-Netzwerk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4" name="logo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146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2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154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914400" y="1066680"/>
            <a:ext cx="3352680" cy="1962360"/>
            <a:chOff x="914400" y="1066680"/>
            <a:chExt cx="3352680" cy="1962360"/>
          </a:xfrm>
        </p:grpSpPr>
        <p:pic>
          <p:nvPicPr>
            <p:cNvPr id="159" name="" descr=""/>
            <p:cNvPicPr/>
            <p:nvPr/>
          </p:nvPicPr>
          <p:blipFill>
            <a:blip r:embed="rId4"/>
            <a:stretch/>
          </p:blipFill>
          <p:spPr>
            <a:xfrm>
              <a:off x="1447920" y="1447920"/>
              <a:ext cx="225396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gische Struktur von Rechnernetz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162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>
              <a:hlinkClick r:id="rId5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elchen Namen trägt ein Netzwerk zwischen mehreren PCs ohne eine Server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990720" y="4876920"/>
            <a:ext cx="7619760" cy="687960"/>
            <a:chOff x="990720" y="4876920"/>
            <a:chExt cx="7619760" cy="687960"/>
          </a:xfrm>
        </p:grpSpPr>
        <p:sp>
          <p:nvSpPr>
            <p:cNvPr id="167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90720" y="5257800"/>
              <a:ext cx="76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eer-to-peer-Netzwerk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9" name="logo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171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7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7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179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914400" y="1066680"/>
            <a:ext cx="3352680" cy="1962360"/>
            <a:chOff x="914400" y="1066680"/>
            <a:chExt cx="3352680" cy="1962360"/>
          </a:xfrm>
        </p:grpSpPr>
        <p:pic>
          <p:nvPicPr>
            <p:cNvPr id="184" name="" descr=""/>
            <p:cNvPicPr/>
            <p:nvPr/>
          </p:nvPicPr>
          <p:blipFill>
            <a:blip r:embed="rId4"/>
            <a:stretch/>
          </p:blipFill>
          <p:spPr>
            <a:xfrm>
              <a:off x="1447920" y="1447920"/>
              <a:ext cx="225396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gische Struktur von Rechnernetz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187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>
              <a:hlinkClick r:id="rId5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ofür stehen die Abkürzungen „LAN“ und GAN“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990720" y="4876920"/>
            <a:ext cx="7619760" cy="687960"/>
            <a:chOff x="990720" y="4876920"/>
            <a:chExt cx="7619760" cy="687960"/>
          </a:xfrm>
        </p:grpSpPr>
        <p:sp>
          <p:nvSpPr>
            <p:cNvPr id="192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90720" y="5257800"/>
              <a:ext cx="76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ocal area network, global area network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4" name="logo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196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0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2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204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914400" y="1066680"/>
            <a:ext cx="3352680" cy="1962360"/>
            <a:chOff x="914400" y="1066680"/>
            <a:chExt cx="3352680" cy="1962360"/>
          </a:xfrm>
        </p:grpSpPr>
        <p:pic>
          <p:nvPicPr>
            <p:cNvPr id="209" name="" descr=""/>
            <p:cNvPicPr/>
            <p:nvPr/>
          </p:nvPicPr>
          <p:blipFill>
            <a:blip r:embed="rId4"/>
            <a:stretch/>
          </p:blipFill>
          <p:spPr>
            <a:xfrm>
              <a:off x="1447920" y="1447920"/>
              <a:ext cx="225396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gische Struktur von Rechnernetz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212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>
              <a:hlinkClick r:id="rId5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90720" y="3962520"/>
            <a:ext cx="76197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) Wie lautet die größtmögliche  IP-Adress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) Wie viele verschiedene IP-Adressen sind mögli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) Welchen Namen hat der erste Teil einer IP-Adresse und wie nennt man den Rest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990720" y="5229360"/>
            <a:ext cx="7619760" cy="1336680"/>
            <a:chOff x="990720" y="5229360"/>
            <a:chExt cx="7619760" cy="1336680"/>
          </a:xfrm>
        </p:grpSpPr>
        <p:sp>
          <p:nvSpPr>
            <p:cNvPr id="217" name=""/>
            <p:cNvSpPr/>
            <p:nvPr/>
          </p:nvSpPr>
          <p:spPr>
            <a:xfrm>
              <a:off x="990720" y="522936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90720" y="5610240"/>
              <a:ext cx="761976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) 255.255.255.25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) 256 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4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4.294.967.29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) Netzwerkanteil, Hostantei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9" name="logo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221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2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7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229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1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2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914400" y="1066680"/>
            <a:ext cx="3352680" cy="1962360"/>
            <a:chOff x="914400" y="1066680"/>
            <a:chExt cx="3352680" cy="1962360"/>
          </a:xfrm>
        </p:grpSpPr>
        <p:pic>
          <p:nvPicPr>
            <p:cNvPr id="234" name="" descr=""/>
            <p:cNvPicPr/>
            <p:nvPr/>
          </p:nvPicPr>
          <p:blipFill>
            <a:blip r:embed="rId4"/>
            <a:stretch/>
          </p:blipFill>
          <p:spPr>
            <a:xfrm>
              <a:off x="1447920" y="1447920"/>
              <a:ext cx="225396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gische Struktur von Rechnernetz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237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>
              <a:hlinkClick r:id="rId5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3962520"/>
            <a:ext cx="761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o steht in Deutschland der „top level domain-server und welchen Namen trägt die zugehörige Institution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990720" y="4876920"/>
            <a:ext cx="7619760" cy="687960"/>
            <a:chOff x="990720" y="4876920"/>
            <a:chExt cx="7619760" cy="687960"/>
          </a:xfrm>
        </p:grpSpPr>
        <p:sp>
          <p:nvSpPr>
            <p:cNvPr id="242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90720" y="5257800"/>
              <a:ext cx="76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arlsruhe, DENIC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344080" y="6058080"/>
            <a:ext cx="418680" cy="418680"/>
            <a:chOff x="8344080" y="6058080"/>
            <a:chExt cx="418680" cy="418680"/>
          </a:xfrm>
        </p:grpSpPr>
        <p:sp>
          <p:nvSpPr>
            <p:cNvPr id="245" name=""/>
            <p:cNvSpPr/>
            <p:nvPr/>
          </p:nvSpPr>
          <p:spPr>
            <a:xfrm>
              <a:off x="8381880" y="6095880"/>
              <a:ext cx="380880" cy="3808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>
              <a:hlinkClick r:id="rId6" action="ppaction://hlinksldjump"/>
            </p:cNvPr>
            <p:cNvSpPr/>
            <p:nvPr/>
          </p:nvSpPr>
          <p:spPr>
            <a:xfrm>
              <a:off x="8344080" y="6058080"/>
              <a:ext cx="380880" cy="38088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7" name="logo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249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250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5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5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257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9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0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262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ofür steht die Abkürzung TCP/IP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990720" y="4876920"/>
            <a:ext cx="7619760" cy="687960"/>
            <a:chOff x="990720" y="4876920"/>
            <a:chExt cx="7619760" cy="687960"/>
          </a:xfrm>
        </p:grpSpPr>
        <p:sp>
          <p:nvSpPr>
            <p:cNvPr id="267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90720" y="5257800"/>
              <a:ext cx="76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ransmission Control Protocol Internet Protocol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914400" y="1066680"/>
            <a:ext cx="3352680" cy="1962360"/>
            <a:chOff x="914400" y="1066680"/>
            <a:chExt cx="3352680" cy="1962360"/>
          </a:xfrm>
        </p:grpSpPr>
        <p:pic>
          <p:nvPicPr>
            <p:cNvPr id="270" name="" descr=""/>
            <p:cNvPicPr/>
            <p:nvPr/>
          </p:nvPicPr>
          <p:blipFill>
            <a:blip r:embed="rId5"/>
            <a:stretch/>
          </p:blipFill>
          <p:spPr>
            <a:xfrm>
              <a:off x="1303200" y="1447920"/>
              <a:ext cx="250668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e Übertragung der Da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2" name="logo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9T09:19:52Z</dcterms:created>
  <dc:creator>Peter Hausladen</dc:creator>
  <dc:description/>
  <dc:language>en-US</dc:language>
  <cp:lastModifiedBy>Peter Hausladen</cp:lastModifiedBy>
  <dcterms:modified xsi:type="dcterms:W3CDTF">2003-10-31T13:08:12Z</dcterms:modified>
  <cp:revision>7</cp:revision>
  <dc:subject/>
  <dc:title>PowerPoint-Präsentation</dc:title>
</cp:coreProperties>
</file>