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DBB-30D8-47EE-8B1A-9E702CA4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3D6-625A-416A-A875-AE924479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8E9-A5D0-4DE5-86AB-60C4C4E5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7B1-7ABB-44D6-8042-6F204CFA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16B-45B5-44DA-A34C-E407F10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34B-067B-4586-803C-7B342115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DFC-DCCF-433B-ACFB-687E4C0D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7D0-AE60-4BFB-89BB-7E51A022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2DF-29D8-4F16-BC8A-11A5E63B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5AA-F6CC-4AD5-8F39-B964C79B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009-2647-4D12-A1F5-F9B1437A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DA7-FAD7-4734-B85F-1952456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2B75-09F0-41A1-91F6-33CC11EFC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image" Target="../media/image5.png"/><Relationship Id="rId8" Type="http://schemas.openxmlformats.org/officeDocument/2006/relationships/slide" Target="slide2.xml"/><Relationship Id="rId9" Type="http://schemas.openxmlformats.org/officeDocument/2006/relationships/slide" Target="slide9.xml"/><Relationship Id="rId10" Type="http://schemas.openxmlformats.org/officeDocument/2006/relationships/image" Target="../media/image6.png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image" Target="../media/image7.png"/><Relationship Id="rId14" Type="http://schemas.openxmlformats.org/officeDocument/2006/relationships/slide" Target="slide14.xml"/><Relationship Id="rId15" Type="http://schemas.openxmlformats.org/officeDocument/2006/relationships/slide" Target="slide25.xml"/><Relationship Id="rId16" Type="http://schemas.openxmlformats.org/officeDocument/2006/relationships/image" Target="../media/image8.png"/><Relationship Id="rId17" Type="http://schemas.openxmlformats.org/officeDocument/2006/relationships/slide" Target="slide25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5.jpe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56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>
              <a:hlinkClick r:id="rId8" action="ppaction://hlinksldjump"/>
            </p:cNvPr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800600" y="1063800"/>
            <a:ext cx="3352680" cy="1961640"/>
            <a:chOff x="4800600" y="1063800"/>
            <a:chExt cx="3352680" cy="1961640"/>
          </a:xfrm>
        </p:grpSpPr>
        <p:pic>
          <p:nvPicPr>
            <p:cNvPr id="59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189400" y="1444680"/>
              <a:ext cx="2506680" cy="15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>
              <a:hlinkClick r:id="rId11" action="ppaction://hlinksldjump"/>
            </p:cNvPr>
            <p:cNvSpPr/>
            <p:nvPr/>
          </p:nvSpPr>
          <p:spPr>
            <a:xfrm>
              <a:off x="4800600" y="106380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14400" y="3352680"/>
            <a:ext cx="3505320" cy="1316160"/>
            <a:chOff x="914400" y="3352680"/>
            <a:chExt cx="3505320" cy="1316160"/>
          </a:xfrm>
        </p:grpSpPr>
        <p:pic>
          <p:nvPicPr>
            <p:cNvPr id="62" name="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523880" y="3809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>
              <a:hlinkClick r:id="rId14" action="ppaction://hlinksldjump"/>
            </p:cNvPr>
            <p:cNvSpPr/>
            <p:nvPr/>
          </p:nvSpPr>
          <p:spPr>
            <a:xfrm>
              <a:off x="914400" y="3352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90720" y="5105520"/>
            <a:ext cx="7729560" cy="1581120"/>
            <a:chOff x="990720" y="5105520"/>
            <a:chExt cx="7729560" cy="1581120"/>
          </a:xfrm>
        </p:grpSpPr>
        <p:pic>
          <p:nvPicPr>
            <p:cNvPr id="65" name="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15200" y="5105520"/>
              <a:ext cx="14050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>
              <a:hlinkClick r:id="rId17" action="ppaction://hlinksldjump"/>
            </p:cNvPr>
            <p:cNvSpPr/>
            <p:nvPr/>
          </p:nvSpPr>
          <p:spPr>
            <a:xfrm>
              <a:off x="990720" y="5257800"/>
              <a:ext cx="579096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cherheit in Rechnernetzen; wirtschaftliche und soziale Bedeu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800600" y="3352680"/>
            <a:ext cx="3352680" cy="1579680"/>
            <a:chOff x="4800600" y="3352680"/>
            <a:chExt cx="3352680" cy="1579680"/>
          </a:xfrm>
        </p:grpSpPr>
        <p:sp>
          <p:nvSpPr>
            <p:cNvPr id="68" name="">
              <a:hlinkClick r:id="rId18" action="ppaction://hlinksldjump"/>
            </p:cNvPr>
            <p:cNvSpPr/>
            <p:nvPr/>
          </p:nvSpPr>
          <p:spPr>
            <a:xfrm>
              <a:off x="4800600" y="3352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86400" y="3809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74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0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82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8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 groß ist das TCP-Datenpaket und aus welchen Teilen besteht der TCP-heade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29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6 Byte, Sequenznummer und Prüfsu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95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99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07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1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Teile beinhaltet ein TCP/IP-Datenpa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7147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90720" y="4876920"/>
            <a:ext cx="8152920" cy="1314360"/>
            <a:chOff x="990720" y="4876920"/>
            <a:chExt cx="8152920" cy="1314360"/>
          </a:xfrm>
        </p:grpSpPr>
        <p:grpSp>
          <p:nvGrpSpPr>
            <p:cNvPr id="321" name=""/>
            <p:cNvGrpSpPr/>
            <p:nvPr/>
          </p:nvGrpSpPr>
          <p:grpSpPr>
            <a:xfrm>
              <a:off x="990720" y="4876920"/>
              <a:ext cx="8152920" cy="687960"/>
              <a:chOff x="990720" y="4876920"/>
              <a:chExt cx="8152920" cy="687960"/>
            </a:xfrm>
          </p:grpSpPr>
          <p:sp>
            <p:nvSpPr>
              <p:cNvPr id="322" name=""/>
              <p:cNvSpPr/>
              <p:nvPr/>
            </p:nvSpPr>
            <p:spPr>
              <a:xfrm>
                <a:off x="990720" y="4876920"/>
                <a:ext cx="97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90720" y="5257800"/>
                <a:ext cx="815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nderadresse, Empfängeradresse, Zahl für Lebenzeit, TCP-header und Datenteil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4" name="protokoll3" descr=""/>
            <p:cNvPicPr/>
            <p:nvPr/>
          </p:nvPicPr>
          <p:blipFill>
            <a:blip r:embed="rId6"/>
            <a:stretch/>
          </p:blipFill>
          <p:spPr>
            <a:xfrm>
              <a:off x="2438280" y="5715000"/>
              <a:ext cx="3714840" cy="4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5" name="logo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327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3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35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40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t die Abkürzung OSI beim OSI-Schichtenmodell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345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 System Interconnectio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348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35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6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65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 viele Schichten besitzt das OSI-Schichtenmodell und wie heißt die unterste? Gib auch deren englische Bezeichnung a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370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, Bitübertragungsschicht (physical layer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373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376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logo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380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6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88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93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zwei Kabelarten sind heutzutage für Netzwerksysteme am gebräuchlichsten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398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4765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8156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90720" y="4876920"/>
            <a:ext cx="7619760" cy="1828800"/>
            <a:chOff x="990720" y="4876920"/>
            <a:chExt cx="7619760" cy="1828800"/>
          </a:xfrm>
        </p:grpSpPr>
        <p:grpSp>
          <p:nvGrpSpPr>
            <p:cNvPr id="403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404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hielded Twisted Pair (STP) - und Glasfaserkabel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066680" y="5562720"/>
              <a:ext cx="4695840" cy="1143000"/>
              <a:chOff x="1066680" y="5562720"/>
              <a:chExt cx="4695840" cy="1143000"/>
            </a:xfrm>
          </p:grpSpPr>
          <p:pic>
            <p:nvPicPr>
              <p:cNvPr id="407" name="netzeb402a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5715000"/>
                <a:ext cx="219096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glasfaser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1280" y="5562720"/>
                <a:ext cx="21812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09" name="logo" descr=""/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41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424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n Stecker hat ein STP-Kabe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429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90060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90720" y="4876920"/>
            <a:ext cx="7619760" cy="1428480"/>
            <a:chOff x="990720" y="4876920"/>
            <a:chExt cx="7619760" cy="1428480"/>
          </a:xfrm>
        </p:grpSpPr>
        <p:grpSp>
          <p:nvGrpSpPr>
            <p:cNvPr id="433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434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J-45 Stec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6" name="rj45" descr=""/>
            <p:cNvPicPr/>
            <p:nvPr/>
          </p:nvPicPr>
          <p:blipFill>
            <a:blip r:embed="rId6"/>
            <a:stretch/>
          </p:blipFill>
          <p:spPr>
            <a:xfrm>
              <a:off x="2895480" y="4952880"/>
              <a:ext cx="1343160" cy="135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39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5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447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45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englische Bezeichnung trägt ein Funknetz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457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6003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990720" y="4876920"/>
            <a:ext cx="7619760" cy="1676160"/>
            <a:chOff x="990720" y="4876920"/>
            <a:chExt cx="7619760" cy="1676160"/>
          </a:xfrm>
        </p:grpSpPr>
        <p:grpSp>
          <p:nvGrpSpPr>
            <p:cNvPr id="461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462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ireless LAN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4" name="wirelesslan" descr=""/>
            <p:cNvPicPr/>
            <p:nvPr/>
          </p:nvPicPr>
          <p:blipFill>
            <a:blip r:embed="rId6"/>
            <a:stretch/>
          </p:blipFill>
          <p:spPr>
            <a:xfrm>
              <a:off x="1066680" y="5638680"/>
              <a:ext cx="194328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5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67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3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475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480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Software bzw. welches Gerät stellt die Verbindung zwischen einem Computer und dem Internet her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485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outer oder Proxi-Server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488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0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9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0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05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nne Medien zur Datenübertragung über größere Strecken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510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3619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990720" y="4876920"/>
            <a:ext cx="7619760" cy="1504800"/>
            <a:chOff x="990720" y="4876920"/>
            <a:chExt cx="7619760" cy="1504800"/>
          </a:xfrm>
        </p:grpSpPr>
        <p:grpSp>
          <p:nvGrpSpPr>
            <p:cNvPr id="514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515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ichtfunkanlagen, Satellite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7" name="satellit" descr=""/>
            <p:cNvPicPr/>
            <p:nvPr/>
          </p:nvPicPr>
          <p:blipFill>
            <a:blip r:embed="rId6"/>
            <a:stretch/>
          </p:blipFill>
          <p:spPr>
            <a:xfrm>
              <a:off x="3505320" y="4952880"/>
              <a:ext cx="190476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519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rId7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1" name="logo" descr=""/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23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9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31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36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nne die drei am häufígsten genutzten Internetdienste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541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WW, E-Mail, Cha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54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8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Verbindungsarten von Computern kennst du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9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ernstruktur, Ringstruktur, Busstruktu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4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5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6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s Protokoll wird von einem Browser beim „Serven“ verwendet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56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ttp, Hypertext-Transfer-Protoco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56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1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73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81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86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s Protokoll wird bei der elektronischen Post verwendet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591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CP/I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59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9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0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1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Bedeutung haben bei der elektronischen Post die kürzel „cc“ und bcc“ und wofür stehen diese Abkürzungen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990720" y="4876920"/>
            <a:ext cx="7619760" cy="1438560"/>
            <a:chOff x="990720" y="4876920"/>
            <a:chExt cx="7619760" cy="1438560"/>
          </a:xfrm>
        </p:grpSpPr>
        <p:sp>
          <p:nvSpPr>
            <p:cNvPr id="61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90720" y="5257800"/>
              <a:ext cx="761976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„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c“ steht für „carbon copy“; Eine weitere Person oder mehrere bekommen eine Kopie des Mai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„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cc“ steht für „blind carbon copy“; Eine weitere Person oder mehrere bekommen eine Kopie des Mails, wobei der Adressat dies nicht erkennen kann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61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623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9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31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36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t welchem gängigen Internetdienst lassen sich Daten auf einen Server „uploaden“ und wofür steht dieser Ausdruck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641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TP, file transfer protoco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64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5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64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5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6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nne die Internetadressen von 4 Suchmaschinen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990720" y="4876920"/>
            <a:ext cx="7619760" cy="901080"/>
            <a:chOff x="990720" y="4876920"/>
            <a:chExt cx="7619760" cy="901080"/>
          </a:xfrm>
        </p:grpSpPr>
        <p:sp>
          <p:nvSpPr>
            <p:cNvPr id="66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90720" y="5257800"/>
              <a:ext cx="761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ww.altavista.de, www.fireball.de, www.google.de, www.lycos.de, www.yahoo.de, www.blinde-kuh.de, ..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66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0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672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4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67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8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89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zu dient eine Firewall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90720" y="4876920"/>
            <a:ext cx="7619760" cy="901080"/>
            <a:chOff x="990720" y="4876920"/>
            <a:chExt cx="7619760" cy="901080"/>
          </a:xfrm>
        </p:grpSpPr>
        <p:sp>
          <p:nvSpPr>
            <p:cNvPr id="694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90720" y="5257800"/>
              <a:ext cx="761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e soll den Datentransfer überwachen und unerwünschte Zugriffe von außen vermeiden. Zusammen mit dem Betriebsystem lassen sich mit Firewalls Fremdattacken verhindern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6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00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6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08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13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 heißen die Programm, die selbstständig 190er-Nummern anwählen und wie schütz man sich von ihnen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90720" y="4876920"/>
            <a:ext cx="7619760" cy="1225440"/>
            <a:chOff x="990720" y="4876920"/>
            <a:chExt cx="7619760" cy="1225440"/>
          </a:xfrm>
        </p:grpSpPr>
        <p:sp>
          <p:nvSpPr>
            <p:cNvPr id="718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90720" y="5257800"/>
              <a:ext cx="76197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er-Program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che Virenscanner beinhalten einen Schutz gegen Dialer-Programme, es gibt eigene Anti-Dialer-Programm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0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24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0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32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4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3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t die Abkürzung SPAM und worum handelt es sich dabei? Welche Arten unterscheidet man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990720" y="4876920"/>
            <a:ext cx="7619760" cy="1549800"/>
            <a:chOff x="990720" y="4876920"/>
            <a:chExt cx="7619760" cy="1549800"/>
          </a:xfrm>
        </p:grpSpPr>
        <p:sp>
          <p:nvSpPr>
            <p:cNvPr id="74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90720" y="5257800"/>
              <a:ext cx="761976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„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ced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c and H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 handelt sich um unerwünschte Mai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 unterscheidet kommerzielle Spams, Kettenbriefe/Viruswarnungen und durch Viren versandte E-Mail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4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5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6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Bereiche der weltweiten Vernetzung nehmen einen wirtschaftlichen Einflus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990720" y="4876920"/>
            <a:ext cx="7619760" cy="901080"/>
            <a:chOff x="990720" y="4876920"/>
            <a:chExt cx="7619760" cy="901080"/>
          </a:xfrm>
        </p:grpSpPr>
        <p:sp>
          <p:nvSpPr>
            <p:cNvPr id="76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90720" y="5257800"/>
              <a:ext cx="761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line-Einkauf, Elektronischer Zahlungsverkehr im Internet, Reisebuchungen, Weltweite Eigendarstellung der Firmen im Internet, Kommerzielle Werbung im Internet, oder ander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7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8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85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ür welche sozialen Bereiche hat die weltweite Vernetzung eine Bedeutung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790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beit, Lernen, gesellschaftliche Kommunikation sowie Lebensstandar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2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795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7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9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0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1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anderer Bezeichnung gibt es für den Begriff „Verbindungsarten“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117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polog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2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3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s Verbindungsmaterial wird zum Aufbau eines Rechnernetzes mit 3 PCs und einem Server benötigt und wie nennt man ein solches Netzwer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90720" y="4876920"/>
            <a:ext cx="8152920" cy="1012320"/>
            <a:chOff x="990720" y="4876920"/>
            <a:chExt cx="8152920" cy="1012320"/>
          </a:xfrm>
        </p:grpSpPr>
        <p:sp>
          <p:nvSpPr>
            <p:cNvPr id="142" name=""/>
            <p:cNvSpPr/>
            <p:nvPr/>
          </p:nvSpPr>
          <p:spPr>
            <a:xfrm>
              <a:off x="990720" y="4876920"/>
              <a:ext cx="97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5257800"/>
              <a:ext cx="81529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Netzkabel (Cat5, STP) , 1 Hub bzw. Switch, 1 Netzkabel für die Verbindung vom Server zum 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ent-Server-Netzwer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4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5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6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n Namen trägt ein Netzwerk zwischen mehreren PCs ohne eine Serve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167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er-to-peer-Netzwerk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7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7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8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en die Abkürzungen „LAN“ und GAN“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19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cal area network, global area network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9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0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1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3962520"/>
            <a:ext cx="7619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) Wie lautet die größtmögliche  IP-Adres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) Wie viele verschiedene IP-Adressen sind mögli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) Welchen Namen hat der erste Teil einer IP-Adresse und wie nennt man den Rest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90720" y="5229360"/>
            <a:ext cx="7619760" cy="1336680"/>
            <a:chOff x="990720" y="5229360"/>
            <a:chExt cx="7619760" cy="1336680"/>
          </a:xfrm>
        </p:grpSpPr>
        <p:sp>
          <p:nvSpPr>
            <p:cNvPr id="217" name=""/>
            <p:cNvSpPr/>
            <p:nvPr/>
          </p:nvSpPr>
          <p:spPr>
            <a:xfrm>
              <a:off x="990720" y="5229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90720" y="5610240"/>
              <a:ext cx="76197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 255.255.255.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256 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4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4.294.967.2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) Netzwerkanteil, Hostante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2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2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3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 steht in Deutschland der „top level domain-server und welchen Namen trägt die zugehörige Institution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24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arlsruhe, DENI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245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logo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57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6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t die Abkürzung TCP/I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267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nsmission Control Protocol Internet Protoco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09:19:52Z</dcterms:created>
  <dc:creator>Peter Hausladen</dc:creator>
  <dc:description/>
  <dc:language>en-US</dc:language>
  <cp:lastModifiedBy>Peter Hausladen</cp:lastModifiedBy>
  <dcterms:modified xsi:type="dcterms:W3CDTF">2003-10-31T13:08:12Z</dcterms:modified>
  <cp:revision>7</cp:revision>
  <dc:subject/>
  <dc:title>PowerPoint-Präsentation</dc:title>
</cp:coreProperties>
</file>