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3BF9-2CF5-4DD4-ACF1-62035314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F5A3-6EF3-459C-958A-B4B62951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909B-80DE-4C6E-B2C2-CED02C44B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910E-EF8B-4F13-A5A6-761522606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9335-75A2-4338-9B87-08F056D8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B842-412A-4535-B95E-E4907B86A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EECC-D86B-417B-98D0-EFFDC0218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B9BB-D40B-4E1A-9566-9413422C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343F-E576-4F15-89B8-81C1A10E0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53CB-60D3-4EA4-8CB1-4DA8BA0D3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B692-57B0-498F-B325-F4BD4C326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E93C5-7AC2-431A-BFF5-93753CC4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51317-5540-48FB-A4A4-FE1D75F095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hyperlink" Target="file:///it-netze.ppt" TargetMode="External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0"/>
            <a:ext cx="852480" cy="6858000"/>
            <a:chOff x="0" y="0"/>
            <a:chExt cx="852480" cy="6858000"/>
          </a:xfrm>
        </p:grpSpPr>
        <p:grpSp>
          <p:nvGrpSpPr>
            <p:cNvPr id="42" name=""/>
            <p:cNvGrpSpPr/>
            <p:nvPr/>
          </p:nvGrpSpPr>
          <p:grpSpPr>
            <a:xfrm>
              <a:off x="0" y="0"/>
              <a:ext cx="852480" cy="6858000"/>
              <a:chOff x="0" y="0"/>
              <a:chExt cx="852480" cy="685800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0" y="0"/>
                <a:ext cx="685800" cy="762120"/>
                <a:chOff x="0" y="0"/>
                <a:chExt cx="685800" cy="76212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0" y="304920"/>
                  <a:ext cx="685800" cy="457200"/>
                </a:xfrm>
                <a:prstGeom prst="rect">
                  <a:avLst/>
                </a:prstGeom>
                <a:solidFill>
                  <a:srgbClr val="3333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0"/>
                  <a:ext cx="685800" cy="304920"/>
                </a:xfrm>
                <a:prstGeom prst="rect">
                  <a:avLst/>
                </a:prstGeom>
                <a:solidFill>
                  <a:srgbClr val="3366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741240"/>
                <a:ext cx="703440" cy="6116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800" y="741240"/>
                <a:ext cx="166680" cy="61167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" name=""/>
            <p:cNvSpPr/>
            <p:nvPr/>
          </p:nvSpPr>
          <p:spPr>
            <a:xfrm>
              <a:off x="0" y="6477120"/>
              <a:ext cx="6094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© P.H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685800" y="0"/>
            <a:ext cx="8458200" cy="928800"/>
            <a:chOff x="685800" y="0"/>
            <a:chExt cx="8458200" cy="928800"/>
          </a:xfrm>
        </p:grpSpPr>
        <p:sp>
          <p:nvSpPr>
            <p:cNvPr id="50" name=""/>
            <p:cNvSpPr/>
            <p:nvPr/>
          </p:nvSpPr>
          <p:spPr>
            <a:xfrm>
              <a:off x="685800" y="304920"/>
              <a:ext cx="8458200" cy="4572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ualzahl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0"/>
              <a:ext cx="8458200" cy="30492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T-Zusatzmateriali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838080" y="703440"/>
              <a:ext cx="8305920" cy="225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"/>
          <p:cNvSpPr/>
          <p:nvPr/>
        </p:nvSpPr>
        <p:spPr>
          <a:xfrm>
            <a:off x="0" y="0"/>
            <a:ext cx="838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dual" descr=""/>
          <p:cNvPicPr/>
          <p:nvPr/>
        </p:nvPicPr>
        <p:blipFill>
          <a:blip r:embed="rId4"/>
          <a:stretch/>
        </p:blipFill>
        <p:spPr>
          <a:xfrm>
            <a:off x="8305920" y="384120"/>
            <a:ext cx="68580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743200" y="1066680"/>
            <a:ext cx="2057400" cy="381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zimal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2720" y="1066680"/>
            <a:ext cx="2057400" cy="3812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al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209680"/>
            <a:ext cx="1447920" cy="228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ahlen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914400" y="1752480"/>
            <a:ext cx="6754680" cy="263520"/>
            <a:chOff x="914400" y="1752480"/>
            <a:chExt cx="6754680" cy="263520"/>
          </a:xfrm>
        </p:grpSpPr>
        <p:sp>
          <p:nvSpPr>
            <p:cNvPr id="59" name=""/>
            <p:cNvSpPr/>
            <p:nvPr/>
          </p:nvSpPr>
          <p:spPr>
            <a:xfrm>
              <a:off x="914400" y="1752480"/>
              <a:ext cx="144792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Zeichenvorr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0" name="" descr=""/>
            <p:cNvPicPr/>
            <p:nvPr/>
          </p:nvPicPr>
          <p:blipFill>
            <a:blip r:embed="rId5"/>
            <a:stretch/>
          </p:blipFill>
          <p:spPr>
            <a:xfrm>
              <a:off x="2743200" y="1752480"/>
              <a:ext cx="2106720" cy="26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6"/>
            <a:stretch/>
          </p:blipFill>
          <p:spPr>
            <a:xfrm>
              <a:off x="5562720" y="1752480"/>
              <a:ext cx="2106360" cy="26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"/>
          <p:cNvGrpSpPr/>
          <p:nvPr/>
        </p:nvGrpSpPr>
        <p:grpSpPr>
          <a:xfrm>
            <a:off x="1219320" y="2570040"/>
            <a:ext cx="6449760" cy="284400"/>
            <a:chOff x="1219320" y="2570040"/>
            <a:chExt cx="6449760" cy="284400"/>
          </a:xfrm>
        </p:grpSpPr>
        <p:pic>
          <p:nvPicPr>
            <p:cNvPr id="63" name="" descr=""/>
            <p:cNvPicPr/>
            <p:nvPr/>
          </p:nvPicPr>
          <p:blipFill>
            <a:blip r:embed="rId7"/>
            <a:stretch/>
          </p:blipFill>
          <p:spPr>
            <a:xfrm>
              <a:off x="5562720" y="2590920"/>
              <a:ext cx="2106360" cy="2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1219320" y="2570040"/>
              <a:ext cx="1143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asi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8"/>
            <a:stretch/>
          </p:blipFill>
          <p:spPr>
            <a:xfrm>
              <a:off x="2743200" y="2590920"/>
              <a:ext cx="2106720" cy="26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" name=""/>
          <p:cNvGrpSpPr/>
          <p:nvPr/>
        </p:nvGrpSpPr>
        <p:grpSpPr>
          <a:xfrm>
            <a:off x="1219320" y="2971800"/>
            <a:ext cx="6449760" cy="341280"/>
            <a:chOff x="1219320" y="2971800"/>
            <a:chExt cx="6449760" cy="341280"/>
          </a:xfrm>
        </p:grpSpPr>
        <p:sp>
          <p:nvSpPr>
            <p:cNvPr id="67" name=""/>
            <p:cNvSpPr/>
            <p:nvPr/>
          </p:nvSpPr>
          <p:spPr>
            <a:xfrm>
              <a:off x="1219320" y="2971800"/>
              <a:ext cx="114300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ellenwe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8" name="" descr=""/>
            <p:cNvPicPr/>
            <p:nvPr/>
          </p:nvPicPr>
          <p:blipFill>
            <a:blip r:embed="rId9"/>
            <a:stretch/>
          </p:blipFill>
          <p:spPr>
            <a:xfrm>
              <a:off x="5562720" y="2971800"/>
              <a:ext cx="2106360" cy="34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" descr=""/>
            <p:cNvPicPr/>
            <p:nvPr/>
          </p:nvPicPr>
          <p:blipFill>
            <a:blip r:embed="rId10"/>
            <a:stretch/>
          </p:blipFill>
          <p:spPr>
            <a:xfrm>
              <a:off x="2743200" y="2971800"/>
              <a:ext cx="2106720" cy="34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0" name=""/>
          <p:cNvGrpSpPr/>
          <p:nvPr/>
        </p:nvGrpSpPr>
        <p:grpSpPr>
          <a:xfrm>
            <a:off x="1752480" y="3406680"/>
            <a:ext cx="5916600" cy="695520"/>
            <a:chOff x="1752480" y="3406680"/>
            <a:chExt cx="5916600" cy="695520"/>
          </a:xfrm>
        </p:grpSpPr>
        <p:pic>
          <p:nvPicPr>
            <p:cNvPr id="71" name="" descr=""/>
            <p:cNvPicPr/>
            <p:nvPr/>
          </p:nvPicPr>
          <p:blipFill>
            <a:blip r:embed="rId11"/>
            <a:stretch/>
          </p:blipFill>
          <p:spPr>
            <a:xfrm>
              <a:off x="2743200" y="3429000"/>
              <a:ext cx="210672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1752480" y="3406680"/>
              <a:ext cx="60984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12"/>
            <a:stretch/>
          </p:blipFill>
          <p:spPr>
            <a:xfrm>
              <a:off x="5562720" y="3429000"/>
              <a:ext cx="2106360" cy="673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4" name=""/>
          <p:cNvGrpSpPr/>
          <p:nvPr/>
        </p:nvGrpSpPr>
        <p:grpSpPr>
          <a:xfrm>
            <a:off x="914400" y="4398840"/>
            <a:ext cx="6754680" cy="479520"/>
            <a:chOff x="914400" y="4398840"/>
            <a:chExt cx="6754680" cy="479520"/>
          </a:xfrm>
        </p:grpSpPr>
        <p:sp>
          <p:nvSpPr>
            <p:cNvPr id="75" name=""/>
            <p:cNvSpPr/>
            <p:nvPr/>
          </p:nvSpPr>
          <p:spPr>
            <a:xfrm>
              <a:off x="914400" y="4398840"/>
              <a:ext cx="144792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rstellu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13"/>
            <a:stretch/>
          </p:blipFill>
          <p:spPr>
            <a:xfrm>
              <a:off x="2743200" y="4419720"/>
              <a:ext cx="2106720" cy="45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14"/>
            <a:stretch/>
          </p:blipFill>
          <p:spPr>
            <a:xfrm>
              <a:off x="5562720" y="4419720"/>
              <a:ext cx="2106360" cy="45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"/>
          <p:cNvGrpSpPr/>
          <p:nvPr/>
        </p:nvGrpSpPr>
        <p:grpSpPr>
          <a:xfrm>
            <a:off x="2590920" y="6021360"/>
            <a:ext cx="5111640" cy="379440"/>
            <a:chOff x="2590920" y="6021360"/>
            <a:chExt cx="5111640" cy="379440"/>
          </a:xfrm>
        </p:grpSpPr>
        <p:sp>
          <p:nvSpPr>
            <p:cNvPr id="79" name=""/>
            <p:cNvSpPr/>
            <p:nvPr/>
          </p:nvSpPr>
          <p:spPr>
            <a:xfrm>
              <a:off x="2590920" y="6021360"/>
              <a:ext cx="259092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ößte Dualzahl mit 8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15"/>
            <a:stretch/>
          </p:blipFill>
          <p:spPr>
            <a:xfrm>
              <a:off x="5410440" y="6059520"/>
              <a:ext cx="2292120" cy="341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" name="logo" descr="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8305920" y="6019920"/>
            <a:ext cx="685800" cy="67284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2590920" y="5411880"/>
            <a:ext cx="5111640" cy="377640"/>
            <a:chOff x="2590920" y="5411880"/>
            <a:chExt cx="5111640" cy="377640"/>
          </a:xfrm>
        </p:grpSpPr>
        <p:sp>
          <p:nvSpPr>
            <p:cNvPr id="83" name=""/>
            <p:cNvSpPr/>
            <p:nvPr/>
          </p:nvSpPr>
          <p:spPr>
            <a:xfrm>
              <a:off x="2590920" y="5411880"/>
              <a:ext cx="2590560" cy="228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rößte Dualzahl mit 4 B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4" name="" descr=""/>
            <p:cNvPicPr/>
            <p:nvPr/>
          </p:nvPicPr>
          <p:blipFill>
            <a:blip r:embed="rId18"/>
            <a:stretch/>
          </p:blipFill>
          <p:spPr>
            <a:xfrm>
              <a:off x="5410080" y="5448240"/>
              <a:ext cx="2292480" cy="3412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12:36:06Z</dcterms:created>
  <dc:creator>Peter Hausladen</dc:creator>
  <dc:description/>
  <dc:language>en-US</dc:language>
  <cp:lastModifiedBy>Peter Hausladen</cp:lastModifiedBy>
  <dcterms:modified xsi:type="dcterms:W3CDTF">2003-10-18T14:33:45Z</dcterms:modified>
  <cp:revision>3</cp:revision>
  <dc:subject/>
  <dc:title>PowerPoint-Präsentation</dc:title>
</cp:coreProperties>
</file>