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168E-6E33-4DC4-802E-A4EA2EEE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B56-364C-4779-9779-3DD30531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E5B7-3891-4F99-B09B-BE0B6C69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19AA-C6D9-475D-BB97-633115F8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2A5A-3151-49FD-832B-036719D6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EAED-48BC-4A76-A78C-348F2365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959D-0AD8-4794-A54E-70639CC3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169D-5A57-4B3D-AE5D-CEA60B58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A707-3163-4FEF-8A58-EB3EEC20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D642-660C-43B9-9638-1CDB114B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EC86-0A14-47F3-BF2C-E021F1A4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206A-0BE8-4964-8FC2-4D8534B3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5B12-B447-401B-ADAA-A3BB3089E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file:///it-netze.ppt" TargetMode="External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50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ualzah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dual" descr=""/>
          <p:cNvPicPr/>
          <p:nvPr/>
        </p:nvPicPr>
        <p:blipFill>
          <a:blip r:embed="rId4"/>
          <a:stretch/>
        </p:blipFill>
        <p:spPr>
          <a:xfrm>
            <a:off x="8305920" y="384120"/>
            <a:ext cx="68580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43200" y="1066680"/>
            <a:ext cx="205740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zimal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1066680"/>
            <a:ext cx="2057400" cy="381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al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209680"/>
            <a:ext cx="14479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ahlen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14400" y="1752480"/>
            <a:ext cx="6754680" cy="263520"/>
            <a:chOff x="914400" y="1752480"/>
            <a:chExt cx="6754680" cy="263520"/>
          </a:xfrm>
        </p:grpSpPr>
        <p:sp>
          <p:nvSpPr>
            <p:cNvPr id="59" name=""/>
            <p:cNvSpPr/>
            <p:nvPr/>
          </p:nvSpPr>
          <p:spPr>
            <a:xfrm>
              <a:off x="914400" y="1752480"/>
              <a:ext cx="144792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eichenvorr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5"/>
            <a:stretch/>
          </p:blipFill>
          <p:spPr>
            <a:xfrm>
              <a:off x="2743200" y="1752480"/>
              <a:ext cx="210672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6"/>
            <a:stretch/>
          </p:blipFill>
          <p:spPr>
            <a:xfrm>
              <a:off x="5562720" y="1752480"/>
              <a:ext cx="210636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"/>
          <p:cNvGrpSpPr/>
          <p:nvPr/>
        </p:nvGrpSpPr>
        <p:grpSpPr>
          <a:xfrm>
            <a:off x="1219320" y="2570040"/>
            <a:ext cx="6449760" cy="284400"/>
            <a:chOff x="1219320" y="2570040"/>
            <a:chExt cx="6449760" cy="284400"/>
          </a:xfrm>
        </p:grpSpPr>
        <p:pic>
          <p:nvPicPr>
            <p:cNvPr id="63" name="" descr=""/>
            <p:cNvPicPr/>
            <p:nvPr/>
          </p:nvPicPr>
          <p:blipFill>
            <a:blip r:embed="rId7"/>
            <a:stretch/>
          </p:blipFill>
          <p:spPr>
            <a:xfrm>
              <a:off x="5562720" y="2590920"/>
              <a:ext cx="210636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219320" y="2570040"/>
              <a:ext cx="1143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a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8"/>
            <a:stretch/>
          </p:blipFill>
          <p:spPr>
            <a:xfrm>
              <a:off x="2743200" y="2590920"/>
              <a:ext cx="210672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"/>
          <p:cNvGrpSpPr/>
          <p:nvPr/>
        </p:nvGrpSpPr>
        <p:grpSpPr>
          <a:xfrm>
            <a:off x="1219320" y="2971800"/>
            <a:ext cx="6449760" cy="341280"/>
            <a:chOff x="1219320" y="2971800"/>
            <a:chExt cx="6449760" cy="341280"/>
          </a:xfrm>
        </p:grpSpPr>
        <p:sp>
          <p:nvSpPr>
            <p:cNvPr id="67" name=""/>
            <p:cNvSpPr/>
            <p:nvPr/>
          </p:nvSpPr>
          <p:spPr>
            <a:xfrm>
              <a:off x="1219320" y="2971800"/>
              <a:ext cx="1143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ellenwe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9"/>
            <a:stretch/>
          </p:blipFill>
          <p:spPr>
            <a:xfrm>
              <a:off x="5562720" y="2971800"/>
              <a:ext cx="2106360" cy="3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10"/>
            <a:stretch/>
          </p:blipFill>
          <p:spPr>
            <a:xfrm>
              <a:off x="2743200" y="2971800"/>
              <a:ext cx="2106720" cy="34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"/>
          <p:cNvGrpSpPr/>
          <p:nvPr/>
        </p:nvGrpSpPr>
        <p:grpSpPr>
          <a:xfrm>
            <a:off x="1752480" y="3406680"/>
            <a:ext cx="5916600" cy="695520"/>
            <a:chOff x="1752480" y="3406680"/>
            <a:chExt cx="5916600" cy="695520"/>
          </a:xfrm>
        </p:grpSpPr>
        <p:pic>
          <p:nvPicPr>
            <p:cNvPr id="71" name="" descr=""/>
            <p:cNvPicPr/>
            <p:nvPr/>
          </p:nvPicPr>
          <p:blipFill>
            <a:blip r:embed="rId11"/>
            <a:stretch/>
          </p:blipFill>
          <p:spPr>
            <a:xfrm>
              <a:off x="2743200" y="3429000"/>
              <a:ext cx="210672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752480" y="3406680"/>
              <a:ext cx="60984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12"/>
            <a:stretch/>
          </p:blipFill>
          <p:spPr>
            <a:xfrm>
              <a:off x="5562720" y="3429000"/>
              <a:ext cx="2106360" cy="67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914400" y="4398840"/>
            <a:ext cx="6754680" cy="479520"/>
            <a:chOff x="914400" y="4398840"/>
            <a:chExt cx="6754680" cy="479520"/>
          </a:xfrm>
        </p:grpSpPr>
        <p:sp>
          <p:nvSpPr>
            <p:cNvPr id="75" name=""/>
            <p:cNvSpPr/>
            <p:nvPr/>
          </p:nvSpPr>
          <p:spPr>
            <a:xfrm>
              <a:off x="914400" y="4398840"/>
              <a:ext cx="144792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rstell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13"/>
            <a:stretch/>
          </p:blipFill>
          <p:spPr>
            <a:xfrm>
              <a:off x="2743200" y="4419720"/>
              <a:ext cx="2106720" cy="4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14"/>
            <a:stretch/>
          </p:blipFill>
          <p:spPr>
            <a:xfrm>
              <a:off x="5562720" y="4419720"/>
              <a:ext cx="2106360" cy="45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2590920" y="6021360"/>
            <a:ext cx="5111640" cy="379440"/>
            <a:chOff x="2590920" y="6021360"/>
            <a:chExt cx="5111640" cy="379440"/>
          </a:xfrm>
        </p:grpSpPr>
        <p:sp>
          <p:nvSpPr>
            <p:cNvPr id="79" name=""/>
            <p:cNvSpPr/>
            <p:nvPr/>
          </p:nvSpPr>
          <p:spPr>
            <a:xfrm>
              <a:off x="2590920" y="6021360"/>
              <a:ext cx="259092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ößte Dualzahl mit 8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15"/>
            <a:stretch/>
          </p:blipFill>
          <p:spPr>
            <a:xfrm>
              <a:off x="5410440" y="6059520"/>
              <a:ext cx="2292120" cy="341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logo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8305920" y="6019920"/>
            <a:ext cx="685800" cy="67284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2590920" y="5411880"/>
            <a:ext cx="5111640" cy="377640"/>
            <a:chOff x="2590920" y="5411880"/>
            <a:chExt cx="5111640" cy="377640"/>
          </a:xfrm>
        </p:grpSpPr>
        <p:sp>
          <p:nvSpPr>
            <p:cNvPr id="83" name=""/>
            <p:cNvSpPr/>
            <p:nvPr/>
          </p:nvSpPr>
          <p:spPr>
            <a:xfrm>
              <a:off x="2590920" y="5411880"/>
              <a:ext cx="25905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ößte Dualzahl mit 4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8"/>
            <a:stretch/>
          </p:blipFill>
          <p:spPr>
            <a:xfrm>
              <a:off x="5410080" y="5448240"/>
              <a:ext cx="2292480" cy="34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12:36:06Z</dcterms:created>
  <dc:creator>Peter Hausladen</dc:creator>
  <dc:description/>
  <dc:language>en-US</dc:language>
  <cp:lastModifiedBy>Peter Hausladen</cp:lastModifiedBy>
  <dcterms:modified xsi:type="dcterms:W3CDTF">2003-10-18T14:33:45Z</dcterms:modified>
  <cp:revision>3</cp:revision>
  <dc:subject/>
  <dc:title>PowerPoint-Präsentation</dc:title>
</cp:coreProperties>
</file>