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DC99-E36B-4E52-B84E-4360EB38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8FB6-8F69-4EF1-A9F0-E46E2E271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9DFF-1E8F-4FE4-B9A0-C5303B4F4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187F-3CD3-4DD0-B7F1-C79B9AF84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5E6-95CD-4AD2-91B1-31B15EAE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5BB4-9D0D-4B73-B2DC-54031446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AA70B-EBB8-4B20-A01B-F0281F260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5790-6758-4340-A634-4C34A347A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1C6D-8E43-4714-93E9-869B9D4B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2F2F-F525-4455-AC6E-2F1A3FE0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BB38-8053-4438-9ED3-B8FAA4C3E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652F-BD7B-4216-9950-6688AFEB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6C0D-DFC2-4052-857D-0F58EED86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4.png"/><Relationship Id="rId6" Type="http://schemas.openxmlformats.org/officeDocument/2006/relationships/slide" Target="slide2.xml"/><Relationship Id="rId7" Type="http://schemas.openxmlformats.org/officeDocument/2006/relationships/image" Target="../media/image5.png"/><Relationship Id="rId8" Type="http://schemas.openxmlformats.org/officeDocument/2006/relationships/slide" Target="slide2.xml"/><Relationship Id="rId9" Type="http://schemas.openxmlformats.org/officeDocument/2006/relationships/slide" Target="slide9.xml"/><Relationship Id="rId10" Type="http://schemas.openxmlformats.org/officeDocument/2006/relationships/image" Target="../media/image6.png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image" Target="../media/image7.png"/><Relationship Id="rId14" Type="http://schemas.openxmlformats.org/officeDocument/2006/relationships/slide" Target="slide14.xml"/><Relationship Id="rId15" Type="http://schemas.openxmlformats.org/officeDocument/2006/relationships/slide" Target="slide25.xml"/><Relationship Id="rId16" Type="http://schemas.openxmlformats.org/officeDocument/2006/relationships/image" Target="../media/image8.png"/><Relationship Id="rId17" Type="http://schemas.openxmlformats.org/officeDocument/2006/relationships/slide" Target="slide25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image" Target="../media/image10.pn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3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4.jpe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7.png"/><Relationship Id="rId6" Type="http://schemas.openxmlformats.org/officeDocument/2006/relationships/image" Target="../media/image15.jpeg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9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8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" Target="slide1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slide1.xml"/><Relationship Id="rId5" Type="http://schemas.openxmlformats.org/officeDocument/2006/relationships/image" Target="../media/image6.png"/><Relationship Id="rId6" Type="http://schemas.openxmlformats.org/officeDocument/2006/relationships/slide" Target="slide1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56" name="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>
              <a:hlinkClick r:id="rId8" action="ppaction://hlinksldjump"/>
            </p:cNvPr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800600" y="1063800"/>
            <a:ext cx="3352680" cy="1961640"/>
            <a:chOff x="4800600" y="1063800"/>
            <a:chExt cx="3352680" cy="1961640"/>
          </a:xfrm>
        </p:grpSpPr>
        <p:pic>
          <p:nvPicPr>
            <p:cNvPr id="59" name="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5189400" y="1444680"/>
              <a:ext cx="2506680" cy="158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>
              <a:hlinkClick r:id="rId11" action="ppaction://hlinksldjump"/>
            </p:cNvPr>
            <p:cNvSpPr/>
            <p:nvPr/>
          </p:nvSpPr>
          <p:spPr>
            <a:xfrm>
              <a:off x="4800600" y="1063800"/>
              <a:ext cx="3352680" cy="304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914400" y="3352680"/>
            <a:ext cx="3505320" cy="1316160"/>
            <a:chOff x="914400" y="3352680"/>
            <a:chExt cx="3505320" cy="1316160"/>
          </a:xfrm>
        </p:grpSpPr>
        <p:pic>
          <p:nvPicPr>
            <p:cNvPr id="62" name="" descr="">
              <a:hlinkClick r:id="rId12" action="ppaction://hlinksldjump"/>
            </p:cNvPr>
            <p:cNvPicPr/>
            <p:nvPr/>
          </p:nvPicPr>
          <p:blipFill>
            <a:blip r:embed="rId13"/>
            <a:stretch/>
          </p:blipFill>
          <p:spPr>
            <a:xfrm>
              <a:off x="1523880" y="3809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>
              <a:hlinkClick r:id="rId14" action="ppaction://hlinksldjump"/>
            </p:cNvPr>
            <p:cNvSpPr/>
            <p:nvPr/>
          </p:nvSpPr>
          <p:spPr>
            <a:xfrm>
              <a:off x="914400" y="3352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990720" y="5105520"/>
            <a:ext cx="7729560" cy="1581120"/>
            <a:chOff x="990720" y="5105520"/>
            <a:chExt cx="7729560" cy="1581120"/>
          </a:xfrm>
        </p:grpSpPr>
        <p:pic>
          <p:nvPicPr>
            <p:cNvPr id="65" name="" descr="">
              <a:hlinkClick r:id="rId15" action="ppaction://hlinksldjump"/>
            </p:cNvPr>
            <p:cNvPicPr/>
            <p:nvPr/>
          </p:nvPicPr>
          <p:blipFill>
            <a:blip r:embed="rId16"/>
            <a:stretch/>
          </p:blipFill>
          <p:spPr>
            <a:xfrm>
              <a:off x="7315200" y="5105520"/>
              <a:ext cx="14050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>
              <a:hlinkClick r:id="rId17" action="ppaction://hlinksldjump"/>
            </p:cNvPr>
            <p:cNvSpPr/>
            <p:nvPr/>
          </p:nvSpPr>
          <p:spPr>
            <a:xfrm>
              <a:off x="990720" y="5257800"/>
              <a:ext cx="579096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icherheit in Rechnernetzen; wirtschaftliche und soziale Bedeutu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800600" y="3352680"/>
            <a:ext cx="3352680" cy="1579680"/>
            <a:chOff x="4800600" y="3352680"/>
            <a:chExt cx="3352680" cy="1579680"/>
          </a:xfrm>
        </p:grpSpPr>
        <p:sp>
          <p:nvSpPr>
            <p:cNvPr id="68" name="">
              <a:hlinkClick r:id="rId18" action="ppaction://hlinksldjump"/>
            </p:cNvPr>
            <p:cNvSpPr/>
            <p:nvPr/>
          </p:nvSpPr>
          <p:spPr>
            <a:xfrm>
              <a:off x="4800600" y="3352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9" name="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5486400" y="3809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7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8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8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groß ist das TCP-Datenpaket und aus welchen Teilen besteht der TCP-head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536 Byte, Sequenznummer und Prüfsu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7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9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0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0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0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0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0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0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Teile beinhaltet ein TCP/IP-Datenpaket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17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271476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990720" y="4876920"/>
            <a:ext cx="8152920" cy="1314360"/>
            <a:chOff x="990720" y="4876920"/>
            <a:chExt cx="8152920" cy="1314360"/>
          </a:xfrm>
        </p:grpSpPr>
        <p:grpSp>
          <p:nvGrpSpPr>
            <p:cNvPr id="321" name=""/>
            <p:cNvGrpSpPr/>
            <p:nvPr/>
          </p:nvGrpSpPr>
          <p:grpSpPr>
            <a:xfrm>
              <a:off x="990720" y="4876920"/>
              <a:ext cx="8152920" cy="687960"/>
              <a:chOff x="990720" y="4876920"/>
              <a:chExt cx="8152920" cy="687960"/>
            </a:xfrm>
          </p:grpSpPr>
          <p:sp>
            <p:nvSpPr>
              <p:cNvPr id="322" name=""/>
              <p:cNvSpPr/>
              <p:nvPr/>
            </p:nvSpPr>
            <p:spPr>
              <a:xfrm>
                <a:off x="990720" y="4876920"/>
                <a:ext cx="97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990720" y="5257800"/>
                <a:ext cx="8152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enderadresse, Empfängeradresse, Zahl für Lebenzeit, TCP-header und Datenteil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24" name="protokoll3" descr=""/>
            <p:cNvPicPr/>
            <p:nvPr/>
          </p:nvPicPr>
          <p:blipFill>
            <a:blip r:embed="rId6"/>
            <a:stretch/>
          </p:blipFill>
          <p:spPr>
            <a:xfrm>
              <a:off x="2438280" y="5715000"/>
              <a:ext cx="3714840" cy="476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5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2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3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3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4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OSI beim OSI-Schichtenmodell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4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pen System Interconnection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48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0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5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5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5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5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6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6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6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viele Schichten besitzt das OSI-Schichtenmodell und wie heißt die unterste? Gib auch deren englische Bezeichnung an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37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7, Bitübertragungsschicht (physical layer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373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376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8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38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38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38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38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39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zwei Kabelarten sind heutzutage für Netzwerksysteme am gebräuchlichst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39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47652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48156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990720" y="4876920"/>
            <a:ext cx="7619760" cy="1828800"/>
            <a:chOff x="990720" y="4876920"/>
            <a:chExt cx="7619760" cy="1828800"/>
          </a:xfrm>
        </p:grpSpPr>
        <p:grpSp>
          <p:nvGrpSpPr>
            <p:cNvPr id="40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0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Shielded Twisted Pair (STP) - und Glasfaserkabel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066680" y="5562720"/>
              <a:ext cx="4695840" cy="1143000"/>
              <a:chOff x="1066680" y="5562720"/>
              <a:chExt cx="4695840" cy="1143000"/>
            </a:xfrm>
          </p:grpSpPr>
          <p:pic>
            <p:nvPicPr>
              <p:cNvPr id="407" name="netzeb402a" descr=""/>
              <p:cNvPicPr/>
              <p:nvPr/>
            </p:nvPicPr>
            <p:blipFill>
              <a:blip r:embed="rId6"/>
              <a:stretch/>
            </p:blipFill>
            <p:spPr>
              <a:xfrm>
                <a:off x="1066680" y="5715000"/>
                <a:ext cx="2190960" cy="93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8" name="glasfaser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1280" y="5562720"/>
                <a:ext cx="2181240" cy="114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409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1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1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1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2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24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Stecker hat ein STP-Kabel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29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3900600" y="2752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990720" y="4876920"/>
            <a:ext cx="7619760" cy="1428480"/>
            <a:chOff x="990720" y="4876920"/>
            <a:chExt cx="7619760" cy="1428480"/>
          </a:xfrm>
        </p:grpSpPr>
        <p:grpSp>
          <p:nvGrpSpPr>
            <p:cNvPr id="433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34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J-45 Stec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36" name="rj45" descr=""/>
            <p:cNvPicPr/>
            <p:nvPr/>
          </p:nvPicPr>
          <p:blipFill>
            <a:blip r:embed="rId6"/>
            <a:stretch/>
          </p:blipFill>
          <p:spPr>
            <a:xfrm>
              <a:off x="2895480" y="4952880"/>
              <a:ext cx="1343160" cy="1352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3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3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4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4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5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englische Bezeichnung trägt ein Funknetz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57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360036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990720" y="4876920"/>
            <a:ext cx="7619760" cy="1676160"/>
            <a:chOff x="990720" y="4876920"/>
            <a:chExt cx="7619760" cy="1676160"/>
          </a:xfrm>
        </p:grpSpPr>
        <p:grpSp>
          <p:nvGrpSpPr>
            <p:cNvPr id="461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462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Wireless LAN</a:t>
                </a:r>
                <a:r>
                  <a:rPr b="0" lang="de-DE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464" name="wirelesslan" descr=""/>
            <p:cNvPicPr/>
            <p:nvPr/>
          </p:nvPicPr>
          <p:blipFill>
            <a:blip r:embed="rId6"/>
            <a:stretch/>
          </p:blipFill>
          <p:spPr>
            <a:xfrm>
              <a:off x="1066680" y="5638680"/>
              <a:ext cx="194328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5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6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67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7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73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475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7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480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Software bzw. welches Gerät stellt die Verbindung zwischen einem Computer und dem Internet her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485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outer oder Proxi-Server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488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9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9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9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9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0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0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Medien zur Datenübertragung über größere Streck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914400" y="1066680"/>
            <a:ext cx="3505320" cy="1316160"/>
            <a:chOff x="914400" y="1066680"/>
            <a:chExt cx="3505320" cy="1316160"/>
          </a:xfrm>
        </p:grpSpPr>
        <p:pic>
          <p:nvPicPr>
            <p:cNvPr id="510" name="" descr=""/>
            <p:cNvPicPr/>
            <p:nvPr/>
          </p:nvPicPr>
          <p:blipFill>
            <a:blip r:embed="rId5"/>
            <a:stretch/>
          </p:blipFill>
          <p:spPr>
            <a:xfrm>
              <a:off x="1523880" y="1523880"/>
              <a:ext cx="2283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1" name=""/>
            <p:cNvSpPr/>
            <p:nvPr/>
          </p:nvSpPr>
          <p:spPr>
            <a:xfrm>
              <a:off x="914400" y="1066680"/>
              <a:ext cx="350532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Übertragungsmedien, Netzkomponen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361944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990720" y="4876920"/>
            <a:ext cx="7619760" cy="1504800"/>
            <a:chOff x="990720" y="4876920"/>
            <a:chExt cx="7619760" cy="1504800"/>
          </a:xfrm>
        </p:grpSpPr>
        <p:grpSp>
          <p:nvGrpSpPr>
            <p:cNvPr id="514" name=""/>
            <p:cNvGrpSpPr/>
            <p:nvPr/>
          </p:nvGrpSpPr>
          <p:grpSpPr>
            <a:xfrm>
              <a:off x="990720" y="4876920"/>
              <a:ext cx="7619760" cy="687960"/>
              <a:chOff x="990720" y="4876920"/>
              <a:chExt cx="7619760" cy="687960"/>
            </a:xfrm>
          </p:grpSpPr>
          <p:sp>
            <p:nvSpPr>
              <p:cNvPr id="515" name=""/>
              <p:cNvSpPr/>
              <p:nvPr/>
            </p:nvSpPr>
            <p:spPr>
              <a:xfrm>
                <a:off x="990720" y="4876920"/>
                <a:ext cx="91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33cc"/>
                    </a:solidFill>
                    <a:latin typeface="Arial"/>
                  </a:rPr>
                  <a:t>Antwor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990720" y="5257800"/>
                <a:ext cx="76197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ichtfunkanlagen, Satelliten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517" name="satellit" descr=""/>
            <p:cNvPicPr/>
            <p:nvPr/>
          </p:nvPicPr>
          <p:blipFill>
            <a:blip r:embed="rId6"/>
            <a:stretch/>
          </p:blipFill>
          <p:spPr>
            <a:xfrm>
              <a:off x="3505320" y="4952880"/>
              <a:ext cx="1904760" cy="142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8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519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>
              <a:hlinkClick r:id="rId7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1" name="logo" descr=""/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drei am häufígsten genutzten Internetdienste.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, E-Mail, Chat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Verbindungsarten von Computern kennst du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ernstruktur, Ringstruktur, Busstruktur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von einem Browser beim „Serven“ verwendet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ttp, Hypertext-Transfer-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7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7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57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57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8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58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Protokoll wird bei der elektronischen Post verwendet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59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CP/IP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59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9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9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59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59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0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0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1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deutung haben bei der elektronischen Post die kürzel „cc“ und bcc“ und wofür stehen diese Abkürzungen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990720" y="4876920"/>
            <a:ext cx="7619760" cy="1438560"/>
            <a:chOff x="990720" y="4876920"/>
            <a:chExt cx="7619760" cy="1438560"/>
          </a:xfrm>
        </p:grpSpPr>
        <p:sp>
          <p:nvSpPr>
            <p:cNvPr id="61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990720" y="5257800"/>
              <a:ext cx="7619760" cy="105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c“ steht für „carbon copy“; Eine weitere Person oder mehrere bekommen eine Kopie des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„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cc“ steht für „blind carbon copy“; Eine weitere Person oder mehrere bekommen eine Kopie des Mails, wobei der Adressat dies nicht erkennen kan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1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2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21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23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29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31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33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36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t welchem gängigen Internetdienst lassen sich Daten auf einen Server „uploaden“ und wofür steht dieser Ausdruck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641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TP, file transfer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44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5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nne die Internetadressen von 4 Suchmaschinen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www.altavista.de, www.fireball.de, www.google.de, www.lycos.de, www.yahoo.de, www.blinde-kuh.de, ..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914400" y="1066680"/>
            <a:ext cx="3352680" cy="1579680"/>
            <a:chOff x="914400" y="1066680"/>
            <a:chExt cx="3352680" cy="1579680"/>
          </a:xfrm>
        </p:grpSpPr>
        <p:sp>
          <p:nvSpPr>
            <p:cNvPr id="669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nste im Netzwerk (Interne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0" name="" descr=""/>
            <p:cNvPicPr/>
            <p:nvPr/>
          </p:nvPicPr>
          <p:blipFill>
            <a:blip r:embed="rId5"/>
            <a:stretch/>
          </p:blipFill>
          <p:spPr>
            <a:xfrm>
              <a:off x="1600200" y="1523880"/>
              <a:ext cx="1892160" cy="1122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71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672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74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67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67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6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68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689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zu dient eine Firewall?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694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ie soll den Datentransfer überwachen und unerwünschte Zugriffe von außen vermeiden. Zusammen mit dem Betriebsystem lassen sich mit Firewalls Fremdattacken verhindern.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96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00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01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0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06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7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08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10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11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13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ie heißen die Programm, die selbstständig 190er-Nummern anwählen und wie schütz man sich von ihne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990720" y="4876920"/>
            <a:ext cx="7619760" cy="1225440"/>
            <a:chOff x="990720" y="4876920"/>
            <a:chExt cx="7619760" cy="1225440"/>
          </a:xfrm>
        </p:grpSpPr>
        <p:sp>
          <p:nvSpPr>
            <p:cNvPr id="718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990720" y="5257800"/>
              <a:ext cx="76197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aler-Program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che Virenscanner beinhalten einen Schutz gegen Dialer-Programme, es gibt eigene Anti-Dialer-Programm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20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2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3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24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2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30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1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32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4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35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SPAM und worum handelt es sich dabei? Welche Arten unterscheidet man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1" name=""/>
          <p:cNvGrpSpPr/>
          <p:nvPr/>
        </p:nvGrpSpPr>
        <p:grpSpPr>
          <a:xfrm>
            <a:off x="990720" y="4876920"/>
            <a:ext cx="7619760" cy="1549800"/>
            <a:chOff x="990720" y="4876920"/>
            <a:chExt cx="7619760" cy="1549800"/>
          </a:xfrm>
        </p:grpSpPr>
        <p:sp>
          <p:nvSpPr>
            <p:cNvPr id="7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990720" y="5257800"/>
              <a:ext cx="7619760" cy="11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„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iced 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rc and H</a:t>
              </a:r>
              <a:r>
                <a:rPr b="1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m</a:t>
              </a: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”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 handelt sich um unerwünschte Mai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Man unterscheidet kommerzielle Spams, Kettenbriefe/Viruswarnungen und durch Viren versandte E-Mails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44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45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7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49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50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5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54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56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8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9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61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Bereiche der weltweiten Vernetzung nehmen einen wirtschaftlichen Einfluss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5" name=""/>
          <p:cNvGrpSpPr/>
          <p:nvPr/>
        </p:nvGrpSpPr>
        <p:grpSpPr>
          <a:xfrm>
            <a:off x="990720" y="4876920"/>
            <a:ext cx="7619760" cy="901080"/>
            <a:chOff x="990720" y="4876920"/>
            <a:chExt cx="7619760" cy="901080"/>
          </a:xfrm>
        </p:grpSpPr>
        <p:sp>
          <p:nvSpPr>
            <p:cNvPr id="766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90720" y="5257800"/>
              <a:ext cx="7619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Online-Einkauf, Elektronischer Zahlungsverkehr im Internet, Reisebuchungen, Weltweite Eigendarstellung der Firmen im Internet, Kommerzielle Werbung im Internet, oder andere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68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0" name="logo" descr=""/>
          <p:cNvPicPr/>
          <p:nvPr/>
        </p:nvPicPr>
        <p:blipFill>
          <a:blip r:embed="rId6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77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77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77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77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7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78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8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4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785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Für welche sozialen Bereiche hat die weltweite Vernetzung eine Bedeutung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790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rbeit, Lernen, gesellschaftliche Kommunikation sowie Lebensstandar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2" name="" descr=""/>
          <p:cNvPicPr/>
          <p:nvPr/>
        </p:nvPicPr>
        <p:blipFill>
          <a:blip r:embed="rId5"/>
          <a:stretch/>
        </p:blipFill>
        <p:spPr>
          <a:xfrm>
            <a:off x="914400" y="1523880"/>
            <a:ext cx="1405080" cy="158112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914400" y="1066680"/>
            <a:ext cx="579132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cherheit in Rechnernetzen; wirtschaftliche und soziale Bedeut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79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7" name="logo" descr=""/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 anderer Bezeichnung gibt es für den Begriff „Verbindungsarten“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1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opologi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s Verbindungsmaterial wird zum Aufbau eines Rechnernetzes mit 3 PCs und einem Server benötigt und wie nennt man ein solches Netzwerk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990720" y="4876920"/>
            <a:ext cx="8152920" cy="1012320"/>
            <a:chOff x="990720" y="4876920"/>
            <a:chExt cx="8152920" cy="1012320"/>
          </a:xfrm>
        </p:grpSpPr>
        <p:sp>
          <p:nvSpPr>
            <p:cNvPr id="142" name=""/>
            <p:cNvSpPr/>
            <p:nvPr/>
          </p:nvSpPr>
          <p:spPr>
            <a:xfrm>
              <a:off x="990720" y="4876920"/>
              <a:ext cx="97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90720" y="5257800"/>
              <a:ext cx="81529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3 Netzkabel (Cat5, STP) , 1 Hub bzw. Switch, 1 Netzkabel für die Verbindung vom Server zum Hu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lient-Server-Netzwerk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4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5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5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elchen Namen trägt ein Netzwerk zwischen mehreren PCs ohne eine Server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eer-to-peer-Netzwe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7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7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7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17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18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18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en die Abkürzungen „LAN“ und GAN“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19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ocal area network, global area network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4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196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197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0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2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04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7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09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1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90720" y="3962520"/>
            <a:ext cx="76197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) Wie lautet die größtmögliche  IP-Adress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) Wie viele verschiedene IP-Adressen sind mögli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) Welchen Namen hat der erste Teil einer IP-Adresse und wie nennt man den Rest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990720" y="5229360"/>
            <a:ext cx="7619760" cy="1336680"/>
            <a:chOff x="990720" y="5229360"/>
            <a:chExt cx="7619760" cy="1336680"/>
          </a:xfrm>
        </p:grpSpPr>
        <p:sp>
          <p:nvSpPr>
            <p:cNvPr id="217" name=""/>
            <p:cNvSpPr/>
            <p:nvPr/>
          </p:nvSpPr>
          <p:spPr>
            <a:xfrm>
              <a:off x="990720" y="522936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90720" y="5610240"/>
              <a:ext cx="761976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) 255.255.255.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) 256 </a:t>
              </a:r>
              <a:r>
                <a:rPr b="0" lang="en-US" sz="1400" spc="-1" strike="noStrike" baseline="30000">
                  <a:solidFill>
                    <a:srgbClr val="000000"/>
                  </a:solidFill>
                  <a:latin typeface="Arial"/>
                  <a:ea typeface="Arial"/>
                </a:rPr>
                <a:t>4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= 4.294.967.29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) Netzwerkanteil, Hostantei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9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2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7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29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1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2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34" name="" descr=""/>
            <p:cNvPicPr/>
            <p:nvPr/>
          </p:nvPicPr>
          <p:blipFill>
            <a:blip r:embed="rId4"/>
            <a:stretch/>
          </p:blipFill>
          <p:spPr>
            <a:xfrm>
              <a:off x="1447920" y="1447920"/>
              <a:ext cx="225396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ogische Struktur von Rechnernetz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37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>
              <a:hlinkClick r:id="rId5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3962520"/>
            <a:ext cx="761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 steht in Deutschland der „top level domain-server und welchen Namen trägt die zugehörige Institution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42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Karlsruhe, DENI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344080" y="6058080"/>
            <a:ext cx="418680" cy="418680"/>
            <a:chOff x="8344080" y="6058080"/>
            <a:chExt cx="418680" cy="418680"/>
          </a:xfrm>
        </p:grpSpPr>
        <p:sp>
          <p:nvSpPr>
            <p:cNvPr id="245" name=""/>
            <p:cNvSpPr/>
            <p:nvPr/>
          </p:nvSpPr>
          <p:spPr>
            <a:xfrm>
              <a:off x="8381880" y="60958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>
              <a:hlinkClick r:id="rId6" action="ppaction://hlinksldjump"/>
            </p:cNvPr>
            <p:cNvSpPr/>
            <p:nvPr/>
          </p:nvSpPr>
          <p:spPr>
            <a:xfrm>
              <a:off x="8344080" y="6058080"/>
              <a:ext cx="380880" cy="38088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7" name="logo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249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250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251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257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ragen zum Thema Rechnernetz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0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152280" y="838080"/>
            <a:ext cx="419400" cy="419400"/>
            <a:chOff x="152280" y="838080"/>
            <a:chExt cx="419400" cy="419400"/>
          </a:xfrm>
        </p:grpSpPr>
        <p:sp>
          <p:nvSpPr>
            <p:cNvPr id="262" name=""/>
            <p:cNvSpPr/>
            <p:nvPr/>
          </p:nvSpPr>
          <p:spPr>
            <a:xfrm>
              <a:off x="190440" y="87624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>
              <a:hlinkClick r:id="rId4" action="ppaction://hlinksldjump"/>
            </p:cNvPr>
            <p:cNvSpPr/>
            <p:nvPr/>
          </p:nvSpPr>
          <p:spPr>
            <a:xfrm>
              <a:off x="152280" y="838080"/>
              <a:ext cx="381240" cy="381240"/>
            </a:xfrm>
            <a:prstGeom prst="upArrow">
              <a:avLst>
                <a:gd name="adj1" fmla="val 50000"/>
                <a:gd name="adj2" fmla="val 25000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33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990720" y="3581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Frag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90720" y="3962520"/>
            <a:ext cx="761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ofür steht die Abkürzung TCP/IP?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990720" y="4876920"/>
            <a:ext cx="7619760" cy="687960"/>
            <a:chOff x="990720" y="4876920"/>
            <a:chExt cx="7619760" cy="687960"/>
          </a:xfrm>
        </p:grpSpPr>
        <p:sp>
          <p:nvSpPr>
            <p:cNvPr id="267" name=""/>
            <p:cNvSpPr/>
            <p:nvPr/>
          </p:nvSpPr>
          <p:spPr>
            <a:xfrm>
              <a:off x="990720" y="487692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Arial"/>
                </a:rPr>
                <a:t>Antwor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90720" y="5257800"/>
              <a:ext cx="761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ransmission Control Protocol Internet Protocol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914400" y="1066680"/>
            <a:ext cx="3352680" cy="1962360"/>
            <a:chOff x="914400" y="1066680"/>
            <a:chExt cx="3352680" cy="1962360"/>
          </a:xfrm>
        </p:grpSpPr>
        <p:pic>
          <p:nvPicPr>
            <p:cNvPr id="270" name="" descr=""/>
            <p:cNvPicPr/>
            <p:nvPr/>
          </p:nvPicPr>
          <p:blipFill>
            <a:blip r:embed="rId5"/>
            <a:stretch/>
          </p:blipFill>
          <p:spPr>
            <a:xfrm>
              <a:off x="1303200" y="1447920"/>
              <a:ext cx="2506680" cy="15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914400" y="1066680"/>
              <a:ext cx="3352680" cy="304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e Übertragung der Date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2" name="logo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8458200" y="304920"/>
            <a:ext cx="685800" cy="672840"/>
          </a:xfrm>
          <a:prstGeom prst="rect">
            <a:avLst/>
          </a:prstGeom>
          <a:ln w="0">
            <a:noFill/>
          </a:ln>
        </p:spPr>
      </p:pic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9T09:19:52Z</dcterms:created>
  <dc:creator>Peter Hausladen</dc:creator>
  <dc:description/>
  <dc:language>en-US</dc:language>
  <cp:lastModifiedBy>Peter Hausladen</cp:lastModifiedBy>
  <dcterms:modified xsi:type="dcterms:W3CDTF">2003-10-31T13:08:12Z</dcterms:modified>
  <cp:revision>7</cp:revision>
  <dc:subject/>
  <dc:title>PowerPoint-Präsentation</dc:title>
</cp:coreProperties>
</file>