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CBF-C597-4252-BCBA-35E3FD0B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9CF-BA66-413C-AAC6-59A8B3B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0EA-0A10-42C5-B9B8-E5582607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3B2-96AA-4143-8624-1326B307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0B4-B09E-4CBA-8564-EA0CBB2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377-B468-4A97-8B08-71FFA58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97B-2287-4C83-8B4C-DAB28E09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E28-D39A-40B3-8D8A-23CA3ED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9E1-BF2B-40DB-9647-A8645E7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AA2-D1B0-4FBF-9C60-7A428B2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104-1168-447A-807C-C2DBD12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B3C-E7D6-4D30-961B-3E4D27A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7DF-D74F-4C40-B0CA-A6BC29B5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file:///it-netze.ppt" TargetMode="External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ualzah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dual" descr=""/>
          <p:cNvPicPr/>
          <p:nvPr/>
        </p:nvPicPr>
        <p:blipFill>
          <a:blip r:embed="rId4"/>
          <a:stretch/>
        </p:blipFill>
        <p:spPr>
          <a:xfrm>
            <a:off x="8305920" y="384120"/>
            <a:ext cx="68580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066680"/>
            <a:ext cx="20574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zim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066680"/>
            <a:ext cx="20574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09680"/>
            <a:ext cx="14479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hlen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1752480"/>
            <a:ext cx="6754680" cy="263520"/>
            <a:chOff x="914400" y="1752480"/>
            <a:chExt cx="6754680" cy="263520"/>
          </a:xfrm>
        </p:grpSpPr>
        <p:sp>
          <p:nvSpPr>
            <p:cNvPr id="59" name=""/>
            <p:cNvSpPr/>
            <p:nvPr/>
          </p:nvSpPr>
          <p:spPr>
            <a:xfrm>
              <a:off x="914400" y="175248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ichenvorr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2743200" y="1752480"/>
              <a:ext cx="21067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5562720" y="1752480"/>
              <a:ext cx="210636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219320" y="2570040"/>
            <a:ext cx="6449760" cy="284400"/>
            <a:chOff x="1219320" y="2570040"/>
            <a:chExt cx="6449760" cy="28440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5562720" y="2590920"/>
              <a:ext cx="21063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19320" y="257004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2743200" y="2590920"/>
              <a:ext cx="21067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1219320" y="2971800"/>
            <a:ext cx="6449760" cy="341280"/>
            <a:chOff x="1219320" y="2971800"/>
            <a:chExt cx="6449760" cy="341280"/>
          </a:xfrm>
        </p:grpSpPr>
        <p:sp>
          <p:nvSpPr>
            <p:cNvPr id="67" name=""/>
            <p:cNvSpPr/>
            <p:nvPr/>
          </p:nvSpPr>
          <p:spPr>
            <a:xfrm>
              <a:off x="1219320" y="297180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llenw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562720" y="2971800"/>
              <a:ext cx="210636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0"/>
            <a:stretch/>
          </p:blipFill>
          <p:spPr>
            <a:xfrm>
              <a:off x="2743200" y="2971800"/>
              <a:ext cx="210672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1752480" y="3406680"/>
            <a:ext cx="5916600" cy="695520"/>
            <a:chOff x="1752480" y="3406680"/>
            <a:chExt cx="5916600" cy="695520"/>
          </a:xfrm>
        </p:grpSpPr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2743200" y="3429000"/>
              <a:ext cx="21067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52480" y="34066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2"/>
            <a:stretch/>
          </p:blipFill>
          <p:spPr>
            <a:xfrm>
              <a:off x="5562720" y="3429000"/>
              <a:ext cx="210636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914400" y="4398840"/>
            <a:ext cx="6754680" cy="479520"/>
            <a:chOff x="914400" y="4398840"/>
            <a:chExt cx="6754680" cy="479520"/>
          </a:xfrm>
        </p:grpSpPr>
        <p:sp>
          <p:nvSpPr>
            <p:cNvPr id="75" name=""/>
            <p:cNvSpPr/>
            <p:nvPr/>
          </p:nvSpPr>
          <p:spPr>
            <a:xfrm>
              <a:off x="914400" y="439884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3"/>
            <a:stretch/>
          </p:blipFill>
          <p:spPr>
            <a:xfrm>
              <a:off x="2743200" y="4419720"/>
              <a:ext cx="210672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5562720" y="4419720"/>
              <a:ext cx="210636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590920" y="6021360"/>
            <a:ext cx="5111640" cy="379440"/>
            <a:chOff x="2590920" y="6021360"/>
            <a:chExt cx="5111640" cy="379440"/>
          </a:xfrm>
        </p:grpSpPr>
        <p:sp>
          <p:nvSpPr>
            <p:cNvPr id="79" name=""/>
            <p:cNvSpPr/>
            <p:nvPr/>
          </p:nvSpPr>
          <p:spPr>
            <a:xfrm>
              <a:off x="2590920" y="6021360"/>
              <a:ext cx="2590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5"/>
            <a:stretch/>
          </p:blipFill>
          <p:spPr>
            <a:xfrm>
              <a:off x="5410440" y="6059520"/>
              <a:ext cx="2292120" cy="34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logo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8305920" y="6019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90920" y="5411880"/>
            <a:ext cx="5111640" cy="377640"/>
            <a:chOff x="2590920" y="5411880"/>
            <a:chExt cx="5111640" cy="377640"/>
          </a:xfrm>
        </p:grpSpPr>
        <p:sp>
          <p:nvSpPr>
            <p:cNvPr id="83" name=""/>
            <p:cNvSpPr/>
            <p:nvPr/>
          </p:nvSpPr>
          <p:spPr>
            <a:xfrm>
              <a:off x="2590920" y="5411880"/>
              <a:ext cx="25905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4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5410080" y="5448240"/>
              <a:ext cx="2292480" cy="34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2:36:06Z</dcterms:created>
  <dc:creator>Peter Hausladen</dc:creator>
  <dc:description/>
  <dc:language>en-US</dc:language>
  <cp:lastModifiedBy>Peter Hausladen</cp:lastModifiedBy>
  <dcterms:modified xsi:type="dcterms:W3CDTF">2003-10-18T14:33:45Z</dcterms:modified>
  <cp:revision>3</cp:revision>
  <dc:subject/>
  <dc:title>PowerPoint-Präsentation</dc:title>
</cp:coreProperties>
</file>