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66.jpeg" ContentType="image/jpeg"/>
  <Override PartName="/ppt/media/image9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0.jpeg" ContentType="image/jpeg"/>
  <Override PartName="/ppt/media/image17.jpeg" ContentType="image/jpeg"/>
  <Override PartName="/ppt/media/image16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50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2F89-3B45-4AC8-AF55-3C9E06203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D435-A8CF-44DB-B7F8-9AE7EB967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A636-B40C-450A-9D05-76587AA5A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8A2B-5B11-4D4E-9B42-9FCA0900E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E3BC-E937-4EDC-9D7A-9C93BA589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730E-8C0B-4036-BA79-CC424E317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A937-987D-4AFE-98B4-C966C6573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6D06-EC37-4C21-AC62-146AF77B0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3DD5-1130-41E9-A85F-50F40F9B6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3A6B-C686-4943-8820-8C74F205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E224-C4BB-4B0A-BDF2-E9B780A7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4947-617A-4CE1-ACDB-56332C60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71DC5-B3EA-49D7-90C1-BDA9B67495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657600"/>
            <a:ext cx="72388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r benutzen für unsere Städtereise nach Prag die Eisenbah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 10:32 Uhr verlässt der IC 151 den Hauptbahnhof Nürnberg, um 15:34 Uhr kommen wir in Prag, Hauptbahnhof, 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rag-Wappen" descr=""/>
          <p:cNvPicPr/>
          <p:nvPr/>
        </p:nvPicPr>
        <p:blipFill>
          <a:blip r:embed="rId1"/>
          <a:stretch/>
        </p:blipFill>
        <p:spPr>
          <a:xfrm>
            <a:off x="5105520" y="609480"/>
            <a:ext cx="2514600" cy="24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Musiker%20Karlsbrücke" descr=""/>
          <p:cNvPicPr/>
          <p:nvPr/>
        </p:nvPicPr>
        <p:blipFill>
          <a:blip r:embed="rId1"/>
          <a:stretch/>
        </p:blipFill>
        <p:spPr>
          <a:xfrm>
            <a:off x="2344680" y="1805040"/>
            <a:ext cx="4454640" cy="32464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371600" y="6094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e Brücke wird bevölkert von Künstler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55627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e musizieren o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Karlsbrücke%20Stand2" descr=""/>
          <p:cNvPicPr/>
          <p:nvPr/>
        </p:nvPicPr>
        <p:blipFill>
          <a:blip r:embed="rId1"/>
          <a:stretch/>
        </p:blipFill>
        <p:spPr>
          <a:xfrm>
            <a:off x="1981080" y="838080"/>
            <a:ext cx="5167440" cy="34387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981080" y="48769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hre Waren verkaufen woll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Kafka%20und%20Prag%203" descr=""/>
          <p:cNvPicPr/>
          <p:nvPr/>
        </p:nvPicPr>
        <p:blipFill>
          <a:blip r:embed="rId2"/>
          <a:stretch/>
        </p:blipFill>
        <p:spPr>
          <a:xfrm>
            <a:off x="1447920" y="990720"/>
            <a:ext cx="6089400" cy="36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143000" y="914400"/>
            <a:ext cx="62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 Abend sollte man ein typisches Restaurant aufsu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Böhmisches%20Lokal%20im%20Keller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5332680" cy="34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914400" y="762120"/>
            <a:ext cx="62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 eine landestypische Spezialität probieren, wie zum Beispi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Böhmisches%20Gulasch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4876560" cy="3657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133720" y="5486400"/>
            <a:ext cx="487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ager  Gulasch mit Böhmischen Knödel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838080" y="76212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f keinen Fall sollte man bei Dunkelheit versäumen, über die Karlsbrücke zu gehen, denn hier herrscht bis Mitternacht buntes Treibe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Karlsbrücke%20Nacht%202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4038480" cy="2768760"/>
          </a:xfrm>
          <a:prstGeom prst="rect">
            <a:avLst/>
          </a:prstGeom>
          <a:ln w="0">
            <a:noFill/>
          </a:ln>
        </p:spPr>
      </p:pic>
      <p:pic>
        <p:nvPicPr>
          <p:cNvPr id="84" name="Karösbrücke%20Nacht%201" descr=""/>
          <p:cNvPicPr/>
          <p:nvPr/>
        </p:nvPicPr>
        <p:blipFill>
          <a:blip r:embed="rId2"/>
          <a:stretch/>
        </p:blipFill>
        <p:spPr>
          <a:xfrm>
            <a:off x="5029200" y="2819520"/>
            <a:ext cx="350208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66680" y="68580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 kann auch einen der vielen Souvenirshops aufsu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Souvenirladen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480672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143000" y="7621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er dem Touristenstrom auf den Altstädter Ring folg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Tainkirche%20bei%20Nacht" descr=""/>
          <p:cNvPicPr/>
          <p:nvPr/>
        </p:nvPicPr>
        <p:blipFill>
          <a:blip r:embed="rId1"/>
          <a:stretch/>
        </p:blipFill>
        <p:spPr>
          <a:xfrm>
            <a:off x="3505320" y="1295280"/>
            <a:ext cx="3090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066680" y="762120"/>
            <a:ext cx="556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iebt bei den Touristen ist auch ein Besuch der „LATERNA MAGIKA“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Laterna%20magica%202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4876560" cy="36576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172200" y="182880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ne Mischung aus Film und The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295280" y="60948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er der Besuch eines Marionettentheaters, wo meist „Don Giovanni“ von Mozart gespielt wi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Don%20Giovanni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371600" y="1981080"/>
            <a:ext cx="464832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6858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 2. Tag beginnen wir unsere Stadterkundung am Platz der Republi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Gemeindehaus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095880" y="166860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r allem das sog. „Gemeindehaus“ weckt unsere Neugierd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19320" y="83808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Bahnhofshalle" descr=""/>
          <p:cNvPicPr/>
          <p:nvPr/>
        </p:nvPicPr>
        <p:blipFill>
          <a:blip r:embed="rId1"/>
          <a:stretch/>
        </p:blipFill>
        <p:spPr>
          <a:xfrm>
            <a:off x="941400" y="457200"/>
            <a:ext cx="3630600" cy="5167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952880" y="838080"/>
            <a:ext cx="3200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ch einem kurzen Blick in die historische Bahnhofshalle müssen wir eine Wechselstube aufsuchen, um unser Geld in tschechische Kronen umzutauschen. Für einen Euro bekommen wir etwa 3o Kron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6094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r schauen es uns genauer 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Gemeindehaus%20Wappen1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3733920" cy="2800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876920" y="1371600"/>
            <a:ext cx="35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 alte Prager Wappen an der Fassa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Cafe%20innen" descr=""/>
          <p:cNvPicPr/>
          <p:nvPr/>
        </p:nvPicPr>
        <p:blipFill>
          <a:blip r:embed="rId2"/>
          <a:stretch/>
        </p:blipFill>
        <p:spPr>
          <a:xfrm>
            <a:off x="838080" y="3860640"/>
            <a:ext cx="3733920" cy="24987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876920" y="44197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 Café im Jugendstil im Inner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33520" y="5335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ese Kunstrichtung (Jugendstil) findet man in Prag sehr häufi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Fassade%20Detail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3581640" cy="2686320"/>
          </a:xfrm>
          <a:prstGeom prst="rect">
            <a:avLst/>
          </a:prstGeom>
          <a:ln w="0">
            <a:noFill/>
          </a:ln>
        </p:spPr>
      </p:pic>
      <p:pic>
        <p:nvPicPr>
          <p:cNvPr id="104" name="Gemeindehaus%20Speisekarte%20außen" descr=""/>
          <p:cNvPicPr/>
          <p:nvPr/>
        </p:nvPicPr>
        <p:blipFill>
          <a:blip r:embed="rId2"/>
          <a:stretch/>
        </p:blipFill>
        <p:spPr>
          <a:xfrm>
            <a:off x="4191120" y="1066680"/>
            <a:ext cx="2838240" cy="2678400"/>
          </a:xfrm>
          <a:prstGeom prst="rect">
            <a:avLst/>
          </a:prstGeom>
          <a:ln w="0">
            <a:noFill/>
          </a:ln>
        </p:spPr>
      </p:pic>
      <p:pic>
        <p:nvPicPr>
          <p:cNvPr id="105" name="Jugendstil" descr=""/>
          <p:cNvPicPr/>
          <p:nvPr/>
        </p:nvPicPr>
        <p:blipFill>
          <a:blip r:embed="rId3"/>
          <a:stretch/>
        </p:blipFill>
        <p:spPr>
          <a:xfrm>
            <a:off x="609480" y="3733920"/>
            <a:ext cx="3429000" cy="2571480"/>
          </a:xfrm>
          <a:prstGeom prst="rect">
            <a:avLst/>
          </a:prstGeom>
          <a:ln w="0">
            <a:noFill/>
          </a:ln>
        </p:spPr>
      </p:pic>
      <p:pic>
        <p:nvPicPr>
          <p:cNvPr id="106" name="Jugendstilbild%20Buchhandel" descr=""/>
          <p:cNvPicPr/>
          <p:nvPr/>
        </p:nvPicPr>
        <p:blipFill>
          <a:blip r:embed="rId4"/>
          <a:stretch/>
        </p:blipFill>
        <p:spPr>
          <a:xfrm>
            <a:off x="4038480" y="3733920"/>
            <a:ext cx="2414880" cy="2590560"/>
          </a:xfrm>
          <a:prstGeom prst="rect">
            <a:avLst/>
          </a:prstGeom>
          <a:ln w="0">
            <a:noFill/>
          </a:ln>
        </p:spPr>
      </p:pic>
      <p:pic>
        <p:nvPicPr>
          <p:cNvPr id="107" name="Jugendstilbuch2" descr=""/>
          <p:cNvPicPr/>
          <p:nvPr/>
        </p:nvPicPr>
        <p:blipFill>
          <a:blip r:embed="rId5"/>
          <a:stretch/>
        </p:blipFill>
        <p:spPr>
          <a:xfrm>
            <a:off x="609480" y="1066680"/>
            <a:ext cx="640080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066680" y="6094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ch den Pulvertu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ulverturm" descr=""/>
          <p:cNvPicPr/>
          <p:nvPr/>
        </p:nvPicPr>
        <p:blipFill>
          <a:blip r:embed="rId1"/>
          <a:stretch/>
        </p:blipFill>
        <p:spPr>
          <a:xfrm>
            <a:off x="4267080" y="838080"/>
            <a:ext cx="3611520" cy="52405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066680" y="518148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hen wir zum Altstädter Ri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14400" y="6858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 eigentlichen Hauptplat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129528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errscht wird er vom Rath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Altstädter%20Rathaus" descr=""/>
          <p:cNvPicPr/>
          <p:nvPr/>
        </p:nvPicPr>
        <p:blipFill>
          <a:blip r:embed="rId1"/>
          <a:stretch/>
        </p:blipFill>
        <p:spPr>
          <a:xfrm>
            <a:off x="3352680" y="1447920"/>
            <a:ext cx="510552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914400" y="9144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d von der Teynkirc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Altstädter%20Ring2" descr=""/>
          <p:cNvPicPr/>
          <p:nvPr/>
        </p:nvPicPr>
        <p:blipFill>
          <a:blip r:embed="rId1"/>
          <a:stretch/>
        </p:blipFill>
        <p:spPr>
          <a:xfrm>
            <a:off x="2895480" y="1066680"/>
            <a:ext cx="5181840" cy="38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33520" y="6858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n der Mitte das großen Platzes steht das Denkmal für Jan H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Altstädter%20Ring%20rechts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118" name="Hus-Denkmal" descr=""/>
          <p:cNvPicPr/>
          <p:nvPr/>
        </p:nvPicPr>
        <p:blipFill>
          <a:blip r:embed="rId2"/>
          <a:stretch/>
        </p:blipFill>
        <p:spPr>
          <a:xfrm>
            <a:off x="685800" y="1143000"/>
            <a:ext cx="708660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38080" y="6094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 Rathaus finden wir die berühmte astronomische Uh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Astronomische%20Uhr" descr=""/>
          <p:cNvPicPr/>
          <p:nvPr/>
        </p:nvPicPr>
        <p:blipFill>
          <a:blip r:embed="rId1"/>
          <a:stretch/>
        </p:blipFill>
        <p:spPr>
          <a:xfrm>
            <a:off x="1905120" y="1066680"/>
            <a:ext cx="46306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838080" y="60948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m Rathausturm hat man einen tollen Bl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Blick%20vom%20Rathausturm%20-%20Pulverturm" descr=""/>
          <p:cNvPicPr/>
          <p:nvPr/>
        </p:nvPicPr>
        <p:blipFill>
          <a:blip r:embed="rId1"/>
          <a:stretch/>
        </p:blipFill>
        <p:spPr>
          <a:xfrm>
            <a:off x="3200400" y="144792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990720" y="2209680"/>
            <a:ext cx="213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chtung Pulvertu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83808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chtung Hradsch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Blick%20vom%20Rathausturm%20-%20Hradschin" descr=""/>
          <p:cNvPicPr/>
          <p:nvPr/>
        </p:nvPicPr>
        <p:blipFill>
          <a:blip r:embed="rId1"/>
          <a:stretch/>
        </p:blipFill>
        <p:spPr>
          <a:xfrm>
            <a:off x="2133720" y="1066680"/>
            <a:ext cx="617220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62120" y="83808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ichtung Laurenzibe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Blick%20vom%20Rathausturm%20-%20Laurenziberg" descr=""/>
          <p:cNvPicPr/>
          <p:nvPr/>
        </p:nvPicPr>
        <p:blipFill>
          <a:blip r:embed="rId1"/>
          <a:stretch/>
        </p:blipFill>
        <p:spPr>
          <a:xfrm>
            <a:off x="2743200" y="99072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57200" y="2209680"/>
            <a:ext cx="2133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rt befindet sich der sog. „Prager Eiffelturm“, eine Kopie des Pariser Wahrzeich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77120" y="121932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9072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achdem wir unser Quartier in der Innenstadt bezogen haben, beginnen wir unseren Rundgang am Wenzelsplatz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Wenzelsplatz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4952880" cy="3714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019920" y="2057400"/>
            <a:ext cx="2590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r Platz ist 750 m lang und 60 m breit. Das Reiterstandbild zeigt den Nationalheiligen der Tschechen, der von 921 bis 935 Herzog von Böhmen w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33520" y="685800"/>
            <a:ext cx="373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n dieser 60 m hohen eisernen Konstruk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rager%20Eiffelturm%202" descr=""/>
          <p:cNvPicPr/>
          <p:nvPr/>
        </p:nvPicPr>
        <p:blipFill>
          <a:blip r:embed="rId1"/>
          <a:stretch/>
        </p:blipFill>
        <p:spPr>
          <a:xfrm>
            <a:off x="3657600" y="76212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533520" y="6858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eht man beispielsweise in den Garten der deutschen Botschaft, wohin sich 1989 DDR-Flüchtlinge gerettet hab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Deutsche%20Botschaft%202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17220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04920" y="5335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m Rathausturm sieht man natürlich auch auf den Altstädter 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Altstädter%20Ring4" descr=""/>
          <p:cNvPicPr/>
          <p:nvPr/>
        </p:nvPicPr>
        <p:blipFill>
          <a:blip r:embed="rId1"/>
          <a:stretch/>
        </p:blipFill>
        <p:spPr>
          <a:xfrm>
            <a:off x="2895480" y="1066680"/>
            <a:ext cx="5562720" cy="41720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57200" y="38098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it dem Hus-Denk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486400" y="56386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914400" y="6858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f das ehemalige jüdische Viert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Judenviertel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78204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762120" y="60948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ch der Blick auf die Teynkirche ist großarti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Taynkirche" descr=""/>
          <p:cNvPicPr/>
          <p:nvPr/>
        </p:nvPicPr>
        <p:blipFill>
          <a:blip r:embed="rId1"/>
          <a:stretch/>
        </p:blipFill>
        <p:spPr>
          <a:xfrm>
            <a:off x="1447920" y="1085760"/>
            <a:ext cx="64767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533520" y="5335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chließend suchen wir eine Straßenbahnhaltestelle und fahren mit der Linie 22 auf den Hradsch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4038480"/>
            <a:ext cx="2210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 12 Uhr findet vor dem Amtssitz des Präsidenten eine Wachablösung stat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Wachablösung" descr=""/>
          <p:cNvPicPr/>
          <p:nvPr/>
        </p:nvPicPr>
        <p:blipFill>
          <a:blip r:embed="rId1"/>
          <a:stretch/>
        </p:blipFill>
        <p:spPr>
          <a:xfrm>
            <a:off x="2666880" y="1665360"/>
            <a:ext cx="6019920" cy="4792680"/>
          </a:xfrm>
          <a:prstGeom prst="rect">
            <a:avLst/>
          </a:prstGeom>
          <a:ln w="0">
            <a:noFill/>
          </a:ln>
        </p:spPr>
      </p:pic>
      <p:pic>
        <p:nvPicPr>
          <p:cNvPr id="145" name="Ticket" descr=""/>
          <p:cNvPicPr/>
          <p:nvPr/>
        </p:nvPicPr>
        <p:blipFill>
          <a:blip r:embed="rId2"/>
          <a:stretch/>
        </p:blipFill>
        <p:spPr>
          <a:xfrm>
            <a:off x="685800" y="1371600"/>
            <a:ext cx="17049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533520" y="60948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 Sommer sind die Wachsoldaten natürlich leichter gekleid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Wache%20Sommer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33520" y="5335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r gehen durch das Tor und befinden uns nun in der Prager Burg, die Hradschin heiß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Veitsdom%20Türme" descr=""/>
          <p:cNvPicPr/>
          <p:nvPr/>
        </p:nvPicPr>
        <p:blipFill>
          <a:blip r:embed="rId1"/>
          <a:stretch/>
        </p:blipFill>
        <p:spPr>
          <a:xfrm>
            <a:off x="2438280" y="1371600"/>
            <a:ext cx="6172200" cy="46292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09480" y="1828800"/>
            <a:ext cx="198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e Türme des St. Veitsdoms ragen in die Hö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5800" y="7621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r betreten die 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Veitsdom%20Kirchenschiff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4676760" cy="51055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791320" y="494496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 suchen d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09480" y="5335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b des heiligen Nepomu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Nepomuk-Grabstätte" descr=""/>
          <p:cNvPicPr/>
          <p:nvPr/>
        </p:nvPicPr>
        <p:blipFill>
          <a:blip r:embed="rId1"/>
          <a:stretch/>
        </p:blipFill>
        <p:spPr>
          <a:xfrm>
            <a:off x="4416480" y="228600"/>
            <a:ext cx="439416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62120" y="60948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ir gehen den Wenzelsplatz abwärts und biegen dann nach links in die Neustadt ab, am Karlsplatz sehen wir das Neustädter Ratha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Neustädter%20Rathaus" descr=""/>
          <p:cNvPicPr/>
          <p:nvPr/>
        </p:nvPicPr>
        <p:blipFill>
          <a:blip r:embed="rId1"/>
          <a:stretch/>
        </p:blipFill>
        <p:spPr>
          <a:xfrm>
            <a:off x="1371600" y="236232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33520" y="53352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ch von außen ist der Dom sehenswe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Veitsdom%20Seite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6553080" cy="4915080"/>
          </a:xfrm>
          <a:prstGeom prst="rect">
            <a:avLst/>
          </a:prstGeom>
          <a:ln w="0">
            <a:noFill/>
          </a:ln>
        </p:spPr>
      </p:pic>
      <p:pic>
        <p:nvPicPr>
          <p:cNvPr id="158" name="Veitsdom6" descr=""/>
          <p:cNvPicPr/>
          <p:nvPr/>
        </p:nvPicPr>
        <p:blipFill>
          <a:blip r:embed="rId2"/>
          <a:stretch/>
        </p:blipFill>
        <p:spPr>
          <a:xfrm>
            <a:off x="609480" y="990720"/>
            <a:ext cx="6705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762120" y="6094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ürlich laufen wir auch durch das „Goldene Gässchen“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goldenes%20Gässchen-Kafkawohnhaus" descr=""/>
          <p:cNvPicPr/>
          <p:nvPr/>
        </p:nvPicPr>
        <p:blipFill>
          <a:blip r:embed="rId1"/>
          <a:stretch/>
        </p:blipFill>
        <p:spPr>
          <a:xfrm>
            <a:off x="990720" y="1084320"/>
            <a:ext cx="6781680" cy="44416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990720" y="563868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er hat der deutschsprachige Schriftsteller Kafka kurze Zeit gewoh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09480" y="5335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nen schönen Blick über die Altstadt hat man vom Hradsch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Blick%20vom%20Hradschin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23888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33520" y="60948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 nächstes steigen wir  von der Burg zur Moldau hinab, weil wir eine Bootsrundfahrt machen möchten. Von Bord des Schiffes hat man immer wieder schöne Blicke auf Burg und D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Hradschin5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166" name="Hradschin7" descr=""/>
          <p:cNvPicPr/>
          <p:nvPr/>
        </p:nvPicPr>
        <p:blipFill>
          <a:blip r:embed="rId2"/>
          <a:stretch/>
        </p:blipFill>
        <p:spPr>
          <a:xfrm>
            <a:off x="1066680" y="220968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167" name="Hradschin8" descr=""/>
          <p:cNvPicPr/>
          <p:nvPr/>
        </p:nvPicPr>
        <p:blipFill>
          <a:blip r:embed="rId3"/>
          <a:stretch/>
        </p:blipFill>
        <p:spPr>
          <a:xfrm>
            <a:off x="1676520" y="2666880"/>
            <a:ext cx="4876560" cy="3657600"/>
          </a:xfrm>
          <a:prstGeom prst="rect">
            <a:avLst/>
          </a:prstGeom>
          <a:ln w="0">
            <a:noFill/>
          </a:ln>
        </p:spPr>
      </p:pic>
      <p:pic>
        <p:nvPicPr>
          <p:cNvPr id="168" name="Hradschin9" descr=""/>
          <p:cNvPicPr/>
          <p:nvPr/>
        </p:nvPicPr>
        <p:blipFill>
          <a:blip r:embed="rId4"/>
          <a:stretch/>
        </p:blipFill>
        <p:spPr>
          <a:xfrm>
            <a:off x="2895480" y="209556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04920" y="38088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n den deutschsprachigen Dichtern, die in Prag geboren wurden, Franz Kafka, Rainer Maria Rilke und Franz Werfel, begegnet einem nur einer - Franz Kafka - auf Schritt und Trit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Schaufenster%20am%20Kafka-Haus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3409920" cy="3587760"/>
          </a:xfrm>
          <a:prstGeom prst="rect">
            <a:avLst/>
          </a:prstGeom>
          <a:ln w="0">
            <a:noFill/>
          </a:ln>
        </p:spPr>
      </p:pic>
      <p:pic>
        <p:nvPicPr>
          <p:cNvPr id="171" name="Straßenschild%20Kafka" descr=""/>
          <p:cNvPicPr/>
          <p:nvPr/>
        </p:nvPicPr>
        <p:blipFill>
          <a:blip r:embed="rId2"/>
          <a:stretch/>
        </p:blipFill>
        <p:spPr>
          <a:xfrm>
            <a:off x="1371600" y="2895480"/>
            <a:ext cx="7202520" cy="35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85800" y="53352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 letzten Tag unseres Pragbesuches suchen wir zuerst das Geburtshaus von Kafka au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Kafka%20Geburtshaus" descr=""/>
          <p:cNvPicPr/>
          <p:nvPr/>
        </p:nvPicPr>
        <p:blipFill>
          <a:blip r:embed="rId1"/>
          <a:stretch/>
        </p:blipFill>
        <p:spPr>
          <a:xfrm>
            <a:off x="2057400" y="1371600"/>
            <a:ext cx="55306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838080" y="3808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ne Büste erinnert an den Dich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Kafka%20Büste%205" descr=""/>
          <p:cNvPicPr/>
          <p:nvPr/>
        </p:nvPicPr>
        <p:blipFill>
          <a:blip r:embed="rId1"/>
          <a:stretch/>
        </p:blipFill>
        <p:spPr>
          <a:xfrm>
            <a:off x="1073160" y="914400"/>
            <a:ext cx="53690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57200" y="3808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r fahren auch zum neuen jüdischen Friedho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neuer%20jüdischer%20Friedhof" descr=""/>
          <p:cNvPicPr/>
          <p:nvPr/>
        </p:nvPicPr>
        <p:blipFill>
          <a:blip r:embed="rId1"/>
          <a:stretch/>
        </p:blipFill>
        <p:spPr>
          <a:xfrm>
            <a:off x="2438280" y="914400"/>
            <a:ext cx="5791320" cy="43434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990720" y="563868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e männlichen Mitglieder der Gruppe müssen hier eine Kopfbedeckung tragen, und suchen 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85800" y="6858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b von Franz Kafk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Kafkagrab1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5334120" cy="4000320"/>
          </a:xfrm>
          <a:prstGeom prst="rect">
            <a:avLst/>
          </a:prstGeom>
          <a:ln w="0">
            <a:noFill/>
          </a:ln>
        </p:spPr>
      </p:pic>
      <p:pic>
        <p:nvPicPr>
          <p:cNvPr id="181" name="Kafkagrab4" descr=""/>
          <p:cNvPicPr/>
          <p:nvPr/>
        </p:nvPicPr>
        <p:blipFill>
          <a:blip r:embed="rId2"/>
          <a:stretch/>
        </p:blipFill>
        <p:spPr>
          <a:xfrm>
            <a:off x="2133720" y="1600200"/>
            <a:ext cx="4876560" cy="3657600"/>
          </a:xfrm>
          <a:prstGeom prst="rect">
            <a:avLst/>
          </a:prstGeom>
          <a:ln w="0">
            <a:noFill/>
          </a:ln>
        </p:spPr>
      </p:pic>
      <p:pic>
        <p:nvPicPr>
          <p:cNvPr id="182" name="Kafkagrab5" descr=""/>
          <p:cNvPicPr/>
          <p:nvPr/>
        </p:nvPicPr>
        <p:blipFill>
          <a:blip r:embed="rId3"/>
          <a:stretch/>
        </p:blipFill>
        <p:spPr>
          <a:xfrm>
            <a:off x="2133720" y="120024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914400" y="54864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f dem Verehrer/innen Botschaften hinterlassen hab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57200" y="5335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f der Rückfahrt kommen wir am Prager Fernsehturm vorbei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Fernsehturm2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1892160" cy="53323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590920" y="1219320"/>
            <a:ext cx="579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thilfe des Aufzugs fahren wir nach oben und sehen nun Prag in seiner ganzen Größe unter u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838080" y="762120"/>
            <a:ext cx="2590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ser Weg führt uns weiter an die Moldau, hier finden wir eines der wenigen modernen Häuser in der Innenstadt, das sogenannte „tanzende Haus“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tanzendes%20Haus" descr=""/>
          <p:cNvPicPr/>
          <p:nvPr/>
        </p:nvPicPr>
        <p:blipFill>
          <a:blip r:embed="rId1"/>
          <a:stretch/>
        </p:blipFill>
        <p:spPr>
          <a:xfrm>
            <a:off x="3276720" y="914400"/>
            <a:ext cx="5181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Übersicht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6248520" cy="46864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6705720" y="8380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r sehen den Hradschi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72000" y="144792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705720" y="20574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en Laurenzibe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1523520" y="1676160"/>
            <a:ext cx="5257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010280" y="281952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 die Altstad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0" y="1739880"/>
            <a:ext cx="3048120" cy="927000"/>
          </a:xfrm>
          <a:prstGeom prst="ellipse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609480" y="6858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ider ist nun unsere Zeit in Prag vorbei, wir holen unser Gepäck und fahren mit dem IC 150 nach Nürnberg zurü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1905120"/>
            <a:ext cx="7315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bfahrt um 14:25 Uh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kunft in Nürnberg um 19.18 Uh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14400" y="91440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lussabwärts kommen wir an das Smetana-Denkmal, das vor dem Museum für den Komponisten ste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Smetana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4952880" cy="31748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248520" y="2057400"/>
            <a:ext cx="2209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m Hintergrund sehen wir schon die Karlsbrücke und darüber den Hradschin mit dem St. Veitsd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952520" y="3048120"/>
            <a:ext cx="121932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5638320" y="3809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4724280" y="3733920"/>
            <a:ext cx="152424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657600" y="3733920"/>
            <a:ext cx="26668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3962160" y="3733920"/>
            <a:ext cx="75960" cy="83808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038120" y="4495680"/>
            <a:ext cx="2133720" cy="7632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600200" y="525780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n paar Schritte weiter stehen wir vor dem Altstädter Brückenturm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Altstädter%20Brückenturm" descr=""/>
          <p:cNvPicPr/>
          <p:nvPr/>
        </p:nvPicPr>
        <p:blipFill>
          <a:blip r:embed="rId1"/>
          <a:stretch/>
        </p:blipFill>
        <p:spPr>
          <a:xfrm>
            <a:off x="1600200" y="380880"/>
            <a:ext cx="5867280" cy="48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838080" y="6858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 wir natürlich besteigen, denn von hier oben hat man einen schönen Blick a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Karlsbrücke3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4857480" cy="3600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066680" y="533412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e Karl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838080" y="7621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Türme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4876920" cy="3613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133720" y="5486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über die Altstad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1T12:05:47Z</dcterms:created>
  <dc:creator>Orthograf!</dc:creator>
  <dc:description/>
  <dc:language>en-US</dc:language>
  <cp:lastModifiedBy>Orthograf!</cp:lastModifiedBy>
  <dcterms:modified xsi:type="dcterms:W3CDTF">2003-09-03T15:06:03Z</dcterms:modified>
  <cp:revision>12</cp:revision>
  <dc:subject/>
  <dc:title>Prag</dc:title>
</cp:coreProperties>
</file>