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266-98CE-423B-AAD4-A9089E01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EFB-6396-4143-8BB2-998D4322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5C7A-3AEA-4F68-9209-85C53F4E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223-86E5-4E22-9B0E-3719DC86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5EB-A1F1-4E6D-83CC-4D68FDDD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5FA-3507-4CB2-B72D-8BAADA16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957-B64B-4868-AB9C-B734C3F9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DF81-E7DC-4F24-8EE3-6E2E454B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D11F-9381-47A3-9245-B3E48A7C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6ECC-8486-4014-A0CA-4020D9DD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EE5-EA10-4CC3-82BA-8D5FF4BE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A40-649E-43D8-9005-CE79E697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D7C6-946A-41D3-BECD-4A27C8B28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657600"/>
            <a:ext cx="7238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 benutzen für unsere Städtereise nach Prag die Eisenbah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 10:32 Uhr verlässt der IC 151 den Hauptbahnhof Nürnberg, um 15:34 Uhr kommen wir in Prag, Hauptbahnhof, 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rag-Wappen" descr=""/>
          <p:cNvPicPr/>
          <p:nvPr/>
        </p:nvPicPr>
        <p:blipFill>
          <a:blip r:embed="rId1"/>
          <a:stretch/>
        </p:blipFill>
        <p:spPr>
          <a:xfrm>
            <a:off x="5105520" y="609480"/>
            <a:ext cx="251460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Musiker%20Karlsbrücke" descr=""/>
          <p:cNvPicPr/>
          <p:nvPr/>
        </p:nvPicPr>
        <p:blipFill>
          <a:blip r:embed="rId1"/>
          <a:stretch/>
        </p:blipFill>
        <p:spPr>
          <a:xfrm>
            <a:off x="2344680" y="1805040"/>
            <a:ext cx="4454640" cy="3246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609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Brücke wird bevölkert von Künstler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562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musizieren 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Karlsbrücke%20Stand2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167440" cy="3438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81080" y="4876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hre Waren verkaufen wol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Kafka%20und%20Prag%203" descr=""/>
          <p:cNvPicPr/>
          <p:nvPr/>
        </p:nvPicPr>
        <p:blipFill>
          <a:blip r:embed="rId2"/>
          <a:stretch/>
        </p:blipFill>
        <p:spPr>
          <a:xfrm>
            <a:off x="1447920" y="990720"/>
            <a:ext cx="608940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3000" y="91440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 Abend sollte man ein typisches Restaurant aufsu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öhmisches%20Lokal%20im%20Keller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33268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14400" y="76212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 eine landestypische Spezialität probieren, wie zum Beisp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Böhmisches%20Gulasch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33720" y="548640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ger  Gulasch mit Böhmischen Knödel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7621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 keinen Fall sollte man bei Dunkelheit versäumen, über die Karlsbrücke zu gehen, denn hier herrscht bis Mitternacht buntes Treib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Karlsbrücke%20Nacht%202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4038480" cy="2768760"/>
          </a:xfrm>
          <a:prstGeom prst="rect">
            <a:avLst/>
          </a:prstGeom>
          <a:ln w="0">
            <a:noFill/>
          </a:ln>
        </p:spPr>
      </p:pic>
      <p:pic>
        <p:nvPicPr>
          <p:cNvPr id="84" name="Karösbrücke%20Nacht%201" descr=""/>
          <p:cNvPicPr/>
          <p:nvPr/>
        </p:nvPicPr>
        <p:blipFill>
          <a:blip r:embed="rId2"/>
          <a:stretch/>
        </p:blipFill>
        <p:spPr>
          <a:xfrm>
            <a:off x="5029200" y="2819520"/>
            <a:ext cx="3502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6858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 kann auch einen der vielen Souvenirshops aufsu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Souvenirladen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8067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7621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er dem Touristenstrom auf den Altstädter Ring fol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Tainkirche%20bei%20Nacht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3090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76212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bt bei den Touristen ist auch ein Besuch der „LATERNA MAGIKA“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Laterna%20magica%20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72200" y="18288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 Mischung aus Film und Th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6094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er der Besuch eines Marionettentheaters, wo meist „Don Giovanni“ von Mozart gespielt w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Don%20Giovanni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371600" y="1981080"/>
            <a:ext cx="46483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685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 2. Tag beginnen wir unsere Stadterkundung am Platz der Republ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Gemeindehaus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5880" y="16686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r allem das sog. „Gemeindehaus“ weckt unsere Neugier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8380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ahnhofshalle" descr=""/>
          <p:cNvPicPr/>
          <p:nvPr/>
        </p:nvPicPr>
        <p:blipFill>
          <a:blip r:embed="rId1"/>
          <a:stretch/>
        </p:blipFill>
        <p:spPr>
          <a:xfrm>
            <a:off x="941400" y="457200"/>
            <a:ext cx="3630600" cy="5167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838080"/>
            <a:ext cx="320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 einem kurzen Blick in die historische Bahnhofshalle müssen wir eine Wechselstube aufsuchen, um unser Geld in tschechische Kronen umzutauschen. Für einen Euro bekommen wir etwa 3o Kro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09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 schauen es uns genauer 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Gemeindehaus%20Wappen1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876920" y="137160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alte Prager Wappen an der Fass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Cafe%20innen" descr=""/>
          <p:cNvPicPr/>
          <p:nvPr/>
        </p:nvPicPr>
        <p:blipFill>
          <a:blip r:embed="rId2"/>
          <a:stretch/>
        </p:blipFill>
        <p:spPr>
          <a:xfrm>
            <a:off x="838080" y="3860640"/>
            <a:ext cx="3733920" cy="2498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876920" y="44197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Café im Jugendstil im Inn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533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se Kunstrichtung (Jugendstil) findet man in Prag sehr häuf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Fassade%20Detail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581640" cy="2686320"/>
          </a:xfrm>
          <a:prstGeom prst="rect">
            <a:avLst/>
          </a:prstGeom>
          <a:ln w="0">
            <a:noFill/>
          </a:ln>
        </p:spPr>
      </p:pic>
      <p:pic>
        <p:nvPicPr>
          <p:cNvPr id="104" name="Gemeindehaus%20Speisekarte%20außen" descr=""/>
          <p:cNvPicPr/>
          <p:nvPr/>
        </p:nvPicPr>
        <p:blipFill>
          <a:blip r:embed="rId2"/>
          <a:stretch/>
        </p:blipFill>
        <p:spPr>
          <a:xfrm>
            <a:off x="4191120" y="1066680"/>
            <a:ext cx="2838240" cy="2678400"/>
          </a:xfrm>
          <a:prstGeom prst="rect">
            <a:avLst/>
          </a:prstGeom>
          <a:ln w="0">
            <a:noFill/>
          </a:ln>
        </p:spPr>
      </p:pic>
      <p:pic>
        <p:nvPicPr>
          <p:cNvPr id="105" name="Jugendstil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06" name="Jugendstilbild%20Buchhandel" descr=""/>
          <p:cNvPicPr/>
          <p:nvPr/>
        </p:nvPicPr>
        <p:blipFill>
          <a:blip r:embed="rId4"/>
          <a:stretch/>
        </p:blipFill>
        <p:spPr>
          <a:xfrm>
            <a:off x="4038480" y="3733920"/>
            <a:ext cx="2414880" cy="2590560"/>
          </a:xfrm>
          <a:prstGeom prst="rect">
            <a:avLst/>
          </a:prstGeom>
          <a:ln w="0">
            <a:noFill/>
          </a:ln>
        </p:spPr>
      </p:pic>
      <p:pic>
        <p:nvPicPr>
          <p:cNvPr id="107" name="Jugendstilbuch2" descr=""/>
          <p:cNvPicPr/>
          <p:nvPr/>
        </p:nvPicPr>
        <p:blipFill>
          <a:blip r:embed="rId5"/>
          <a:stretch/>
        </p:blipFill>
        <p:spPr>
          <a:xfrm>
            <a:off x="609480" y="1066680"/>
            <a:ext cx="640080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66680" y="609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ch den Pulvertu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ulverturm" descr=""/>
          <p:cNvPicPr/>
          <p:nvPr/>
        </p:nvPicPr>
        <p:blipFill>
          <a:blip r:embed="rId1"/>
          <a:stretch/>
        </p:blipFill>
        <p:spPr>
          <a:xfrm>
            <a:off x="4267080" y="838080"/>
            <a:ext cx="3611520" cy="5240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66680" y="518148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hen wir zum Altstädter R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4400" y="685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 eigentlichen Hauptplat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295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errscht wird er vom Rath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ltstädter%20Rathaus" descr=""/>
          <p:cNvPicPr/>
          <p:nvPr/>
        </p:nvPicPr>
        <p:blipFill>
          <a:blip r:embed="rId1"/>
          <a:stretch/>
        </p:blipFill>
        <p:spPr>
          <a:xfrm>
            <a:off x="3352680" y="144792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914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von der Teynkir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Altstädter%20Ring2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518184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685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der Mitte das großen Platzes steht das Denkmal für Jan H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Altstädter%20Ring%20rechts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18" name="Hus-Denkmal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70866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609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 Rathaus finden wir die berühmte astronomische Uh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Astronomische%20Uhr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4630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6094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m Rathausturm hat man einen tollen B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Blick%20vom%20Rathausturm%20-%20Pulverturm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90720" y="220968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htung Pulvertu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8380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htung Hradsc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Blick%20vom%20Rathausturm%20-%20Hradschin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8380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ichtung Laurenzi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Blick%20vom%20Rathausturm%20-%20Laurenziberg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2209680"/>
            <a:ext cx="21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t befindet sich der sog. „Prager Eiffelturm“, eine Kopie des Pariser Wahrzeich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12193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907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chdem wir unser Quartier in der Innenstadt bezogen haben, beginnen wir unseren Rundgang am Wenzelsplat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Wenzelsplatz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4952880" cy="371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19920" y="2057400"/>
            <a:ext cx="259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Platz ist 750 m lang und 60 m breit. Das Reiterstandbild zeigt den Nationalheiligen der Tschechen, der von 921 bis 935 Herzog von Böhmen w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6858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n dieser 60 m hohen eisernen Konstruk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rager%20Eiffelturm%202" descr=""/>
          <p:cNvPicPr/>
          <p:nvPr/>
        </p:nvPicPr>
        <p:blipFill>
          <a:blip r:embed="rId1"/>
          <a:stretch/>
        </p:blipFill>
        <p:spPr>
          <a:xfrm>
            <a:off x="3657600" y="762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685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eht man beispielsweise in den Garten der deutschen Botschaft, wohin sich 1989 DDR-Flüchtlinge gerettet ha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Deutsche%20Botschaft%202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533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m Rathausturm sieht man natürlich auch auf den Altstädter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Altstädter%20Ring4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3809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dem Hus-Denk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14400" y="685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 das ehemalige jüdische Viert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Judenviertel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7820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609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ch der Blick auf die Teynkirche ist großart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Taynkirche" descr=""/>
          <p:cNvPicPr/>
          <p:nvPr/>
        </p:nvPicPr>
        <p:blipFill>
          <a:blip r:embed="rId1"/>
          <a:stretch/>
        </p:blipFill>
        <p:spPr>
          <a:xfrm>
            <a:off x="1447920" y="108576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5335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chließend suchen wir eine Straßenbahnhaltestelle und fahren mit der Linie 22 auf den Hradsch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4038480"/>
            <a:ext cx="221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 12 Uhr findet vor dem Amtssitz des Präsidenten eine Wachablösung sta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Wachablösung" descr=""/>
          <p:cNvPicPr/>
          <p:nvPr/>
        </p:nvPicPr>
        <p:blipFill>
          <a:blip r:embed="rId1"/>
          <a:stretch/>
        </p:blipFill>
        <p:spPr>
          <a:xfrm>
            <a:off x="2666880" y="1665360"/>
            <a:ext cx="6019920" cy="4792680"/>
          </a:xfrm>
          <a:prstGeom prst="rect">
            <a:avLst/>
          </a:prstGeom>
          <a:ln w="0">
            <a:noFill/>
          </a:ln>
        </p:spPr>
      </p:pic>
      <p:pic>
        <p:nvPicPr>
          <p:cNvPr id="145" name="Ticket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1704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3520" y="609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 Sommer sind die Wachsoldaten natürlich leichter gekleid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Wache%20Sommer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5335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 gehen durch das Tor und befinden uns nun in der Prager Burg, die Hradschin heiß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Veitsdom%20Türme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09480" y="1828800"/>
            <a:ext cx="19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Türme des St. Veitsdoms ragen in die Hö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7621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 betreten die 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Veitsdom%20Kirchenschiff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4676760" cy="5105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791320" y="49449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 suchen 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533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b des heiligen Nepomu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Nepomuk-Grabstätte" descr=""/>
          <p:cNvPicPr/>
          <p:nvPr/>
        </p:nvPicPr>
        <p:blipFill>
          <a:blip r:embed="rId1"/>
          <a:stretch/>
        </p:blipFill>
        <p:spPr>
          <a:xfrm>
            <a:off x="4416480" y="228600"/>
            <a:ext cx="4394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6094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r gehen den Wenzelsplatz abwärts und biegen dann nach links in die Neustadt ab, am Karlsplatz sehen wir das Neustädter Ratha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Neustädter%20Rathaus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5335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ch von außen ist der Dom sehensw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Veitsdom%20Seite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6553080" cy="4915080"/>
          </a:xfrm>
          <a:prstGeom prst="rect">
            <a:avLst/>
          </a:prstGeom>
          <a:ln w="0">
            <a:noFill/>
          </a:ln>
        </p:spPr>
      </p:pic>
      <p:pic>
        <p:nvPicPr>
          <p:cNvPr id="158" name="Veitsdom6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62120" y="609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ürlich laufen wir auch durch das „Goldene Gässchen“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goldenes%20Gässchen-Kafkawohnhaus" descr=""/>
          <p:cNvPicPr/>
          <p:nvPr/>
        </p:nvPicPr>
        <p:blipFill>
          <a:blip r:embed="rId1"/>
          <a:stretch/>
        </p:blipFill>
        <p:spPr>
          <a:xfrm>
            <a:off x="990720" y="1084320"/>
            <a:ext cx="6781680" cy="4441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90720" y="56386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 hat der deutschsprachige Schriftsteller Kafka kurze Zeit gewoh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533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n schönen Blick über die Altstadt hat man vom Hradsch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Blick%20vom%20Hradschin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3520" y="6094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 nächstes steigen wir  von der Burg zur Moldau hinab, weil wir eine Bootsrundfahrt machen möchten. Von Bord des Schiffes hat man immer wieder schöne Blicke auf Burg und 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Hradschin5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66" name="Hradschin7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67" name="Hradschin8" descr=""/>
          <p:cNvPicPr/>
          <p:nvPr/>
        </p:nvPicPr>
        <p:blipFill>
          <a:blip r:embed="rId3"/>
          <a:stretch/>
        </p:blipFill>
        <p:spPr>
          <a:xfrm>
            <a:off x="1676520" y="266688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168" name="Hradschin9" descr=""/>
          <p:cNvPicPr/>
          <p:nvPr/>
        </p:nvPicPr>
        <p:blipFill>
          <a:blip r:embed="rId4"/>
          <a:stretch/>
        </p:blipFill>
        <p:spPr>
          <a:xfrm>
            <a:off x="2895480" y="20955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920" y="3808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n den deutschsprachigen Dichtern, die in Prag geboren wurden, Franz Kafka, Rainer Maria Rilke und Franz Werfel, begegnet einem nur einer - Franz Kafka - auf Schritt und Trit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chaufenster%20am%20Kafka-Haus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409920" cy="3587760"/>
          </a:xfrm>
          <a:prstGeom prst="rect">
            <a:avLst/>
          </a:prstGeom>
          <a:ln w="0">
            <a:noFill/>
          </a:ln>
        </p:spPr>
      </p:pic>
      <p:pic>
        <p:nvPicPr>
          <p:cNvPr id="171" name="Straßenschild%20Kafka" descr=""/>
          <p:cNvPicPr/>
          <p:nvPr/>
        </p:nvPicPr>
        <p:blipFill>
          <a:blip r:embed="rId2"/>
          <a:stretch/>
        </p:blipFill>
        <p:spPr>
          <a:xfrm>
            <a:off x="1371600" y="2895480"/>
            <a:ext cx="720252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5335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 letzten Tag unseres Pragbesuches suchen wir zuerst das Geburtshaus von Kafka au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Kafka%20Geburtshaus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55306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38080" y="380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 Büste erinnert an den Dich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Kafka%20Büste%205" descr=""/>
          <p:cNvPicPr/>
          <p:nvPr/>
        </p:nvPicPr>
        <p:blipFill>
          <a:blip r:embed="rId1"/>
          <a:stretch/>
        </p:blipFill>
        <p:spPr>
          <a:xfrm>
            <a:off x="1073160" y="914400"/>
            <a:ext cx="5369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 fahren auch zum neuen jüdischen Friedho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neuer%20jüdischer%20Friedhof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990720" y="56386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männlichen Mitglieder der Gruppe müssen hier eine Kopfbedeckung tragen, und suchen 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685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b von Franz Kafk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Kafkagrab1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181" name="Kafkagrab4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182" name="Kafkagrab5" descr=""/>
          <p:cNvPicPr/>
          <p:nvPr/>
        </p:nvPicPr>
        <p:blipFill>
          <a:blip r:embed="rId3"/>
          <a:stretch/>
        </p:blipFill>
        <p:spPr>
          <a:xfrm>
            <a:off x="2133720" y="120024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14400" y="5486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 dem Verehrer/innen Botschaften hinterlassen ha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533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 der Rückfahrt kommen wir am Prager Fernsehturm vorbe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Fernsehturm2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1892160" cy="5332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90920" y="121932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hilfe des Aufzugs fahren wir nach oben und sehen nun Prag in seiner ganzen Größe unter 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8080" y="762120"/>
            <a:ext cx="259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er Weg führt uns weiter an die Moldau, hier finden wir eines der wenigen modernen Häuser in der Innenstadt, das sogenannte „tanzende Haus“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tanzendes%20Haus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Übersicht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705720" y="8380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 sehen den Hradschi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72000" y="144792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2057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n Laurenzi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523520" y="1676160"/>
            <a:ext cx="5257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 die Altsta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1739880"/>
            <a:ext cx="3048120" cy="927000"/>
          </a:xfrm>
          <a:prstGeom prst="ellips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09480" y="685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ider ist nun unsere Zeit in Prag vorbei, wir holen unser Gepäck und fahren mit dem IC 150 nach Nürnberg zurü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0512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bfahrt um 14:25 Uh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kunft in Nürnberg um 19.18 U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9144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lussabwärts kommen wir an das Smetana-Denkmal, das vor dem Museum für den Komponisten ste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metana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4952880" cy="3174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248520" y="2057400"/>
            <a:ext cx="220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m Hintergrund sehen wir schon die Karlsbrücke und darüber den Hradschin mit dem St. Veits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952520" y="3048120"/>
            <a:ext cx="1219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63832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724280" y="3733920"/>
            <a:ext cx="15242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657600" y="3733920"/>
            <a:ext cx="2666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962160" y="3733920"/>
            <a:ext cx="75960" cy="8380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038120" y="4495680"/>
            <a:ext cx="2133720" cy="7632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00200" y="52578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 paar Schritte weiter stehen wir vor dem Altstädter Brückentur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ltstädter%20Brückenturm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86728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6858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 wir natürlich besteigen, denn von hier oben hat man einen schönen Blick a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Karlsbrücke3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4857480" cy="3600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5334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Karl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762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Türme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76920" cy="3613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33720" y="5486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über die Altsta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12:05:47Z</dcterms:created>
  <dc:creator>Orthograf!</dc:creator>
  <dc:description/>
  <dc:language>en-US</dc:language>
  <cp:lastModifiedBy>Orthograf!</cp:lastModifiedBy>
  <dcterms:modified xsi:type="dcterms:W3CDTF">2003-09-03T15:06:03Z</dcterms:modified>
  <cp:revision>12</cp:revision>
  <dc:subject/>
  <dc:title>Prag</dc:title>
</cp:coreProperties>
</file>