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8F0-E2F4-4070-A50B-E2542FE4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FC0-BCF3-4AD3-932A-BA554A14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010-5195-4CF5-BF73-E11C1FE4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267-ED6D-42FE-AF5C-C2B7C0F5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422F-55C9-4CC8-8625-068DA160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26CC-E95B-4A68-B02B-283FA4F3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5BE1-7DD8-4F02-899C-6A08B283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2F45-A355-4008-A0ED-87E89C2C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43AF-5D3F-4ABE-B3C6-B90782DA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F69A-C38E-4A38-8166-726152AE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5890-BDDB-45AE-BB84-60D77844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503-A7A1-4411-9A9B-54653638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C3AA-19D6-4619-AC37-78FD0D80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29C3-DCE7-4200-8778-41E9D1ED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9FE3-BE5C-410E-8540-76E02A8A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4446-489F-4813-80CE-F4F15909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7D2A-C94F-4507-9B9F-199BD42B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3F4-6A8E-4AE4-AA9D-D97254D9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EF3-4F27-4429-933A-11F411AA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12D-232F-428B-86AF-C127371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D3B-0864-4827-9A3A-7D0EEB69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F01-C46D-4A94-AE26-B89E67F2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8CE-BDDC-48BC-90DD-DB077A0A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A68-9FFC-4A50-88A5-1B75F900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17C5-4EB7-4520-A464-1C66C4B1B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5CB4-76B0-49D5-B771-DC7510A16E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3505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00"/>
                </a:solidFill>
                <a:latin typeface="Tahoma"/>
              </a:rPr>
              <a:t>Rechtsformen eines Unternehmens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03848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German_t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0336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4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© by Oliver Brandt</a:t>
            </a:r>
            <a:br>
              <a:rPr sz="2400"/>
            </a:b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Fichtelgebirgsrealschule Marktredwitz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1" name="German_t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657600" y="3352680"/>
            <a:ext cx="9637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66"/>
                </a:solidFill>
                <a:latin typeface="Tahoma"/>
              </a:rPr>
              <a:t>Bei der Gründung eines Unternehmens treten folgende Fragen auf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752480"/>
            <a:ext cx="77724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r leitet das Unternehme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r erhält den Gewinn des Unternehmens und wer träg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inen eventuellen Verlus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e werden neue Maschinen finanzier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ss das Unternehmen auch Steuern bezahle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r muss für die Schulden einstehen, falls d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ternehmen Insolvenz beantragen mus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ccffff"/>
                </a:solidFill>
                <a:latin typeface="Tahoma"/>
              </a:rPr>
              <a:t>Entscheidend für die Beantwortung dieser Fragen ist die Wahl d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5720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echtsform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ccffff"/>
                </a:solidFill>
                <a:latin typeface="Tahoma"/>
              </a:rPr>
              <a:t>Die verschiedenen Rechtsform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133720"/>
            <a:ext cx="3352680" cy="10688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nzel-unternehm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133720"/>
            <a:ext cx="335304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esellschafts-unternehm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200400"/>
            <a:ext cx="3353040" cy="1130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b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Gesellschaf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t beschränkter Haftung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4038480"/>
            <a:ext cx="33530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ktiengesellschaft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ahoma"/>
              </a:rPr>
              <a:t>Das Einzelunternehm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3886200" cy="45817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572000" y="1981080"/>
          <a:ext cx="3886200" cy="455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242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hab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3200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haber allei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amter Gewin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4197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chäfts- </a:t>
            </a: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und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Privatvermö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5410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nhabername im Firmennam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6019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Metzgerei Dannhor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ie Gmb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981080"/>
          <a:ext cx="3886200" cy="43768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0" y="1981080"/>
          <a:ext cx="3886200" cy="43801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7242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ind. 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chäftsführ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2004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Gesellschafter (mind. 25.000 €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ach Geschäftsantei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41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chäftsvermö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3341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irmenname endet auf  GmbH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Sigmund Scherdel Gmb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ie A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981080"/>
          <a:ext cx="3886200" cy="43768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1981080"/>
          <a:ext cx="3886200" cy="43801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7242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ind. 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Vorstan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2004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ktionäre (mind. 50.000 €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ach Aktienantei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41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it dem Aktienbesit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53341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irmenname endet auf  „AG“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dam Opel A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Tahoma"/>
              </a:rPr>
              <a:t>Merke: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Zum besseren Durchblick und damit Du auch richtig lernst, folgt hier nochmals eine Übersicht über die verschiedenen Rechtsformen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8" name="AN00790_" descr=""/>
          <p:cNvPicPr/>
          <p:nvPr/>
        </p:nvPicPr>
        <p:blipFill>
          <a:blip r:embed="rId2"/>
          <a:stretch/>
        </p:blipFill>
        <p:spPr>
          <a:xfrm>
            <a:off x="685800" y="2050920"/>
            <a:ext cx="3809880" cy="3973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28600" y="228600"/>
          <a:ext cx="8686440" cy="662904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5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nzel-unternehm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mbH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ind. 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ind. 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(i.d.R. mehrere tausend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Inhab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chäftsführ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Vorstan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-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Inhab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allei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ellschafter </a:t>
                      </a:r>
                      <a:r>
                        <a:rPr b="1" lang="en-US" sz="17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(mind. 25.000 €)</a:t>
                      </a:r>
                      <a:endParaRPr b="0" lang="en-US" sz="17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Aktionär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(mind. 50.000 €)</a:t>
                      </a:r>
                      <a:endParaRPr b="0" lang="en-US" sz="17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-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amter Gewin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Nach Geschäfts-anteil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Nach Aktienanteilen (sog. Dividende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chäfts- und Privatvermög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chäfts-vermög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it dem Aktienbesitz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Inhabername im Firmennam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Firmenname endet mit „GmbH“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Firmenname endet mit „AG“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etzgerei Dannhor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Technische Federn Sigmund Scherdel GmbH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Adam Opel AG, Siemens A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8:02:58Z</dcterms:created>
  <dc:creator>Oliver Brandt</dc:creator>
  <dc:description/>
  <dc:language>en-US</dc:language>
  <cp:lastModifiedBy>Oliver Brandt</cp:lastModifiedBy>
  <dcterms:modified xsi:type="dcterms:W3CDTF">2002-04-02T16:05:40Z</dcterms:modified>
  <cp:revision>10</cp:revision>
  <dc:subject/>
  <dc:title>Rechtsform eines Unternehmens</dc:title>
</cp:coreProperties>
</file>