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1832-10E4-4BDA-B603-4338F425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28E9-AF40-4607-921F-58CB5512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5111-8CB4-4DA9-AD67-ED948C5A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F0E3-7D8A-40B8-951C-01DBF652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19CA-9A70-4667-B199-03F2517F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F561-8EC3-48C3-9ECE-F50CCBD6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267A-5F6E-438F-B52A-2757BC5F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86E6-4CFB-4698-A5A2-3FAC2244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CCF2-8172-4A3B-BA7D-23E134BC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29EB-AF13-423F-A343-E5942CA8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4421-B94F-4BCA-AD04-68F982CB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633B-8124-4A3B-94A8-A4224A31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E08C-C51F-4D72-935E-2EEF4E0C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4168-908A-417D-8D4E-E16858A7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E6E2-FDBC-4468-9133-039C592B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9348-D2AB-48D4-9D27-515A33F3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BD92-F264-4099-B68F-43F434A0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B91C-2C78-463C-A9DA-DDE0493D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97CD-00A0-4510-9FF6-2B55D7B9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155A-DAF1-4630-BE32-7A29AEAE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236D-9ED0-4412-85C4-23CCAACA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0B1D-3E23-4901-85EF-D97EEE07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8346-9FDB-4576-92E5-99B700F1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91A2-1FCB-40B0-BE2B-EB90ECB7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C41A-3F9C-427F-B7B2-32B52F4242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B03C-F1E0-4247-9FE1-79A24BA5B4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3505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200" spc="-1" strike="noStrike">
                <a:solidFill>
                  <a:srgbClr val="ffff00"/>
                </a:solidFill>
                <a:latin typeface="Tahoma"/>
              </a:rPr>
              <a:t>Rechtsformen eines Unternehmens</a:t>
            </a:r>
            <a:endParaRPr b="0" lang="en-US" sz="7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4038480"/>
            <a:ext cx="67816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Presented by Fachschaft Wirtschaftswissenschaften der Fichtelgebirgsrealschule Marktredwitz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© by O. Brand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" name="German_t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203364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4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ecff"/>
                </a:solidFill>
                <a:latin typeface="Times New Roman"/>
              </a:rPr>
              <a:t>© by Oliver Brandt</a:t>
            </a:r>
            <a:br>
              <a:rPr sz="2400"/>
            </a:br>
            <a:r>
              <a:rPr b="1" lang="de-DE" sz="2400" spc="-1" strike="noStrike">
                <a:solidFill>
                  <a:srgbClr val="ccecff"/>
                </a:solidFill>
                <a:latin typeface="Times New Roman"/>
              </a:rPr>
              <a:t>Fichtelgebirgsrealschule Marktredwitz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1" name="German_t" descr=""/>
          <p:cNvPicPr/>
          <p:nvPr/>
        </p:nvPicPr>
        <p:blipFill>
          <a:blip r:embed="rId2"/>
          <a:stretch/>
        </p:blipFill>
        <p:spPr>
          <a:xfrm>
            <a:off x="2895480" y="304920"/>
            <a:ext cx="3502080" cy="4724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657600" y="3352680"/>
            <a:ext cx="96372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66"/>
                </a:solidFill>
                <a:latin typeface="Tahoma"/>
              </a:rPr>
              <a:t>Bei der Gründung eines Unternehmens treten folgende Fragen auf: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752480"/>
            <a:ext cx="77724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00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00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r leitet das Unternehmen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00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r erhält den Gewinn des Unternehmens und wer träg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inen eventuellen Verlust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00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ie werden neue Maschinen finanziert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00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uss das Unternehmen auch Steuern bezahlen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00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r muss für die Schulden einstehen, falls da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ternehmen Insolvenz beantragen mus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00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ccffff"/>
                </a:solidFill>
                <a:latin typeface="Tahoma"/>
              </a:rPr>
              <a:t>Entscheidend für die Beantwortung dieser Fragen ist die Wahl d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5720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Rechtsform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ccffff"/>
                </a:solidFill>
                <a:latin typeface="Tahoma"/>
              </a:rPr>
              <a:t>Die verschiedenen Rechtsform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133720"/>
            <a:ext cx="3352680" cy="10688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inzel-unternehme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2133720"/>
            <a:ext cx="3353040" cy="1068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esellschafts-unternehme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24280" y="3200400"/>
            <a:ext cx="3353040" cy="11300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bH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Gesellschaf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t beschränkter Haftung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4038480"/>
            <a:ext cx="335304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ktiengesellschaft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ahoma"/>
              </a:rPr>
              <a:t>Das Einzelunternehm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1981080"/>
          <a:ext cx="3886200" cy="45817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ahl der Inhaber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scheidungsbefugni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pitalbeschaff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winnverteil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ft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äußeres Kennzeichen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ispiel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572000" y="1981080"/>
          <a:ext cx="3886200" cy="45579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24280" y="2057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2590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hab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3200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haber allei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3809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Gesamter Gewin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4197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Geschäfts- </a:t>
            </a:r>
            <a:r>
              <a:rPr b="1" lang="en-US" sz="2400" spc="-1" strike="noStrike" u="sng">
                <a:solidFill>
                  <a:srgbClr val="ccecff"/>
                </a:solidFill>
                <a:uFillTx/>
                <a:latin typeface="Times New Roman"/>
              </a:rPr>
              <a:t>und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Privatvermög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54100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Inhabername im Firmennam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6019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ecff"/>
                </a:solidFill>
                <a:latin typeface="Times New Roman"/>
              </a:rPr>
              <a:t>Metzgerei Dannhor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ie Gmb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1981080"/>
          <a:ext cx="3886200" cy="437688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ahl der Inhaber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scheidungsbefugni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pitalbeschaff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winnverteil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ft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äußeres Kennzeichen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ispiel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572000" y="1981080"/>
          <a:ext cx="3886200" cy="43801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4724280" y="2057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mind. 1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2590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Geschäftsführ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32004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Gesellschafter (mind. 25.000 €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3809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Nach Geschäftsanteil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4419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Geschäftsvermög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53341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Firmenname endet auf  GmbH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5867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ecff"/>
                </a:solidFill>
                <a:latin typeface="Times New Roman"/>
              </a:rPr>
              <a:t>Sigmund Scherdel GmbH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ie A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85800" y="1981080"/>
          <a:ext cx="3886200" cy="437688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ahl der Inhaber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scheidungsbefugni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pitalbeschaff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winnverteil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ft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äußeres Kennzeichen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ispiel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572000" y="1981080"/>
          <a:ext cx="3886200" cy="43801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4724280" y="2057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mind. 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90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Vorstan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32004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Aktionäre (mind. 50.000 €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24280" y="3809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Nach Aktienanteil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4419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mit dem Aktienbesitz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53341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Firmenname endet auf  „AG“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5867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Adam Opel A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ffff"/>
                </a:solidFill>
                <a:latin typeface="Tahoma"/>
              </a:rPr>
              <a:t>Merke: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Zum besseren Durchblick und damit Du auch richtig lernst, folgt hier nochmals eine Übersicht über die verschiedenen Rechtsformen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28" name="AN00790_" descr=""/>
          <p:cNvPicPr/>
          <p:nvPr/>
        </p:nvPicPr>
        <p:blipFill>
          <a:blip r:embed="rId2"/>
          <a:stretch/>
        </p:blipFill>
        <p:spPr>
          <a:xfrm>
            <a:off x="685800" y="2050920"/>
            <a:ext cx="3809880" cy="3973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28600" y="228600"/>
          <a:ext cx="8686440" cy="6629040"/>
        </p:xfrm>
        <a:graphic>
          <a:graphicData uri="http://schemas.openxmlformats.org/drawingml/2006/table">
            <a:tbl>
              <a:tblPr/>
              <a:tblGrid>
                <a:gridCol w="2171520"/>
                <a:gridCol w="2171880"/>
                <a:gridCol w="2171520"/>
                <a:gridCol w="21715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inzel-unternehmen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mbH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ahl der Inhaber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mind. 1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mind. 5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(i.d.R. mehrere tausend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scheidungsbefugni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Inhaber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Geschäftsführer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Vorstand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pital-beschaff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Inhaber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allei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Gesellschafter </a:t>
                      </a:r>
                      <a:r>
                        <a:rPr b="1" lang="en-US" sz="17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(mind. 25.000 €)</a:t>
                      </a:r>
                      <a:endParaRPr b="0" lang="en-US" sz="17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Aktionär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(mind. 50.000 €)</a:t>
                      </a:r>
                      <a:endParaRPr b="0" lang="en-US" sz="17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winnver-teil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Gesamter Gewin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Nach Geschäfts-anteile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Nach Aktienanteilen (sog. Dividende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ft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Geschäfts- und Privatvermöge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Geschäfts-vermöge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mit dem Aktienbesitz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äußeres Kennzeichen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Inhabername im Firmenname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Firmenname endet mit „GmbH“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Firmenname endet mit „AG“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ispiel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Metzgerei Dannhor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Technische Federn Sigmund Scherdel GmbH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Adam Opel AG, Siemens A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18:02:58Z</dcterms:created>
  <dc:creator>Oliver Brandt</dc:creator>
  <dc:description/>
  <dc:language>en-US</dc:language>
  <cp:lastModifiedBy>Oliver Brandt</cp:lastModifiedBy>
  <dcterms:modified xsi:type="dcterms:W3CDTF">2002-04-02T16:05:40Z</dcterms:modified>
  <cp:revision>10</cp:revision>
  <dc:subject/>
  <dc:title>Rechtsform eines Unternehmens</dc:title>
</cp:coreProperties>
</file>