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68A-D5F6-4F05-8274-5015008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59D-09F8-423E-9EFB-7328AB05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815-E3E0-4E85-BFB4-DB5CA49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032-6F9D-4F56-97D5-D5890D02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F776-2D07-4FE9-814A-AE8F0019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886E-AF36-415D-B7DC-A81B19E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75AB-FBDE-4E3B-9344-D27F50FB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0980-1AC2-4C86-AF6D-D01A474F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C18E-4251-43C9-A0AD-345CD36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81EE-8143-4C34-BE19-183F2625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2340-CF01-48AA-BA6C-A678A9A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2D2-2DDB-43F6-91D2-DEDDD33F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BA5-A2F4-48C2-B84D-EA152A1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7145-C25E-402F-B484-588C5B82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0230-89B7-4331-B036-5E1833C1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8FD9-A4E3-42BC-9D3A-0A9C5254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6B78-4854-4A01-AA8E-58CAC43D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6EF-C9E8-482C-BC93-B29A66A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957-EA42-4375-8F77-42C2B96C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C37-7292-4152-80C2-D1588D30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9E1-FC3B-4475-8D08-E4A213B6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254-E64F-49A5-9613-4858972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A63-1F60-4696-8B3F-F5C9492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5B9-5157-485C-BC5C-14BD9C1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8B8-711B-4570-851B-F51F4DF18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0682-53D7-4202-8404-CB278E471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3505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ff00"/>
                </a:solidFill>
                <a:latin typeface="Tahoma"/>
              </a:rPr>
              <a:t>Rechtsformen eines Unternehmens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03848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German_t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0336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4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© by Oliver Brandt</a:t>
            </a:r>
            <a:br>
              <a:rPr sz="2400"/>
            </a:b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Fichtelgebirgsrealschule Marktredwitz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German_t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657600" y="3352680"/>
            <a:ext cx="96372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66"/>
                </a:solidFill>
                <a:latin typeface="Tahoma"/>
              </a:rPr>
              <a:t>Bei der Gründung eines Unternehmens treten folgende Fragen auf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752480"/>
            <a:ext cx="77724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leitet das Unternehm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erhält den Gewinn des Unternehmens und wer träg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nen eventuellen Verlus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ie werden neue Maschinen finanzier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uss das Unternehmen auch Steuern bezahl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r muss für die Schulden einstehen, falls da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Unternehmen Insolvenz beantragen mus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0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ffff"/>
                </a:solidFill>
                <a:latin typeface="Tahoma"/>
              </a:rPr>
              <a:t>Entscheidend für die Beantwortung dieser Fragen ist die Wahl d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5720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echtsform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ccffff"/>
                </a:solidFill>
                <a:latin typeface="Tahoma"/>
              </a:rPr>
              <a:t>Die verschiedenen Rechtsform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3352680" cy="10688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zel-unternehm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2133720"/>
            <a:ext cx="335304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sellschafts-unternehm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200400"/>
            <a:ext cx="3353040" cy="11300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b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esellschaf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t beschränkter Haftung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4038480"/>
            <a:ext cx="33530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ktiengesellschaft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ahoma"/>
              </a:rPr>
              <a:t>Das Einzelunternehm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3886200" cy="45817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572000" y="1981080"/>
          <a:ext cx="3886200" cy="45579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hab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3200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haber allei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amter Gewin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4197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- </a:t>
            </a:r>
            <a:r>
              <a:rPr b="1" lang="en-US" sz="2400" spc="-1" strike="noStrike" u="sng">
                <a:solidFill>
                  <a:srgbClr val="ccecff"/>
                </a:solidFill>
                <a:uFillTx/>
                <a:latin typeface="Times New Roman"/>
              </a:rPr>
              <a:t>und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Privatvermö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54100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nhabername im Firmenname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Metzgerei Dannhor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e Gmb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981080"/>
          <a:ext cx="3886200" cy="43768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572000" y="1981080"/>
          <a:ext cx="3886200" cy="43801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nd. 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führ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esellschafter (mind. 25.000 €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ach Geschäftsantei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Geschäftsvermög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334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irmenname endet auf  GmbH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Times New Roman"/>
              </a:rPr>
              <a:t>Sigmund Scherdel Gmb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ie A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3886200" cy="43768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66ff"/>
                        </a:buClr>
                        <a:buSzPct val="7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1981080"/>
          <a:ext cx="3886200" cy="438012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724280" y="2057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nd. 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90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Vorstan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ktionäre (mind. 50.000 €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3809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ach Aktienanteile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4197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mit dem Aktienbesit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5334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irmenname endet auf  „AG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5867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Adam Opel A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Tahoma"/>
              </a:rPr>
              <a:t>Merke: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Zum besseren Durchblick und damit Du auch richtig lernst, folgt hier nochmals eine Übersicht über die verschiedenen Rechtsformen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8" name="AN00790_" descr=""/>
          <p:cNvPicPr/>
          <p:nvPr/>
        </p:nvPicPr>
        <p:blipFill>
          <a:blip r:embed="rId2"/>
          <a:stretch/>
        </p:blipFill>
        <p:spPr>
          <a:xfrm>
            <a:off x="685800" y="2050920"/>
            <a:ext cx="3809880" cy="3973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8600" y="228600"/>
          <a:ext cx="8686440" cy="662904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52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nzel-unternehm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mbH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1368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l der Inhaber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nd. 1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nd. 5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i.d.R. mehrere tausend)</a:t>
                      </a:r>
                      <a:endParaRPr b="0" lang="en-US" sz="1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scheidungsbefugni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führ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Vorstand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al-beschaff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llei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ellschafter </a:t>
                      </a:r>
                      <a:r>
                        <a:rPr b="1" lang="en-US" sz="17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mind. 25.000 €)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ktionäre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(mind. 50.000 €)</a:t>
                      </a:r>
                      <a:endParaRPr b="0" lang="en-US" sz="17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winnver-teil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amter Gewin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Nach Geschäfts-anteil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Nach Aktienanteilen (sog. Dividende)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ftung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- und Privatvermög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Geschäfts-vermög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it dem Aktienbesitz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äußeres Kennzeichen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Inhabername im Firmenname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Firmenname endet mit „GmbH“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Firmenname endet mit „AG“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Metzgerei Dannhorn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Technische Federn Sigmund Scherdel GmbH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ecff"/>
                          </a:solidFill>
                          <a:latin typeface="Tahoma"/>
                        </a:rPr>
                        <a:t>Adam Opel AG, Siemens AG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368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8:02:58Z</dcterms:created>
  <dc:creator>Oliver Brandt</dc:creator>
  <dc:description/>
  <dc:language>en-US</dc:language>
  <cp:lastModifiedBy>Oliver Brandt</cp:lastModifiedBy>
  <dcterms:modified xsi:type="dcterms:W3CDTF">2002-04-02T16:05:40Z</dcterms:modified>
  <cp:revision>10</cp:revision>
  <dc:subject/>
  <dc:title>Rechtsform eines Unternehmens</dc:title>
</cp:coreProperties>
</file>