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9.docx" ContentType="application/vnd.openxmlformats-officedocument.wordprocessingml.document"/>
  <Override PartName="/ppt/embeddings/oleObject10.docx" ContentType="application/vnd.openxmlformats-officedocument.wordprocessingml.document"/>
  <Override PartName="/ppt/embeddings/oleObject1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arl Klingelhö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10080" y="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atliche Realschule Viecht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doc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docx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8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9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0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1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22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23.wmf"/><Relationship Id="rId17" Type="http://schemas.openxmlformats.org/officeDocument/2006/relationships/package" Target="../embeddings/oleObject9.docx"/><Relationship Id="rId18" Type="http://schemas.openxmlformats.org/officeDocument/2006/relationships/image" Target="../media/image24.wmf"/><Relationship Id="rId19" Type="http://schemas.openxmlformats.org/officeDocument/2006/relationships/package" Target="../embeddings/oleObject10.docx"/><Relationship Id="rId20" Type="http://schemas.openxmlformats.org/officeDocument/2006/relationships/image" Target="../media/image25.wmf"/><Relationship Id="rId21" Type="http://schemas.openxmlformats.org/officeDocument/2006/relationships/package" Target="../embeddings/oleObject11.docx"/><Relationship Id="rId22" Type="http://schemas.openxmlformats.org/officeDocument/2006/relationships/image" Target="../media/image26.wmf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0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1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22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23.wmf"/><Relationship Id="rId17" Type="http://schemas.openxmlformats.org/officeDocument/2006/relationships/package" Target="../embeddings/oleObject9.docx"/><Relationship Id="rId18" Type="http://schemas.openxmlformats.org/officeDocument/2006/relationships/image" Target="../media/image26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0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1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22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23.wmf"/><Relationship Id="rId17" Type="http://schemas.openxmlformats.org/officeDocument/2006/relationships/package" Target="../embeddings/oleObject9.docx"/><Relationship Id="rId18" Type="http://schemas.openxmlformats.org/officeDocument/2006/relationships/image" Target="../media/image26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Quadratische Gleichu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Diskriminante 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Lösungsform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16000" y="1079640"/>
          <a:ext cx="10210680" cy="48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79640"/>
                    <a:ext cx="102106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16000" y="1079640"/>
          <a:ext cx="10191600" cy="4811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000" y="1079640"/>
                    <a:ext cx="10191600" cy="48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16000" y="1079640"/>
          <a:ext cx="10191600" cy="4811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000" y="1079640"/>
                    <a:ext cx="10191600" cy="48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16000" y="1079640"/>
          <a:ext cx="10191600" cy="48114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000" y="1079640"/>
                    <a:ext cx="10191600" cy="48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16000" y="1079640"/>
          <a:ext cx="10191600" cy="48114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6000" y="1079640"/>
                    <a:ext cx="10191600" cy="48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16000" y="1079640"/>
          <a:ext cx="10191600" cy="48114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6000" y="1079640"/>
                    <a:ext cx="10191600" cy="48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16000" y="1079640"/>
          <a:ext cx="10191600" cy="481140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6000" y="1079640"/>
                    <a:ext cx="10191600" cy="48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16000" y="1079640"/>
          <a:ext cx="10191600" cy="481140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6000" y="1079640"/>
                    <a:ext cx="10191600" cy="48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16000" y="1079640"/>
          <a:ext cx="10191600" cy="481140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6000" y="1079640"/>
                    <a:ext cx="10191600" cy="48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16000" y="1079640"/>
          <a:ext cx="10191600" cy="4811400"/>
        </p:xfrm>
        <a:graphic>
          <a:graphicData uri="http://schemas.openxmlformats.org/presentationml/2006/ole">
            <p:oleObj progId="Word.Document.12" r:id="rId19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6000" y="1079640"/>
                    <a:ext cx="10191600" cy="48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16000" y="1079640"/>
          <a:ext cx="10191600" cy="481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79640"/>
                    <a:ext cx="10191600" cy="48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16000" y="1079640"/>
          <a:ext cx="10191600" cy="481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79640"/>
                    <a:ext cx="10191600" cy="48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16000" y="1079640"/>
          <a:ext cx="10191600" cy="4811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000" y="1079640"/>
                    <a:ext cx="10191600" cy="48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16000" y="1079640"/>
          <a:ext cx="10191600" cy="4811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000" y="1079640"/>
                    <a:ext cx="10191600" cy="48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6000" y="1079640"/>
          <a:ext cx="10202760" cy="134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79640"/>
                    <a:ext cx="10202760" cy="13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16000" y="2519280"/>
          <a:ext cx="10194840" cy="73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000" y="2519280"/>
                    <a:ext cx="1019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16000" y="2519280"/>
          <a:ext cx="10194840" cy="736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000" y="2519280"/>
                    <a:ext cx="1019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16000" y="2517840"/>
          <a:ext cx="10194840" cy="7365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000" y="2517840"/>
                    <a:ext cx="1019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138560" y="3598920"/>
          <a:ext cx="10191960" cy="23400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38560" y="3598920"/>
                    <a:ext cx="1019196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138560" y="3598920"/>
          <a:ext cx="10191960" cy="23400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38560" y="3598920"/>
                    <a:ext cx="1019196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16000" y="2517840"/>
          <a:ext cx="10194840" cy="7365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6000" y="2517840"/>
                    <a:ext cx="1019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16000" y="1079640"/>
          <a:ext cx="10202760" cy="134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79640"/>
                    <a:ext cx="10202760" cy="13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" name=""/>
          <p:cNvGrpSpPr/>
          <p:nvPr/>
        </p:nvGrpSpPr>
        <p:grpSpPr>
          <a:xfrm>
            <a:off x="216000" y="2158920"/>
            <a:ext cx="10194840" cy="738000"/>
            <a:chOff x="216000" y="2158920"/>
            <a:chExt cx="10194840" cy="738000"/>
          </a:xfrm>
        </p:grpSpPr>
        <p:graphicFrame>
          <p:nvGraphicFramePr>
            <p:cNvPr id="89" name=""/>
            <p:cNvGraphicFramePr/>
            <p:nvPr/>
          </p:nvGraphicFramePr>
          <p:xfrm>
            <a:off x="216000" y="2160360"/>
            <a:ext cx="10194840" cy="7365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2160360"/>
                      <a:ext cx="101948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216000" y="2160360"/>
            <a:ext cx="10194840" cy="7365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6000" y="2160360"/>
                      <a:ext cx="101948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216000" y="2158920"/>
            <a:ext cx="10194840" cy="73656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6000" y="2158920"/>
                      <a:ext cx="101948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"/>
            <p:cNvGraphicFramePr/>
            <p:nvPr/>
          </p:nvGraphicFramePr>
          <p:xfrm>
            <a:off x="216000" y="2158920"/>
            <a:ext cx="10194840" cy="736560"/>
          </p:xfrm>
          <a:graphic>
            <a:graphicData uri="http://schemas.openxmlformats.org/presentationml/2006/ole">
              <p:oleObj progId="Word.Document.12" r:id="rId9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6000" y="2158920"/>
                      <a:ext cx="101948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7" name=""/>
          <p:cNvGraphicFramePr/>
          <p:nvPr/>
        </p:nvGraphicFramePr>
        <p:xfrm>
          <a:off x="216000" y="2878200"/>
          <a:ext cx="10194840" cy="7365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6000" y="2878200"/>
                    <a:ext cx="1019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16000" y="2878200"/>
          <a:ext cx="10194840" cy="7365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6000" y="2878200"/>
                    <a:ext cx="1019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16000" y="2878200"/>
          <a:ext cx="10194840" cy="73656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6000" y="2878200"/>
                    <a:ext cx="1019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138560" y="3598920"/>
          <a:ext cx="10191960" cy="234000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38560" y="3598920"/>
                    <a:ext cx="1019196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138560" y="3598920"/>
          <a:ext cx="10191960" cy="2340000"/>
        </p:xfrm>
        <a:graphic>
          <a:graphicData uri="http://schemas.openxmlformats.org/presentationml/2006/ole">
            <p:oleObj progId="Word.Document.12" r:id="rId1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38560" y="3598920"/>
                    <a:ext cx="1019196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16000" y="2878200"/>
          <a:ext cx="10194840" cy="736560"/>
        </p:xfrm>
        <a:graphic>
          <a:graphicData uri="http://schemas.openxmlformats.org/presentationml/2006/ole">
            <p:oleObj progId="Word.Document.12" r:id="rId2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6000" y="2878200"/>
                    <a:ext cx="1019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715000" y="5943600"/>
            <a:ext cx="32004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6000" y="1079640"/>
          <a:ext cx="10202760" cy="134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79640"/>
                    <a:ext cx="10202760" cy="13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"/>
          <p:cNvGrpSpPr/>
          <p:nvPr/>
        </p:nvGrpSpPr>
        <p:grpSpPr>
          <a:xfrm>
            <a:off x="216000" y="2158920"/>
            <a:ext cx="10194840" cy="738000"/>
            <a:chOff x="216000" y="2158920"/>
            <a:chExt cx="10194840" cy="738000"/>
          </a:xfrm>
        </p:grpSpPr>
        <p:graphicFrame>
          <p:nvGraphicFramePr>
            <p:cNvPr id="113" name=""/>
            <p:cNvGraphicFramePr/>
            <p:nvPr/>
          </p:nvGraphicFramePr>
          <p:xfrm>
            <a:off x="216000" y="2160360"/>
            <a:ext cx="10194840" cy="7365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2160360"/>
                      <a:ext cx="101948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216000" y="2160360"/>
            <a:ext cx="10194840" cy="7365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6000" y="2160360"/>
                      <a:ext cx="101948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216000" y="2158920"/>
            <a:ext cx="10194840" cy="73656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6000" y="2158920"/>
                      <a:ext cx="101948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"/>
            <p:cNvGraphicFramePr/>
            <p:nvPr/>
          </p:nvGraphicFramePr>
          <p:xfrm>
            <a:off x="216000" y="2158920"/>
            <a:ext cx="10194840" cy="736560"/>
          </p:xfrm>
          <a:graphic>
            <a:graphicData uri="http://schemas.openxmlformats.org/presentationml/2006/ole">
              <p:oleObj progId="Word.Document.12" r:id="rId9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6000" y="2158920"/>
                      <a:ext cx="101948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1" name=""/>
          <p:cNvGraphicFramePr/>
          <p:nvPr/>
        </p:nvGraphicFramePr>
        <p:xfrm>
          <a:off x="216000" y="2878200"/>
          <a:ext cx="10194840" cy="7365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6000" y="2878200"/>
                    <a:ext cx="1019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16000" y="2878200"/>
          <a:ext cx="10194840" cy="7365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6000" y="2878200"/>
                    <a:ext cx="1019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16000" y="2878200"/>
          <a:ext cx="10194840" cy="73656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6000" y="2878200"/>
                    <a:ext cx="1019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16000" y="2878200"/>
          <a:ext cx="10194840" cy="73656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6000" y="2878200"/>
                    <a:ext cx="1019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5228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we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133720" y="3417840"/>
                <a:ext cx="2084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095800" y="3417840"/>
                <a:ext cx="21034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11400" y="4591080"/>
                <a:ext cx="8985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43160" y="4400640"/>
                <a:ext cx="1643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429080" y="4419720"/>
                <a:ext cx="16239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114800" y="4665600"/>
                <a:ext cx="209520" cy="2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219320" y="5334120"/>
                <a:ext cx="8985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352600" y="5181480"/>
                <a:ext cx="32101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28680" y="6019920"/>
                <a:ext cx="8985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438280" y="5905440"/>
                <a:ext cx="5320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591000" y="6058080"/>
                <a:ext cx="8985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72000" y="5943600"/>
                <a:ext cx="3985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867280" y="6086520"/>
                <a:ext cx="14511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t 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folgt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467480" y="6019920"/>
                <a:ext cx="8985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8467560" y="6067440"/>
                <a:ext cx="360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715000" y="5943600"/>
            <a:ext cx="320040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16000" y="1079640"/>
          <a:ext cx="10202760" cy="134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79640"/>
                    <a:ext cx="10202760" cy="13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" name=""/>
          <p:cNvGrpSpPr/>
          <p:nvPr/>
        </p:nvGrpSpPr>
        <p:grpSpPr>
          <a:xfrm>
            <a:off x="216000" y="2158920"/>
            <a:ext cx="10194840" cy="738000"/>
            <a:chOff x="216000" y="2158920"/>
            <a:chExt cx="10194840" cy="738000"/>
          </a:xfrm>
        </p:grpSpPr>
        <p:graphicFrame>
          <p:nvGraphicFramePr>
            <p:cNvPr id="149" name=""/>
            <p:cNvGraphicFramePr/>
            <p:nvPr/>
          </p:nvGraphicFramePr>
          <p:xfrm>
            <a:off x="216000" y="2160360"/>
            <a:ext cx="10194840" cy="7365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2160360"/>
                      <a:ext cx="101948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216000" y="2160360"/>
            <a:ext cx="10194840" cy="7365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6000" y="2160360"/>
                      <a:ext cx="101948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216000" y="2158920"/>
            <a:ext cx="10194840" cy="73656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6000" y="2158920"/>
                      <a:ext cx="101948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216000" y="2158920"/>
            <a:ext cx="10194840" cy="736560"/>
          </p:xfrm>
          <a:graphic>
            <a:graphicData uri="http://schemas.openxmlformats.org/presentationml/2006/ole">
              <p:oleObj progId="Word.Document.12" r:id="rId9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6000" y="2158920"/>
                      <a:ext cx="101948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7" name=""/>
          <p:cNvGraphicFramePr/>
          <p:nvPr/>
        </p:nvGraphicFramePr>
        <p:xfrm>
          <a:off x="216000" y="2878200"/>
          <a:ext cx="10194840" cy="7365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6000" y="2878200"/>
                    <a:ext cx="1019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16000" y="2878200"/>
          <a:ext cx="10194840" cy="7365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6000" y="2878200"/>
                    <a:ext cx="1019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16000" y="2878200"/>
          <a:ext cx="10194840" cy="73656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6000" y="2878200"/>
                    <a:ext cx="1019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16000" y="2878200"/>
          <a:ext cx="10194840" cy="73656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6000" y="2878200"/>
                    <a:ext cx="1019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52280" y="3505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we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133720" y="3417840"/>
                <a:ext cx="2084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95800" y="3417840"/>
                <a:ext cx="21034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84120" y="4305240"/>
                <a:ext cx="876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405080" y="4114800"/>
                <a:ext cx="1643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581280" y="4133880"/>
                <a:ext cx="1643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95800" y="4398840"/>
                <a:ext cx="169560" cy="1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92040" y="5048280"/>
                <a:ext cx="876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43160" y="4867200"/>
                <a:ext cx="3554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e>
                            </m:rad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878440" y="6029280"/>
                <a:ext cx="14511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t 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folgt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488360" y="6019920"/>
                <a:ext cx="8776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8564400" y="6066000"/>
                <a:ext cx="187560" cy="2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80880" y="5818320"/>
                <a:ext cx="8766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427040" y="5635800"/>
                <a:ext cx="15084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465360" y="5684760"/>
                <a:ext cx="4986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106800" y="5905440"/>
                <a:ext cx="189000" cy="1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135320" y="5905440"/>
                <a:ext cx="189000" cy="1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495680" y="5684760"/>
                <a:ext cx="2286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5181480" y="50292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. Bi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08:30:58Z</dcterms:created>
  <dc:creator>Staatliche Realschule VIT</dc:creator>
  <dc:description/>
  <dc:language>en-US</dc:language>
  <cp:lastModifiedBy>Charly</cp:lastModifiedBy>
  <dcterms:modified xsi:type="dcterms:W3CDTF">2003-11-03T13:27:26Z</dcterms:modified>
  <cp:revision>18</cp:revision>
  <dc:subject/>
  <dc:title>Quadratische Gleichungen</dc:title>
</cp:coreProperties>
</file>