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38D-8A7E-4A1D-ADCC-F1AAB1E1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46F-F1F2-4142-9BBF-58420F9C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E16-AA94-4B88-98E0-76898A52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EBD-3275-48D5-89E2-E52061FA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AAF-C0CD-44FB-8582-BF0215AF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4CFB-F887-4066-9BF4-5D150FF9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19CD-9807-4AC1-8B6E-09AA62F6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EAC0-38B7-4E23-BC93-159941F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C8DB-F9F3-447C-8407-1B8F85B6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B126-2588-4BE8-AA28-C1894DC6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22C2-B816-483A-AE05-36D0C76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940-A756-4046-9774-EF46F9D5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C4C-79F9-4080-8B23-ED0CAF0B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80BC-61A1-466D-A91B-4D6B217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8CBA-B10B-473D-9ABE-C390B515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651E-CA19-406C-AE2D-90E93E48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A0AF-C593-4A4B-81EC-226EFA17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465-7C8E-4ABA-B96F-F0F83047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645-92B0-460D-8572-2885A0D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5BF-6D9F-44E7-806C-2504C65C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8F6-99DA-4B6A-BAB0-9F910B04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333-B726-414B-9203-241620C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371-0CBD-4534-A0D2-2760E995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AE8-792E-4630-A852-06BE9F91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A1CB-4000-4E94-BFFF-19EB17AA63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C7EE-23EB-4887-86AC-6DEE529C2C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lche Wortart liegt beim rot geschriebenen Wort vor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 hat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or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chts zu such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) Prä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) Partizip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) Adver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) Adjektiv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059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059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3059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3059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5530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4100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2670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6960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8080" y="304920"/>
            <a:ext cx="2210040" cy="1755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85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67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67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67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che Wortart liegt vor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 schrieb eine Eins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r gelernt hatte.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11320" y="1752480"/>
            <a:ext cx="18464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) Konjunk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) Possessivpron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) Numer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) Artik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954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62012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1814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0384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1722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172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1722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617220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85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678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67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67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0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s su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ies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chü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er ?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520" y="1752480"/>
            <a:ext cx="493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Reflexivpro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Demonstrativpro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Interrogativpro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)Personalpro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576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006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09588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39152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82296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82296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82296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85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6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167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678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s ist e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ional gefärb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sdruckswei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) Soziole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) Diale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) Kauderwel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) Rotwel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743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886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029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172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739152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81532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81532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81532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815328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3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185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678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678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78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cher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ge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ätze enthä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itivobjek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63640" y="1981080"/>
            <a:ext cx="535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h sah das Auto des Lehr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s ist also des Pudels K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 freute sich des Leb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Schrift des Lehrers ist grauenh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13372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1148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50292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9436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68580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7772400" y="380880"/>
            <a:ext cx="96192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as glaubst du doch selbst nicht 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NGO !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U BIST NUN DER STOLZE BESITZER VON 8 TÜTEN GUMMIBÄRCHEN 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r wird Sprachanalyse-Gummibärchen-Millionär 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686480" cy="372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5600" y="1752480"/>
            <a:ext cx="3660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hes Stilmi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t 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hrer, der e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chte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folgend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urückgib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2327400"/>
            <a:ext cx="4572000" cy="327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 habt ihr euch mal wieder selbst übertroffen !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Paro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Idiot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etharg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ro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0120" y="609480"/>
            <a:ext cx="110016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as glaubst du doch selbst nicht 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NGO 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hes Stilmittel liegt hier vo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ißig muss der Schüler sein, fleißig muss aber auch der Lehrer sein!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17560" y="1752480"/>
            <a:ext cx="2433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Lucip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Christop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nap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Metap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53240" y="45720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3434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3434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34340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85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67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7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6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e bezeichnet man folgenden Sat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Schüler hatte, als die Pause begann, sein Pausebrot gegriffen, das in Alufolie verpackt war, und war auf den Pausehof gegangen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) Abrafax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b) Hypotax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c) Paratax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d) Kurtax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308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578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7724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0773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8077320" y="1981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773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8077320" y="4191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85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67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7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67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4:39:19Z</dcterms:created>
  <dc:creator>Gloeckner-Wenk</dc:creator>
  <dc:description/>
  <dc:language>en-US</dc:language>
  <cp:lastModifiedBy> </cp:lastModifiedBy>
  <dcterms:modified xsi:type="dcterms:W3CDTF">2005-03-30T11:25:40Z</dcterms:modified>
  <cp:revision>8</cp:revision>
  <dc:subject/>
  <dc:title>PowerPoint-Präsentation</dc:title>
</cp:coreProperties>
</file>