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343-26F9-4D9E-99AF-FDD09CA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640-15DE-4A0C-856D-E9837AFC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AE3-35F8-4022-A614-3F17E3AA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C90-1612-4C47-825E-588DB272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123-F698-4B76-A71B-07E41E1F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384-9530-4371-96D8-728FF74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1797-DA8C-4EC9-895E-966AC9C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E59-CE59-4562-8811-7A6ECB1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2E9-C80F-4EDB-9E82-761BBC36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7B9-E110-42C1-BB15-2D2DDCA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86C-6557-42D6-A3F5-6E91A0D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DAC-C801-487B-B891-60F175E7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761-F9B9-4865-9A5C-D54F1B1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5708-02C9-4BCF-A4DA-D789595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2E0D-5FDA-4BD4-BBCC-961F15B4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800-B3DD-410C-92EB-9B2FBA68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DE4-70A7-478E-8BA4-3C94C6A9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394-0D75-4DBC-84A4-7701839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1C8-86AC-44DA-A4FF-94F64AE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D83-95CD-40AE-914B-0281C026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1D8-D807-43A9-AD8F-CCA88DB3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976-F512-4671-9C40-9300970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D1A-C1A1-4459-B569-4745481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7C6-1160-442C-999D-730F632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67C-45B4-4C2F-9804-C95A6E8785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F226-BB20-4CCE-94F3-1418E9268D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lche Wortart liegt beim rot geschriebenen Wort vor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 hat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or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chts zu suc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Prä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Partizip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Adver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Adjektiv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05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059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3059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305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553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410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267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6960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8080" y="304920"/>
            <a:ext cx="2210040" cy="1755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85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67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67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67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he Wortart liegt vo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 schrieb eine Eins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r gelernt hatte.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11320" y="1752480"/>
            <a:ext cx="1846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Konjunk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Possessivpron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Numer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Arti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95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62012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81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038480" y="533520"/>
            <a:ext cx="1100160" cy="121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1722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172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172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1722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85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67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67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67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0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su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es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chü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er ?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520" y="1752480"/>
            <a:ext cx="49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Reflex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Demonstrat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Interrogativ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)Personalpro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006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3915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8229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82296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82296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8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6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67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67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ist e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onal gefärb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druckswei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) Soziol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) Dial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) Kauderwel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) Rotwel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743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886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29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1722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739152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81532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8153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81532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85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67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678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7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her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ge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ätze enthä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itivobjek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63640" y="1981080"/>
            <a:ext cx="535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sah das Auto des Lehr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 ist also des Pudels K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 freute sich des Leb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chrift des Lehrers ist grauenh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0292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9436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858000" y="380880"/>
            <a:ext cx="961920" cy="1067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772400" y="380880"/>
            <a:ext cx="96192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as glaubst du doch selbst nicht 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NGO !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U BIST NUN DER STOLZE BESITZER VON 8 TÜTEN GUMMIBÄRCHEN 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r wird Sprachanalyse-Gummibärchen-Millionär 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686480" cy="372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5600" y="1752480"/>
            <a:ext cx="3660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Stil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wendet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hrer, der e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folgen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rückgib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2327400"/>
            <a:ext cx="457200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 habt ihr euch mal wieder selbst übertroffen !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aro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Idio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ethar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ro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0120" y="609480"/>
            <a:ext cx="11001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as glaubst du doch selbst nicht 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NGO 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Stilmittel liegt hier vo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ißig muss der Schüler sein, fleißig muss aber auch der Lehrer sein!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17560" y="1752480"/>
            <a:ext cx="2433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uci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Christo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na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Metap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53240" y="45720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3434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3434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85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67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7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6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e bezeichnet man folgenden Sat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Schüler hatte, als die Pause begann, sein Pausebrot gegriffen, das in Alufolie verpackt war, und war auf den Pausehof gegangen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) Abraf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) Hypot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c) Paratax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d) Kurtax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578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772400" y="609480"/>
            <a:ext cx="110016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0773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07732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773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8077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85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67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7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67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4:39:19Z</dcterms:created>
  <dc:creator>Gloeckner-Wenk</dc:creator>
  <dc:description/>
  <dc:language>en-US</dc:language>
  <cp:lastModifiedBy> </cp:lastModifiedBy>
  <dcterms:modified xsi:type="dcterms:W3CDTF">2005-03-30T11:25:40Z</dcterms:modified>
  <cp:revision>8</cp:revision>
  <dc:subject/>
  <dc:title>PowerPoint-Präsentation</dc:title>
</cp:coreProperties>
</file>