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ED0-EA9B-4203-9BB4-F46DC873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A76-8EF5-4EC6-8D37-E43C0937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75C-D1F9-45C4-8A2C-FF9EFA8F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3EA-471B-40C0-95CF-2A940695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2E7-997B-42F7-8570-EF69A110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F5A-0345-4407-A7D9-352951F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B42-5EA0-44A5-B342-09598709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0B0-E31E-4B22-B29A-AD34DA9D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46A-0596-443E-8AE0-A219580D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5D4-E23D-4D5C-8602-D259B9FF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BFD-BEED-4E43-B3DC-565EB353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E25-2DC8-4214-BA7D-4089A02E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65CC-D2AF-46B4-9CEB-B4CBA0EE3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bsolutDB"/>
              </a:rPr>
              <a:t>Objek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3880"/>
            <a:ext cx="72388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kte sind Elemente, die man mit dem Programm bearbeiten kan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438280"/>
            <a:ext cx="541008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eich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z. B.  C2 : F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enblä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095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fan Wiede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bsolutDB"/>
              </a:rPr>
              <a:t>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2388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 sind Merkmale, die ausgewählten Objekten zugewiesen werden kö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590920"/>
            <a:ext cx="457200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ri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riftart, - größe, - s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r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095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fan Wiede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4bd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bsolutDB"/>
              </a:rPr>
              <a:t>Opera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2388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en sind die Tätigkeiten, durch die Objekte veränder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438280"/>
            <a:ext cx="662940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llen ändern, löschen, schüt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ltenbreite 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 oder Spalten einfügen, lös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 sorti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llen und Bereiche kopieren, bewegen, bene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enblätter laden, speichern, druc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5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fan Wiede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9:38:15Z</dcterms:created>
  <dc:creator>Stefan Wiedemann</dc:creator>
  <dc:description/>
  <dc:language>en-US</dc:language>
  <cp:lastModifiedBy>Stefan Wiedemann</cp:lastModifiedBy>
  <dcterms:modified xsi:type="dcterms:W3CDTF">2004-01-25T14:05:29Z</dcterms:modified>
  <cp:revision>13</cp:revision>
  <dc:subject/>
  <dc:title>Objekte</dc:title>
</cp:coreProperties>
</file>