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82B-0671-4D3B-BA41-B86F9DD0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B7D-CF6D-4FC7-BECF-F39271C0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2F0-EBC4-404E-BC07-C3D506A4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7AA-008A-411C-A3DE-4F441346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21A-0A55-4C35-999C-15B5194B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93D-6EF9-41B5-9CC5-FB4D3AE3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853-3142-4153-A23F-2C2AE2EC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8448-77FB-438E-AC87-4BB043ED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115-D1A2-4F06-9264-B950790E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7E3-68E6-4136-9B97-A2987D70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FB3-0840-4905-BCF7-DB885D1B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14F-6313-4049-B029-25B41669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bd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84D7-D18F-40A0-8B82-246DA5071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bd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bsolutDB"/>
              </a:rPr>
              <a:t>Objek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523880"/>
            <a:ext cx="7238880" cy="30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kte sind Elemente, die man mit dem Programm bearbeiten kan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2438280"/>
            <a:ext cx="5410080" cy="23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i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eich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z. B.  C2 : F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enblä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0958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fan Wiede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bd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bsolutDB"/>
              </a:rPr>
              <a:t>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523880"/>
            <a:ext cx="7238880" cy="30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ibute sind Merkmale, die ausgewählten Objekten zugewiesen werden kön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590920"/>
            <a:ext cx="457200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rich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riftart, - größe, - s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r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60958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fan Wiede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bd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bsolutDB"/>
              </a:rPr>
              <a:t>Operatio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238880" cy="30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en sind die Tätigkeiten, durch die Objekte verändert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438280"/>
            <a:ext cx="6629400" cy="27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llen ändern, löschen, schütz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ltenbreite änd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ilen oder Spalten einfügen, lös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ilen sort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llen und Bereiche kopieren, bewegen, benen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enblätter laden, speichern, druc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0958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fan Wiede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19:38:15Z</dcterms:created>
  <dc:creator>Stefan Wiedemann</dc:creator>
  <dc:description/>
  <dc:language>en-US</dc:language>
  <cp:lastModifiedBy>Stefan Wiedemann</cp:lastModifiedBy>
  <dcterms:modified xsi:type="dcterms:W3CDTF">2004-01-25T14:05:29Z</dcterms:modified>
  <cp:revision>13</cp:revision>
  <dc:subject/>
  <dc:title>Objekte</dc:title>
</cp:coreProperties>
</file>