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98D6-7452-4E1D-A88B-061DCE36B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AC52-CDBB-4F94-96FB-F12775FA4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945E-59CC-44DC-ADC7-7F0E4CD02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8F5A-9D8B-4F2F-94AE-B2D0A11EC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D063-A8B7-4BFE-8939-C44800458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8AF8-6CBB-4BC4-9958-FDED37B01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EDEA-D857-4B74-B6D2-EBA9C8EA3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AD8F-7FAA-46C6-8146-97CD8166B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DC9E-D657-439D-A52E-C42053F6C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C44E-3E72-4B2C-A408-864F808E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9B07-CF1D-4FCC-923D-E082B0E5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9169-64DC-4614-8D85-0B6A674C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4bd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B5838-FB3F-414A-8499-62B43AD322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4bd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62320" y="609480"/>
            <a:ext cx="4114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bsolutDB"/>
              </a:rPr>
              <a:t>Objek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1523880"/>
            <a:ext cx="7238880" cy="307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kte sind Elemente, die man mit dem Programm bearbeiten kan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14600" y="2438280"/>
            <a:ext cx="5410080" cy="23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el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ei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al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reiche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z. B.  C2 : F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henblä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6095880"/>
            <a:ext cx="16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fan Wiede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4bd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362320" y="609480"/>
            <a:ext cx="4114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bsolutDB"/>
              </a:rPr>
              <a:t>Attribu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523880"/>
            <a:ext cx="7238880" cy="307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tribute sind Merkmale, die ausgewählten Objekten zugewiesen werden könn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14600" y="2590920"/>
            <a:ext cx="4572000" cy="18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richt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hriftart, - größe, - st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arb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6095880"/>
            <a:ext cx="16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fan Wiede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4bd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62320" y="609480"/>
            <a:ext cx="4114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bsolutDB"/>
              </a:rPr>
              <a:t>Operation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523880"/>
            <a:ext cx="7238880" cy="307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onen sind die Tätigkeiten, durch die Objekte verändert werd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2438280"/>
            <a:ext cx="6629400" cy="27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ellen ändern, löschen, schütz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altenbreite änd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eilen oder Spalten einfügen, lösc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eilen sortie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ellen und Bereiche kopieren, bewegen, benen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henblätter laden, speichern, druc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6095880"/>
            <a:ext cx="16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fan Wiede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1T19:38:15Z</dcterms:created>
  <dc:creator>Stefan Wiedemann</dc:creator>
  <dc:description/>
  <dc:language>en-US</dc:language>
  <cp:lastModifiedBy>Stefan Wiedemann</cp:lastModifiedBy>
  <dcterms:modified xsi:type="dcterms:W3CDTF">2004-01-25T14:05:29Z</dcterms:modified>
  <cp:revision>13</cp:revision>
  <dc:subject/>
  <dc:title>Objekte</dc:title>
</cp:coreProperties>
</file>