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7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CDF6-042F-43A3-AB56-E3ACED55E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D6E5-57E8-4652-8211-8434C629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92E6-280B-4B31-B959-5F76996AA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BE79-DDB9-4770-B4CC-CB040FBF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71CA-8FAA-4D40-AC6C-06E2CC00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BBE0-3D41-42BE-87F3-AADA4902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8EDB-618A-41B6-AF8F-6C2C697C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6E54-C9E5-4C65-B52A-AF52B127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F8AE-EFFF-4FF9-8737-6B1E457D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E7AE-14D4-4C24-B6EC-A2014A17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E10D-74F3-4332-BC0F-82CDA0CE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BF6C-824B-4D2F-8820-ABC0A8F0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6EF2-5C97-403C-B2FC-F4AE7C6F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D976-107B-4E9E-AC89-AE38DA9C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51C2-811C-42B8-8A8C-6BA18928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F5ED-8DD8-40D3-98BE-EC275C919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6950-9403-48FD-A912-D01F7D35D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A64C-CA23-49ED-91B5-79E93391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87AC-FA2A-46CB-8857-90D0B15E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D0C3-E856-4F48-841B-C06A1123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4490-8C9C-47FD-A89A-1F8449B7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3D55-2523-450B-BE56-50FBAEE2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96A7-AA72-44CE-BFAF-10AF5EE3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EA3F-4808-4ACC-A19B-6E456380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D8D2-8D33-495F-BA22-B80412B5C5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E273-7B46-4C2D-8DA3-91D526D627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jekt</a:t>
            </a:r>
            <a:br>
              <a:rPr sz="44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glische Korrespondenz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09480" y="3124080"/>
            <a:ext cx="79250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ie Klassen 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0 b und 10 c 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bearbeiten dieses Projek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MP00640_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45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62120" y="3429000"/>
            <a:ext cx="1218960" cy="121932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213120 h 1219320"/>
              <a:gd name="textAreaBottom" fmla="*/ 8841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238880" y="3429000"/>
            <a:ext cx="1143000" cy="114300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0066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1080"/>
            <a:ext cx="91440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jekt</a:t>
            </a:r>
            <a:br>
              <a:rPr sz="44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glische Korrespondenz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06" name="MP00640_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66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7" name=""/>
          <p:cNvGraphicFramePr/>
          <p:nvPr/>
        </p:nvGraphicFramePr>
        <p:xfrm>
          <a:off x="380880" y="2133720"/>
          <a:ext cx="8534520" cy="4317840"/>
        </p:xfrm>
        <a:graphic>
          <a:graphicData uri="http://schemas.openxmlformats.org/drawingml/2006/table">
            <a:tbl>
              <a:tblPr/>
              <a:tblGrid>
                <a:gridCol w="2641680"/>
                <a:gridCol w="2641680"/>
                <a:gridCol w="3251160"/>
              </a:tblGrid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ritish Englis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merican Englis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ddddd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9th October, 2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October 29, 2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dddddd"/>
                          </a:solidFill>
                          <a:latin typeface="Arial"/>
                        </a:rPr>
                        <a:t>Salut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dddddd"/>
                          </a:solidFill>
                          <a:latin typeface="Arial"/>
                        </a:rPr>
                        <a:t>Dear Sirs or Madam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ear Sirs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Gentlemen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dddddd"/>
                          </a:solidFill>
                          <a:latin typeface="Arial"/>
                        </a:rPr>
                        <a:t>Complimentary cl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ours faithfully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Yours very truly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Very truly yours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228600" y="13716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Normen müssen beachtet werde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1080"/>
            <a:ext cx="91440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jekt</a:t>
            </a:r>
            <a:br>
              <a:rPr sz="44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glische Korrespondenz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10" name="MP00640_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6686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04920" y="16765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r Brief ist formuliert, korrigiert und geschrieb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3276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Canada                              Australia                   New Zea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BD19828_" descr=""/>
          <p:cNvPicPr/>
          <p:nvPr/>
        </p:nvPicPr>
        <p:blipFill>
          <a:blip r:embed="rId2"/>
          <a:stretch/>
        </p:blipFill>
        <p:spPr>
          <a:xfrm>
            <a:off x="3706920" y="4191120"/>
            <a:ext cx="1730160" cy="1380960"/>
          </a:xfrm>
          <a:prstGeom prst="rect">
            <a:avLst/>
          </a:prstGeom>
          <a:ln w="0">
            <a:noFill/>
          </a:ln>
        </p:spPr>
      </p:pic>
      <p:pic>
        <p:nvPicPr>
          <p:cNvPr id="214" name="BD04914_" descr=""/>
          <p:cNvPicPr/>
          <p:nvPr/>
        </p:nvPicPr>
        <p:blipFill>
          <a:blip r:embed="rId3"/>
          <a:stretch/>
        </p:blipFill>
        <p:spPr>
          <a:xfrm>
            <a:off x="380880" y="4267080"/>
            <a:ext cx="2827440" cy="1925640"/>
          </a:xfrm>
          <a:prstGeom prst="rect">
            <a:avLst/>
          </a:prstGeom>
          <a:ln w="0">
            <a:noFill/>
          </a:ln>
        </p:spPr>
      </p:pic>
      <p:pic>
        <p:nvPicPr>
          <p:cNvPr id="215" name="HH00231_" descr=""/>
          <p:cNvPicPr/>
          <p:nvPr/>
        </p:nvPicPr>
        <p:blipFill>
          <a:blip r:embed="rId4"/>
          <a:stretch/>
        </p:blipFill>
        <p:spPr>
          <a:xfrm>
            <a:off x="5943600" y="4038480"/>
            <a:ext cx="2438280" cy="23162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191120" y="2286000"/>
            <a:ext cx="761760" cy="838080"/>
          </a:xfrm>
          <a:prstGeom prst="downArrow">
            <a:avLst>
              <a:gd name="adj1" fmla="val 50000"/>
              <a:gd name="adj2" fmla="val 27505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2209680"/>
            <a:ext cx="762120" cy="838440"/>
          </a:xfrm>
          <a:prstGeom prst="downArrow">
            <a:avLst>
              <a:gd name="adj1" fmla="val 50000"/>
              <a:gd name="adj2" fmla="val 27504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086600" y="2286000"/>
            <a:ext cx="762120" cy="838080"/>
          </a:xfrm>
          <a:prstGeom prst="downArrow">
            <a:avLst>
              <a:gd name="adj1" fmla="val 50000"/>
              <a:gd name="adj2" fmla="val 27492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1080"/>
            <a:ext cx="91440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jekt</a:t>
            </a:r>
            <a:br>
              <a:rPr sz="44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glische Korrespondenz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20" name="MP00640_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6686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447920" y="1600200"/>
            <a:ext cx="624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Mit E-Mails kommuniziert man einfacher und schnel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14400" y="3124080"/>
            <a:ext cx="8001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Times New Roman"/>
              </a:rPr>
              <a:t>@@@@@@@@@@@@@@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1080"/>
            <a:ext cx="91440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jekt</a:t>
            </a:r>
            <a:br>
              <a:rPr sz="44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glische Korrespondenz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24" name="MP00640_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668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676520"/>
            <a:ext cx="8001000" cy="41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gebnis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e Botschaften haben geantwortet und ausreichend Informationsmaterial zur Verfügung gestell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s Material wurde geprüft und auf der Stellwand zusammengestell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ine weitere Aufgabe wird es sein, die Informationen noch inhaltlich auszuwerten und im Englisch-Unterricht weiter zu bearbeite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1080"/>
            <a:ext cx="91440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jekt</a:t>
            </a:r>
            <a:br>
              <a:rPr sz="44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glische Korrespondenz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27" name="MP00640_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6686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838080" y="144792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ff"/>
                </a:solidFill>
                <a:latin typeface="Times New Roman"/>
              </a:rPr>
              <a:t>Projektgruppen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86480" y="2971800"/>
            <a:ext cx="44575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320" y="2971800"/>
            <a:ext cx="46101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86480" y="2286000"/>
            <a:ext cx="445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lasse 10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2362320"/>
            <a:ext cx="4610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lasse 10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320" y="2971800"/>
            <a:ext cx="9067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320" y="6095880"/>
            <a:ext cx="9067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320" y="2133720"/>
            <a:ext cx="0" cy="3962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86480" y="2133720"/>
            <a:ext cx="0" cy="3962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86480" y="2133720"/>
            <a:ext cx="445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6320" y="2133720"/>
            <a:ext cx="4610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0" y="2971800"/>
            <a:ext cx="0" cy="3124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144000" y="2133720"/>
            <a:ext cx="0" cy="838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10b" descr=""/>
          <p:cNvPicPr/>
          <p:nvPr/>
        </p:nvPicPr>
        <p:blipFill>
          <a:blip r:embed="rId2"/>
          <a:srcRect l="0" t="11825" r="0" b="0"/>
          <a:stretch/>
        </p:blipFill>
        <p:spPr>
          <a:xfrm>
            <a:off x="228600" y="2895480"/>
            <a:ext cx="4267080" cy="2273400"/>
          </a:xfrm>
          <a:prstGeom prst="rect">
            <a:avLst/>
          </a:prstGeom>
          <a:ln w="0">
            <a:noFill/>
          </a:ln>
        </p:spPr>
      </p:pic>
      <p:pic>
        <p:nvPicPr>
          <p:cNvPr id="242" name="10c" descr=""/>
          <p:cNvPicPr/>
          <p:nvPr/>
        </p:nvPicPr>
        <p:blipFill>
          <a:blip r:embed="rId3"/>
          <a:stretch/>
        </p:blipFill>
        <p:spPr>
          <a:xfrm>
            <a:off x="4724280" y="2895480"/>
            <a:ext cx="4419720" cy="22939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0" y="5638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ktleitung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. Schmidt RS Manching, H. Karl Franz-von-Lenbach-Schule Schrobenhaus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-1080"/>
            <a:ext cx="91440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jekt</a:t>
            </a:r>
            <a:br>
              <a:rPr sz="44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glische Korrespondenz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45" name="MP00640_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6686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57200" y="20574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nke für Ihre Aufmerksamke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137520"/>
            <a:ext cx="91440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Projekt</a:t>
            </a:r>
            <a:br>
              <a:rPr sz="4400"/>
            </a:br>
            <a:r>
              <a:rPr b="0" lang="de-DE" sz="4000" spc="-1" strike="noStrike">
                <a:solidFill>
                  <a:srgbClr val="ffcc00"/>
                </a:solidFill>
                <a:latin typeface="Arial Black"/>
              </a:rPr>
              <a:t>Englische Korrespondenz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1371600"/>
            <a:ext cx="8686800" cy="5470560"/>
          </a:xfrm>
          <a:prstGeom prst="rect">
            <a:avLst/>
          </a:prstGeom>
          <a:noFill/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Anlass</a:t>
            </a:r>
            <a:br>
              <a:rPr sz="3200"/>
            </a:b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R6-Lehrplan – 10. Jahrgangsstufe (Seiten 508 u. 50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eaeaea"/>
                </a:solidFill>
                <a:latin typeface="Arial"/>
              </a:rPr>
              <a:t>Jugend und Gesellscha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eaeaea"/>
                </a:solidFill>
                <a:latin typeface="Arial"/>
              </a:rPr>
              <a:t>Kanada - </a:t>
            </a:r>
            <a:r>
              <a:rPr b="0" lang="de-DE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eaeaea"/>
                </a:solidFill>
                <a:latin typeface="Arial"/>
              </a:rPr>
              <a:t>Australien - </a:t>
            </a:r>
            <a:r>
              <a:rPr b="0" lang="de-DE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eaeaea"/>
                </a:solidFill>
                <a:latin typeface="Arial"/>
              </a:rPr>
              <a:t>Neusee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eaeaea"/>
                </a:solidFill>
                <a:latin typeface="Arial"/>
              </a:rPr>
              <a:t>Zeitgenössische Literat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eaeaea"/>
                </a:solidFill>
                <a:latin typeface="Arial"/>
              </a:rPr>
              <a:t>Landeskundliche Kenntnisse in der Ausein-</a:t>
            </a:r>
            <a:br>
              <a:rPr sz="2800"/>
            </a:br>
            <a:r>
              <a:rPr b="1" lang="de-DE" sz="2800" spc="-1" strike="noStrike">
                <a:solidFill>
                  <a:srgbClr val="eaeaea"/>
                </a:solidFill>
                <a:latin typeface="Arial"/>
              </a:rPr>
              <a:t>  andersetzung mit unterschiedlichen Aspekten</a:t>
            </a:r>
            <a:br>
              <a:rPr sz="2800"/>
            </a:br>
            <a:r>
              <a:rPr b="1" lang="de-DE" sz="2800" spc="-1" strike="noStrike">
                <a:solidFill>
                  <a:srgbClr val="eaeaea"/>
                </a:solidFill>
                <a:latin typeface="Arial"/>
              </a:rPr>
              <a:t>  des Lebens in der englischsprachigen Wel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eaeaea"/>
                </a:solidFill>
                <a:latin typeface="Arial"/>
              </a:rPr>
              <a:t>Kommunikationsfähigkeiten werden gestärkt </a:t>
            </a:r>
            <a:br>
              <a:rPr sz="2800"/>
            </a:br>
            <a:r>
              <a:rPr b="1" lang="de-DE" sz="2800" spc="-1" strike="noStrike">
                <a:solidFill>
                  <a:srgbClr val="eaeaea"/>
                </a:solidFill>
                <a:latin typeface="Arial"/>
              </a:rPr>
              <a:t>E-Mail, Brief, Vortrag, Gesprä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MP00640_" descr="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1080"/>
            <a:ext cx="91440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jekt</a:t>
            </a:r>
            <a:br>
              <a:rPr sz="44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glische Korrespondenz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0" name="MP00640_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6686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28600" y="1828800"/>
            <a:ext cx="8610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2133720"/>
            <a:ext cx="8534160" cy="18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Auftrag</a:t>
            </a:r>
            <a:br>
              <a:rPr sz="24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nfordern von Informationsmaterial unter dem Aspekt der landeskundlichen Kenntnisse über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80880" y="4572000"/>
          <a:ext cx="7824960" cy="614160"/>
        </p:xfrm>
        <a:graphic>
          <a:graphicData uri="http://schemas.openxmlformats.org/drawingml/2006/table">
            <a:tbl>
              <a:tblPr/>
              <a:tblGrid>
                <a:gridCol w="2438640"/>
                <a:gridCol w="2438280"/>
                <a:gridCol w="2948040"/>
              </a:tblGrid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Australi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Kan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Neuseel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1080"/>
            <a:ext cx="91440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jekt</a:t>
            </a:r>
            <a:br>
              <a:rPr sz="44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glische Korrespondenz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MP00640_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6686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28600" y="1371600"/>
            <a:ext cx="8686800" cy="76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Them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Schreibe einen Brief an die Botschaften von Australien. Kanada und Neuseeland mit der Bitte um Zusendung von Informationen üb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Das Schulsystem, Schüler- und Studentenaustaus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Einwanderungsquote, Statistik über Beschäftigungs- und</a:t>
            </a:r>
            <a:br>
              <a:rPr sz="2400"/>
            </a:b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Arbeitslosenquo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ruttosozialprodukt, Export- und Import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Angaben über Agrarwirtschaft und Industr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edeutung des Tourismus und Empfehlungen für Sehenswürdigkei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1080"/>
            <a:ext cx="91440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jekt</a:t>
            </a:r>
            <a:br>
              <a:rPr sz="44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glische Korrespondenz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8" name="MP00640_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6686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419720" y="4343400"/>
            <a:ext cx="4495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as Erkennen, dass die englische Sprache nicht nur im zusammen-wachsenden Europa, sondern welt-weit in Wort und Schrift führend i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362320"/>
            <a:ext cx="8915400" cy="4267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33520" y="2514240"/>
            <a:ext cx="8229600" cy="3809880"/>
          </a:xfrm>
          <a:prstGeom prst="line">
            <a:avLst/>
          </a:prstGeom>
          <a:ln w="76320">
            <a:solidFill>
              <a:srgbClr val="f98d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2193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 Black"/>
              </a:rPr>
              <a:t>Z i e 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266688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e Anwendung der englischen Sprache, praktiziert an einem realistischen Beispiel in Verbindung mit den Regeln für das Anfertigen von Brief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1080"/>
            <a:ext cx="91440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jekt</a:t>
            </a:r>
            <a:br>
              <a:rPr sz="44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glische Korrespondenz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5" name="MP00640_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6686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15238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Brainstorm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981080"/>
            <a:ext cx="2209680" cy="18288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r kümmert sich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m di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schrift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38280" y="2362320"/>
            <a:ext cx="2133720" cy="1295280"/>
          </a:xfrm>
          <a:prstGeom prst="rect">
            <a:avLst/>
          </a:prstGeom>
          <a:noFill/>
          <a:ln w="57240">
            <a:solidFill>
              <a:srgbClr val="d60093"/>
            </a:solidFill>
            <a:prstDash val="sysDot"/>
            <a:miter/>
          </a:ln>
          <a:effectLst>
            <a:outerShdw dist="153753" dir="2700000" blurRad="0" rotWithShape="0">
              <a:srgbClr val="7f005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önnen wir nic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ur ein E-M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hreibe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4267080"/>
            <a:ext cx="2819160" cy="1600200"/>
          </a:xfrm>
          <a:prstGeom prst="hexagon">
            <a:avLst>
              <a:gd name="adj" fmla="val 44044"/>
              <a:gd name="vf" fmla="val 115470"/>
            </a:avLst>
          </a:prstGeom>
          <a:noFill/>
          <a:ln w="57240">
            <a:solidFill>
              <a:srgbClr val="ff00ff"/>
            </a:solidFill>
            <a:miter/>
          </a:ln>
          <a:effectLst>
            <a:outerShdw dist="17819" dir="2700000" blurRad="0" rotWithShape="0">
              <a:srgbClr val="9800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a müssen wi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iel zu viele Brie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hreib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2286000"/>
            <a:ext cx="2133720" cy="1752480"/>
          </a:xfrm>
          <a:prstGeom prst="parallelogram">
            <a:avLst>
              <a:gd name="adj" fmla="val 30439"/>
            </a:avLst>
          </a:prstGeom>
          <a:noFill/>
          <a:ln w="38160">
            <a:solidFill>
              <a:srgbClr val="3399ff"/>
            </a:solidFill>
            <a:miter/>
          </a:ln>
          <a:effectLst>
            <a:outerShdw dist="17819" dir="2700000" blurRad="0" rotWithShape="0">
              <a:srgbClr val="1e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Ich kann 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icht üb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tzen –nu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achausdrüc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4343400"/>
            <a:ext cx="2514600" cy="1523880"/>
          </a:xfrm>
          <a:prstGeom prst="pentagon">
            <a:avLst/>
          </a:prstGeom>
          <a:noFill/>
          <a:ln w="57240">
            <a:solidFill>
              <a:srgbClr val="00ff00"/>
            </a:solidFill>
            <a:miter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ir arbei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zusam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4267080"/>
            <a:ext cx="1981080" cy="18288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ff9900"/>
            </a:solidFill>
            <a:miter/>
          </a:ln>
          <a:effectLst>
            <a:outerShdw dist="153753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Stich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wort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brief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34320" y="1828800"/>
            <a:ext cx="2514600" cy="2057400"/>
          </a:xfrm>
          <a:prstGeom prst="rtTriangle">
            <a:avLst/>
          </a:prstGeom>
          <a:noFill/>
          <a:ln w="47520">
            <a:solidFill>
              <a:srgbClr val="ff3300"/>
            </a:solidFill>
            <a:prstDash val="lgDash"/>
            <a:miter/>
          </a:ln>
          <a:effectLst>
            <a:outerShdw dist="107932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nglis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st nic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ine Stär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1080"/>
            <a:ext cx="91440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jekt</a:t>
            </a:r>
            <a:br>
              <a:rPr sz="44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glische Korrespondenz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5" name="MP00640_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668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52280" y="1676520"/>
            <a:ext cx="8991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rchführ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inteilung der Grupp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uteilung der The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iefentwurf in Deutsch formulie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Überprüfen auf inhaltliche Richtigke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Übersetzen ins Englisc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rrekturles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gültige Fassung schreiben und abschick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leichzeitig die Anfrage per E-Mail an die Botschaften rich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1080"/>
            <a:ext cx="91440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jekt</a:t>
            </a:r>
            <a:br>
              <a:rPr sz="44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glische Korrespondenz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144792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ostanschriften und E-Mail-Adressen  der Botschaf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MP00640_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6686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24382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ustrali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57400" y="43434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3200400"/>
            <a:ext cx="2590920" cy="365760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3733920"/>
            <a:ext cx="25909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ustralische Botschaft Friedrichstr. 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0117 Berl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563868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Arial"/>
                <a:ea typeface="Arial"/>
              </a:rPr>
              <a:t>info@australien-embassy.de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3200400"/>
            <a:ext cx="2590920" cy="365760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72200" y="3200400"/>
            <a:ext cx="2590920" cy="365760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3657600"/>
            <a:ext cx="25905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euseeländische Botschaft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trium, 4. Etage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Friedrichstraße 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0117 Berl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586728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nzemb@t-online.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72200" y="3505320"/>
            <a:ext cx="25909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Kanadische Botschaft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Friedrichstraße 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0117 Berl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00800" y="571500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brlin-pa@dfait-maeci-gc.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29000" y="24382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euseel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24480" y="2438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an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1080"/>
            <a:ext cx="91440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jekt</a:t>
            </a:r>
            <a:br>
              <a:rPr sz="44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nglische Korrespondenz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94" name="MP00640_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6686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934320" y="2438280"/>
            <a:ext cx="1676160" cy="3886200"/>
          </a:xfrm>
          <a:prstGeom prst="flowChartMagneticDisk">
            <a:avLst/>
          </a:prstGeom>
          <a:gradFill rotWithShape="0">
            <a:gsLst>
              <a:gs pos="0">
                <a:srgbClr val="ffff00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4120" y="2362320"/>
            <a:ext cx="1676160" cy="3886200"/>
          </a:xfrm>
          <a:prstGeom prst="flowChartMagneticDisk">
            <a:avLst/>
          </a:prstGeom>
          <a:gradFill rotWithShape="0">
            <a:gsLst>
              <a:gs pos="0">
                <a:srgbClr val="d60093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657600" y="2362320"/>
            <a:ext cx="1676520" cy="3886200"/>
          </a:xfrm>
          <a:prstGeom prst="flowChartMagneticDisk">
            <a:avLst/>
          </a:prstGeom>
          <a:gradFill rotWithShape="0">
            <a:gsLst>
              <a:gs pos="0">
                <a:srgbClr val="ffff00"/>
              </a:gs>
              <a:gs pos="100000">
                <a:srgbClr val="d6009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2362320"/>
            <a:ext cx="1676520" cy="3886200"/>
          </a:xfrm>
          <a:prstGeom prst="flowChartMagneticDisk">
            <a:avLst/>
          </a:prstGeom>
          <a:gradFill rotWithShape="0">
            <a:gsLst>
              <a:gs pos="0">
                <a:srgbClr val="d60093"/>
              </a:gs>
              <a:gs pos="100000">
                <a:srgbClr val="00004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2362320"/>
            <a:ext cx="1676520" cy="3886200"/>
          </a:xfrm>
          <a:prstGeom prst="flowChartMagneticDisk">
            <a:avLst/>
          </a:prstGeom>
          <a:gradFill rotWithShape="0">
            <a:gsLst>
              <a:gs pos="0">
                <a:srgbClr val="ffff00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3276720"/>
            <a:ext cx="1904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Times New Roman"/>
              </a:rPr>
              <a:t>Educational system, school exchange and student ex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57400" y="3505320"/>
            <a:ext cx="1676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Times New Roman"/>
              </a:rPr>
              <a:t>Immigration occupation quota, statistics on unemploy-ment rat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33920" y="3505320"/>
            <a:ext cx="1828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44"/>
                </a:solidFill>
                <a:latin typeface="Times New Roman"/>
              </a:rPr>
              <a:t>National gross product, export rate, import ra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4120" y="3429000"/>
            <a:ext cx="17524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2663a0"/>
                </a:solidFill>
                <a:latin typeface="Times New Roman"/>
              </a:rPr>
              <a:t>Specification concerning </a:t>
            </a:r>
            <a:r>
              <a:rPr b="1" lang="de-DE" sz="2400" spc="-1" strike="noStrike">
                <a:solidFill>
                  <a:srgbClr val="2663a0"/>
                </a:solidFill>
                <a:latin typeface="Times New Roman"/>
              </a:rPr>
              <a:t>rural economy and indu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86600" y="3429000"/>
            <a:ext cx="13716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Times New Roman"/>
              </a:rPr>
              <a:t>Meaning of the tourism recommendation of places of</a:t>
            </a:r>
            <a:r>
              <a:rPr b="1" lang="de-DE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de-DE" sz="2000" spc="-1" strike="noStrike">
                <a:solidFill>
                  <a:srgbClr val="000099"/>
                </a:solidFill>
                <a:latin typeface="Times New Roman"/>
              </a:rPr>
              <a:t>inter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1T18:52:34Z</dcterms:created>
  <dc:creator>RSM</dc:creator>
  <dc:description/>
  <dc:language>en-US</dc:language>
  <cp:lastModifiedBy>Schueler</cp:lastModifiedBy>
  <dcterms:modified xsi:type="dcterms:W3CDTF">2001-12-03T17:48:36Z</dcterms:modified>
  <cp:revision>10</cp:revision>
  <dc:subject/>
  <dc:title>Projekt Englische Korrespondenz</dc:title>
</cp:coreProperties>
</file>