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1E3-DB3C-4A4F-B46A-FEC61B7A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49E-DF43-4A6E-8950-8AC9AD6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DC0-7CB2-4017-A063-664B0192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218-D1F0-450B-BBB2-D3C31796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274-00D2-43A6-BA2E-07BF012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FC2-3324-4F28-9CCF-D7664464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7FD-374A-4996-81C5-E9A5677D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51F-1A7C-4E8A-8610-1D42880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32E-A831-4FE9-9060-46283040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475-85AD-454C-A215-0B1DFCF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4EC-935F-4B89-B8B2-7A2D889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C50-43BE-4346-8441-7BCAF80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6B42-6837-451C-8F5E-0E07081D1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8153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ff"/>
                </a:solidFill>
                <a:latin typeface="Arial"/>
              </a:rPr>
              <a:t>Thema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rufliche Orientierung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Was kommt nach dem Realschulabschlus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ff"/>
                </a:solidFill>
                <a:latin typeface="Arial"/>
              </a:rPr>
              <a:t>Ziel:</a:t>
            </a:r>
            <a:r>
              <a:rPr b="0" lang="de-DE" sz="2400" spc="-1" strike="noStrike">
                <a:solidFill>
                  <a:srgbClr val="cc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formationen üb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- Ausbildungsberufe oder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- weiterführende Schu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ie Broschüre wird während Informations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veranstaltungen zur Berufsorientierung den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interessierten Teilnehmern an die Hand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gegeben und ist Schülerinnen und Schüler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der 9. Jahrgangsstufe ein kleines Nachschlage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werk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8458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2514600"/>
            <a:ext cx="2895480" cy="167652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us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62120" y="1523880"/>
          <a:ext cx="7772400" cy="5105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Seite%20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973240" cy="5257800"/>
          </a:xfrm>
          <a:prstGeom prst="rect">
            <a:avLst/>
          </a:prstGeom>
          <a:ln w="0">
            <a:noFill/>
          </a:ln>
        </p:spPr>
      </p:pic>
      <p:pic>
        <p:nvPicPr>
          <p:cNvPr id="212" name="Seite%205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048120" cy="520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0880" y="30492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295280"/>
            <a:ext cx="8610480" cy="533520"/>
          </a:xfrm>
          <a:prstGeom prst="flowChartPredefinedProcess">
            <a:avLst/>
          </a:prstGeom>
          <a:noFill/>
          <a:ln w="5724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s Team bedankt sich für Ihre Aufmerksam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057400"/>
            <a:ext cx="853452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Projektgruppe: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Bernadette Betzenbichler,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Bianca Groß, Verena Forster,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Elfie Kaltenegger, Andrea Krieger, 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Franziska Legl, Ulrike Moch,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Julia Omasmeier, Jadranka Pavlovic, 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Michaela Wutz, Carina Zillner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Projektleitung:</a:t>
            </a: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	</a:t>
            </a:r>
            <a:r>
              <a:rPr b="0" lang="de-DE" sz="2400" spc="-1" strike="noStrike">
                <a:solidFill>
                  <a:srgbClr val="d8e20e"/>
                </a:solidFill>
                <a:latin typeface="Times New Roman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Thomas Haumüller (Deutsch)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Ernst Mahr (Deutsch) 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Doris Schmidt (Textverarbeitung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8e20e"/>
                </a:solidFill>
                <a:latin typeface="Arial Black"/>
              </a:rPr>
              <a:t>Schulleitung: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Dieter Göllnitz, Rektor</a:t>
            </a:r>
            <a:br>
              <a:rPr sz="2000"/>
            </a:b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d8e20e"/>
                </a:solidFill>
                <a:latin typeface="Arial"/>
              </a:rPr>
              <a:t>Alois Einhauser, Konrek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M00116_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2743200" cy="234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523880"/>
            <a:ext cx="38098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in Projekt entste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iele Schritte werden notwendi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HM00116_" descr=""/>
          <p:cNvPicPr/>
          <p:nvPr/>
        </p:nvPicPr>
        <p:blipFill>
          <a:blip r:embed="rId2"/>
          <a:stretch/>
        </p:blipFill>
        <p:spPr>
          <a:xfrm>
            <a:off x="0" y="3809880"/>
            <a:ext cx="259092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HM00116_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2286000" cy="206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54864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886200"/>
            <a:ext cx="632448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06510"/>
                </a:solidFill>
                <a:latin typeface="Arial"/>
              </a:rPr>
              <a:t>             </a:t>
            </a:r>
            <a:r>
              <a:rPr b="1" lang="de-DE" sz="3200" spc="-1" strike="noStrike">
                <a:solidFill>
                  <a:srgbClr val="f06510"/>
                </a:solidFill>
                <a:latin typeface="Arial"/>
              </a:rPr>
              <a:t>Einteilung der Gruppen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      </a:t>
            </a:r>
            <a:r>
              <a:rPr b="1" lang="de-DE" sz="2800" spc="-1" strike="noStrike">
                <a:solidFill>
                  <a:srgbClr val="f06510"/>
                </a:solidFill>
                <a:latin typeface="Arial"/>
              </a:rPr>
              <a:t>nach folgenden Kriterien: </a:t>
            </a:r>
            <a:br>
              <a:rPr sz="2800"/>
            </a:br>
            <a:r>
              <a:rPr b="1" lang="de-DE" sz="2800" spc="-1" strike="noStrike">
                <a:solidFill>
                  <a:srgbClr val="f0651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gemeinsamer Wohnort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PC-Ausstattung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Webdings"/>
                <a:ea typeface="Webdings"/>
              </a:rPr>
              <a:t>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Spezialwissen</a:t>
            </a:r>
            <a:r>
              <a:rPr b="0" lang="de-DE" sz="2400" spc="-1" strike="noStrike">
                <a:solidFill>
                  <a:srgbClr val="f065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M00116_" descr=""/>
          <p:cNvPicPr/>
          <p:nvPr/>
        </p:nvPicPr>
        <p:blipFill>
          <a:blip r:embed="rId4"/>
          <a:stretch/>
        </p:blipFill>
        <p:spPr>
          <a:xfrm>
            <a:off x="5791320" y="304920"/>
            <a:ext cx="2743200" cy="234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9718400">
            <a:off x="-985320" y="2160360"/>
            <a:ext cx="11117160" cy="1698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22860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jekt:   Erstellen einer Broschüre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0" y="-360"/>
            <a:ext cx="9144000" cy="6095880"/>
          </a:xfrm>
          <a:prstGeom prst="line">
            <a:avLst/>
          </a:prstGeom>
          <a:ln w="4428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143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 Black"/>
              </a:rPr>
              <a:t>Wichtig </a:t>
            </a:r>
            <a:br>
              <a:rPr sz="2800"/>
            </a:br>
            <a:r>
              <a:rPr b="1" lang="en-US" sz="2800" spc="-1" strike="noStrike">
                <a:solidFill>
                  <a:srgbClr val="33cccc"/>
                </a:solidFill>
                <a:latin typeface="Arial Black"/>
              </a:rPr>
              <a:t>Stoffsammlung - Brainst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819520"/>
            <a:ext cx="6629400" cy="3657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733920"/>
            <a:ext cx="4495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Berufsinformationszentrum (BI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Welche Berufe? -  Welche Firmen?  - Welche Schulen? - Wer weiß Bescheid?  - Das Internet ist wichti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Bewerbung, Lebenslauf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Zeugnisse, Praktiku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38088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43120"/>
          <a:ext cx="99072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3120"/>
                    <a:ext cx="990720" cy="421488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914400" y="2895480"/>
            <a:ext cx="2286000" cy="3962520"/>
          </a:xfrm>
          <a:custGeom>
            <a:avLst/>
            <a:gdLst>
              <a:gd name="textAreaLeft" fmla="*/ 306000 w 2286000"/>
              <a:gd name="textAreaRight" fmla="*/ 1980000 w 228600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0120" y="2590920"/>
          <a:ext cx="15238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590920"/>
                    <a:ext cx="1523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791320" y="2895480"/>
            <a:ext cx="1904760" cy="396252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45720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64008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848720" cy="4419360"/>
          </a:xfrm>
          <a:prstGeom prst="rect">
            <a:avLst/>
          </a:prstGeom>
          <a:noFill/>
          <a:ln w="38160">
            <a:solidFill>
              <a:srgbClr val="0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62120" y="1676520"/>
            <a:ext cx="7772400" cy="441936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Die Broschüre entste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6920" y="1905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510"/>
                </a:solidFill>
                <a:latin typeface="Times New Roman"/>
              </a:rPr>
              <a:t>DIN A4-Blatt 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2160" y="25146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6 Sp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4800600"/>
            <a:ext cx="38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Grafiken und Bilder ei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410080"/>
            <a:ext cx="62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510"/>
                </a:solidFill>
                <a:latin typeface="Times New Roman"/>
              </a:rPr>
              <a:t>Interview mit Beratungslehrerin und Schül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426708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www-Ad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5120" y="3124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1" idx="3"/>
            <a:endCxn id="74" idx="1"/>
          </p:cNvCxnSpPr>
          <p:nvPr/>
        </p:nvCxnSpPr>
        <p:spPr>
          <a:xfrm flipH="1">
            <a:off x="2208960" y="2133720"/>
            <a:ext cx="1329480" cy="3505680"/>
          </a:xfrm>
          <a:prstGeom prst="curvedConnector5">
            <a:avLst>
              <a:gd name="adj1" fmla="val -17199"/>
              <a:gd name="adj2" fmla="val 24997"/>
              <a:gd name="adj3" fmla="val -17199"/>
            </a:avLst>
          </a:prstGeom>
          <a:ln w="57240">
            <a:solidFill>
              <a:srgbClr val="f0651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2" idx="3"/>
            <a:endCxn id="73" idx="1"/>
          </p:cNvCxnSpPr>
          <p:nvPr/>
        </p:nvCxnSpPr>
        <p:spPr>
          <a:xfrm>
            <a:off x="2386080" y="2743200"/>
            <a:ext cx="2186640" cy="2286720"/>
          </a:xfrm>
          <a:prstGeom prst="curvedConnector5">
            <a:avLst>
              <a:gd name="adj1" fmla="val 49958"/>
              <a:gd name="adj2" fmla="val 49992"/>
              <a:gd name="adj3" fmla="val 49958"/>
            </a:avLst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6" idx="3"/>
            <a:endCxn id="75" idx="1"/>
          </p:cNvCxnSpPr>
          <p:nvPr/>
        </p:nvCxnSpPr>
        <p:spPr>
          <a:xfrm>
            <a:off x="2317320" y="3352320"/>
            <a:ext cx="347436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ffff00"/>
            </a:solidFill>
            <a:prstDash val="lgDashDot"/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noFill/>
          <a:ln w="572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1599840"/>
            <a:ext cx="8991720" cy="5257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5257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5238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6765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18288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810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2860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24382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5909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7432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8954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0481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2004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3526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5053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6576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9625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41148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2670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419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45720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7242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8769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0292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1814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3341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486400"/>
            <a:ext cx="12952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638680"/>
            <a:ext cx="1295280" cy="1067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7913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am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9718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1240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767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4290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5812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7339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8862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40384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1911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3434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956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6483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8006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9528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1055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52578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54100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56272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5715000"/>
            <a:ext cx="9907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867280"/>
            <a:ext cx="99036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Ände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6002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17524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051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20574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22096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3623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5146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26668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8195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29718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31240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32767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4290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35812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7339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38862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038480"/>
            <a:ext cx="144756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4191120"/>
            <a:ext cx="1447920" cy="99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6080" y="4343400"/>
            <a:ext cx="1447920" cy="990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228600"/>
            <a:ext cx="8458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: Erstellen einer Broschü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907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Briefing: Jede Woche im Rahmen des Tv-Unterric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380880"/>
            <a:ext cx="7619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41037[1]" descr=""/>
          <p:cNvPicPr/>
          <p:nvPr/>
        </p:nvPicPr>
        <p:blipFill>
          <a:blip r:embed="rId3"/>
          <a:stretch/>
        </p:blipFill>
        <p:spPr>
          <a:xfrm>
            <a:off x="6629400" y="41148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j0241037[1]" descr=""/>
          <p:cNvPicPr/>
          <p:nvPr/>
        </p:nvPicPr>
        <p:blipFill>
          <a:blip r:embed="rId4"/>
          <a:stretch/>
        </p:blipFill>
        <p:spPr>
          <a:xfrm>
            <a:off x="7696080" y="52578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j0241037[1]" descr=""/>
          <p:cNvPicPr/>
          <p:nvPr/>
        </p:nvPicPr>
        <p:blipFill>
          <a:blip r:embed="rId5"/>
          <a:stretch/>
        </p:blipFill>
        <p:spPr>
          <a:xfrm>
            <a:off x="7772400" y="2286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38280" y="1905120"/>
            <a:ext cx="4114800" cy="1218960"/>
          </a:xfrm>
          <a:custGeom>
            <a:avLst/>
            <a:gdLst>
              <a:gd name="textAreaLeft" fmla="*/ 904680 w 4114800"/>
              <a:gd name="textAreaRight" fmla="*/ 3210120 w 4114800"/>
              <a:gd name="textAreaTop" fmla="*/ 267840 h 1218960"/>
              <a:gd name="textAreaBottom" fmla="*/ 951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ag d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Entscheidung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 Ple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1371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01-11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j0241037[1]" descr=""/>
          <p:cNvPicPr/>
          <p:nvPr/>
        </p:nvPicPr>
        <p:blipFill>
          <a:blip r:embed="rId6"/>
          <a:stretch/>
        </p:blipFill>
        <p:spPr>
          <a:xfrm>
            <a:off x="5638680" y="52578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69" name="j0241037[1]" descr=""/>
          <p:cNvPicPr/>
          <p:nvPr/>
        </p:nvPicPr>
        <p:blipFill>
          <a:blip r:embed="rId7"/>
          <a:stretch/>
        </p:blipFill>
        <p:spPr>
          <a:xfrm>
            <a:off x="4952880" y="42670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0" name="j0241037[1]" descr=""/>
          <p:cNvPicPr/>
          <p:nvPr/>
        </p:nvPicPr>
        <p:blipFill>
          <a:blip r:embed="rId8"/>
          <a:stretch/>
        </p:blipFill>
        <p:spPr>
          <a:xfrm>
            <a:off x="3048120" y="4648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1" name="j0241037[1]" descr=""/>
          <p:cNvPicPr/>
          <p:nvPr/>
        </p:nvPicPr>
        <p:blipFill>
          <a:blip r:embed="rId9"/>
          <a:stretch/>
        </p:blipFill>
        <p:spPr>
          <a:xfrm>
            <a:off x="2895480" y="33526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2" name="j0241037[1]" descr=""/>
          <p:cNvPicPr/>
          <p:nvPr/>
        </p:nvPicPr>
        <p:blipFill>
          <a:blip r:embed="rId10"/>
          <a:stretch/>
        </p:blipFill>
        <p:spPr>
          <a:xfrm>
            <a:off x="228600" y="48769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3" name="j0241037[1]" descr=""/>
          <p:cNvPicPr/>
          <p:nvPr/>
        </p:nvPicPr>
        <p:blipFill>
          <a:blip r:embed="rId11"/>
          <a:stretch/>
        </p:blipFill>
        <p:spPr>
          <a:xfrm>
            <a:off x="685800" y="3276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4" name="j0241037[1]" descr=""/>
          <p:cNvPicPr/>
          <p:nvPr/>
        </p:nvPicPr>
        <p:blipFill>
          <a:blip r:embed="rId12"/>
          <a:stretch/>
        </p:blipFill>
        <p:spPr>
          <a:xfrm>
            <a:off x="228600" y="175248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5" name="j0241037[1]" descr=""/>
          <p:cNvPicPr/>
          <p:nvPr/>
        </p:nvPicPr>
        <p:blipFill>
          <a:blip r:embed="rId13"/>
          <a:stretch/>
        </p:blipFill>
        <p:spPr>
          <a:xfrm>
            <a:off x="6705720" y="5791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j0241037[1]" descr=""/>
          <p:cNvPicPr/>
          <p:nvPr/>
        </p:nvPicPr>
        <p:blipFill>
          <a:blip r:embed="rId14"/>
          <a:stretch/>
        </p:blipFill>
        <p:spPr>
          <a:xfrm>
            <a:off x="1752480" y="21337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7" name="j0241037[1]" descr=""/>
          <p:cNvPicPr/>
          <p:nvPr/>
        </p:nvPicPr>
        <p:blipFill>
          <a:blip r:embed="rId15"/>
          <a:stretch/>
        </p:blipFill>
        <p:spPr>
          <a:xfrm>
            <a:off x="2590920" y="57913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8" name="j0241037[1]" descr=""/>
          <p:cNvPicPr/>
          <p:nvPr/>
        </p:nvPicPr>
        <p:blipFill>
          <a:blip r:embed="rId16"/>
          <a:stretch/>
        </p:blipFill>
        <p:spPr>
          <a:xfrm>
            <a:off x="7924680" y="3886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79" name="j0241037[1]" descr=""/>
          <p:cNvPicPr/>
          <p:nvPr/>
        </p:nvPicPr>
        <p:blipFill>
          <a:blip r:embed="rId17"/>
          <a:stretch/>
        </p:blipFill>
        <p:spPr>
          <a:xfrm>
            <a:off x="6400800" y="2743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80" name="j0241037[1]" descr=""/>
          <p:cNvPicPr/>
          <p:nvPr/>
        </p:nvPicPr>
        <p:blipFill>
          <a:blip r:embed="rId18"/>
          <a:stretch/>
        </p:blipFill>
        <p:spPr>
          <a:xfrm>
            <a:off x="1676520" y="41148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81" name="j0241037[1]" descr=""/>
          <p:cNvPicPr/>
          <p:nvPr/>
        </p:nvPicPr>
        <p:blipFill>
          <a:blip r:embed="rId19"/>
          <a:stretch/>
        </p:blipFill>
        <p:spPr>
          <a:xfrm>
            <a:off x="1143000" y="579132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05320" y="4800600"/>
            <a:ext cx="2057400" cy="2057400"/>
          </a:xfrm>
          <a:prstGeom prst="triangle">
            <a:avLst>
              <a:gd name="adj" fmla="val 513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.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7162920" y="3200400"/>
          <a:ext cx="12952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00400"/>
                    <a:ext cx="12952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38080" y="3405240"/>
          <a:ext cx="1076400" cy="34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405240"/>
                    <a:ext cx="1076400" cy="345276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 txBox="1"/>
          <p:nvPr/>
        </p:nvSpPr>
        <p:spPr>
          <a:xfrm>
            <a:off x="685800" y="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ojekt: Erstellen einer Broschü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HM00116_" descr=""/>
          <p:cNvPicPr/>
          <p:nvPr/>
        </p:nvPicPr>
        <p:blipFill>
          <a:blip r:embed="rId5"/>
          <a:stretch/>
        </p:blipFill>
        <p:spPr>
          <a:xfrm>
            <a:off x="3429000" y="449568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89" name="HM00116_" descr=""/>
          <p:cNvPicPr/>
          <p:nvPr/>
        </p:nvPicPr>
        <p:blipFill>
          <a:blip r:embed="rId6"/>
          <a:stretch/>
        </p:blipFill>
        <p:spPr>
          <a:xfrm>
            <a:off x="4038480" y="39625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0" name="HM00116_" descr=""/>
          <p:cNvPicPr/>
          <p:nvPr/>
        </p:nvPicPr>
        <p:blipFill>
          <a:blip r:embed="rId7"/>
          <a:stretch/>
        </p:blipFill>
        <p:spPr>
          <a:xfrm>
            <a:off x="4191120" y="43434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1" name="HM00116_" descr=""/>
          <p:cNvPicPr/>
          <p:nvPr/>
        </p:nvPicPr>
        <p:blipFill>
          <a:blip r:embed="rId8"/>
          <a:stretch/>
        </p:blipFill>
        <p:spPr>
          <a:xfrm>
            <a:off x="3429000" y="42670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2" name="HM00116_" descr=""/>
          <p:cNvPicPr/>
          <p:nvPr/>
        </p:nvPicPr>
        <p:blipFill>
          <a:blip r:embed="rId9"/>
          <a:stretch/>
        </p:blipFill>
        <p:spPr>
          <a:xfrm>
            <a:off x="4648320" y="48006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3" name="HM00116_" descr=""/>
          <p:cNvPicPr/>
          <p:nvPr/>
        </p:nvPicPr>
        <p:blipFill>
          <a:blip r:embed="rId10"/>
          <a:stretch/>
        </p:blipFill>
        <p:spPr>
          <a:xfrm>
            <a:off x="3429000" y="41911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4" name="HM00116_" descr=""/>
          <p:cNvPicPr/>
          <p:nvPr/>
        </p:nvPicPr>
        <p:blipFill>
          <a:blip r:embed="rId11"/>
          <a:stretch/>
        </p:blipFill>
        <p:spPr>
          <a:xfrm>
            <a:off x="3505320" y="49528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5" name="HM00116_" descr=""/>
          <p:cNvPicPr/>
          <p:nvPr/>
        </p:nvPicPr>
        <p:blipFill>
          <a:blip r:embed="rId12"/>
          <a:stretch/>
        </p:blipFill>
        <p:spPr>
          <a:xfrm>
            <a:off x="3809880" y="411480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6" name="HM00116_" descr=""/>
          <p:cNvPicPr/>
          <p:nvPr/>
        </p:nvPicPr>
        <p:blipFill>
          <a:blip r:embed="rId13"/>
          <a:stretch/>
        </p:blipFill>
        <p:spPr>
          <a:xfrm>
            <a:off x="4495680" y="449568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197" name="HM00116_" descr=""/>
          <p:cNvPicPr/>
          <p:nvPr/>
        </p:nvPicPr>
        <p:blipFill>
          <a:blip r:embed="rId14"/>
          <a:stretch/>
        </p:blipFill>
        <p:spPr>
          <a:xfrm>
            <a:off x="4114800" y="5257800"/>
            <a:ext cx="1143000" cy="103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895480" y="3505320"/>
            <a:ext cx="3505320" cy="3047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3804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Kein  Treten  auf  der  Stelle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29200"/>
            <a:ext cx="2590920" cy="441972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990720"/>
            <a:ext cx="3962160" cy="1981080"/>
          </a:xfrm>
          <a:prstGeom prst="wedgeEllipseCallout">
            <a:avLst>
              <a:gd name="adj1" fmla="val 26203"/>
              <a:gd name="adj2" fmla="val 9919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tig!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ieren 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h jetzt üb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ule und  Ber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HM00116_" descr=""/>
          <p:cNvPicPr/>
          <p:nvPr/>
        </p:nvPicPr>
        <p:blipFill>
          <a:blip r:embed="rId15"/>
          <a:stretch/>
        </p:blipFill>
        <p:spPr>
          <a:xfrm>
            <a:off x="4648320" y="4648320"/>
            <a:ext cx="1143000" cy="1035000"/>
          </a:xfrm>
          <a:prstGeom prst="rect">
            <a:avLst/>
          </a:prstGeom>
          <a:ln w="0">
            <a:noFill/>
          </a:ln>
        </p:spPr>
      </p:pic>
      <p:pic>
        <p:nvPicPr>
          <p:cNvPr id="202" name="HM00116_" descr=""/>
          <p:cNvPicPr/>
          <p:nvPr/>
        </p:nvPicPr>
        <p:blipFill>
          <a:blip r:embed="rId16"/>
          <a:stretch/>
        </p:blipFill>
        <p:spPr>
          <a:xfrm>
            <a:off x="4114800" y="4572000"/>
            <a:ext cx="1143000" cy="1035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2280" y="1066680"/>
            <a:ext cx="3733920" cy="2210040"/>
          </a:xfrm>
          <a:prstGeom prst="wedgeEllipseCallout">
            <a:avLst>
              <a:gd name="adj1" fmla="val -17856"/>
              <a:gd name="adj2" fmla="val 6838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ne Broschüre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sta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amarbeit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 Schlü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m Erfol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962520"/>
                <a:gridCol w="380988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Seite%201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781360" cy="4986360"/>
          </a:xfrm>
          <a:prstGeom prst="rect">
            <a:avLst/>
          </a:prstGeom>
          <a:ln w="0">
            <a:noFill/>
          </a:ln>
        </p:spPr>
      </p:pic>
      <p:pic>
        <p:nvPicPr>
          <p:cNvPr id="206" name="Seite%202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Seite%204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2971800" cy="5410080"/>
          </a:xfrm>
          <a:prstGeom prst="rect">
            <a:avLst/>
          </a:prstGeom>
          <a:ln w="0">
            <a:noFill/>
          </a:ln>
        </p:spPr>
      </p:pic>
      <p:pic>
        <p:nvPicPr>
          <p:cNvPr id="209" name="Seite%203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304776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stellt von Schülerinnen und Schülern der Klassen 9b und 9c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7:33:05Z</dcterms:created>
  <dc:creator>Schüler-PC</dc:creator>
  <dc:description/>
  <dc:language>en-US</dc:language>
  <cp:lastModifiedBy>RSM</cp:lastModifiedBy>
  <dcterms:modified xsi:type="dcterms:W3CDTF">2001-12-01T17:55:48Z</dcterms:modified>
  <cp:revision>22</cp:revision>
  <dc:subject/>
  <dc:title>Projekt: Erstellen einer Broschüre</dc:title>
</cp:coreProperties>
</file>