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wmf" ContentType="image/x-wmf"/>
  <Override PartName="/ppt/media/image5.png" ContentType="image/png"/>
  <Override PartName="/ppt/media/image6.wmf" ContentType="image/x-wmf"/>
  <Override PartName="/ppt/media/image7.jpeg" ContentType="image/jpeg"/>
  <Override PartName="/ppt/media/image12.jpeg" ContentType="image/jpeg"/>
  <Override PartName="/ppt/media/image10.jpeg" ContentType="image/jpeg"/>
  <Override PartName="/ppt/media/image11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CD2E-B019-464C-8FB9-48AF6479F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DD65-EACD-4316-ADED-2083A92D0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1F8A-9804-4559-B3BD-AADBF563D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5716-010B-4725-B70D-A53563D2E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8276-A4EC-4AEE-B726-A9EDC00A4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4E35-1762-4D75-973A-5EA068DA0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2BA3-6EF4-4402-A156-CE6F9FB42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A9E5-6445-443E-8924-8FAD4CA05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93DF-7FDB-4B67-AA2B-4A811EF76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F060-CA23-403E-902E-337FA785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DC70-C13D-441F-B1DE-E5D88CD2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456F-EB10-4153-AE58-8BB90993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16D43-88C2-452D-B285-A4C8789D39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6.wmf"/><Relationship Id="rId12" Type="http://schemas.openxmlformats.org/officeDocument/2006/relationships/image" Target="../media/image6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6.wmf"/><Relationship Id="rId19" Type="http://schemas.openxmlformats.org/officeDocument/2006/relationships/image" Target="../media/image6.wmf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1600200"/>
            <a:ext cx="815328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ff"/>
                </a:solidFill>
                <a:latin typeface="Arial"/>
              </a:rPr>
              <a:t>Thema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erufliche Orientierung: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Was kommt nach dem Realschulabschlus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ff"/>
                </a:solidFill>
                <a:latin typeface="Arial"/>
              </a:rPr>
              <a:t>Ziel:</a:t>
            </a:r>
            <a:r>
              <a:rPr b="0" lang="de-DE" sz="2400" spc="-1" strike="noStrike">
                <a:solidFill>
                  <a:srgbClr val="ccffff"/>
                </a:solidFill>
                <a:latin typeface="Arial"/>
              </a:rPr>
              <a:t> 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Informationen über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- Ausbildungsberufe oder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       - weiterführende Schu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Die Broschüre wird während Informations-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        veranstaltungen zur Berufsorientierung den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        interessierten Teilnehmern an die Hand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gegeben und ist Schülerinnen und Schülern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der 9. Jahrgangsstufe ein kleines Nachschlage-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werk.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80880" y="609480"/>
            <a:ext cx="84582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Projekt: Erstellen einer Broschür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5791320" y="2514600"/>
            <a:ext cx="2895480" cy="1676520"/>
          </a:xfrm>
          <a:prstGeom prst="ellipse">
            <a:avLst/>
          </a:prstGeom>
          <a:solidFill>
            <a:srgbClr val="ff00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Bild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Ausbild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Bild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stellt von Schülerinnen und Schülern der Klassen 9b und 9c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762120" y="1523880"/>
          <a:ext cx="7772400" cy="510516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510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1" name="Seite%206" descr=""/>
          <p:cNvPicPr/>
          <p:nvPr/>
        </p:nvPicPr>
        <p:blipFill>
          <a:blip r:embed="rId1"/>
          <a:stretch/>
        </p:blipFill>
        <p:spPr>
          <a:xfrm>
            <a:off x="5105520" y="1447920"/>
            <a:ext cx="2973240" cy="5257800"/>
          </a:xfrm>
          <a:prstGeom prst="rect">
            <a:avLst/>
          </a:prstGeom>
          <a:ln w="0">
            <a:noFill/>
          </a:ln>
        </p:spPr>
      </p:pic>
      <p:pic>
        <p:nvPicPr>
          <p:cNvPr id="212" name="Seite%205" descr=""/>
          <p:cNvPicPr/>
          <p:nvPr/>
        </p:nvPicPr>
        <p:blipFill>
          <a:blip r:embed="rId2"/>
          <a:stretch/>
        </p:blipFill>
        <p:spPr>
          <a:xfrm>
            <a:off x="914400" y="1447920"/>
            <a:ext cx="3048120" cy="5209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stellt von Schülerinnen und Schülern der Klassen 9b und 9c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380880" y="304920"/>
            <a:ext cx="8458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Projekt: Erstellen einer Broschür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1295280"/>
            <a:ext cx="8610480" cy="533520"/>
          </a:xfrm>
          <a:prstGeom prst="flowChartPredefinedProcess">
            <a:avLst/>
          </a:prstGeom>
          <a:noFill/>
          <a:ln w="57240">
            <a:solidFill>
              <a:srgbClr val="800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as Team bedankt sich für Ihre Aufmerksamke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2057400"/>
            <a:ext cx="8534520" cy="42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d8e20e"/>
                </a:solidFill>
                <a:latin typeface="Arial Black"/>
              </a:rPr>
              <a:t>Projektgruppe:</a:t>
            </a:r>
            <a:r>
              <a:rPr b="1" lang="de-DE" sz="2400" spc="-1" strike="noStrike">
                <a:solidFill>
                  <a:srgbClr val="d8e20e"/>
                </a:solidFill>
                <a:latin typeface="Arial Black"/>
              </a:rPr>
              <a:t>	</a:t>
            </a:r>
            <a:r>
              <a:rPr b="1" lang="de-DE" sz="2400" spc="-1" strike="noStrike">
                <a:solidFill>
                  <a:srgbClr val="d8e20e"/>
                </a:solidFill>
                <a:latin typeface="Arial Black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Bernadette Betzenbichler,</a:t>
            </a:r>
            <a:br>
              <a:rPr sz="2000"/>
            </a:b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Bianca Groß, Verena Forster, </a:t>
            </a:r>
            <a:br>
              <a:rPr sz="2000"/>
            </a:b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Elfie Kaltenegger, Andrea Krieger, 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Franziska Legl, Ulrike Moch, </a:t>
            </a:r>
            <a:br>
              <a:rPr sz="2000"/>
            </a:b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Julia Omasmeier, Jadranka Pavlovic, 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Michaela Wutz, Carina Zillner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d8e20e"/>
                </a:solidFill>
                <a:latin typeface="Arial Black"/>
              </a:rPr>
              <a:t>Projektleitung:</a:t>
            </a:r>
            <a:r>
              <a:rPr b="1" lang="de-DE" sz="2400" spc="-1" strike="noStrike">
                <a:solidFill>
                  <a:srgbClr val="d8e20e"/>
                </a:solidFill>
                <a:latin typeface="Arial Black"/>
              </a:rPr>
              <a:t>	</a:t>
            </a:r>
            <a:r>
              <a:rPr b="0" lang="de-DE" sz="2400" spc="-1" strike="noStrike">
                <a:solidFill>
                  <a:srgbClr val="d8e20e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Thomas Haumüller (Deutsch)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br>
              <a:rPr sz="2000"/>
            </a:b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Ernst Mahr (Deutsch) </a:t>
            </a:r>
            <a:br>
              <a:rPr sz="2000"/>
            </a:b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Doris Schmidt (Textverarbeitung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d8e20e"/>
                </a:solidFill>
                <a:latin typeface="Arial Black"/>
              </a:rPr>
              <a:t>Schulleitung: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Dieter Göllnitz, Rektor</a:t>
            </a:r>
            <a:br>
              <a:rPr sz="2000"/>
            </a:b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Alois Einhauser, Konrek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stellt von Schülerinnen und Schülern der Klassen 9b und 9c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HM00116_" descr=""/>
          <p:cNvPicPr/>
          <p:nvPr/>
        </p:nvPicPr>
        <p:blipFill>
          <a:blip r:embed="rId1"/>
          <a:stretch/>
        </p:blipFill>
        <p:spPr>
          <a:xfrm>
            <a:off x="3733920" y="1523880"/>
            <a:ext cx="2743200" cy="2344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1523880"/>
            <a:ext cx="3809880" cy="21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Ein Projekt entste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Viele Schritte werden notwendi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HM00116_" descr=""/>
          <p:cNvPicPr/>
          <p:nvPr/>
        </p:nvPicPr>
        <p:blipFill>
          <a:blip r:embed="rId2"/>
          <a:stretch/>
        </p:blipFill>
        <p:spPr>
          <a:xfrm>
            <a:off x="0" y="3809880"/>
            <a:ext cx="2590920" cy="2344680"/>
          </a:xfrm>
          <a:prstGeom prst="rect">
            <a:avLst/>
          </a:prstGeom>
          <a:ln w="0">
            <a:noFill/>
          </a:ln>
        </p:spPr>
      </p:pic>
      <p:pic>
        <p:nvPicPr>
          <p:cNvPr id="47" name="HM00116_" descr=""/>
          <p:cNvPicPr/>
          <p:nvPr/>
        </p:nvPicPr>
        <p:blipFill>
          <a:blip r:embed="rId3"/>
          <a:stretch/>
        </p:blipFill>
        <p:spPr>
          <a:xfrm>
            <a:off x="2057400" y="2743200"/>
            <a:ext cx="2286000" cy="2068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438280" y="5486400"/>
            <a:ext cx="67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8120" y="3886200"/>
            <a:ext cx="6324480" cy="32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06510"/>
                </a:solidFill>
                <a:latin typeface="Arial"/>
              </a:rPr>
              <a:t>             </a:t>
            </a:r>
            <a:r>
              <a:rPr b="1" lang="de-DE" sz="3200" spc="-1" strike="noStrike">
                <a:solidFill>
                  <a:srgbClr val="f06510"/>
                </a:solidFill>
                <a:latin typeface="Arial"/>
              </a:rPr>
              <a:t>Einteilung der Gruppen</a:t>
            </a:r>
            <a:r>
              <a:rPr b="0" lang="de-DE" sz="2400" spc="-1" strike="noStrike">
                <a:solidFill>
                  <a:srgbClr val="f0651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0651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06510"/>
                </a:solidFill>
                <a:latin typeface="Arial"/>
              </a:rPr>
              <a:t>       </a:t>
            </a:r>
            <a:r>
              <a:rPr b="1" lang="de-DE" sz="2800" spc="-1" strike="noStrike">
                <a:solidFill>
                  <a:srgbClr val="f06510"/>
                </a:solidFill>
                <a:latin typeface="Arial"/>
              </a:rPr>
              <a:t>nach folgenden Kriterien: </a:t>
            </a:r>
            <a:br>
              <a:rPr sz="2800"/>
            </a:br>
            <a:r>
              <a:rPr b="1" lang="de-DE" sz="2800" spc="-1" strike="noStrike">
                <a:solidFill>
                  <a:srgbClr val="f06510"/>
                </a:solidFill>
                <a:latin typeface="Arial"/>
              </a:rPr>
              <a:t> </a:t>
            </a:r>
            <a:r>
              <a:rPr b="1" lang="de-DE" sz="3600" spc="-1" strike="noStrike">
                <a:solidFill>
                  <a:srgbClr val="ffff00"/>
                </a:solidFill>
                <a:latin typeface="Webdings"/>
                <a:ea typeface="Webdings"/>
              </a:rPr>
              <a:t></a:t>
            </a:r>
            <a:r>
              <a:rPr b="1" lang="de-DE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de-DE" sz="2800" spc="-1" strike="noStrike">
                <a:solidFill>
                  <a:srgbClr val="ffff00"/>
                </a:solidFill>
                <a:latin typeface="Arial"/>
              </a:rPr>
              <a:t>gemeinsamer Wohnort</a:t>
            </a:r>
            <a:r>
              <a:rPr b="1" lang="de-DE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r>
              <a:rPr b="1" lang="de-DE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de-DE" sz="3600" spc="-1" strike="noStrike">
                <a:solidFill>
                  <a:srgbClr val="ffff00"/>
                </a:solidFill>
                <a:latin typeface="Webdings"/>
                <a:ea typeface="Webdings"/>
              </a:rPr>
              <a:t></a:t>
            </a:r>
            <a:r>
              <a:rPr b="1" lang="de-DE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ffff00"/>
                </a:solidFill>
                <a:latin typeface="Arial"/>
              </a:rPr>
              <a:t>PC-Ausstattung</a:t>
            </a:r>
            <a:r>
              <a:rPr b="1" lang="de-DE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r>
              <a:rPr b="1" lang="de-DE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de-DE" sz="3600" spc="-1" strike="noStrike">
                <a:solidFill>
                  <a:srgbClr val="ffff00"/>
                </a:solidFill>
                <a:latin typeface="Webdings"/>
                <a:ea typeface="Webdings"/>
              </a:rPr>
              <a:t></a:t>
            </a:r>
            <a:r>
              <a:rPr b="1" lang="de-DE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ffff00"/>
                </a:solidFill>
                <a:latin typeface="Arial"/>
              </a:rPr>
              <a:t>Spezialwissen</a:t>
            </a:r>
            <a:r>
              <a:rPr b="0" lang="de-DE" sz="2400" spc="-1" strike="noStrike">
                <a:solidFill>
                  <a:srgbClr val="f0651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HM00116_" descr=""/>
          <p:cNvPicPr/>
          <p:nvPr/>
        </p:nvPicPr>
        <p:blipFill>
          <a:blip r:embed="rId4"/>
          <a:stretch/>
        </p:blipFill>
        <p:spPr>
          <a:xfrm>
            <a:off x="5791320" y="304920"/>
            <a:ext cx="2743200" cy="2344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rot="19718400">
            <a:off x="-985320" y="2160360"/>
            <a:ext cx="11117160" cy="169848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80880" y="228600"/>
            <a:ext cx="6934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rojekt:   Erstellen einer Broschüre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0" y="-360"/>
            <a:ext cx="9144000" cy="6095880"/>
          </a:xfrm>
          <a:prstGeom prst="line">
            <a:avLst/>
          </a:prstGeom>
          <a:ln w="44280">
            <a:solidFill>
              <a:srgbClr val="99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stellt von Schülerinnen und Schülern der Klassen 9b und 9c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38080" y="114300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cc"/>
                </a:solidFill>
                <a:latin typeface="Arial Black"/>
              </a:rPr>
              <a:t>Wichtig </a:t>
            </a:r>
            <a:br>
              <a:rPr sz="2800"/>
            </a:br>
            <a:r>
              <a:rPr b="1" lang="en-US" sz="2800" spc="-1" strike="noStrike">
                <a:solidFill>
                  <a:srgbClr val="33cccc"/>
                </a:solidFill>
                <a:latin typeface="Arial Black"/>
              </a:rPr>
              <a:t>Stoffsammlung - Brainsto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2819520"/>
            <a:ext cx="6629400" cy="3657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05120" y="3733920"/>
            <a:ext cx="44956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Berufsinformationszentrum (BI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Welche Berufe? -  Welche Firmen?  - Welche Schulen? - Wer weiß Bescheid?  - Das Internet ist wichtig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Bewerbung, Lebenslauf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Zeugnisse, Praktikum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33520" y="380880"/>
            <a:ext cx="8153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Projekt: Erstellen einer Broschür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2416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2416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0" y="2643120"/>
          <a:ext cx="990720" cy="42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43120"/>
                    <a:ext cx="990720" cy="4214880"/>
                  </a:xfrm>
                  <a:prstGeom prst="rect">
                    <a:avLst/>
                  </a:prstGeom>
                  <a:ln w="9360">
                    <a:solidFill>
                      <a:srgbClr val="008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914400" y="2895480"/>
            <a:ext cx="2286000" cy="3962520"/>
          </a:xfrm>
          <a:custGeom>
            <a:avLst/>
            <a:gdLst>
              <a:gd name="textAreaLeft" fmla="*/ 306000 w 2286000"/>
              <a:gd name="textAreaRight" fmla="*/ 1980000 w 2286000"/>
              <a:gd name="textAreaTop" fmla="*/ 693360 h 3962520"/>
              <a:gd name="textAreaBottom" fmla="*/ 2872800 h 3962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7620120" y="2590920"/>
          <a:ext cx="1523880" cy="426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0120" y="2590920"/>
                    <a:ext cx="152388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5791320" y="2895480"/>
            <a:ext cx="1904760" cy="3962520"/>
          </a:xfrm>
          <a:custGeom>
            <a:avLst/>
            <a:gdLst>
              <a:gd name="textAreaLeft" fmla="*/ 254880 w 1904760"/>
              <a:gd name="textAreaRight" fmla="*/ 1649880 w 1904760"/>
              <a:gd name="textAreaTop" fmla="*/ 693360 h 3962520"/>
              <a:gd name="textAreaBottom" fmla="*/ 287280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stellt von Schülerinnen und Schülern der Klassen 9b und 9c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533520" y="457200"/>
            <a:ext cx="8458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rojekt: Erstellen einer Broschür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6400800"/>
            <a:ext cx="8229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1676520"/>
            <a:ext cx="7848720" cy="4419360"/>
          </a:xfrm>
          <a:prstGeom prst="rect">
            <a:avLst/>
          </a:prstGeom>
          <a:noFill/>
          <a:ln w="38160">
            <a:solidFill>
              <a:srgbClr val="0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762120" y="1676520"/>
            <a:ext cx="7772400" cy="4419360"/>
          </a:xfrm>
          <a:prstGeom prst="line">
            <a:avLst/>
          </a:prstGeom>
          <a:ln w="57240">
            <a:solidFill>
              <a:srgbClr val="33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19520" y="11430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ff"/>
                </a:solidFill>
                <a:latin typeface="Times New Roman"/>
              </a:rPr>
              <a:t>Die Broschüre entste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16920" y="1905120"/>
            <a:ext cx="261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6510"/>
                </a:solidFill>
                <a:latin typeface="Times New Roman"/>
              </a:rPr>
              <a:t>DIN A4-Blatt qu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92160" y="2514600"/>
            <a:ext cx="13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6 Spal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0" y="4800600"/>
            <a:ext cx="38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Grafiken und Bilder einfü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09680" y="5410080"/>
            <a:ext cx="62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6510"/>
                </a:solidFill>
                <a:latin typeface="Times New Roman"/>
              </a:rPr>
              <a:t>Interview mit Beratungslehrerin und Schül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791320" y="4267080"/>
            <a:ext cx="25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Times New Roman"/>
              </a:rPr>
              <a:t>www-Adre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5120" y="31240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" name=""/>
          <p:cNvCxnSpPr>
            <a:stCxn id="71" idx="3"/>
            <a:endCxn id="74" idx="1"/>
          </p:cNvCxnSpPr>
          <p:nvPr/>
        </p:nvCxnSpPr>
        <p:spPr>
          <a:xfrm flipH="1">
            <a:off x="2208960" y="2133720"/>
            <a:ext cx="1329480" cy="3505680"/>
          </a:xfrm>
          <a:prstGeom prst="curvedConnector5">
            <a:avLst>
              <a:gd name="adj1" fmla="val -17199"/>
              <a:gd name="adj2" fmla="val 24997"/>
              <a:gd name="adj3" fmla="val -17199"/>
            </a:avLst>
          </a:prstGeom>
          <a:ln w="57240">
            <a:solidFill>
              <a:srgbClr val="f0651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2" idx="3"/>
            <a:endCxn id="73" idx="1"/>
          </p:cNvCxnSpPr>
          <p:nvPr/>
        </p:nvCxnSpPr>
        <p:spPr>
          <a:xfrm>
            <a:off x="2386080" y="2743200"/>
            <a:ext cx="2186640" cy="2286720"/>
          </a:xfrm>
          <a:prstGeom prst="curvedConnector5">
            <a:avLst>
              <a:gd name="adj1" fmla="val 49958"/>
              <a:gd name="adj2" fmla="val 49992"/>
              <a:gd name="adj3" fmla="val 49958"/>
            </a:avLst>
          </a:prstGeom>
          <a:ln w="57240">
            <a:solidFill>
              <a:srgbClr val="00cc99"/>
            </a:solidFill>
            <a:prstDash val="sysDot"/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6" idx="3"/>
            <a:endCxn id="75" idx="1"/>
          </p:cNvCxnSpPr>
          <p:nvPr/>
        </p:nvCxnSpPr>
        <p:spPr>
          <a:xfrm>
            <a:off x="2317320" y="3352320"/>
            <a:ext cx="3474360" cy="11437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57240">
            <a:solidFill>
              <a:srgbClr val="ffff00"/>
            </a:solidFill>
            <a:prstDash val="lgDashDot"/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stellt von Schülerinnen und Schülern der Klassen 9b und 9c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1523880"/>
            <a:ext cx="9144000" cy="5334120"/>
          </a:xfrm>
          <a:prstGeom prst="rect">
            <a:avLst/>
          </a:prstGeom>
          <a:noFill/>
          <a:ln w="5724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0" y="1599840"/>
            <a:ext cx="8991720" cy="525780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600200"/>
            <a:ext cx="9144000" cy="525780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00200" y="1523880"/>
            <a:ext cx="1295280" cy="1067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eam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it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52480" y="1676520"/>
            <a:ext cx="129564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eam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it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05120" y="1828800"/>
            <a:ext cx="129528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eam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it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57400" y="1981080"/>
            <a:ext cx="1295280" cy="1067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eam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it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09680" y="2133720"/>
            <a:ext cx="129564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eam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it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362320" y="2286000"/>
            <a:ext cx="129528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eam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it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14600" y="2438280"/>
            <a:ext cx="1295280" cy="1067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eam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it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666880" y="2590920"/>
            <a:ext cx="129564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eam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it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2743200"/>
            <a:ext cx="129528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eam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it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71800" y="2895480"/>
            <a:ext cx="1295280" cy="1067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eam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it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24080" y="3048120"/>
            <a:ext cx="129564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eam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it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76720" y="3200400"/>
            <a:ext cx="129528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eam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it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29000" y="3352680"/>
            <a:ext cx="1295280" cy="1067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eam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it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1280" y="3505320"/>
            <a:ext cx="129564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eam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it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33920" y="3657600"/>
            <a:ext cx="129528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eam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it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1295280" cy="1067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eam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it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3962520"/>
            <a:ext cx="129564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eam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it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91120" y="4114800"/>
            <a:ext cx="129528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eam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it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43400" y="4267080"/>
            <a:ext cx="1295280" cy="1067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eam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it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95680" y="4419720"/>
            <a:ext cx="129564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eam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it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48320" y="4572000"/>
            <a:ext cx="129528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eam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it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00600" y="4724280"/>
            <a:ext cx="1295280" cy="1067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eam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it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952880" y="4876920"/>
            <a:ext cx="129564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eam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it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05520" y="5029200"/>
            <a:ext cx="129528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eam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it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257800" y="5181480"/>
            <a:ext cx="1295280" cy="1067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eam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it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10080" y="5334120"/>
            <a:ext cx="129564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eam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it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62720" y="5486400"/>
            <a:ext cx="129528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eam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it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15000" y="5638680"/>
            <a:ext cx="1295280" cy="1067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eam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it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5791320"/>
            <a:ext cx="129564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eam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it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2819520"/>
            <a:ext cx="99072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Ände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2971800"/>
            <a:ext cx="99072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Ände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3124080"/>
            <a:ext cx="99036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Ände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3276720"/>
            <a:ext cx="99072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Ände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3429000"/>
            <a:ext cx="99072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Ände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90720" y="3581280"/>
            <a:ext cx="99036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Ände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3733920"/>
            <a:ext cx="99072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Ände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95280" y="3886200"/>
            <a:ext cx="99072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Ände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4038480"/>
            <a:ext cx="99036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Ände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00200" y="4191120"/>
            <a:ext cx="99072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Ände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52480" y="4343400"/>
            <a:ext cx="99072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Ände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05120" y="4495680"/>
            <a:ext cx="99036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Ände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57400" y="4648320"/>
            <a:ext cx="99072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Ände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09680" y="4800600"/>
            <a:ext cx="99072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Ände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4952880"/>
            <a:ext cx="99036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Ände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5105520"/>
            <a:ext cx="99072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Ände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66880" y="5257800"/>
            <a:ext cx="99072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Ände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19520" y="5410080"/>
            <a:ext cx="99036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Ände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71800" y="5562720"/>
            <a:ext cx="99072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Ände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24080" y="5715000"/>
            <a:ext cx="99072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Ände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76720" y="5867280"/>
            <a:ext cx="99036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Ände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52880" y="1600200"/>
            <a:ext cx="1447920" cy="9907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esse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05520" y="1752480"/>
            <a:ext cx="1447560" cy="9907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esse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57800" y="1905120"/>
            <a:ext cx="1447920" cy="990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esse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10080" y="2057400"/>
            <a:ext cx="1447920" cy="9907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esse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62720" y="2209680"/>
            <a:ext cx="1447560" cy="9907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esse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2362320"/>
            <a:ext cx="1447920" cy="990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esse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2514600"/>
            <a:ext cx="1447920" cy="9907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esse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19920" y="2666880"/>
            <a:ext cx="1447560" cy="9907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esse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2819520"/>
            <a:ext cx="1447920" cy="990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esse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24480" y="2971800"/>
            <a:ext cx="1447920" cy="9907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esse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3124080"/>
            <a:ext cx="1447560" cy="9907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esse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629400" y="3276720"/>
            <a:ext cx="1447920" cy="990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esse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81680" y="3429000"/>
            <a:ext cx="1447920" cy="9907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esse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934320" y="3581280"/>
            <a:ext cx="1447560" cy="9907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esse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86600" y="3733920"/>
            <a:ext cx="1447920" cy="990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esse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238880" y="3886200"/>
            <a:ext cx="1447920" cy="9907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esse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91520" y="4038480"/>
            <a:ext cx="1447560" cy="9907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esse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43800" y="4191120"/>
            <a:ext cx="1447920" cy="990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esse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696080" y="4343400"/>
            <a:ext cx="1447920" cy="9907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esse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85800" y="228600"/>
            <a:ext cx="8458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Projekt: Erstellen einer Broschür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99072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3300"/>
                </a:solidFill>
                <a:latin typeface="Arial"/>
              </a:rPr>
              <a:t>Briefing: Jede Woche im Rahmen des Tv-Unterric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stellt von Schülerinnen und Schülern der Klassen 9b und 9c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762120" y="380880"/>
            <a:ext cx="76197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rojekt: Erstellen einer Broschüre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"/>
          <p:cNvSpPr/>
          <p:nvPr/>
        </p:nvSpPr>
        <p:spPr>
          <a:xfrm>
            <a:off x="412416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2416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12416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2416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2416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2416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41037[1]" descr=""/>
          <p:cNvPicPr/>
          <p:nvPr/>
        </p:nvPicPr>
        <p:blipFill>
          <a:blip r:embed="rId3"/>
          <a:stretch/>
        </p:blipFill>
        <p:spPr>
          <a:xfrm>
            <a:off x="6629400" y="4114800"/>
            <a:ext cx="895320" cy="8953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12416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j0241037[1]" descr=""/>
          <p:cNvPicPr/>
          <p:nvPr/>
        </p:nvPicPr>
        <p:blipFill>
          <a:blip r:embed="rId4"/>
          <a:stretch/>
        </p:blipFill>
        <p:spPr>
          <a:xfrm>
            <a:off x="7696080" y="5257800"/>
            <a:ext cx="895320" cy="8953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12416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j0241037[1]" descr=""/>
          <p:cNvPicPr/>
          <p:nvPr/>
        </p:nvPicPr>
        <p:blipFill>
          <a:blip r:embed="rId5"/>
          <a:stretch/>
        </p:blipFill>
        <p:spPr>
          <a:xfrm>
            <a:off x="7772400" y="2286000"/>
            <a:ext cx="895320" cy="8953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438280" y="1905120"/>
            <a:ext cx="4114800" cy="1218960"/>
          </a:xfrm>
          <a:custGeom>
            <a:avLst/>
            <a:gdLst>
              <a:gd name="textAreaLeft" fmla="*/ 904680 w 4114800"/>
              <a:gd name="textAreaRight" fmla="*/ 3210120 w 4114800"/>
              <a:gd name="textAreaTop" fmla="*/ 267840 h 1218960"/>
              <a:gd name="textAreaBottom" fmla="*/ 9511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ag der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Entscheidung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m Plenu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9880" y="13716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 Black"/>
              </a:rPr>
              <a:t>01-11-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j0241037[1]" descr=""/>
          <p:cNvPicPr/>
          <p:nvPr/>
        </p:nvPicPr>
        <p:blipFill>
          <a:blip r:embed="rId6"/>
          <a:stretch/>
        </p:blipFill>
        <p:spPr>
          <a:xfrm>
            <a:off x="5638680" y="525780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169" name="j0241037[1]" descr=""/>
          <p:cNvPicPr/>
          <p:nvPr/>
        </p:nvPicPr>
        <p:blipFill>
          <a:blip r:embed="rId7"/>
          <a:stretch/>
        </p:blipFill>
        <p:spPr>
          <a:xfrm>
            <a:off x="4952880" y="426708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170" name="j0241037[1]" descr=""/>
          <p:cNvPicPr/>
          <p:nvPr/>
        </p:nvPicPr>
        <p:blipFill>
          <a:blip r:embed="rId8"/>
          <a:stretch/>
        </p:blipFill>
        <p:spPr>
          <a:xfrm>
            <a:off x="3048120" y="464832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171" name="j0241037[1]" descr=""/>
          <p:cNvPicPr/>
          <p:nvPr/>
        </p:nvPicPr>
        <p:blipFill>
          <a:blip r:embed="rId9"/>
          <a:stretch/>
        </p:blipFill>
        <p:spPr>
          <a:xfrm>
            <a:off x="2895480" y="335268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172" name="j0241037[1]" descr=""/>
          <p:cNvPicPr/>
          <p:nvPr/>
        </p:nvPicPr>
        <p:blipFill>
          <a:blip r:embed="rId10"/>
          <a:stretch/>
        </p:blipFill>
        <p:spPr>
          <a:xfrm>
            <a:off x="228600" y="487692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173" name="j0241037[1]" descr=""/>
          <p:cNvPicPr/>
          <p:nvPr/>
        </p:nvPicPr>
        <p:blipFill>
          <a:blip r:embed="rId11"/>
          <a:stretch/>
        </p:blipFill>
        <p:spPr>
          <a:xfrm>
            <a:off x="685800" y="327672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174" name="j0241037[1]" descr=""/>
          <p:cNvPicPr/>
          <p:nvPr/>
        </p:nvPicPr>
        <p:blipFill>
          <a:blip r:embed="rId12"/>
          <a:stretch/>
        </p:blipFill>
        <p:spPr>
          <a:xfrm>
            <a:off x="228600" y="175248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175" name="j0241037[1]" descr=""/>
          <p:cNvPicPr/>
          <p:nvPr/>
        </p:nvPicPr>
        <p:blipFill>
          <a:blip r:embed="rId13"/>
          <a:stretch/>
        </p:blipFill>
        <p:spPr>
          <a:xfrm>
            <a:off x="6705720" y="579132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176" name="j0241037[1]" descr=""/>
          <p:cNvPicPr/>
          <p:nvPr/>
        </p:nvPicPr>
        <p:blipFill>
          <a:blip r:embed="rId14"/>
          <a:stretch/>
        </p:blipFill>
        <p:spPr>
          <a:xfrm>
            <a:off x="1752480" y="213372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177" name="j0241037[1]" descr=""/>
          <p:cNvPicPr/>
          <p:nvPr/>
        </p:nvPicPr>
        <p:blipFill>
          <a:blip r:embed="rId15"/>
          <a:stretch/>
        </p:blipFill>
        <p:spPr>
          <a:xfrm>
            <a:off x="2590920" y="579132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178" name="j0241037[1]" descr=""/>
          <p:cNvPicPr/>
          <p:nvPr/>
        </p:nvPicPr>
        <p:blipFill>
          <a:blip r:embed="rId16"/>
          <a:stretch/>
        </p:blipFill>
        <p:spPr>
          <a:xfrm>
            <a:off x="7924680" y="388620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179" name="j0241037[1]" descr=""/>
          <p:cNvPicPr/>
          <p:nvPr/>
        </p:nvPicPr>
        <p:blipFill>
          <a:blip r:embed="rId17"/>
          <a:stretch/>
        </p:blipFill>
        <p:spPr>
          <a:xfrm>
            <a:off x="6400800" y="274320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180" name="j0241037[1]" descr=""/>
          <p:cNvPicPr/>
          <p:nvPr/>
        </p:nvPicPr>
        <p:blipFill>
          <a:blip r:embed="rId18"/>
          <a:stretch/>
        </p:blipFill>
        <p:spPr>
          <a:xfrm>
            <a:off x="1676520" y="411480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181" name="j0241037[1]" descr=""/>
          <p:cNvPicPr/>
          <p:nvPr/>
        </p:nvPicPr>
        <p:blipFill>
          <a:blip r:embed="rId19"/>
          <a:stretch/>
        </p:blipFill>
        <p:spPr>
          <a:xfrm>
            <a:off x="1143000" y="5791320"/>
            <a:ext cx="895320" cy="8953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505320" y="4800600"/>
            <a:ext cx="2057400" cy="2057400"/>
          </a:xfrm>
          <a:prstGeom prst="triangle">
            <a:avLst>
              <a:gd name="adj" fmla="val 5138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o.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stellt von Schülerinnen und Schülern der Klassen 9b und 9c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7162920" y="3200400"/>
          <a:ext cx="129528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3200400"/>
                    <a:ext cx="12952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838080" y="3405240"/>
          <a:ext cx="1076400" cy="3452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3405240"/>
                    <a:ext cx="1076400" cy="3452760"/>
                  </a:xfrm>
                  <a:prstGeom prst="rect">
                    <a:avLst/>
                  </a:prstGeom>
                  <a:ln w="9360">
                    <a:solidFill>
                      <a:srgbClr val="008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87" name=""/>
          <p:cNvSpPr txBox="1"/>
          <p:nvPr/>
        </p:nvSpPr>
        <p:spPr>
          <a:xfrm>
            <a:off x="685800" y="0"/>
            <a:ext cx="8153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Projekt: Erstellen einer Broschür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88" name="HM00116_" descr=""/>
          <p:cNvPicPr/>
          <p:nvPr/>
        </p:nvPicPr>
        <p:blipFill>
          <a:blip r:embed="rId5"/>
          <a:stretch/>
        </p:blipFill>
        <p:spPr>
          <a:xfrm>
            <a:off x="3429000" y="4495680"/>
            <a:ext cx="1752480" cy="1587600"/>
          </a:xfrm>
          <a:prstGeom prst="rect">
            <a:avLst/>
          </a:prstGeom>
          <a:ln w="0">
            <a:noFill/>
          </a:ln>
        </p:spPr>
      </p:pic>
      <p:pic>
        <p:nvPicPr>
          <p:cNvPr id="189" name="HM00116_" descr=""/>
          <p:cNvPicPr/>
          <p:nvPr/>
        </p:nvPicPr>
        <p:blipFill>
          <a:blip r:embed="rId6"/>
          <a:stretch/>
        </p:blipFill>
        <p:spPr>
          <a:xfrm>
            <a:off x="4038480" y="3962520"/>
            <a:ext cx="1143000" cy="1035000"/>
          </a:xfrm>
          <a:prstGeom prst="rect">
            <a:avLst/>
          </a:prstGeom>
          <a:ln w="0">
            <a:noFill/>
          </a:ln>
        </p:spPr>
      </p:pic>
      <p:pic>
        <p:nvPicPr>
          <p:cNvPr id="190" name="HM00116_" descr=""/>
          <p:cNvPicPr/>
          <p:nvPr/>
        </p:nvPicPr>
        <p:blipFill>
          <a:blip r:embed="rId7"/>
          <a:stretch/>
        </p:blipFill>
        <p:spPr>
          <a:xfrm>
            <a:off x="4191120" y="4343400"/>
            <a:ext cx="1143000" cy="1035000"/>
          </a:xfrm>
          <a:prstGeom prst="rect">
            <a:avLst/>
          </a:prstGeom>
          <a:ln w="0">
            <a:noFill/>
          </a:ln>
        </p:spPr>
      </p:pic>
      <p:pic>
        <p:nvPicPr>
          <p:cNvPr id="191" name="HM00116_" descr=""/>
          <p:cNvPicPr/>
          <p:nvPr/>
        </p:nvPicPr>
        <p:blipFill>
          <a:blip r:embed="rId8"/>
          <a:stretch/>
        </p:blipFill>
        <p:spPr>
          <a:xfrm>
            <a:off x="3429000" y="4267080"/>
            <a:ext cx="1143000" cy="1035000"/>
          </a:xfrm>
          <a:prstGeom prst="rect">
            <a:avLst/>
          </a:prstGeom>
          <a:ln w="0">
            <a:noFill/>
          </a:ln>
        </p:spPr>
      </p:pic>
      <p:pic>
        <p:nvPicPr>
          <p:cNvPr id="192" name="HM00116_" descr=""/>
          <p:cNvPicPr/>
          <p:nvPr/>
        </p:nvPicPr>
        <p:blipFill>
          <a:blip r:embed="rId9"/>
          <a:stretch/>
        </p:blipFill>
        <p:spPr>
          <a:xfrm>
            <a:off x="4648320" y="4800600"/>
            <a:ext cx="1143000" cy="1035000"/>
          </a:xfrm>
          <a:prstGeom prst="rect">
            <a:avLst/>
          </a:prstGeom>
          <a:ln w="0">
            <a:noFill/>
          </a:ln>
        </p:spPr>
      </p:pic>
      <p:pic>
        <p:nvPicPr>
          <p:cNvPr id="193" name="HM00116_" descr=""/>
          <p:cNvPicPr/>
          <p:nvPr/>
        </p:nvPicPr>
        <p:blipFill>
          <a:blip r:embed="rId10"/>
          <a:stretch/>
        </p:blipFill>
        <p:spPr>
          <a:xfrm>
            <a:off x="3429000" y="4191120"/>
            <a:ext cx="1143000" cy="1035000"/>
          </a:xfrm>
          <a:prstGeom prst="rect">
            <a:avLst/>
          </a:prstGeom>
          <a:ln w="0">
            <a:noFill/>
          </a:ln>
        </p:spPr>
      </p:pic>
      <p:pic>
        <p:nvPicPr>
          <p:cNvPr id="194" name="HM00116_" descr=""/>
          <p:cNvPicPr/>
          <p:nvPr/>
        </p:nvPicPr>
        <p:blipFill>
          <a:blip r:embed="rId11"/>
          <a:stretch/>
        </p:blipFill>
        <p:spPr>
          <a:xfrm>
            <a:off x="3505320" y="4952880"/>
            <a:ext cx="1143000" cy="1035000"/>
          </a:xfrm>
          <a:prstGeom prst="rect">
            <a:avLst/>
          </a:prstGeom>
          <a:ln w="0">
            <a:noFill/>
          </a:ln>
        </p:spPr>
      </p:pic>
      <p:pic>
        <p:nvPicPr>
          <p:cNvPr id="195" name="HM00116_" descr=""/>
          <p:cNvPicPr/>
          <p:nvPr/>
        </p:nvPicPr>
        <p:blipFill>
          <a:blip r:embed="rId12"/>
          <a:stretch/>
        </p:blipFill>
        <p:spPr>
          <a:xfrm>
            <a:off x="3809880" y="4114800"/>
            <a:ext cx="1143000" cy="1035000"/>
          </a:xfrm>
          <a:prstGeom prst="rect">
            <a:avLst/>
          </a:prstGeom>
          <a:ln w="0">
            <a:noFill/>
          </a:ln>
        </p:spPr>
      </p:pic>
      <p:pic>
        <p:nvPicPr>
          <p:cNvPr id="196" name="HM00116_" descr=""/>
          <p:cNvPicPr/>
          <p:nvPr/>
        </p:nvPicPr>
        <p:blipFill>
          <a:blip r:embed="rId13"/>
          <a:stretch/>
        </p:blipFill>
        <p:spPr>
          <a:xfrm>
            <a:off x="4495680" y="4495680"/>
            <a:ext cx="1143000" cy="1035000"/>
          </a:xfrm>
          <a:prstGeom prst="rect">
            <a:avLst/>
          </a:prstGeom>
          <a:ln w="0">
            <a:noFill/>
          </a:ln>
        </p:spPr>
      </p:pic>
      <p:pic>
        <p:nvPicPr>
          <p:cNvPr id="197" name="HM00116_" descr=""/>
          <p:cNvPicPr/>
          <p:nvPr/>
        </p:nvPicPr>
        <p:blipFill>
          <a:blip r:embed="rId14"/>
          <a:stretch/>
        </p:blipFill>
        <p:spPr>
          <a:xfrm>
            <a:off x="4114800" y="5257800"/>
            <a:ext cx="1143000" cy="1035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2895480" y="3505320"/>
            <a:ext cx="3505320" cy="3047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Circle">
              <a:avLst>
                <a:gd name="adj" fmla="val 113804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Arial"/>
              </a:rPr>
              <a:t>Kein  Treten  auf  der  Stelle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Arial"/>
              <a:ea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5029200"/>
            <a:ext cx="2590920" cy="4419720"/>
          </a:xfrm>
          <a:prstGeom prst="hexagon">
            <a:avLst>
              <a:gd name="adj" fmla="val 25000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876920" y="990720"/>
            <a:ext cx="3962160" cy="1981080"/>
          </a:xfrm>
          <a:prstGeom prst="wedgeEllipseCallout">
            <a:avLst>
              <a:gd name="adj1" fmla="val 26203"/>
              <a:gd name="adj2" fmla="val 99199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rtig!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ieren S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ch jetzt übe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ule und  Ber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HM00116_" descr=""/>
          <p:cNvPicPr/>
          <p:nvPr/>
        </p:nvPicPr>
        <p:blipFill>
          <a:blip r:embed="rId15"/>
          <a:stretch/>
        </p:blipFill>
        <p:spPr>
          <a:xfrm>
            <a:off x="4648320" y="4648320"/>
            <a:ext cx="1143000" cy="1035000"/>
          </a:xfrm>
          <a:prstGeom prst="rect">
            <a:avLst/>
          </a:prstGeom>
          <a:ln w="0">
            <a:noFill/>
          </a:ln>
        </p:spPr>
      </p:pic>
      <p:pic>
        <p:nvPicPr>
          <p:cNvPr id="202" name="HM00116_" descr=""/>
          <p:cNvPicPr/>
          <p:nvPr/>
        </p:nvPicPr>
        <p:blipFill>
          <a:blip r:embed="rId16"/>
          <a:stretch/>
        </p:blipFill>
        <p:spPr>
          <a:xfrm>
            <a:off x="4114800" y="4572000"/>
            <a:ext cx="1143000" cy="1035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52280" y="1066680"/>
            <a:ext cx="3733920" cy="2210040"/>
          </a:xfrm>
          <a:prstGeom prst="wedgeEllipseCallout">
            <a:avLst>
              <a:gd name="adj1" fmla="val -17856"/>
              <a:gd name="adj2" fmla="val 68388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ine Broschüre 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tstan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amarbeit 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r Schlüs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um Erfol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stellt von Schülerinnen und Schülern der Klassen 9b und 9c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962520"/>
                <a:gridCol w="380988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5" name="Seite%201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2781360" cy="4986360"/>
          </a:xfrm>
          <a:prstGeom prst="rect">
            <a:avLst/>
          </a:prstGeom>
          <a:ln w="0">
            <a:noFill/>
          </a:ln>
        </p:spPr>
      </p:pic>
      <p:pic>
        <p:nvPicPr>
          <p:cNvPr id="206" name="Seite%202" descr=""/>
          <p:cNvPicPr/>
          <p:nvPr/>
        </p:nvPicPr>
        <p:blipFill>
          <a:blip r:embed="rId2"/>
          <a:stretch/>
        </p:blipFill>
        <p:spPr>
          <a:xfrm>
            <a:off x="4952880" y="1447920"/>
            <a:ext cx="2819520" cy="5029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stellt von Schülerinnen und Schülern der Klassen 9b und 9c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8" name="Seite%204" descr=""/>
          <p:cNvPicPr/>
          <p:nvPr/>
        </p:nvPicPr>
        <p:blipFill>
          <a:blip r:embed="rId1"/>
          <a:stretch/>
        </p:blipFill>
        <p:spPr>
          <a:xfrm>
            <a:off x="5105520" y="1447920"/>
            <a:ext cx="2971800" cy="5410080"/>
          </a:xfrm>
          <a:prstGeom prst="rect">
            <a:avLst/>
          </a:prstGeom>
          <a:ln w="0">
            <a:noFill/>
          </a:ln>
        </p:spPr>
      </p:pic>
      <p:pic>
        <p:nvPicPr>
          <p:cNvPr id="209" name="Seite%203" descr=""/>
          <p:cNvPicPr/>
          <p:nvPr/>
        </p:nvPicPr>
        <p:blipFill>
          <a:blip r:embed="rId2"/>
          <a:stretch/>
        </p:blipFill>
        <p:spPr>
          <a:xfrm>
            <a:off x="990720" y="1447920"/>
            <a:ext cx="3047760" cy="5410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stellt von Schülerinnen und Schülern der Klassen 9b und 9c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6T07:33:05Z</dcterms:created>
  <dc:creator>Schüler-PC</dc:creator>
  <dc:description/>
  <dc:language>en-US</dc:language>
  <cp:lastModifiedBy>RSM</cp:lastModifiedBy>
  <dcterms:modified xsi:type="dcterms:W3CDTF">2001-12-01T17:55:48Z</dcterms:modified>
  <cp:revision>22</cp:revision>
  <dc:subject/>
  <dc:title>Projekt: Erstellen einer Broschüre</dc:title>
</cp:coreProperties>
</file>