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625-1D14-4271-8DEE-60CA7C28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B64-1F05-4754-8F1D-3677391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D93-B62A-4853-8653-F34A550A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466-3D4C-428B-A757-D2276B36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02E-37E9-4281-9947-5CF5A80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CA2-78CC-4246-9F46-6D01F21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ED6-6342-4DDD-8A18-A1EB019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66B-20AD-4DB6-BD3E-7017CDC1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893-4570-4A52-AD67-29E8BC12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506-1661-4B84-AC62-08016CD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AF2-47DB-45E0-A421-0F2878E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7B3-0D0E-4401-907F-3E48643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7B2-66EC-4867-9E5D-B347DAFE7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8153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Thema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rufliche Orientierung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Was kommt nach dem Realschulabschlus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cc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formationen üb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- Ausbildungsberufe od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- weiterführende Sch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Broschüre wird während Informations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veranstaltungen zur Berufsorientierung de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interessierten Teilnehmern an die Hand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gegeben und ist Schülerinnen und Schüler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der 9. Jahrgangsstufe ein kleines Nachschlage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werk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2514600"/>
            <a:ext cx="2895480" cy="167652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523880"/>
          <a:ext cx="7772400" cy="5105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Seite%20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3240" cy="5257800"/>
          </a:xfrm>
          <a:prstGeom prst="rect">
            <a:avLst/>
          </a:prstGeom>
          <a:ln w="0">
            <a:noFill/>
          </a:ln>
        </p:spPr>
      </p:pic>
      <p:pic>
        <p:nvPicPr>
          <p:cNvPr id="212" name="Seite%205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048120" cy="52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0880" y="30492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295280"/>
            <a:ext cx="8610480" cy="533520"/>
          </a:xfrm>
          <a:prstGeom prst="flowChartPredefinedProcess">
            <a:avLst/>
          </a:prstGeom>
          <a:noFill/>
          <a:ln w="5724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s Team bedankt sich für Ihre Aufmerksam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057400"/>
            <a:ext cx="853452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gruppe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ernadette Betzenbichler,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ianca Groß, Verena Forster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lfie Kaltenegger, Andrea Krieger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Franziska Legl, Ulrike Moch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Julia Omasmeier, Jadranka Pavlovic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Michaela Wutz, Carina Zillner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leitung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0" lang="de-DE" sz="2400" spc="-1" strike="noStrike">
                <a:solidFill>
                  <a:srgbClr val="d8e20e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Thomas Haumüller (Deutsch)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rnst Mahr (Deutsch)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oris Schmidt (Textverarbeitu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Schulleitung: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ieter Göllnitz, Rektor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Alois Einhauser, Konre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M00116_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523880"/>
            <a:ext cx="38098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in Projekt entste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ele Schritte werden notwendi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M00116_" descr=""/>
          <p:cNvPicPr/>
          <p:nvPr/>
        </p:nvPicPr>
        <p:blipFill>
          <a:blip r:embed="rId2"/>
          <a:stretch/>
        </p:blipFill>
        <p:spPr>
          <a:xfrm>
            <a:off x="0" y="3809880"/>
            <a:ext cx="259092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HM00116_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2286000" cy="206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54864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886200"/>
            <a:ext cx="63244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             </a:t>
            </a: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Einteilung der Grupp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      </a:t>
            </a: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nach folgenden Kriterien: </a:t>
            </a:r>
            <a:br>
              <a:rPr sz="2800"/>
            </a:b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gemeinsamer Wohnort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PC-Ausstattung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Spezialwiss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M00116_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9718400">
            <a:off x="-985320" y="2160360"/>
            <a:ext cx="11117160" cy="1698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2286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 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0" y="-360"/>
            <a:ext cx="9144000" cy="6095880"/>
          </a:xfrm>
          <a:prstGeom prst="line">
            <a:avLst/>
          </a:prstGeom>
          <a:ln w="4428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143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Wichtig 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Stoffsammlung - Brainst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819520"/>
            <a:ext cx="6629400" cy="3657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733920"/>
            <a:ext cx="4495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rufsinformationszentrum (BI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Welche Berufe? -  Welche Firmen?  - Welche Schulen? - Wer weiß Bescheid?  - Das Internet ist wichti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werbung, Lebenslau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Zeugnisse, Praktiku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38088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43120"/>
          <a:ext cx="99072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3120"/>
                    <a:ext cx="990720" cy="421488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2895480"/>
            <a:ext cx="2286000" cy="3962520"/>
          </a:xfrm>
          <a:custGeom>
            <a:avLst/>
            <a:gdLst>
              <a:gd name="textAreaLeft" fmla="*/ 306000 w 2286000"/>
              <a:gd name="textAreaRight" fmla="*/ 1980000 w 228600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0120" y="2590920"/>
          <a:ext cx="15238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590920"/>
                    <a:ext cx="1523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91320" y="2895480"/>
            <a:ext cx="1904760" cy="396252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4572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6400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38160">
            <a:solidFill>
              <a:srgbClr val="0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62120" y="1676520"/>
            <a:ext cx="7772400" cy="441936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Die Broschüre ent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6920" y="1905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DIN A4-Blatt 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25146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6 Sp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800600"/>
            <a:ext cx="38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Grafiken und Bilder ei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41008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Interview mit Beratungslehrerin und Schü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426708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www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5120" y="3124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1" idx="3"/>
            <a:endCxn id="74" idx="1"/>
          </p:cNvCxnSpPr>
          <p:nvPr/>
        </p:nvCxnSpPr>
        <p:spPr>
          <a:xfrm flipH="1">
            <a:off x="2208960" y="2133720"/>
            <a:ext cx="1329480" cy="3505680"/>
          </a:xfrm>
          <a:prstGeom prst="curvedConnector5">
            <a:avLst>
              <a:gd name="adj1" fmla="val -17199"/>
              <a:gd name="adj2" fmla="val 24997"/>
              <a:gd name="adj3" fmla="val -17199"/>
            </a:avLst>
          </a:prstGeom>
          <a:ln w="57240">
            <a:solidFill>
              <a:srgbClr val="f0651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2" idx="3"/>
            <a:endCxn id="73" idx="1"/>
          </p:cNvCxnSpPr>
          <p:nvPr/>
        </p:nvCxnSpPr>
        <p:spPr>
          <a:xfrm>
            <a:off x="2386080" y="2743200"/>
            <a:ext cx="2186640" cy="2286720"/>
          </a:xfrm>
          <a:prstGeom prst="curvedConnector5">
            <a:avLst>
              <a:gd name="adj1" fmla="val 49958"/>
              <a:gd name="adj2" fmla="val 49992"/>
              <a:gd name="adj3" fmla="val 49958"/>
            </a:avLst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6" idx="3"/>
            <a:endCxn id="75" idx="1"/>
          </p:cNvCxnSpPr>
          <p:nvPr/>
        </p:nvCxnSpPr>
        <p:spPr>
          <a:xfrm>
            <a:off x="2317320" y="3352320"/>
            <a:ext cx="347436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ff00"/>
            </a:solidFill>
            <a:prstDash val="lgDashDot"/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572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1599840"/>
            <a:ext cx="899172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3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676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828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81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286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438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590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743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895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048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200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352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505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6576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962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4114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267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419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724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876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029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181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334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486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638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791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24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76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429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581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7339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8862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40384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3434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956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6483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8006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9528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105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257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5410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562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5715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867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00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752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05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2057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2096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3623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5146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6668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8195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9718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31240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2767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5812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7339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3886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038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191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6080" y="4343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2286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Briefing: Jede Woche im Rahmen des Tv-Unterri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80880"/>
            <a:ext cx="761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41037[1]" descr=""/>
          <p:cNvPicPr/>
          <p:nvPr/>
        </p:nvPicPr>
        <p:blipFill>
          <a:blip r:embed="rId3"/>
          <a:stretch/>
        </p:blipFill>
        <p:spPr>
          <a:xfrm>
            <a:off x="6629400" y="4114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241037[1]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j0241037[1]" descr=""/>
          <p:cNvPicPr/>
          <p:nvPr/>
        </p:nvPicPr>
        <p:blipFill>
          <a:blip r:embed="rId5"/>
          <a:stretch/>
        </p:blipFill>
        <p:spPr>
          <a:xfrm>
            <a:off x="7772400" y="2286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38280" y="1905120"/>
            <a:ext cx="4114800" cy="121896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67840 h 1218960"/>
              <a:gd name="textAreaBottom" fmla="*/ 951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ag d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scheidung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 Ple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371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01-11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j0241037[1]" descr=""/>
          <p:cNvPicPr/>
          <p:nvPr/>
        </p:nvPicPr>
        <p:blipFill>
          <a:blip r:embed="rId6"/>
          <a:stretch/>
        </p:blipFill>
        <p:spPr>
          <a:xfrm>
            <a:off x="5638680" y="5257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69" name="j0241037[1]" descr=""/>
          <p:cNvPicPr/>
          <p:nvPr/>
        </p:nvPicPr>
        <p:blipFill>
          <a:blip r:embed="rId7"/>
          <a:stretch/>
        </p:blipFill>
        <p:spPr>
          <a:xfrm>
            <a:off x="4952880" y="42670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0" name="j0241037[1]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1" name="j0241037[1]" descr=""/>
          <p:cNvPicPr/>
          <p:nvPr/>
        </p:nvPicPr>
        <p:blipFill>
          <a:blip r:embed="rId9"/>
          <a:stretch/>
        </p:blipFill>
        <p:spPr>
          <a:xfrm>
            <a:off x="2895480" y="335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2" name="j0241037[1]" descr=""/>
          <p:cNvPicPr/>
          <p:nvPr/>
        </p:nvPicPr>
        <p:blipFill>
          <a:blip r:embed="rId10"/>
          <a:stretch/>
        </p:blipFill>
        <p:spPr>
          <a:xfrm>
            <a:off x="228600" y="48769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3" name="j0241037[1]" descr=""/>
          <p:cNvPicPr/>
          <p:nvPr/>
        </p:nvPicPr>
        <p:blipFill>
          <a:blip r:embed="rId11"/>
          <a:stretch/>
        </p:blipFill>
        <p:spPr>
          <a:xfrm>
            <a:off x="685800" y="3276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4" name="j0241037[1]" descr=""/>
          <p:cNvPicPr/>
          <p:nvPr/>
        </p:nvPicPr>
        <p:blipFill>
          <a:blip r:embed="rId12"/>
          <a:stretch/>
        </p:blipFill>
        <p:spPr>
          <a:xfrm>
            <a:off x="228600" y="17524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5" name="j0241037[1]" descr=""/>
          <p:cNvPicPr/>
          <p:nvPr/>
        </p:nvPicPr>
        <p:blipFill>
          <a:blip r:embed="rId13"/>
          <a:stretch/>
        </p:blipFill>
        <p:spPr>
          <a:xfrm>
            <a:off x="67057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j0241037[1]" descr=""/>
          <p:cNvPicPr/>
          <p:nvPr/>
        </p:nvPicPr>
        <p:blipFill>
          <a:blip r:embed="rId14"/>
          <a:stretch/>
        </p:blipFill>
        <p:spPr>
          <a:xfrm>
            <a:off x="1752480" y="2133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j0241037[1]" descr=""/>
          <p:cNvPicPr/>
          <p:nvPr/>
        </p:nvPicPr>
        <p:blipFill>
          <a:blip r:embed="rId15"/>
          <a:stretch/>
        </p:blipFill>
        <p:spPr>
          <a:xfrm>
            <a:off x="25909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j0241037[1]" descr=""/>
          <p:cNvPicPr/>
          <p:nvPr/>
        </p:nvPicPr>
        <p:blipFill>
          <a:blip r:embed="rId16"/>
          <a:stretch/>
        </p:blipFill>
        <p:spPr>
          <a:xfrm>
            <a:off x="7924680" y="3886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j0241037[1]" descr=""/>
          <p:cNvPicPr/>
          <p:nvPr/>
        </p:nvPicPr>
        <p:blipFill>
          <a:blip r:embed="rId17"/>
          <a:stretch/>
        </p:blipFill>
        <p:spPr>
          <a:xfrm>
            <a:off x="6400800" y="2743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0" name="j0241037[1]" descr=""/>
          <p:cNvPicPr/>
          <p:nvPr/>
        </p:nvPicPr>
        <p:blipFill>
          <a:blip r:embed="rId18"/>
          <a:stretch/>
        </p:blipFill>
        <p:spPr>
          <a:xfrm>
            <a:off x="1676520" y="4114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1" name="j0241037[1]" descr=""/>
          <p:cNvPicPr/>
          <p:nvPr/>
        </p:nvPicPr>
        <p:blipFill>
          <a:blip r:embed="rId19"/>
          <a:stretch/>
        </p:blipFill>
        <p:spPr>
          <a:xfrm>
            <a:off x="1143000" y="579132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05320" y="4800600"/>
            <a:ext cx="2057400" cy="2057400"/>
          </a:xfrm>
          <a:prstGeom prst="triangle">
            <a:avLst>
              <a:gd name="adj" fmla="val 513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7162920" y="3200400"/>
          <a:ext cx="129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00400"/>
                    <a:ext cx="129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38080" y="3405240"/>
          <a:ext cx="107640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405240"/>
                    <a:ext cx="1076400" cy="345276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 txBox="1"/>
          <p:nvPr/>
        </p:nvSpPr>
        <p:spPr>
          <a:xfrm>
            <a:off x="685800" y="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HM00116_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89" name="HM00116_" descr=""/>
          <p:cNvPicPr/>
          <p:nvPr/>
        </p:nvPicPr>
        <p:blipFill>
          <a:blip r:embed="rId6"/>
          <a:stretch/>
        </p:blipFill>
        <p:spPr>
          <a:xfrm>
            <a:off x="4038480" y="39625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0" name="HM00116_" descr=""/>
          <p:cNvPicPr/>
          <p:nvPr/>
        </p:nvPicPr>
        <p:blipFill>
          <a:blip r:embed="rId7"/>
          <a:stretch/>
        </p:blipFill>
        <p:spPr>
          <a:xfrm>
            <a:off x="4191120" y="43434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1" name="HM00116_" descr=""/>
          <p:cNvPicPr/>
          <p:nvPr/>
        </p:nvPicPr>
        <p:blipFill>
          <a:blip r:embed="rId8"/>
          <a:stretch/>
        </p:blipFill>
        <p:spPr>
          <a:xfrm>
            <a:off x="3429000" y="42670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2" name="HM00116_" descr=""/>
          <p:cNvPicPr/>
          <p:nvPr/>
        </p:nvPicPr>
        <p:blipFill>
          <a:blip r:embed="rId9"/>
          <a:stretch/>
        </p:blipFill>
        <p:spPr>
          <a:xfrm>
            <a:off x="4648320" y="48006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3" name="HM00116_" descr=""/>
          <p:cNvPicPr/>
          <p:nvPr/>
        </p:nvPicPr>
        <p:blipFill>
          <a:blip r:embed="rId10"/>
          <a:stretch/>
        </p:blipFill>
        <p:spPr>
          <a:xfrm>
            <a:off x="3429000" y="41911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4" name="HM00116_" descr=""/>
          <p:cNvPicPr/>
          <p:nvPr/>
        </p:nvPicPr>
        <p:blipFill>
          <a:blip r:embed="rId11"/>
          <a:stretch/>
        </p:blipFill>
        <p:spPr>
          <a:xfrm>
            <a:off x="3505320" y="49528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5" name="HM00116_" descr=""/>
          <p:cNvPicPr/>
          <p:nvPr/>
        </p:nvPicPr>
        <p:blipFill>
          <a:blip r:embed="rId12"/>
          <a:stretch/>
        </p:blipFill>
        <p:spPr>
          <a:xfrm>
            <a:off x="3809880" y="41148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6" name="HM00116_" descr=""/>
          <p:cNvPicPr/>
          <p:nvPr/>
        </p:nvPicPr>
        <p:blipFill>
          <a:blip r:embed="rId13"/>
          <a:stretch/>
        </p:blipFill>
        <p:spPr>
          <a:xfrm>
            <a:off x="4495680" y="44956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7" name="HM00116_" descr=""/>
          <p:cNvPicPr/>
          <p:nvPr/>
        </p:nvPicPr>
        <p:blipFill>
          <a:blip r:embed="rId14"/>
          <a:stretch/>
        </p:blipFill>
        <p:spPr>
          <a:xfrm>
            <a:off x="4114800" y="52578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895480" y="3505320"/>
            <a:ext cx="3505320" cy="304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804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Kein  Treten  auf  der  Stell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29200"/>
            <a:ext cx="2590920" cy="441972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990720"/>
            <a:ext cx="3962160" cy="1981080"/>
          </a:xfrm>
          <a:prstGeom prst="wedgeEllipseCallout">
            <a:avLst>
              <a:gd name="adj1" fmla="val 26203"/>
              <a:gd name="adj2" fmla="val 9919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g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ieren 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h jetzt üb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ule und  Ber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HM00116_" descr=""/>
          <p:cNvPicPr/>
          <p:nvPr/>
        </p:nvPicPr>
        <p:blipFill>
          <a:blip r:embed="rId15"/>
          <a:stretch/>
        </p:blipFill>
        <p:spPr>
          <a:xfrm>
            <a:off x="4648320" y="46483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202" name="HM00116_" descr=""/>
          <p:cNvPicPr/>
          <p:nvPr/>
        </p:nvPicPr>
        <p:blipFill>
          <a:blip r:embed="rId16"/>
          <a:stretch/>
        </p:blipFill>
        <p:spPr>
          <a:xfrm>
            <a:off x="4114800" y="45720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280" y="1066680"/>
            <a:ext cx="3733920" cy="2210040"/>
          </a:xfrm>
          <a:prstGeom prst="wedgeEllipseCallout">
            <a:avLst>
              <a:gd name="adj1" fmla="val -17856"/>
              <a:gd name="adj2" fmla="val 6838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e Broschüre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sta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marbei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Schl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m Erfol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Seite%201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781360" cy="4986360"/>
          </a:xfrm>
          <a:prstGeom prst="rect">
            <a:avLst/>
          </a:prstGeom>
          <a:ln w="0">
            <a:noFill/>
          </a:ln>
        </p:spPr>
      </p:pic>
      <p:pic>
        <p:nvPicPr>
          <p:cNvPr id="206" name="Seite%20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Seite%204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1800" cy="5410080"/>
          </a:xfrm>
          <a:prstGeom prst="rect">
            <a:avLst/>
          </a:prstGeom>
          <a:ln w="0">
            <a:noFill/>
          </a:ln>
        </p:spPr>
      </p:pic>
      <p:pic>
        <p:nvPicPr>
          <p:cNvPr id="209" name="Seite%203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04776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7:33:05Z</dcterms:created>
  <dc:creator>Schüler-PC</dc:creator>
  <dc:description/>
  <dc:language>en-US</dc:language>
  <cp:lastModifiedBy>RSM</cp:lastModifiedBy>
  <dcterms:modified xsi:type="dcterms:W3CDTF">2001-12-01T17:55:48Z</dcterms:modified>
  <cp:revision>22</cp:revision>
  <dc:subject/>
  <dc:title>Projekt: Erstellen einer Broschüre</dc:title>
</cp:coreProperties>
</file>