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5.wmf" ContentType="image/x-wmf"/>
  <Override PartName="/ppt/media/image7.jpeg" ContentType="image/jpeg"/>
  <Override PartName="/ppt/media/image3.wmf" ContentType="image/x-wmf"/>
  <Override PartName="/ppt/media/image8.jpeg" ContentType="image/jpeg"/>
  <Override PartName="/ppt/media/image4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6E64-89DE-4570-B4E9-A89679C47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DC7E-0031-4605-9F04-40861C450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733D-4444-4414-8945-22A9AD073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DD9B-38A5-4B14-9A99-3122BAB49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87C6A-1850-43DD-9A4C-2F1F39138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DE174-7E4F-4E5A-A02F-CEB7C6435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2EE2D-ED14-49B0-BB52-141DD0342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95DAC-F07A-42E8-9DAE-C997A10B1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76B17-9B7C-4A45-B2C0-1296CAD1E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45BAC-F96A-437E-97EA-F4822412E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52505-4759-40D6-99EA-1FCF7E7E8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138F-59F4-4C88-88C9-B7CBD3158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4598D-5406-4C20-BDB1-451B8984B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02550-81F9-4B20-B005-9DBC8C2D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7F784-77A9-4854-8E49-3E502C779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9412B-55B6-4C95-BDED-F7B3231A9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5DA9C-B035-485C-BBD3-D82755509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B440-45C4-48FA-A4ED-9895867F5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2DE2-8BDB-4926-AE95-0B0332473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71EB-4CD6-42B2-8F02-A48F25507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7C1C-A93C-4B94-80B5-CC2B976CB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104C-4BCC-43F9-ACA9-9F58BA25A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232F-4D6E-4E9F-A3B1-6DE2557E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02C7-691F-4392-9A6E-B1129964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A2A25-95B7-40E2-BD5B-DD9CE52885F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D73D0-4FAE-495F-AF60-8D416DD1EF1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Projekt</a:t>
            </a:r>
            <a:br>
              <a:rPr sz="4400"/>
            </a:b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Englische Korrespondenz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609480" y="3124080"/>
            <a:ext cx="79250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Die Klassen </a:t>
            </a:r>
            <a:br>
              <a:rPr sz="4400"/>
            </a:b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10 b und 10 c </a:t>
            </a:r>
            <a:br>
              <a:rPr sz="4400"/>
            </a:b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bearbeiten dieses Projek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MP00640_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45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762120" y="3429000"/>
            <a:ext cx="1218960" cy="1219320"/>
          </a:xfrm>
          <a:custGeom>
            <a:avLst/>
            <a:gdLst>
              <a:gd name="textAreaLeft" fmla="*/ 163080 w 1218960"/>
              <a:gd name="textAreaRight" fmla="*/ 1055880 w 1218960"/>
              <a:gd name="textAreaTop" fmla="*/ 213120 h 1219320"/>
              <a:gd name="textAreaBottom" fmla="*/ 88416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238880" y="3429000"/>
            <a:ext cx="1143000" cy="1143000"/>
          </a:xfrm>
          <a:custGeom>
            <a:avLst/>
            <a:gdLst>
              <a:gd name="textAreaLeft" fmla="*/ 153000 w 1143000"/>
              <a:gd name="textAreaRight" fmla="*/ 990000 w 114300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ff0066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-1080"/>
            <a:ext cx="9144000" cy="13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Projekt</a:t>
            </a:r>
            <a:br>
              <a:rPr sz="4400"/>
            </a:b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Englische Korrespondenz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06" name="MP00640_" descr=""/>
          <p:cNvPicPr/>
          <p:nvPr/>
        </p:nvPicPr>
        <p:blipFill>
          <a:blip r:embed="rId1"/>
          <a:stretch/>
        </p:blipFill>
        <p:spPr>
          <a:xfrm>
            <a:off x="7467480" y="0"/>
            <a:ext cx="1676520" cy="166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7" name=""/>
          <p:cNvGraphicFramePr/>
          <p:nvPr/>
        </p:nvGraphicFramePr>
        <p:xfrm>
          <a:off x="380880" y="2133720"/>
          <a:ext cx="8534520" cy="4317840"/>
        </p:xfrm>
        <a:graphic>
          <a:graphicData uri="http://schemas.openxmlformats.org/drawingml/2006/table">
            <a:tbl>
              <a:tblPr/>
              <a:tblGrid>
                <a:gridCol w="2641680"/>
                <a:gridCol w="2641680"/>
                <a:gridCol w="3251160"/>
              </a:tblGrid>
              <a:tr h="78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ritish Englis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American Englis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dddddd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9th October, 20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October 29, 20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dddddd"/>
                          </a:solidFill>
                          <a:latin typeface="Arial"/>
                        </a:rPr>
                        <a:t>Salut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dddddd"/>
                          </a:solidFill>
                          <a:latin typeface="Arial"/>
                        </a:rPr>
                        <a:t>Dear Sirs or Madam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ear Sirs,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Gentlemen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9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dddddd"/>
                          </a:solidFill>
                          <a:latin typeface="Arial"/>
                        </a:rPr>
                        <a:t>Complimentary clo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Yours faithfully,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Yours very truly,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Very truly yours,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8" name=""/>
          <p:cNvSpPr/>
          <p:nvPr/>
        </p:nvSpPr>
        <p:spPr>
          <a:xfrm>
            <a:off x="228600" y="137160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Normen müssen beachtet werde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-1080"/>
            <a:ext cx="9144000" cy="13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Projekt</a:t>
            </a:r>
            <a:br>
              <a:rPr sz="4400"/>
            </a:b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Englische Korrespondenz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10" name="MP00640_" descr=""/>
          <p:cNvPicPr/>
          <p:nvPr/>
        </p:nvPicPr>
        <p:blipFill>
          <a:blip r:embed="rId1"/>
          <a:stretch/>
        </p:blipFill>
        <p:spPr>
          <a:xfrm>
            <a:off x="7467480" y="0"/>
            <a:ext cx="1676520" cy="16686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04920" y="16765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r Brief ist formuliert, korrigiert und geschriebe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3520" y="32767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Canada                              Australia                   New Zeal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BD19828_" descr=""/>
          <p:cNvPicPr/>
          <p:nvPr/>
        </p:nvPicPr>
        <p:blipFill>
          <a:blip r:embed="rId2"/>
          <a:stretch/>
        </p:blipFill>
        <p:spPr>
          <a:xfrm>
            <a:off x="3706920" y="4191120"/>
            <a:ext cx="1730160" cy="1380960"/>
          </a:xfrm>
          <a:prstGeom prst="rect">
            <a:avLst/>
          </a:prstGeom>
          <a:ln w="0">
            <a:noFill/>
          </a:ln>
        </p:spPr>
      </p:pic>
      <p:pic>
        <p:nvPicPr>
          <p:cNvPr id="214" name="BD04914_" descr=""/>
          <p:cNvPicPr/>
          <p:nvPr/>
        </p:nvPicPr>
        <p:blipFill>
          <a:blip r:embed="rId3"/>
          <a:stretch/>
        </p:blipFill>
        <p:spPr>
          <a:xfrm>
            <a:off x="380880" y="4267080"/>
            <a:ext cx="2827440" cy="1925640"/>
          </a:xfrm>
          <a:prstGeom prst="rect">
            <a:avLst/>
          </a:prstGeom>
          <a:ln w="0">
            <a:noFill/>
          </a:ln>
        </p:spPr>
      </p:pic>
      <p:pic>
        <p:nvPicPr>
          <p:cNvPr id="215" name="HH00231_" descr=""/>
          <p:cNvPicPr/>
          <p:nvPr/>
        </p:nvPicPr>
        <p:blipFill>
          <a:blip r:embed="rId4"/>
          <a:stretch/>
        </p:blipFill>
        <p:spPr>
          <a:xfrm>
            <a:off x="5943600" y="4038480"/>
            <a:ext cx="2438280" cy="231624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4191120" y="2286000"/>
            <a:ext cx="761760" cy="838080"/>
          </a:xfrm>
          <a:prstGeom prst="downArrow">
            <a:avLst>
              <a:gd name="adj1" fmla="val 50000"/>
              <a:gd name="adj2" fmla="val 27505"/>
            </a:avLst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38080" y="2209680"/>
            <a:ext cx="762120" cy="838440"/>
          </a:xfrm>
          <a:prstGeom prst="downArrow">
            <a:avLst>
              <a:gd name="adj1" fmla="val 50000"/>
              <a:gd name="adj2" fmla="val 27504"/>
            </a:avLst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086600" y="2286000"/>
            <a:ext cx="762120" cy="838080"/>
          </a:xfrm>
          <a:prstGeom prst="downArrow">
            <a:avLst>
              <a:gd name="adj1" fmla="val 50000"/>
              <a:gd name="adj2" fmla="val 27492"/>
            </a:avLst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-1080"/>
            <a:ext cx="9144000" cy="13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Projekt</a:t>
            </a:r>
            <a:br>
              <a:rPr sz="4400"/>
            </a:b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Englische Korrespondenz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20" name="MP00640_" descr=""/>
          <p:cNvPicPr/>
          <p:nvPr/>
        </p:nvPicPr>
        <p:blipFill>
          <a:blip r:embed="rId1"/>
          <a:stretch/>
        </p:blipFill>
        <p:spPr>
          <a:xfrm>
            <a:off x="7467480" y="0"/>
            <a:ext cx="1676520" cy="16686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1447920" y="1600200"/>
            <a:ext cx="6248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Mit E-Mails kommuniziert man einfacher und schnell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14400" y="3124080"/>
            <a:ext cx="8001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Times New Roman"/>
              </a:rPr>
              <a:t>@@@@@@@@@@@@@@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1080"/>
            <a:ext cx="9144000" cy="13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Projekt</a:t>
            </a:r>
            <a:br>
              <a:rPr sz="4400"/>
            </a:b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Englische Korrespondenz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24" name="MP00640_" descr=""/>
          <p:cNvPicPr/>
          <p:nvPr/>
        </p:nvPicPr>
        <p:blipFill>
          <a:blip r:embed="rId1"/>
          <a:stretch/>
        </p:blipFill>
        <p:spPr>
          <a:xfrm>
            <a:off x="7467480" y="0"/>
            <a:ext cx="1676520" cy="16686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" y="1676520"/>
            <a:ext cx="8001000" cy="41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rgebniss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e Botschaften haben geantwortet und ausreichend Informationsmaterial zur Verfügung gestell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s Material wurde geprüft und auf der Stellwand zusammengestell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ine weitere Aufgabe wird es sein, die Informationen noch inhaltlich auszuwerten und im Englisch-Unterricht weiter zu bearbeite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-1080"/>
            <a:ext cx="9144000" cy="13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Projekt</a:t>
            </a:r>
            <a:br>
              <a:rPr sz="4400"/>
            </a:b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Englische Korrespondenz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27" name="MP00640_" descr=""/>
          <p:cNvPicPr/>
          <p:nvPr/>
        </p:nvPicPr>
        <p:blipFill>
          <a:blip r:embed="rId1"/>
          <a:stretch/>
        </p:blipFill>
        <p:spPr>
          <a:xfrm>
            <a:off x="7467480" y="0"/>
            <a:ext cx="1676520" cy="16686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838080" y="1447920"/>
            <a:ext cx="716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ff"/>
                </a:solidFill>
                <a:latin typeface="Times New Roman"/>
              </a:rPr>
              <a:t>Projektgruppen: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686480" y="2971800"/>
            <a:ext cx="445752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320" y="2971800"/>
            <a:ext cx="461016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686480" y="2286000"/>
            <a:ext cx="4457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Klasse 10 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2362320"/>
            <a:ext cx="4610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Klasse 10 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320" y="2971800"/>
            <a:ext cx="9067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320" y="6095880"/>
            <a:ext cx="9067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6320" y="2133720"/>
            <a:ext cx="0" cy="3962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686480" y="2133720"/>
            <a:ext cx="0" cy="3962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686480" y="2133720"/>
            <a:ext cx="445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6320" y="2133720"/>
            <a:ext cx="4610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144000" y="2971800"/>
            <a:ext cx="0" cy="3124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144000" y="2133720"/>
            <a:ext cx="0" cy="838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1" name="10b" descr=""/>
          <p:cNvPicPr/>
          <p:nvPr/>
        </p:nvPicPr>
        <p:blipFill>
          <a:blip r:embed="rId2"/>
          <a:srcRect l="0" t="11825" r="0" b="0"/>
          <a:stretch/>
        </p:blipFill>
        <p:spPr>
          <a:xfrm>
            <a:off x="228600" y="2895480"/>
            <a:ext cx="4267080" cy="2273400"/>
          </a:xfrm>
          <a:prstGeom prst="rect">
            <a:avLst/>
          </a:prstGeom>
          <a:ln w="0">
            <a:noFill/>
          </a:ln>
        </p:spPr>
      </p:pic>
      <p:pic>
        <p:nvPicPr>
          <p:cNvPr id="242" name="10c" descr=""/>
          <p:cNvPicPr/>
          <p:nvPr/>
        </p:nvPicPr>
        <p:blipFill>
          <a:blip r:embed="rId3"/>
          <a:stretch/>
        </p:blipFill>
        <p:spPr>
          <a:xfrm>
            <a:off x="4724280" y="2895480"/>
            <a:ext cx="4419720" cy="22939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0" y="56386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jektleitung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. Schmidt RS Manching, H. Karl Franz-von-Lenbach-Schule Schrobenhaus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-1080"/>
            <a:ext cx="9144000" cy="13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Projekt</a:t>
            </a:r>
            <a:br>
              <a:rPr sz="4400"/>
            </a:b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Englische Korrespondenz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45" name="MP00640_" descr=""/>
          <p:cNvPicPr/>
          <p:nvPr/>
        </p:nvPicPr>
        <p:blipFill>
          <a:blip r:embed="rId1"/>
          <a:stretch/>
        </p:blipFill>
        <p:spPr>
          <a:xfrm>
            <a:off x="7467480" y="0"/>
            <a:ext cx="1676520" cy="16686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457200" y="20574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nke für Ihre Aufmerksamke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-137520"/>
            <a:ext cx="9144000" cy="13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00"/>
                </a:solidFill>
                <a:latin typeface="Arial Black"/>
              </a:rPr>
              <a:t>Projekt</a:t>
            </a:r>
            <a:br>
              <a:rPr sz="4400"/>
            </a:br>
            <a:r>
              <a:rPr b="0" lang="de-DE" sz="4000" spc="-1" strike="noStrike">
                <a:solidFill>
                  <a:srgbClr val="ffcc00"/>
                </a:solidFill>
                <a:latin typeface="Arial Black"/>
              </a:rPr>
              <a:t>Englische Korrespondenz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1371600"/>
            <a:ext cx="8686800" cy="5470560"/>
          </a:xfrm>
          <a:prstGeom prst="rect">
            <a:avLst/>
          </a:prstGeom>
          <a:noFill/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Anlass</a:t>
            </a:r>
            <a:br>
              <a:rPr sz="3200"/>
            </a:b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R6-Lehrplan – 10. Jahrgangsstufe (Seiten 508 u. 509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eaeaea"/>
                </a:solidFill>
                <a:latin typeface="Arial"/>
              </a:rPr>
              <a:t>Jugend und Gesellschaf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de-DE" sz="2800" spc="-1" strike="noStrike">
                <a:solidFill>
                  <a:srgbClr val="eaeaea"/>
                </a:solidFill>
                <a:latin typeface="Arial"/>
              </a:rPr>
              <a:t>Kanada - </a:t>
            </a:r>
            <a:r>
              <a:rPr b="0" lang="de-DE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de-DE" sz="2800" spc="-1" strike="noStrike">
                <a:solidFill>
                  <a:srgbClr val="eaeaea"/>
                </a:solidFill>
                <a:latin typeface="Arial"/>
              </a:rPr>
              <a:t>Australien - </a:t>
            </a:r>
            <a:r>
              <a:rPr b="0" lang="de-DE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de-DE" sz="2800" spc="-1" strike="noStrike">
                <a:solidFill>
                  <a:srgbClr val="eaeaea"/>
                </a:solidFill>
                <a:latin typeface="Arial"/>
              </a:rPr>
              <a:t>Neuseel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eaeaea"/>
                </a:solidFill>
                <a:latin typeface="Arial"/>
              </a:rPr>
              <a:t>Zeitgenössische Literat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de-DE" sz="2800" spc="-1" strike="noStrike">
                <a:solidFill>
                  <a:srgbClr val="eaeaea"/>
                </a:solidFill>
                <a:latin typeface="Arial"/>
              </a:rPr>
              <a:t>Landeskundliche Kenntnisse in der Ausein-</a:t>
            </a:r>
            <a:br>
              <a:rPr sz="2800"/>
            </a:br>
            <a:r>
              <a:rPr b="1" lang="de-DE" sz="2800" spc="-1" strike="noStrike">
                <a:solidFill>
                  <a:srgbClr val="eaeaea"/>
                </a:solidFill>
                <a:latin typeface="Arial"/>
              </a:rPr>
              <a:t>  andersetzung mit unterschiedlichen Aspekten</a:t>
            </a:r>
            <a:br>
              <a:rPr sz="2800"/>
            </a:br>
            <a:r>
              <a:rPr b="1" lang="de-DE" sz="2800" spc="-1" strike="noStrike">
                <a:solidFill>
                  <a:srgbClr val="eaeaea"/>
                </a:solidFill>
                <a:latin typeface="Arial"/>
              </a:rPr>
              <a:t>  des Lebens in der englischsprachigen Wel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eaeaea"/>
                </a:solidFill>
                <a:latin typeface="Arial"/>
              </a:rPr>
              <a:t>Kommunikationsfähigkeiten werden gestärkt </a:t>
            </a:r>
            <a:br>
              <a:rPr sz="2800"/>
            </a:br>
            <a:r>
              <a:rPr b="1" lang="de-DE" sz="2800" spc="-1" strike="noStrike">
                <a:solidFill>
                  <a:srgbClr val="eaeaea"/>
                </a:solidFill>
                <a:latin typeface="Arial"/>
              </a:rPr>
              <a:t>E-Mail, Brief, Vortrag, Gesprä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MP00640_" descr=""/>
          <p:cNvPicPr/>
          <p:nvPr/>
        </p:nvPicPr>
        <p:blipFill>
          <a:blip r:embed="rId1"/>
          <a:stretch/>
        </p:blipFill>
        <p:spPr>
          <a:xfrm>
            <a:off x="7620120" y="0"/>
            <a:ext cx="1523880" cy="15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1080"/>
            <a:ext cx="9144000" cy="13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Projekt</a:t>
            </a:r>
            <a:br>
              <a:rPr sz="4400"/>
            </a:b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Englische Korrespondenz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0" name="MP00640_" descr=""/>
          <p:cNvPicPr/>
          <p:nvPr/>
        </p:nvPicPr>
        <p:blipFill>
          <a:blip r:embed="rId1"/>
          <a:stretch/>
        </p:blipFill>
        <p:spPr>
          <a:xfrm>
            <a:off x="7467480" y="0"/>
            <a:ext cx="1676520" cy="16686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28600" y="1828800"/>
            <a:ext cx="8610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4920" y="2133720"/>
            <a:ext cx="8534160" cy="18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Black"/>
              </a:rPr>
              <a:t>Auftrag</a:t>
            </a:r>
            <a:br>
              <a:rPr sz="2400"/>
            </a:b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nfordern von Informationsmaterial unter dem Aspekt der landeskundlichen Kenntnisse über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380880" y="4572000"/>
          <a:ext cx="7824960" cy="614160"/>
        </p:xfrm>
        <a:graphic>
          <a:graphicData uri="http://schemas.openxmlformats.org/drawingml/2006/table">
            <a:tbl>
              <a:tblPr/>
              <a:tblGrid>
                <a:gridCol w="2438640"/>
                <a:gridCol w="2438280"/>
                <a:gridCol w="2948040"/>
              </a:tblGrid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Australi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Kana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Neuseel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-1080"/>
            <a:ext cx="9144000" cy="13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Projekt</a:t>
            </a:r>
            <a:br>
              <a:rPr sz="4400"/>
            </a:b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Englische Korrespondenz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5" name="MP00640_" descr=""/>
          <p:cNvPicPr/>
          <p:nvPr/>
        </p:nvPicPr>
        <p:blipFill>
          <a:blip r:embed="rId1"/>
          <a:stretch/>
        </p:blipFill>
        <p:spPr>
          <a:xfrm>
            <a:off x="7467480" y="0"/>
            <a:ext cx="1676520" cy="16686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28600" y="1371600"/>
            <a:ext cx="8686800" cy="76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Them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Schreibe einen Brief an die Botschaften von Australien. Kanada und Neuseeland mit der Bitte um Zusendung von Informationen übe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cc99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Das Schulsystem, Schüler- und Studentenaustaus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cc99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Einwanderungsquote, Statistik über Beschäftigungs- und</a:t>
            </a:r>
            <a:br>
              <a:rPr sz="2400"/>
            </a:b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Arbeitslosenquo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cc99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ruttosozialprodukt, Export- und Importr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cc99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Angaben über Agrarwirtschaft und Industr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cc99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edeutung des Tourismus und Empfehlungen für Sehenswürdigkei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cc99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1080"/>
            <a:ext cx="9144000" cy="13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Projekt</a:t>
            </a:r>
            <a:br>
              <a:rPr sz="4400"/>
            </a:b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Englische Korrespondenz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8" name="MP00640_" descr=""/>
          <p:cNvPicPr/>
          <p:nvPr/>
        </p:nvPicPr>
        <p:blipFill>
          <a:blip r:embed="rId1"/>
          <a:stretch/>
        </p:blipFill>
        <p:spPr>
          <a:xfrm>
            <a:off x="7467480" y="0"/>
            <a:ext cx="1676520" cy="16686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419720" y="4343400"/>
            <a:ext cx="4495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Das Erkennen, dass die englische Sprache nicht nur im zusammen-wachsenden Europa, sondern welt-weit in Wort und Schrift führend is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362320"/>
            <a:ext cx="8915400" cy="4267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533520" y="2514240"/>
            <a:ext cx="8229600" cy="3809880"/>
          </a:xfrm>
          <a:prstGeom prst="line">
            <a:avLst/>
          </a:prstGeom>
          <a:ln w="76320">
            <a:solidFill>
              <a:srgbClr val="f98d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2193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 Black"/>
              </a:rPr>
              <a:t>Z i e 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2666880"/>
            <a:ext cx="5486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e Anwendung der englischen Sprache, praktiziert an einem realistischen Beispiel in Verbindung mit den Regeln für das Anfertigen von Brief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-1080"/>
            <a:ext cx="9144000" cy="13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Projekt</a:t>
            </a:r>
            <a:br>
              <a:rPr sz="4400"/>
            </a:b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Englische Korrespondenz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5" name="MP00640_" descr=""/>
          <p:cNvPicPr/>
          <p:nvPr/>
        </p:nvPicPr>
        <p:blipFill>
          <a:blip r:embed="rId1"/>
          <a:stretch/>
        </p:blipFill>
        <p:spPr>
          <a:xfrm>
            <a:off x="7467480" y="0"/>
            <a:ext cx="1676520" cy="16686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0" y="152388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Brainstorm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1981080"/>
            <a:ext cx="2209680" cy="182880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  <a:effectLst>
            <a:outerShdw dist="17819" dir="2700000" blurRad="0" rotWithShape="0">
              <a:srgbClr val="98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r kümmert sich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m di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nschrift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438280" y="2362320"/>
            <a:ext cx="2133720" cy="1295280"/>
          </a:xfrm>
          <a:prstGeom prst="rect">
            <a:avLst/>
          </a:prstGeom>
          <a:noFill/>
          <a:ln w="57240">
            <a:solidFill>
              <a:srgbClr val="d60093"/>
            </a:solidFill>
            <a:prstDash val="sysDot"/>
            <a:miter/>
          </a:ln>
          <a:effectLst>
            <a:outerShdw dist="153753" dir="2700000" blurRad="0" rotWithShape="0">
              <a:srgbClr val="7f005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Können wir nic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ur ein E-Ma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chreiben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362320" y="4267080"/>
            <a:ext cx="2819160" cy="1600200"/>
          </a:xfrm>
          <a:prstGeom prst="hexagon">
            <a:avLst>
              <a:gd name="adj" fmla="val 44044"/>
              <a:gd name="vf" fmla="val 115470"/>
            </a:avLst>
          </a:prstGeom>
          <a:noFill/>
          <a:ln w="57240">
            <a:solidFill>
              <a:srgbClr val="ff00ff"/>
            </a:solidFill>
            <a:miter/>
          </a:ln>
          <a:effectLst>
            <a:outerShdw dist="17819" dir="2700000" blurRad="0" rotWithShape="0">
              <a:srgbClr val="9800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a müssen wi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viel zu viele Brief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chreib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0" y="2286000"/>
            <a:ext cx="2133720" cy="1752480"/>
          </a:xfrm>
          <a:prstGeom prst="parallelogram">
            <a:avLst>
              <a:gd name="adj" fmla="val 30439"/>
            </a:avLst>
          </a:prstGeom>
          <a:noFill/>
          <a:ln w="38160">
            <a:solidFill>
              <a:srgbClr val="3399ff"/>
            </a:solidFill>
            <a:miter/>
          </a:ln>
          <a:effectLst>
            <a:outerShdw dist="17819" dir="2700000" blurRad="0" rotWithShape="0">
              <a:srgbClr val="1e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Ich kann d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nicht über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tzen –nu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Fachausdrück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172200" y="4343400"/>
            <a:ext cx="2514600" cy="1523880"/>
          </a:xfrm>
          <a:prstGeom prst="pentagon">
            <a:avLst/>
          </a:prstGeom>
          <a:noFill/>
          <a:ln w="57240">
            <a:solidFill>
              <a:srgbClr val="00ff00"/>
            </a:solidFill>
            <a:miter/>
          </a:ln>
          <a:effectLst>
            <a:outerShdw dist="17819" dir="2700000" blurRad="0" rotWithShape="0">
              <a:srgbClr val="00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Wir arbei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zusamm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" y="4267080"/>
            <a:ext cx="1981080" cy="182880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ff9900"/>
            </a:solidFill>
            <a:miter/>
          </a:ln>
          <a:effectLst>
            <a:outerShdw dist="153753" dir="2700000" blurRad="0" rotWithShape="0">
              <a:srgbClr val="985b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Times New Roman"/>
              </a:rPr>
              <a:t>Stich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Times New Roman"/>
              </a:rPr>
              <a:t>wort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Times New Roman"/>
              </a:rPr>
              <a:t>brief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934320" y="1828800"/>
            <a:ext cx="2514600" cy="2057400"/>
          </a:xfrm>
          <a:prstGeom prst="rtTriangle">
            <a:avLst/>
          </a:prstGeom>
          <a:noFill/>
          <a:ln w="47520">
            <a:solidFill>
              <a:srgbClr val="ff3300"/>
            </a:solidFill>
            <a:prstDash val="lgDash"/>
            <a:miter/>
          </a:ln>
          <a:effectLst>
            <a:outerShdw dist="107932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nglis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st nic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eine Stär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1080"/>
            <a:ext cx="9144000" cy="13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Projekt</a:t>
            </a:r>
            <a:br>
              <a:rPr sz="4400"/>
            </a:b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Englische Korrespondenz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75" name="MP00640_" descr=""/>
          <p:cNvPicPr/>
          <p:nvPr/>
        </p:nvPicPr>
        <p:blipFill>
          <a:blip r:embed="rId1"/>
          <a:stretch/>
        </p:blipFill>
        <p:spPr>
          <a:xfrm>
            <a:off x="7467480" y="0"/>
            <a:ext cx="1676520" cy="16686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52280" y="1676520"/>
            <a:ext cx="8991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urchführ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inteilung der Grupp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uteilung der Them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riefentwurf in Deutsch formulier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Überprüfen auf inhaltliche Richtigke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Übersetzen ins Englisc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orrekturles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dgültige Fassung schreiben und abschick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leichzeitig die Anfrage per E-Mail an die Botschaften rich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-1080"/>
            <a:ext cx="9144000" cy="13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Projekt</a:t>
            </a:r>
            <a:br>
              <a:rPr sz="4400"/>
            </a:b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Englische Korrespondenz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"/>
          <p:cNvSpPr/>
          <p:nvPr/>
        </p:nvSpPr>
        <p:spPr>
          <a:xfrm>
            <a:off x="304920" y="144792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Postanschriften und E-Mail-Adressen  der Botschaft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MP00640_" descr=""/>
          <p:cNvPicPr/>
          <p:nvPr/>
        </p:nvPicPr>
        <p:blipFill>
          <a:blip r:embed="rId1"/>
          <a:stretch/>
        </p:blipFill>
        <p:spPr>
          <a:xfrm>
            <a:off x="7467480" y="0"/>
            <a:ext cx="1676520" cy="16686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0" y="243828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ustrali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057400" y="43434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" y="3200400"/>
            <a:ext cx="2590920" cy="3657600"/>
          </a:xfrm>
          <a:prstGeom prst="rect">
            <a:avLst/>
          </a:prstGeom>
          <a:gradFill rotWithShape="0">
            <a:gsLst>
              <a:gs pos="0">
                <a:srgbClr val="99ff33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" y="3733920"/>
            <a:ext cx="25909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Australische Botschaft Friedrichstr. 2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10117 Berl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0880" y="5638680"/>
            <a:ext cx="236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Arial"/>
                <a:ea typeface="Arial"/>
              </a:rPr>
              <a:t>info@australien-embassy.de</a:t>
            </a:r>
            <a:r>
              <a:rPr b="1" lang="de-DE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00400" y="3200400"/>
            <a:ext cx="2590920" cy="3657600"/>
          </a:xfrm>
          <a:prstGeom prst="rect">
            <a:avLst/>
          </a:prstGeom>
          <a:gradFill rotWithShape="0">
            <a:gsLst>
              <a:gs pos="0">
                <a:srgbClr val="99ff33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172200" y="3200400"/>
            <a:ext cx="2590920" cy="3657600"/>
          </a:xfrm>
          <a:prstGeom prst="rect">
            <a:avLst/>
          </a:prstGeom>
          <a:gradFill rotWithShape="0">
            <a:gsLst>
              <a:gs pos="0">
                <a:srgbClr val="99ff33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76720" y="3657600"/>
            <a:ext cx="259056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Neuseeländische Botschaft</a:t>
            </a:r>
            <a:br>
              <a:rPr sz="2000"/>
            </a:b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Atrium, 4. Etage</a:t>
            </a:r>
            <a:br>
              <a:rPr sz="2000"/>
            </a:b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Friedrichstraße 6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10117 Berl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76720" y="586728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Arial"/>
              </a:rPr>
              <a:t>nzemb@t-online.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172200" y="3505320"/>
            <a:ext cx="25909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Kanadische Botschaft</a:t>
            </a:r>
            <a:br>
              <a:rPr sz="2000"/>
            </a:b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Friedrichstraße 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10117 Berl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400800" y="5715000"/>
            <a:ext cx="236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Arial"/>
              </a:rPr>
              <a:t>brlin-pa@dfait-maeci-gc.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429000" y="243828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euseel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324480" y="24382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Kana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-1080"/>
            <a:ext cx="9144000" cy="13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Projekt</a:t>
            </a:r>
            <a:br>
              <a:rPr sz="4400"/>
            </a:b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Englische Korrespondenz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94" name="MP00640_" descr=""/>
          <p:cNvPicPr/>
          <p:nvPr/>
        </p:nvPicPr>
        <p:blipFill>
          <a:blip r:embed="rId1"/>
          <a:stretch/>
        </p:blipFill>
        <p:spPr>
          <a:xfrm>
            <a:off x="7467480" y="0"/>
            <a:ext cx="1676520" cy="16686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6934320" y="2438280"/>
            <a:ext cx="1676160" cy="3886200"/>
          </a:xfrm>
          <a:prstGeom prst="flowChartMagneticDisk">
            <a:avLst/>
          </a:prstGeom>
          <a:gradFill rotWithShape="0">
            <a:gsLst>
              <a:gs pos="0">
                <a:srgbClr val="ffff00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34120" y="2362320"/>
            <a:ext cx="1676160" cy="3886200"/>
          </a:xfrm>
          <a:prstGeom prst="flowChartMagneticDisk">
            <a:avLst/>
          </a:prstGeom>
          <a:gradFill rotWithShape="0">
            <a:gsLst>
              <a:gs pos="0">
                <a:srgbClr val="d60093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657600" y="2362320"/>
            <a:ext cx="1676520" cy="3886200"/>
          </a:xfrm>
          <a:prstGeom prst="flowChartMagneticDisk">
            <a:avLst/>
          </a:prstGeom>
          <a:gradFill rotWithShape="0">
            <a:gsLst>
              <a:gs pos="0">
                <a:srgbClr val="ffff00"/>
              </a:gs>
              <a:gs pos="100000">
                <a:srgbClr val="d6009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057400" y="2362320"/>
            <a:ext cx="1676520" cy="3886200"/>
          </a:xfrm>
          <a:prstGeom prst="flowChartMagneticDisk">
            <a:avLst/>
          </a:prstGeom>
          <a:gradFill rotWithShape="0">
            <a:gsLst>
              <a:gs pos="0">
                <a:srgbClr val="d60093"/>
              </a:gs>
              <a:gs pos="100000">
                <a:srgbClr val="000044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2362320"/>
            <a:ext cx="1676520" cy="3886200"/>
          </a:xfrm>
          <a:prstGeom prst="flowChartMagneticDisk">
            <a:avLst/>
          </a:prstGeom>
          <a:gradFill rotWithShape="0">
            <a:gsLst>
              <a:gs pos="0">
                <a:srgbClr val="ffff00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4920" y="3276720"/>
            <a:ext cx="1904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3300"/>
                </a:solidFill>
                <a:latin typeface="Times New Roman"/>
              </a:rPr>
              <a:t>Educational system, school exchange and student exch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057400" y="3505320"/>
            <a:ext cx="16765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00"/>
                </a:solidFill>
                <a:latin typeface="Times New Roman"/>
              </a:rPr>
              <a:t>Immigration occupation quota, statistics on unemploy-ment rat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733920" y="3505320"/>
            <a:ext cx="18288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44"/>
                </a:solidFill>
                <a:latin typeface="Times New Roman"/>
              </a:rPr>
              <a:t>National gross product, export rate, import rat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4120" y="3429000"/>
            <a:ext cx="17524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2663a0"/>
                </a:solidFill>
                <a:latin typeface="Times New Roman"/>
              </a:rPr>
              <a:t>Specification concerning </a:t>
            </a:r>
            <a:r>
              <a:rPr b="1" lang="de-DE" sz="2400" spc="-1" strike="noStrike">
                <a:solidFill>
                  <a:srgbClr val="2663a0"/>
                </a:solidFill>
                <a:latin typeface="Times New Roman"/>
              </a:rPr>
              <a:t>rural economy and indust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086600" y="3429000"/>
            <a:ext cx="137160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Times New Roman"/>
              </a:rPr>
              <a:t>Meaning of the tourism recommendation of places of</a:t>
            </a:r>
            <a:r>
              <a:rPr b="1" lang="de-DE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de-DE" sz="2000" spc="-1" strike="noStrike">
                <a:solidFill>
                  <a:srgbClr val="000099"/>
                </a:solidFill>
                <a:latin typeface="Times New Roman"/>
              </a:rPr>
              <a:t>intere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1T18:52:34Z</dcterms:created>
  <dc:creator>RSM</dc:creator>
  <dc:description/>
  <dc:language>en-US</dc:language>
  <cp:lastModifiedBy>Schueler</cp:lastModifiedBy>
  <dcterms:modified xsi:type="dcterms:W3CDTF">2001-12-03T17:48:36Z</dcterms:modified>
  <cp:revision>10</cp:revision>
  <dc:subject/>
  <dc:title>Projekt Englische Korrespondenz</dc:title>
</cp:coreProperties>
</file>