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7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253B-CE2A-44CD-AD7C-3CB7F889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86E-34E7-4B44-B08C-2CB52E49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8F86-EC7C-4F91-9BE5-0891C0A5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7A05-3C9D-4F1E-B836-068AB9B2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AAE0-A9F2-4762-88F3-D495AB67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95C3-48A3-49A3-85DE-7C429C75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6A1E-008C-43FC-B81E-A350D3B8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2D4C-F145-40E6-9B2D-91466A2E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99BF-0F9B-4BD3-94D4-E31E0967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49EA-20C4-454C-B587-B80E6285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D342-F94B-4D11-A126-7C7C9325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71D-AEDA-4F33-ADBE-A50C9973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0B10-7EFA-45E5-83FF-C9519E8F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534C-2BC8-4BB1-B949-7950E395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7D58-5C65-46BD-BA5D-600D9AE2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2ED7-4365-4A6F-B86E-C5EFC471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8E02-EBFD-4144-9E22-67BDF3EC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E9A9-FEF3-4E2B-AFEB-2EF84A2B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D01-7EA6-44C2-A28B-2FED9A65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E476-DBA7-4232-9308-6062DE4F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0D4-8F16-4299-BF8A-1ED3EAD1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BFB-BFD6-4612-8677-E77B21F3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0FA-C96B-4AB3-9D85-121EF89C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470-6134-459F-A0C9-78E6AE41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F958-C3F4-4CB7-87D8-CAA8401862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E9ED-158C-4860-8719-81C1C47DF9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480" y="3124080"/>
            <a:ext cx="79250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ie Klassen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0 b und 10 c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bearbeiten dieses Projek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MP00640_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4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62120" y="3429000"/>
            <a:ext cx="1218960" cy="121932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38880" y="3429000"/>
            <a:ext cx="1143000" cy="114300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6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380880" y="2133720"/>
          <a:ext cx="8534520" cy="431784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325116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itish Engli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erican Engli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9th October, 2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October 29, 2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dddddd"/>
                          </a:solidFill>
                          <a:latin typeface="Arial"/>
                        </a:rPr>
                        <a:t>Salu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dddddd"/>
                          </a:solidFill>
                          <a:latin typeface="Arial"/>
                        </a:rPr>
                        <a:t>Dear Sirs or Madam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ear Sirs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Gentlemen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dddddd"/>
                          </a:solidFill>
                          <a:latin typeface="Arial"/>
                        </a:rPr>
                        <a:t>Complimentary cl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ours faithfully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Yours very truly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Very truly yours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228600" y="13716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Normen müssen beachtet werd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0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1676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r Brief ist formuliert, korrigiert und geschrieb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3276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anada                              Australia                   New Zea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BD19828_" descr=""/>
          <p:cNvPicPr/>
          <p:nvPr/>
        </p:nvPicPr>
        <p:blipFill>
          <a:blip r:embed="rId2"/>
          <a:stretch/>
        </p:blipFill>
        <p:spPr>
          <a:xfrm>
            <a:off x="3706920" y="4191120"/>
            <a:ext cx="1730160" cy="1380960"/>
          </a:xfrm>
          <a:prstGeom prst="rect">
            <a:avLst/>
          </a:prstGeom>
          <a:ln w="0">
            <a:noFill/>
          </a:ln>
        </p:spPr>
      </p:pic>
      <p:pic>
        <p:nvPicPr>
          <p:cNvPr id="214" name="BD04914_" descr=""/>
          <p:cNvPicPr/>
          <p:nvPr/>
        </p:nvPicPr>
        <p:blipFill>
          <a:blip r:embed="rId3"/>
          <a:stretch/>
        </p:blipFill>
        <p:spPr>
          <a:xfrm>
            <a:off x="380880" y="4267080"/>
            <a:ext cx="2827440" cy="1925640"/>
          </a:xfrm>
          <a:prstGeom prst="rect">
            <a:avLst/>
          </a:prstGeom>
          <a:ln w="0">
            <a:noFill/>
          </a:ln>
        </p:spPr>
      </p:pic>
      <p:pic>
        <p:nvPicPr>
          <p:cNvPr id="215" name="HH00231_" descr=""/>
          <p:cNvPicPr/>
          <p:nvPr/>
        </p:nvPicPr>
        <p:blipFill>
          <a:blip r:embed="rId4"/>
          <a:stretch/>
        </p:blipFill>
        <p:spPr>
          <a:xfrm>
            <a:off x="5943600" y="4038480"/>
            <a:ext cx="2438280" cy="23162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191120" y="22860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2209680"/>
            <a:ext cx="762120" cy="838440"/>
          </a:xfrm>
          <a:prstGeom prst="downArrow">
            <a:avLst>
              <a:gd name="adj1" fmla="val 50000"/>
              <a:gd name="adj2" fmla="val 27504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86600" y="2286000"/>
            <a:ext cx="762120" cy="838080"/>
          </a:xfrm>
          <a:prstGeom prst="downArrow">
            <a:avLst>
              <a:gd name="adj1" fmla="val 50000"/>
              <a:gd name="adj2" fmla="val 27492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0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447920" y="1600200"/>
            <a:ext cx="624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it E-Mails kommuniziert man einfacher und schnel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3124080"/>
            <a:ext cx="8001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Times New Roman"/>
              </a:rPr>
              <a:t>@@@@@@@@@@@@@@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4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676520"/>
            <a:ext cx="800100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gebnis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 Botschaften haben geantwortet und ausreichend Informationsmaterial zur Verfügung gestell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s Material wurde geprüft und auf der Stellwand zusammengestell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ine weitere Aufgabe wird es sein, die Informationen noch inhaltlich auszuwerten und im Englisch-Unterricht weiter zu bearbeit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7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38080" y="14479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ff"/>
                </a:solidFill>
                <a:latin typeface="Times New Roman"/>
              </a:rPr>
              <a:t>Projektgruppen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86480" y="2971800"/>
            <a:ext cx="44575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320" y="2971800"/>
            <a:ext cx="46101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86480" y="2286000"/>
            <a:ext cx="445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lasse 10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2362320"/>
            <a:ext cx="4610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lasse 10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320" y="2971800"/>
            <a:ext cx="9067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320" y="6095880"/>
            <a:ext cx="9067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320" y="2133720"/>
            <a:ext cx="0" cy="3962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86480" y="2133720"/>
            <a:ext cx="0" cy="3962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86480" y="2133720"/>
            <a:ext cx="445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320" y="2133720"/>
            <a:ext cx="4610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0" y="2971800"/>
            <a:ext cx="0" cy="3124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0" y="213372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10b" descr=""/>
          <p:cNvPicPr/>
          <p:nvPr/>
        </p:nvPicPr>
        <p:blipFill>
          <a:blip r:embed="rId2"/>
          <a:srcRect l="0" t="11825" r="0" b="0"/>
          <a:stretch/>
        </p:blipFill>
        <p:spPr>
          <a:xfrm>
            <a:off x="228600" y="2895480"/>
            <a:ext cx="4267080" cy="2273400"/>
          </a:xfrm>
          <a:prstGeom prst="rect">
            <a:avLst/>
          </a:prstGeom>
          <a:ln w="0">
            <a:noFill/>
          </a:ln>
        </p:spPr>
      </p:pic>
      <p:pic>
        <p:nvPicPr>
          <p:cNvPr id="242" name="10c" descr=""/>
          <p:cNvPicPr/>
          <p:nvPr/>
        </p:nvPicPr>
        <p:blipFill>
          <a:blip r:embed="rId3"/>
          <a:stretch/>
        </p:blipFill>
        <p:spPr>
          <a:xfrm>
            <a:off x="4724280" y="2895480"/>
            <a:ext cx="4419720" cy="2293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5638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ktleitung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. Schmidt RS Manching, H. Karl Franz-von-Lenbach-Schule Schrobenhaus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5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57200" y="2057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nke für Ihre Aufmerksam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13752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de-DE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371600"/>
            <a:ext cx="8686800" cy="5470560"/>
          </a:xfrm>
          <a:prstGeom prst="rect">
            <a:avLst/>
          </a:pr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Anlass</a:t>
            </a:r>
            <a:br>
              <a:rPr sz="3200"/>
            </a:b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R6-Lehrplan – 10. Jahrgangsstufe (Seiten 508 u. 50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Jugend und Gesellsch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Kanada - </a:t>
            </a: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Australien - </a:t>
            </a: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Neusee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Zeitgenössische Literat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Landeskundliche Kenntnisse in der Ausein-</a:t>
            </a:r>
            <a:br>
              <a:rPr sz="2800"/>
            </a:b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  andersetzung mit unterschiedlichen Aspekten</a:t>
            </a:r>
            <a:br>
              <a:rPr sz="2800"/>
            </a:b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  des Lebens in der englischsprachigen We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Kommunikationsfähigkeiten werden gestärkt </a:t>
            </a:r>
            <a:br>
              <a:rPr sz="2800"/>
            </a:b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E-Mail, Brief, Vortrag, Gesprä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MP00640_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28600" y="182880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2133720"/>
            <a:ext cx="853416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Auftrag</a:t>
            </a:r>
            <a:br>
              <a:rPr sz="24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fordern von Informationsmaterial unter dem Aspekt der landeskundlichen Kenntnisse über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80880" y="4572000"/>
          <a:ext cx="7824960" cy="614160"/>
        </p:xfrm>
        <a:graphic>
          <a:graphicData uri="http://schemas.openxmlformats.org/drawingml/2006/table">
            <a:tbl>
              <a:tblPr/>
              <a:tblGrid>
                <a:gridCol w="2438640"/>
                <a:gridCol w="2438280"/>
                <a:gridCol w="2948040"/>
              </a:tblGrid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Australi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Kan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Neuseel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8600" y="1371600"/>
            <a:ext cx="8686800" cy="76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Them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Schreibe einen Brief an die Botschaften von Australien. Kanada und Neuseeland mit der Bitte um Zusendung von Informationen üb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as Schulsystem, Schüler- und Studentenaustaus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inwanderungsquote, Statistik über Beschäftigungs- und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rbeitslosenquo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ruttosozialprodukt, Export- und Import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ngaben über Agrarwirtschaft und Industr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edeutung des Tourismus und Empfehlungen für Sehenswürdigkei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19720" y="434340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as Erkennen, dass die englische Sprache nicht nur im zusammen-wachsenden Europa, sondern welt-weit in Wort und Schrift führend i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362320"/>
            <a:ext cx="8915400" cy="4267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33520" y="2514240"/>
            <a:ext cx="8229600" cy="3809880"/>
          </a:xfrm>
          <a:prstGeom prst="line">
            <a:avLst/>
          </a:prstGeom>
          <a:ln w="76320">
            <a:solidFill>
              <a:srgbClr val="f98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219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 Black"/>
              </a:rPr>
              <a:t>Z i e 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266688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e Anwendung der englischen Sprache, praktiziert an einem realistischen Beispiel in Verbindung mit den Regeln für das Anfertigen von Brief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5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15238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Brainstorm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981080"/>
            <a:ext cx="2209680" cy="18288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r kümmert sic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m di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schrift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2362320"/>
            <a:ext cx="2133720" cy="1295280"/>
          </a:xfrm>
          <a:prstGeom prst="rect">
            <a:avLst/>
          </a:prstGeom>
          <a:noFill/>
          <a:ln w="57240">
            <a:solidFill>
              <a:srgbClr val="d60093"/>
            </a:solidFill>
            <a:prstDash val="sysDot"/>
            <a:miter/>
          </a:ln>
          <a:effectLst>
            <a:outerShdw dist="153753" dir="2700000" blurRad="0" rotWithShape="0">
              <a:srgbClr val="7f005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önnen wir nic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ur ein E-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hreib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4267080"/>
            <a:ext cx="2819160" cy="1600200"/>
          </a:xfrm>
          <a:prstGeom prst="hexagon">
            <a:avLst>
              <a:gd name="adj" fmla="val 44044"/>
              <a:gd name="vf" fmla="val 115470"/>
            </a:avLst>
          </a:prstGeom>
          <a:noFill/>
          <a:ln w="57240">
            <a:solidFill>
              <a:srgbClr val="ff00ff"/>
            </a:solidFill>
            <a:miter/>
          </a:ln>
          <a:effectLst>
            <a:outerShdw dist="17819" dir="2700000" blurRad="0" rotWithShape="0">
              <a:srgbClr val="98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a müssen wi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el zu viele Brie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hreib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2286000"/>
            <a:ext cx="2133720" cy="1752480"/>
          </a:xfrm>
          <a:prstGeom prst="parallelogram">
            <a:avLst>
              <a:gd name="adj" fmla="val 30439"/>
            </a:avLst>
          </a:prstGeom>
          <a:noFill/>
          <a:ln w="38160">
            <a:solidFill>
              <a:srgbClr val="3399ff"/>
            </a:solidFill>
            <a:miter/>
          </a:ln>
          <a:effectLst>
            <a:outerShdw dist="17819" dir="2700000" blurRad="0" rotWithShape="0">
              <a:srgbClr val="1e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ch kann 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icht üb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tzen –nu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achausdrüc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343400"/>
            <a:ext cx="2514600" cy="1523880"/>
          </a:xfrm>
          <a:prstGeom prst="pentagon">
            <a:avLst/>
          </a:prstGeom>
          <a:noFill/>
          <a:ln w="57240">
            <a:solidFill>
              <a:srgbClr val="00ff00"/>
            </a:solidFill>
            <a:miter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ir arbei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zusam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4267080"/>
            <a:ext cx="1981080" cy="18288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9900"/>
            </a:solidFill>
            <a:miter/>
          </a:ln>
          <a:effectLst>
            <a:outerShdw dist="153753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Stich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wort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brief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1828800"/>
            <a:ext cx="2514600" cy="2057400"/>
          </a:xfrm>
          <a:prstGeom prst="rtTriangle">
            <a:avLst/>
          </a:prstGeom>
          <a:noFill/>
          <a:ln w="47520">
            <a:solidFill>
              <a:srgbClr val="ff3300"/>
            </a:solidFill>
            <a:prstDash val="lgDash"/>
            <a:miter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nglis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t nic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ine Stär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5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52280" y="1676520"/>
            <a:ext cx="8991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chfüh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inteilung der Grup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teilung der The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iefentwurf in Deutsch formulie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Überprüfen auf inhaltliche Richtig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Übersetzen ins Englis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rrekturle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gültige Fassung schreiben und abschic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eichzeitig die Anfrage per E-Mail an die Botschaften rich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44792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ostanschriften und E-Mail-Adressen  der Botscha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2438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ustrali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43434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3200400"/>
            <a:ext cx="2590920" cy="36576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733920"/>
            <a:ext cx="2590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ustralische Botschaft Friedrichstr. 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0117 Berl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56386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Arial"/>
              </a:rPr>
              <a:t>info@australien-embassy.de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200400"/>
            <a:ext cx="2590920" cy="36576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3200400"/>
            <a:ext cx="2590920" cy="36576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657600"/>
            <a:ext cx="25905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euseeländische Botschaft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trium, 4. Etage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riedrichstraße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0117 Berl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58672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nzemb@t-online.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3505320"/>
            <a:ext cx="2590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Kanadische Botschaft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riedrichstraße 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0117 Berl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571500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brlin-pa@dfait-maeci-gc.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24382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usee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2438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an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4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934320" y="2438280"/>
            <a:ext cx="1676160" cy="3886200"/>
          </a:xfrm>
          <a:prstGeom prst="flowChartMagneticDisk">
            <a:avLst/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2362320"/>
            <a:ext cx="1676160" cy="3886200"/>
          </a:xfrm>
          <a:prstGeom prst="flowChartMagneticDisk">
            <a:avLst/>
          </a:prstGeom>
          <a:gradFill rotWithShape="0">
            <a:gsLst>
              <a:gs pos="0">
                <a:srgbClr val="d60093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2362320"/>
            <a:ext cx="1676520" cy="3886200"/>
          </a:xfrm>
          <a:prstGeom prst="flowChartMagneticDisk">
            <a:avLst/>
          </a:prstGeom>
          <a:gradFill rotWithShape="0">
            <a:gsLst>
              <a:gs pos="0">
                <a:srgbClr val="ffff00"/>
              </a:gs>
              <a:gs pos="100000">
                <a:srgbClr val="d6009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2362320"/>
            <a:ext cx="1676520" cy="3886200"/>
          </a:xfrm>
          <a:prstGeom prst="flowChartMagneticDisk">
            <a:avLst/>
          </a:prstGeom>
          <a:gradFill rotWithShape="0">
            <a:gsLst>
              <a:gs pos="0">
                <a:srgbClr val="d60093"/>
              </a:gs>
              <a:gs pos="100000">
                <a:srgbClr val="00004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362320"/>
            <a:ext cx="1676520" cy="3886200"/>
          </a:xfrm>
          <a:prstGeom prst="flowChartMagneticDisk">
            <a:avLst/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3276720"/>
            <a:ext cx="190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Educational system, school exchange and student ex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3505320"/>
            <a:ext cx="1676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Immigration occupation quota, statistics on unemploy-ment rat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3505320"/>
            <a:ext cx="1828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44"/>
                </a:solidFill>
                <a:latin typeface="Times New Roman"/>
              </a:rPr>
              <a:t>National gross product, export rate, import ra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3429000"/>
            <a:ext cx="1752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2663a0"/>
                </a:solidFill>
                <a:latin typeface="Times New Roman"/>
              </a:rPr>
              <a:t>Specification concerning </a:t>
            </a:r>
            <a:r>
              <a:rPr b="1" lang="de-DE" sz="2400" spc="-1" strike="noStrike">
                <a:solidFill>
                  <a:srgbClr val="2663a0"/>
                </a:solidFill>
                <a:latin typeface="Times New Roman"/>
              </a:rPr>
              <a:t>rural economy and indu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86600" y="3429000"/>
            <a:ext cx="13716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Times New Roman"/>
              </a:rPr>
              <a:t>Meaning of the tourism recommendation of places of</a:t>
            </a:r>
            <a:r>
              <a:rPr b="1" lang="de-DE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de-DE" sz="2000" spc="-1" strike="noStrike">
                <a:solidFill>
                  <a:srgbClr val="000099"/>
                </a:solidFill>
                <a:latin typeface="Times New Roman"/>
              </a:rPr>
              <a:t>inter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1T18:52:34Z</dcterms:created>
  <dc:creator>RSM</dc:creator>
  <dc:description/>
  <dc:language>en-US</dc:language>
  <cp:lastModifiedBy>Schueler</cp:lastModifiedBy>
  <dcterms:modified xsi:type="dcterms:W3CDTF">2001-12-03T17:48:36Z</dcterms:modified>
  <cp:revision>10</cp:revision>
  <dc:subject/>
  <dc:title>Projekt Englische Korrespondenz</dc:title>
</cp:coreProperties>
</file>