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976D-6F6D-40EE-9A45-A594BC47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0ADF-ADB5-4568-AEAA-BEAE8ED9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3A1-A537-4810-BD04-1CC4E34D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FC4D-89FE-46D9-9338-7FB3F4CA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BC95-5F24-49EA-B93F-F6FCD1DB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745D-3733-402D-AA4B-999EFB16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2120-4C33-471D-BB52-C866159F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B1F8-8993-4748-A3A3-0DDF6054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BA4A-2B01-4637-8477-5AAFE983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E29E-76EF-4EBA-83A3-95FE69EA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0771-B518-4386-B346-188D91A7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667-AEE7-48B1-ADC0-60FED951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9F28-F28A-49F4-B918-E493A55C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3F7A-7A03-4100-9C37-1829E120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C60B-8F7A-4921-A4EB-AB27A2ED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56E8-A3F7-4F8A-8A75-AA0D010F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0355-38BB-4FA3-8D99-21D72EF8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BFF-E93A-4598-B837-5F9AE85B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5B3-229F-4E44-8F0F-C283808D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2433-3C04-4A41-91D4-58726291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0A5-375F-4EC5-9743-DBEB7BB5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D2C5-09AD-4FE1-AF35-715B6005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054-2CBB-477A-A959-083CC6ED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BDB5-F2F0-420A-89AF-79D7B764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E5C1-A62C-4CD8-A455-4DA7B5DBC5E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74A0-7238-4E85-892F-D6308894F83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Northern  Ireland 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cotland 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-31896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Wales 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2543040"/>
            <a:ext cx="3809880" cy="268632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848720" y="2514600"/>
            <a:ext cx="814320" cy="762120"/>
          </a:xfrm>
          <a:custGeom>
            <a:avLst/>
            <a:gdLst>
              <a:gd name="textAreaLeft" fmla="*/ 49320 w 814320"/>
              <a:gd name="textAreaRight" fmla="*/ 765000 w 814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079" h="21600">
                <a:moveTo>
                  <a:pt x="0" y="0"/>
                </a:moveTo>
                <a:lnTo>
                  <a:pt x="23079" y="0"/>
                </a:lnTo>
                <a:lnTo>
                  <a:pt x="23079" y="21600"/>
                </a:lnTo>
                <a:lnTo>
                  <a:pt x="0" y="21600"/>
                </a:lnTo>
                <a:close/>
              </a:path>
              <a:path fill="lightenLess" w="23079" h="21600">
                <a:moveTo>
                  <a:pt x="0" y="0"/>
                </a:moveTo>
                <a:lnTo>
                  <a:pt x="23079" y="0"/>
                </a:lnTo>
                <a:lnTo>
                  <a:pt x="21679" y="1400"/>
                </a:lnTo>
                <a:lnTo>
                  <a:pt x="1400" y="1400"/>
                </a:lnTo>
                <a:close/>
              </a:path>
              <a:path fill="darken" w="23079" h="21600">
                <a:moveTo>
                  <a:pt x="23079" y="0"/>
                </a:moveTo>
                <a:lnTo>
                  <a:pt x="23079" y="21600"/>
                </a:lnTo>
                <a:lnTo>
                  <a:pt x="21679" y="20200"/>
                </a:lnTo>
                <a:lnTo>
                  <a:pt x="21679" y="1400"/>
                </a:lnTo>
                <a:close/>
              </a:path>
              <a:path fill="darkenLess" w="23079" h="21600">
                <a:moveTo>
                  <a:pt x="23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79" y="20200"/>
                </a:lnTo>
                <a:close/>
              </a:path>
              <a:path fill="lighten" w="23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7848720" y="4114800"/>
            <a:ext cx="814320" cy="838080"/>
          </a:xfrm>
          <a:custGeom>
            <a:avLst/>
            <a:gdLst>
              <a:gd name="textAreaLeft" fmla="*/ 52560 w 814320"/>
              <a:gd name="textAreaRight" fmla="*/ 761760 w 814320"/>
              <a:gd name="textAreaTop" fmla="*/ 52560 h 838080"/>
              <a:gd name="textAreaBottom" fmla="*/ 785520 h 838080"/>
            </a:gdLst>
            <a:ahLst/>
            <a:rect l="textAreaLeft" t="textAreaTop" r="textAreaRight" b="textAreaBottom"/>
            <a:pathLst>
              <a:path w="21600" h="22230">
                <a:moveTo>
                  <a:pt x="0" y="0"/>
                </a:moveTo>
                <a:lnTo>
                  <a:pt x="21600" y="0"/>
                </a:lnTo>
                <a:lnTo>
                  <a:pt x="21600" y="22230"/>
                </a:lnTo>
                <a:lnTo>
                  <a:pt x="0" y="22230"/>
                </a:lnTo>
                <a:close/>
              </a:path>
              <a:path fill="lightenLess" w="21600" h="222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30">
                <a:moveTo>
                  <a:pt x="21600" y="0"/>
                </a:moveTo>
                <a:lnTo>
                  <a:pt x="21600" y="22230"/>
                </a:lnTo>
                <a:lnTo>
                  <a:pt x="20200" y="20830"/>
                </a:lnTo>
                <a:lnTo>
                  <a:pt x="20200" y="1400"/>
                </a:lnTo>
                <a:close/>
              </a:path>
              <a:path fill="darkenLess" w="21600" h="22230">
                <a:moveTo>
                  <a:pt x="21600" y="22230"/>
                </a:moveTo>
                <a:lnTo>
                  <a:pt x="0" y="22230"/>
                </a:lnTo>
                <a:lnTo>
                  <a:pt x="1400" y="20830"/>
                </a:lnTo>
                <a:lnTo>
                  <a:pt x="20200" y="20830"/>
                </a:lnTo>
                <a:close/>
              </a:path>
              <a:path fill="lighten" w="21600" h="22230">
                <a:moveTo>
                  <a:pt x="0" y="222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3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7848720" y="5410080"/>
            <a:ext cx="814320" cy="762120"/>
          </a:xfrm>
          <a:custGeom>
            <a:avLst/>
            <a:gdLst>
              <a:gd name="textAreaLeft" fmla="*/ 49320 w 814320"/>
              <a:gd name="textAreaRight" fmla="*/ 765000 w 814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079" h="21600">
                <a:moveTo>
                  <a:pt x="0" y="0"/>
                </a:moveTo>
                <a:lnTo>
                  <a:pt x="23079" y="0"/>
                </a:lnTo>
                <a:lnTo>
                  <a:pt x="23079" y="21600"/>
                </a:lnTo>
                <a:lnTo>
                  <a:pt x="0" y="21600"/>
                </a:lnTo>
                <a:close/>
              </a:path>
              <a:path fill="lightenLess" w="23079" h="21600">
                <a:moveTo>
                  <a:pt x="0" y="0"/>
                </a:moveTo>
                <a:lnTo>
                  <a:pt x="23079" y="0"/>
                </a:lnTo>
                <a:lnTo>
                  <a:pt x="21679" y="1400"/>
                </a:lnTo>
                <a:lnTo>
                  <a:pt x="1400" y="1400"/>
                </a:lnTo>
                <a:close/>
              </a:path>
              <a:path fill="darken" w="23079" h="21600">
                <a:moveTo>
                  <a:pt x="23079" y="0"/>
                </a:moveTo>
                <a:lnTo>
                  <a:pt x="23079" y="21600"/>
                </a:lnTo>
                <a:lnTo>
                  <a:pt x="21679" y="20200"/>
                </a:lnTo>
                <a:lnTo>
                  <a:pt x="21679" y="1400"/>
                </a:lnTo>
                <a:close/>
              </a:path>
              <a:path fill="darkenLess" w="23079" h="21600">
                <a:moveTo>
                  <a:pt x="23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79" y="20200"/>
                </a:lnTo>
                <a:close/>
              </a:path>
              <a:path fill="lighten" w="23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teel</a:t>
            </a: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 worker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55840" y="1828800"/>
            <a:ext cx="28782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miner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o min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28720" y="1828800"/>
            <a:ext cx="233208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arrow</a:t>
            </a: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 street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2300400"/>
            <a:ext cx="3809880" cy="31701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to sell things to another country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o export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the money you get for your work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age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2097000"/>
            <a:ext cx="3809880" cy="357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small church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apel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08200" y="1828800"/>
            <a:ext cx="237492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lots of people singing together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oir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90720" y="2500200"/>
            <a:ext cx="3809880" cy="277200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848720" y="5410080"/>
            <a:ext cx="738000" cy="73836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7301" y="10805"/>
                </a:moveTo>
                <a:lnTo>
                  <a:pt x="17806" y="3799"/>
                </a:lnTo>
                <a:lnTo>
                  <a:pt x="17806" y="17812"/>
                </a:lnTo>
                <a:close/>
              </a:path>
              <a:path fill="darken" w="21600" h="21611">
                <a:moveTo>
                  <a:pt x="3794" y="3799"/>
                </a:moveTo>
                <a:lnTo>
                  <a:pt x="5456" y="3799"/>
                </a:lnTo>
                <a:lnTo>
                  <a:pt x="5456" y="17812"/>
                </a:lnTo>
                <a:lnTo>
                  <a:pt x="3794" y="17812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orry, you´re wrong !!!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7543800" y="5181480"/>
            <a:ext cx="890640" cy="838440"/>
          </a:xfrm>
          <a:custGeom>
            <a:avLst/>
            <a:gdLst>
              <a:gd name="textAreaLeft" fmla="*/ 54360 w 890640"/>
              <a:gd name="textAreaRight" fmla="*/ 836280 w 890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2944" h="21600">
                <a:moveTo>
                  <a:pt x="0" y="0"/>
                </a:moveTo>
                <a:lnTo>
                  <a:pt x="22944" y="0"/>
                </a:lnTo>
                <a:lnTo>
                  <a:pt x="22944" y="21600"/>
                </a:lnTo>
                <a:lnTo>
                  <a:pt x="0" y="21600"/>
                </a:lnTo>
                <a:close/>
              </a:path>
              <a:path fill="lightenLess" w="22944" h="21600">
                <a:moveTo>
                  <a:pt x="0" y="0"/>
                </a:moveTo>
                <a:lnTo>
                  <a:pt x="22944" y="0"/>
                </a:lnTo>
                <a:lnTo>
                  <a:pt x="21544" y="1400"/>
                </a:lnTo>
                <a:lnTo>
                  <a:pt x="1400" y="1400"/>
                </a:lnTo>
                <a:close/>
              </a:path>
              <a:path fill="darken" w="22944" h="21600">
                <a:moveTo>
                  <a:pt x="22944" y="0"/>
                </a:moveTo>
                <a:lnTo>
                  <a:pt x="22944" y="21600"/>
                </a:lnTo>
                <a:lnTo>
                  <a:pt x="21544" y="20200"/>
                </a:lnTo>
                <a:lnTo>
                  <a:pt x="21544" y="1400"/>
                </a:lnTo>
                <a:close/>
              </a:path>
              <a:path fill="darkenLess" w="22944" h="21600">
                <a:moveTo>
                  <a:pt x="22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4" y="20200"/>
                </a:lnTo>
                <a:close/>
              </a:path>
              <a:path fill="lighten" w="22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44" h="21600">
                <a:moveTo>
                  <a:pt x="4466" y="10800"/>
                </a:moveTo>
                <a:lnTo>
                  <a:pt x="18479" y="3794"/>
                </a:lnTo>
                <a:lnTo>
                  <a:pt x="18479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00200" y="2208240"/>
          <a:ext cx="533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0824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orry, you´re wrong !!!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7543800" y="5181480"/>
            <a:ext cx="890640" cy="838440"/>
          </a:xfrm>
          <a:custGeom>
            <a:avLst/>
            <a:gdLst>
              <a:gd name="textAreaLeft" fmla="*/ 54360 w 890640"/>
              <a:gd name="textAreaRight" fmla="*/ 836280 w 8906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2944" h="21600">
                <a:moveTo>
                  <a:pt x="0" y="0"/>
                </a:moveTo>
                <a:lnTo>
                  <a:pt x="22944" y="0"/>
                </a:lnTo>
                <a:lnTo>
                  <a:pt x="22944" y="21600"/>
                </a:lnTo>
                <a:lnTo>
                  <a:pt x="0" y="21600"/>
                </a:lnTo>
                <a:close/>
              </a:path>
              <a:path fill="lightenLess" w="22944" h="21600">
                <a:moveTo>
                  <a:pt x="0" y="0"/>
                </a:moveTo>
                <a:lnTo>
                  <a:pt x="22944" y="0"/>
                </a:lnTo>
                <a:lnTo>
                  <a:pt x="21544" y="1400"/>
                </a:lnTo>
                <a:lnTo>
                  <a:pt x="1400" y="1400"/>
                </a:lnTo>
                <a:close/>
              </a:path>
              <a:path fill="darken" w="22944" h="21600">
                <a:moveTo>
                  <a:pt x="22944" y="0"/>
                </a:moveTo>
                <a:lnTo>
                  <a:pt x="22944" y="21600"/>
                </a:lnTo>
                <a:lnTo>
                  <a:pt x="21544" y="20200"/>
                </a:lnTo>
                <a:lnTo>
                  <a:pt x="21544" y="1400"/>
                </a:lnTo>
                <a:close/>
              </a:path>
              <a:path fill="darkenLess" w="22944" h="21600">
                <a:moveTo>
                  <a:pt x="22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44" y="20200"/>
                </a:lnTo>
                <a:close/>
              </a:path>
              <a:path fill="lighten" w="22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44" h="21600">
                <a:moveTo>
                  <a:pt x="4466" y="10800"/>
                </a:moveTo>
                <a:lnTo>
                  <a:pt x="18479" y="3794"/>
                </a:lnTo>
                <a:lnTo>
                  <a:pt x="18479" y="17806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00200" y="2208240"/>
          <a:ext cx="5335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0824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Wale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elsh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2543040"/>
            <a:ext cx="3809880" cy="2686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676520" y="19051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opposite of hill/mountain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valley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2457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to put two things together to make on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o unit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opposite of mor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ss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the son of a king or queen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rinc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noun of to travel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ravel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14:46:09Z</dcterms:created>
  <dc:creator>Margit Glöckner-Wenk</dc:creator>
  <dc:description/>
  <dc:language>en-US</dc:language>
  <cp:lastModifiedBy>Peter Hausladen</cp:lastModifiedBy>
  <dcterms:modified xsi:type="dcterms:W3CDTF">2003-12-02T18:50:46Z</dcterms:modified>
  <cp:revision>6</cp:revision>
  <dc:subject/>
  <dc:title>Kein Folientitel</dc:title>
</cp:coreProperties>
</file>