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004-C5BB-4147-92E1-A01B117D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24C-483D-4889-B7DF-B390266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4CF-AF8D-4F47-82D8-DCF8EAB3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8F5-1C59-4DFE-91B9-CA599DDD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D12D-BB9B-4AC5-A415-85100249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8C8E-99FB-46D9-8DD5-A1398AA7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D4AC-8ADC-403E-B63D-39B131BD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5EE1-9CFD-47CC-89A9-6DE0BCF5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95BA-D8E0-4D22-ABA8-2514D416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6548-64CD-4022-ABC3-01C80A4F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68E0-8185-4407-A011-E8B191B4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BC1-4010-4159-99EF-071F5B8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7D99-02B7-4535-8FDE-DBAD38DD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23FC-A13A-414D-8E33-EF037F8A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3E3C-D046-4E30-AAE6-3FCCB890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32F4-08F1-4F08-A086-8CAB59AE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8A2D-2AB0-4F07-A4B9-BD9C39D9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FCA-4560-4E9C-B670-176660FC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511-E96B-4D1D-B676-8767F71B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3D7-BAA8-419C-B3CC-68F05485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813-0FF3-493B-A62B-0E4E0515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AB9-8C8E-413D-8875-1E3BFFD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733-F225-48FC-834B-A913C26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7FC-ECB0-4E22-ADFC-6619C11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3D9-F319-47B8-A1A6-7542B2BABBB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A3C7-B46F-4AA9-8C0A-C610DFAB082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Northern  Ireland 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cotland 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ales 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2543040"/>
            <a:ext cx="3809880" cy="2686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2514600"/>
            <a:ext cx="814320" cy="762120"/>
          </a:xfrm>
          <a:custGeom>
            <a:avLst/>
            <a:gdLst>
              <a:gd name="textAreaLeft" fmla="*/ 49320 w 814320"/>
              <a:gd name="textAreaRight" fmla="*/ 765000 w 814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079" h="21600">
                <a:moveTo>
                  <a:pt x="0" y="0"/>
                </a:moveTo>
                <a:lnTo>
                  <a:pt x="23079" y="0"/>
                </a:lnTo>
                <a:lnTo>
                  <a:pt x="23079" y="21600"/>
                </a:lnTo>
                <a:lnTo>
                  <a:pt x="0" y="21600"/>
                </a:lnTo>
                <a:close/>
              </a:path>
              <a:path fill="lightenLess" w="23079" h="21600">
                <a:moveTo>
                  <a:pt x="0" y="0"/>
                </a:moveTo>
                <a:lnTo>
                  <a:pt x="23079" y="0"/>
                </a:lnTo>
                <a:lnTo>
                  <a:pt x="21679" y="1400"/>
                </a:lnTo>
                <a:lnTo>
                  <a:pt x="1400" y="1400"/>
                </a:lnTo>
                <a:close/>
              </a:path>
              <a:path fill="darken" w="23079" h="21600">
                <a:moveTo>
                  <a:pt x="23079" y="0"/>
                </a:moveTo>
                <a:lnTo>
                  <a:pt x="23079" y="21600"/>
                </a:lnTo>
                <a:lnTo>
                  <a:pt x="21679" y="20200"/>
                </a:lnTo>
                <a:lnTo>
                  <a:pt x="21679" y="1400"/>
                </a:lnTo>
                <a:close/>
              </a:path>
              <a:path fill="darkenLess" w="23079" h="21600">
                <a:moveTo>
                  <a:pt x="23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79" y="20200"/>
                </a:lnTo>
                <a:close/>
              </a:path>
              <a:path fill="lighten" w="23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848720" y="4114800"/>
            <a:ext cx="814320" cy="83808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38080"/>
              <a:gd name="textAreaBottom" fmla="*/ 785520 h 838080"/>
            </a:gdLst>
            <a:ahLst/>
            <a:rect l="textAreaLeft" t="textAreaTop" r="textAreaRight" b="textAreaBottom"/>
            <a:pathLst>
              <a:path w="21600" h="22230">
                <a:moveTo>
                  <a:pt x="0" y="0"/>
                </a:moveTo>
                <a:lnTo>
                  <a:pt x="21600" y="0"/>
                </a:lnTo>
                <a:lnTo>
                  <a:pt x="21600" y="22230"/>
                </a:lnTo>
                <a:lnTo>
                  <a:pt x="0" y="22230"/>
                </a:lnTo>
                <a:close/>
              </a:path>
              <a:path fill="lightenLess" w="21600" h="222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30">
                <a:moveTo>
                  <a:pt x="21600" y="0"/>
                </a:moveTo>
                <a:lnTo>
                  <a:pt x="21600" y="22230"/>
                </a:lnTo>
                <a:lnTo>
                  <a:pt x="20200" y="20830"/>
                </a:lnTo>
                <a:lnTo>
                  <a:pt x="20200" y="1400"/>
                </a:lnTo>
                <a:close/>
              </a:path>
              <a:path fill="darkenLess" w="21600" h="22230">
                <a:moveTo>
                  <a:pt x="21600" y="22230"/>
                </a:moveTo>
                <a:lnTo>
                  <a:pt x="0" y="22230"/>
                </a:lnTo>
                <a:lnTo>
                  <a:pt x="1400" y="20830"/>
                </a:lnTo>
                <a:lnTo>
                  <a:pt x="20200" y="20830"/>
                </a:lnTo>
                <a:close/>
              </a:path>
              <a:path fill="lighten" w="21600" h="22230">
                <a:moveTo>
                  <a:pt x="0" y="222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848720" y="5410080"/>
            <a:ext cx="814320" cy="762120"/>
          </a:xfrm>
          <a:custGeom>
            <a:avLst/>
            <a:gdLst>
              <a:gd name="textAreaLeft" fmla="*/ 49320 w 814320"/>
              <a:gd name="textAreaRight" fmla="*/ 765000 w 814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079" h="21600">
                <a:moveTo>
                  <a:pt x="0" y="0"/>
                </a:moveTo>
                <a:lnTo>
                  <a:pt x="23079" y="0"/>
                </a:lnTo>
                <a:lnTo>
                  <a:pt x="23079" y="21600"/>
                </a:lnTo>
                <a:lnTo>
                  <a:pt x="0" y="21600"/>
                </a:lnTo>
                <a:close/>
              </a:path>
              <a:path fill="lightenLess" w="23079" h="21600">
                <a:moveTo>
                  <a:pt x="0" y="0"/>
                </a:moveTo>
                <a:lnTo>
                  <a:pt x="23079" y="0"/>
                </a:lnTo>
                <a:lnTo>
                  <a:pt x="21679" y="1400"/>
                </a:lnTo>
                <a:lnTo>
                  <a:pt x="1400" y="1400"/>
                </a:lnTo>
                <a:close/>
              </a:path>
              <a:path fill="darken" w="23079" h="21600">
                <a:moveTo>
                  <a:pt x="23079" y="0"/>
                </a:moveTo>
                <a:lnTo>
                  <a:pt x="23079" y="21600"/>
                </a:lnTo>
                <a:lnTo>
                  <a:pt x="21679" y="20200"/>
                </a:lnTo>
                <a:lnTo>
                  <a:pt x="21679" y="1400"/>
                </a:lnTo>
                <a:close/>
              </a:path>
              <a:path fill="darkenLess" w="23079" h="21600">
                <a:moveTo>
                  <a:pt x="23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79" y="20200"/>
                </a:lnTo>
                <a:close/>
              </a:path>
              <a:path fill="lighten" w="23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eel</a:t>
            </a: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 work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55840" y="1828800"/>
            <a:ext cx="28782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in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mi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28720" y="1828800"/>
            <a:ext cx="23320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arrow</a:t>
            </a: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 stree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2300400"/>
            <a:ext cx="3809880" cy="3170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o sell things to another country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expor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he money you get for your work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ag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2097000"/>
            <a:ext cx="3809880" cy="357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small church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el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08200" y="1828800"/>
            <a:ext cx="23749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lots of people singing togeth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oi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2500200"/>
            <a:ext cx="3809880" cy="277200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848720" y="5410080"/>
            <a:ext cx="738000" cy="73836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7301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5456" y="3799"/>
                </a:lnTo>
                <a:lnTo>
                  <a:pt x="5456" y="17812"/>
                </a:lnTo>
                <a:lnTo>
                  <a:pt x="3794" y="17812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orry, you´re wrong !!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543800" y="5181480"/>
            <a:ext cx="890640" cy="838440"/>
          </a:xfrm>
          <a:custGeom>
            <a:avLst/>
            <a:gdLst>
              <a:gd name="textAreaLeft" fmla="*/ 54360 w 890640"/>
              <a:gd name="textAreaRight" fmla="*/ 836280 w 890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2944" h="21600">
                <a:moveTo>
                  <a:pt x="0" y="0"/>
                </a:moveTo>
                <a:lnTo>
                  <a:pt x="22944" y="0"/>
                </a:lnTo>
                <a:lnTo>
                  <a:pt x="22944" y="21600"/>
                </a:lnTo>
                <a:lnTo>
                  <a:pt x="0" y="21600"/>
                </a:lnTo>
                <a:close/>
              </a:path>
              <a:path fill="lightenLess" w="22944" h="21600">
                <a:moveTo>
                  <a:pt x="0" y="0"/>
                </a:moveTo>
                <a:lnTo>
                  <a:pt x="22944" y="0"/>
                </a:lnTo>
                <a:lnTo>
                  <a:pt x="21544" y="1400"/>
                </a:lnTo>
                <a:lnTo>
                  <a:pt x="1400" y="1400"/>
                </a:lnTo>
                <a:close/>
              </a:path>
              <a:path fill="darken" w="22944" h="21600">
                <a:moveTo>
                  <a:pt x="22944" y="0"/>
                </a:moveTo>
                <a:lnTo>
                  <a:pt x="22944" y="21600"/>
                </a:lnTo>
                <a:lnTo>
                  <a:pt x="21544" y="20200"/>
                </a:lnTo>
                <a:lnTo>
                  <a:pt x="21544" y="1400"/>
                </a:lnTo>
                <a:close/>
              </a:path>
              <a:path fill="darkenLess" w="22944" h="21600">
                <a:moveTo>
                  <a:pt x="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4" y="20200"/>
                </a:lnTo>
                <a:close/>
              </a:path>
              <a:path fill="lighten" w="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4" h="21600">
                <a:moveTo>
                  <a:pt x="4466" y="10800"/>
                </a:moveTo>
                <a:lnTo>
                  <a:pt x="18479" y="3794"/>
                </a:lnTo>
                <a:lnTo>
                  <a:pt x="18479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00200" y="220824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824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orry, you´re wrong !!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7543800" y="5181480"/>
            <a:ext cx="890640" cy="838440"/>
          </a:xfrm>
          <a:custGeom>
            <a:avLst/>
            <a:gdLst>
              <a:gd name="textAreaLeft" fmla="*/ 54360 w 890640"/>
              <a:gd name="textAreaRight" fmla="*/ 836280 w 890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2944" h="21600">
                <a:moveTo>
                  <a:pt x="0" y="0"/>
                </a:moveTo>
                <a:lnTo>
                  <a:pt x="22944" y="0"/>
                </a:lnTo>
                <a:lnTo>
                  <a:pt x="22944" y="21600"/>
                </a:lnTo>
                <a:lnTo>
                  <a:pt x="0" y="21600"/>
                </a:lnTo>
                <a:close/>
              </a:path>
              <a:path fill="lightenLess" w="22944" h="21600">
                <a:moveTo>
                  <a:pt x="0" y="0"/>
                </a:moveTo>
                <a:lnTo>
                  <a:pt x="22944" y="0"/>
                </a:lnTo>
                <a:lnTo>
                  <a:pt x="21544" y="1400"/>
                </a:lnTo>
                <a:lnTo>
                  <a:pt x="1400" y="1400"/>
                </a:lnTo>
                <a:close/>
              </a:path>
              <a:path fill="darken" w="22944" h="21600">
                <a:moveTo>
                  <a:pt x="22944" y="0"/>
                </a:moveTo>
                <a:lnTo>
                  <a:pt x="22944" y="21600"/>
                </a:lnTo>
                <a:lnTo>
                  <a:pt x="21544" y="20200"/>
                </a:lnTo>
                <a:lnTo>
                  <a:pt x="21544" y="1400"/>
                </a:lnTo>
                <a:close/>
              </a:path>
              <a:path fill="darkenLess" w="22944" h="21600">
                <a:moveTo>
                  <a:pt x="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4" y="20200"/>
                </a:lnTo>
                <a:close/>
              </a:path>
              <a:path fill="lighten" w="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4" h="21600">
                <a:moveTo>
                  <a:pt x="4466" y="10800"/>
                </a:moveTo>
                <a:lnTo>
                  <a:pt x="18479" y="3794"/>
                </a:lnTo>
                <a:lnTo>
                  <a:pt x="18479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220824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824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Wal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lsh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543040"/>
            <a:ext cx="3809880" cy="2686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opposite of hill/mountai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alley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457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o put two things together to make 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uni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opposite of mor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s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he son of a king or quee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rinc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noun of to travel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ravel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4:46:09Z</dcterms:created>
  <dc:creator>Margit Glöckner-Wenk</dc:creator>
  <dc:description/>
  <dc:language>en-US</dc:language>
  <cp:lastModifiedBy>Peter Hausladen</cp:lastModifiedBy>
  <dcterms:modified xsi:type="dcterms:W3CDTF">2003-12-02T18:50:46Z</dcterms:modified>
  <cp:revision>6</cp:revision>
  <dc:subject/>
  <dc:title>Kein Folientitel</dc:title>
</cp:coreProperties>
</file>