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B73F-D713-461A-B731-763FB89F2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81B8-D998-4670-B6A0-4A3938C22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B183-C75E-4E5C-A834-DD78F2F6E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12DE-DFB0-4FE3-84AB-4FE78DE26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D2FDE-5E22-468C-AD73-0A92C9423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D82C5-8063-4E25-80FF-A952EA976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12923-CBAC-4B5F-9D23-00FE5589B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F952D-D690-4C1C-A2F9-606A434CF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F6A33-A455-4648-8FE8-664D32BD9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E34FD-24F4-4546-A5AC-B0F99CEA5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3BF80-28C0-4215-8B2B-2E4AF44CD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82E9-2A73-4276-A0A1-BE9850D5D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96FEC-170D-4981-99F8-523154545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EE79C-C62E-4BC0-BD13-C33F5BDE4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4B41A-0E6E-40A1-B3DF-956364DCD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8DCA4-C374-4475-8558-9C186F594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833CA-0D37-4EE4-ADF4-F63ADB5DE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C042-4E90-46A0-B517-365126598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81D2-6AB6-458A-A8B1-C3B4F032D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D622-8484-4F37-A696-392341654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03BF-3CE3-46AA-B369-7825A8F81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4558-3DE8-4D0D-8F51-EA000173B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1494-77F3-48A0-8D31-5F7E8B288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7C08-BE6A-4E0F-84FB-F513CEC9C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8316F-75B4-418B-89F7-E5F01A0AA3A1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30000-45D0-41ED-9167-FE047E0F20EB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18960" indent="-31896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Northern  Ireland ?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18960" indent="-31896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Scotland ?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18960" indent="-31896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Wales ?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990720" y="2543040"/>
            <a:ext cx="3809880" cy="2686320"/>
          </a:xfrm>
          <a:prstGeom prst="rect">
            <a:avLst/>
          </a:prstGeom>
          <a:ln w="0">
            <a:noFill/>
          </a:ln>
        </p:spPr>
      </p:pic>
      <p:sp>
        <p:nvSpPr>
          <p:cNvPr id="91" name="">
            <a:hlinkClick r:id="" action="ppaction://hlinkshowjump?jump=nextslide"/>
          </p:cNvPr>
          <p:cNvSpPr/>
          <p:nvPr/>
        </p:nvSpPr>
        <p:spPr>
          <a:xfrm>
            <a:off x="7848720" y="2514600"/>
            <a:ext cx="814320" cy="762120"/>
          </a:xfrm>
          <a:custGeom>
            <a:avLst/>
            <a:gdLst>
              <a:gd name="textAreaLeft" fmla="*/ 49320 w 814320"/>
              <a:gd name="textAreaRight" fmla="*/ 765000 w 814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079" h="21600">
                <a:moveTo>
                  <a:pt x="0" y="0"/>
                </a:moveTo>
                <a:lnTo>
                  <a:pt x="23079" y="0"/>
                </a:lnTo>
                <a:lnTo>
                  <a:pt x="23079" y="21600"/>
                </a:lnTo>
                <a:lnTo>
                  <a:pt x="0" y="21600"/>
                </a:lnTo>
                <a:close/>
              </a:path>
              <a:path fill="lightenLess" w="23079" h="21600">
                <a:moveTo>
                  <a:pt x="0" y="0"/>
                </a:moveTo>
                <a:lnTo>
                  <a:pt x="23079" y="0"/>
                </a:lnTo>
                <a:lnTo>
                  <a:pt x="21679" y="1400"/>
                </a:lnTo>
                <a:lnTo>
                  <a:pt x="1400" y="1400"/>
                </a:lnTo>
                <a:close/>
              </a:path>
              <a:path fill="darken" w="23079" h="21600">
                <a:moveTo>
                  <a:pt x="23079" y="0"/>
                </a:moveTo>
                <a:lnTo>
                  <a:pt x="23079" y="21600"/>
                </a:lnTo>
                <a:lnTo>
                  <a:pt x="21679" y="20200"/>
                </a:lnTo>
                <a:lnTo>
                  <a:pt x="21679" y="1400"/>
                </a:lnTo>
                <a:close/>
              </a:path>
              <a:path fill="darkenLess" w="23079" h="21600">
                <a:moveTo>
                  <a:pt x="230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79" y="20200"/>
                </a:lnTo>
                <a:close/>
              </a:path>
              <a:path fill="lighten" w="230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2" name="">
            <a:hlinkClick r:id="" action="ppaction://hlinkshowjump?jump=nextslide"/>
          </p:cNvPr>
          <p:cNvSpPr/>
          <p:nvPr/>
        </p:nvSpPr>
        <p:spPr>
          <a:xfrm>
            <a:off x="7848720" y="4114800"/>
            <a:ext cx="814320" cy="838080"/>
          </a:xfrm>
          <a:custGeom>
            <a:avLst/>
            <a:gdLst>
              <a:gd name="textAreaLeft" fmla="*/ 52560 w 814320"/>
              <a:gd name="textAreaRight" fmla="*/ 761760 w 814320"/>
              <a:gd name="textAreaTop" fmla="*/ 52560 h 838080"/>
              <a:gd name="textAreaBottom" fmla="*/ 785520 h 838080"/>
            </a:gdLst>
            <a:ahLst/>
            <a:rect l="textAreaLeft" t="textAreaTop" r="textAreaRight" b="textAreaBottom"/>
            <a:pathLst>
              <a:path w="21600" h="22230">
                <a:moveTo>
                  <a:pt x="0" y="0"/>
                </a:moveTo>
                <a:lnTo>
                  <a:pt x="21600" y="0"/>
                </a:lnTo>
                <a:lnTo>
                  <a:pt x="21600" y="22230"/>
                </a:lnTo>
                <a:lnTo>
                  <a:pt x="0" y="22230"/>
                </a:lnTo>
                <a:close/>
              </a:path>
              <a:path fill="lightenLess" w="21600" h="2223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230">
                <a:moveTo>
                  <a:pt x="21600" y="0"/>
                </a:moveTo>
                <a:lnTo>
                  <a:pt x="21600" y="22230"/>
                </a:lnTo>
                <a:lnTo>
                  <a:pt x="20200" y="20830"/>
                </a:lnTo>
                <a:lnTo>
                  <a:pt x="20200" y="1400"/>
                </a:lnTo>
                <a:close/>
              </a:path>
              <a:path fill="darkenLess" w="21600" h="22230">
                <a:moveTo>
                  <a:pt x="21600" y="22230"/>
                </a:moveTo>
                <a:lnTo>
                  <a:pt x="0" y="22230"/>
                </a:lnTo>
                <a:lnTo>
                  <a:pt x="1400" y="20830"/>
                </a:lnTo>
                <a:lnTo>
                  <a:pt x="20200" y="20830"/>
                </a:lnTo>
                <a:close/>
              </a:path>
              <a:path fill="lighten" w="21600" h="22230">
                <a:moveTo>
                  <a:pt x="0" y="2223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830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3" name="">
            <a:hlinkClick r:id="rId2" action="ppaction://hlinksldjump"/>
          </p:cNvPr>
          <p:cNvSpPr/>
          <p:nvPr/>
        </p:nvSpPr>
        <p:spPr>
          <a:xfrm>
            <a:off x="7848720" y="5410080"/>
            <a:ext cx="814320" cy="762120"/>
          </a:xfrm>
          <a:custGeom>
            <a:avLst/>
            <a:gdLst>
              <a:gd name="textAreaLeft" fmla="*/ 49320 w 814320"/>
              <a:gd name="textAreaRight" fmla="*/ 765000 w 814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079" h="21600">
                <a:moveTo>
                  <a:pt x="0" y="0"/>
                </a:moveTo>
                <a:lnTo>
                  <a:pt x="23079" y="0"/>
                </a:lnTo>
                <a:lnTo>
                  <a:pt x="23079" y="21600"/>
                </a:lnTo>
                <a:lnTo>
                  <a:pt x="0" y="21600"/>
                </a:lnTo>
                <a:close/>
              </a:path>
              <a:path fill="lightenLess" w="23079" h="21600">
                <a:moveTo>
                  <a:pt x="0" y="0"/>
                </a:moveTo>
                <a:lnTo>
                  <a:pt x="23079" y="0"/>
                </a:lnTo>
                <a:lnTo>
                  <a:pt x="21679" y="1400"/>
                </a:lnTo>
                <a:lnTo>
                  <a:pt x="1400" y="1400"/>
                </a:lnTo>
                <a:close/>
              </a:path>
              <a:path fill="darken" w="23079" h="21600">
                <a:moveTo>
                  <a:pt x="23079" y="0"/>
                </a:moveTo>
                <a:lnTo>
                  <a:pt x="23079" y="21600"/>
                </a:lnTo>
                <a:lnTo>
                  <a:pt x="21679" y="20200"/>
                </a:lnTo>
                <a:lnTo>
                  <a:pt x="21679" y="1400"/>
                </a:lnTo>
                <a:close/>
              </a:path>
              <a:path fill="darkenLess" w="23079" h="21600">
                <a:moveTo>
                  <a:pt x="230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79" y="20200"/>
                </a:lnTo>
                <a:close/>
              </a:path>
              <a:path fill="lighten" w="230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teel</a:t>
            </a:r>
            <a:r>
              <a:rPr b="1" lang="en-US" sz="4000" spc="-1" strike="noStrike">
                <a:solidFill>
                  <a:srgbClr val="402000"/>
                </a:solidFill>
                <a:latin typeface="Times New Roman"/>
              </a:rPr>
              <a:t> worker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455840" y="1828800"/>
            <a:ext cx="2878200" cy="4114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miner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o mine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728720" y="1828800"/>
            <a:ext cx="2332080" cy="41148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narrow</a:t>
            </a:r>
            <a:r>
              <a:rPr b="1" lang="en-US" sz="4000" spc="-1" strike="noStrike">
                <a:solidFill>
                  <a:srgbClr val="402000"/>
                </a:solidFill>
                <a:latin typeface="Times New Roman"/>
              </a:rPr>
              <a:t> street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90720" y="2300400"/>
            <a:ext cx="3809880" cy="317016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2000"/>
                </a:solidFill>
                <a:latin typeface="Times New Roman"/>
              </a:rPr>
              <a:t>to sell things to another country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o export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2000"/>
                </a:solidFill>
                <a:latin typeface="Times New Roman"/>
              </a:rPr>
              <a:t>the money you get for your work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wages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990720" y="2097000"/>
            <a:ext cx="3809880" cy="3578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2000"/>
                </a:solidFill>
                <a:latin typeface="Times New Roman"/>
              </a:rPr>
              <a:t>small church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chapel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708200" y="1828800"/>
            <a:ext cx="2374920" cy="4114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2000"/>
                </a:solidFill>
                <a:latin typeface="Times New Roman"/>
              </a:rPr>
              <a:t>lots of people singing together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choir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990720" y="2500200"/>
            <a:ext cx="3809880" cy="2772000"/>
          </a:xfrm>
          <a:prstGeom prst="rect">
            <a:avLst/>
          </a:prstGeom>
          <a:ln w="0">
            <a:noFill/>
          </a:ln>
        </p:spPr>
      </p:pic>
      <p:sp>
        <p:nvSpPr>
          <p:cNvPr id="144" name="">
            <a:hlinkClick r:id="" action="ppaction://hlinkshowjump?jump=firstslide"/>
          </p:cNvPr>
          <p:cNvSpPr/>
          <p:nvPr/>
        </p:nvSpPr>
        <p:spPr>
          <a:xfrm>
            <a:off x="7848720" y="5410080"/>
            <a:ext cx="738000" cy="738360"/>
          </a:xfrm>
          <a:custGeom>
            <a:avLst/>
            <a:gdLst>
              <a:gd name="textAreaLeft" fmla="*/ 47520 w 738000"/>
              <a:gd name="textAreaRight" fmla="*/ 690480 w 738000"/>
              <a:gd name="textAreaTop" fmla="*/ 47520 h 738360"/>
              <a:gd name="textAreaBottom" fmla="*/ 690840 h 738360"/>
            </a:gdLst>
            <a:ahLst/>
            <a:rect l="textAreaLeft" t="textAreaTop" r="textAreaRight" b="textAreaBottom"/>
            <a:pathLst>
              <a:path w="21600" h="21611">
                <a:moveTo>
                  <a:pt x="0" y="0"/>
                </a:moveTo>
                <a:lnTo>
                  <a:pt x="21600" y="0"/>
                </a:lnTo>
                <a:lnTo>
                  <a:pt x="21600" y="21611"/>
                </a:lnTo>
                <a:lnTo>
                  <a:pt x="0" y="21611"/>
                </a:lnTo>
                <a:close/>
              </a:path>
              <a:path fill="lightenLess" w="21600" h="216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1">
                <a:moveTo>
                  <a:pt x="21600" y="0"/>
                </a:moveTo>
                <a:lnTo>
                  <a:pt x="21600" y="21611"/>
                </a:lnTo>
                <a:lnTo>
                  <a:pt x="20200" y="20211"/>
                </a:lnTo>
                <a:lnTo>
                  <a:pt x="20200" y="1400"/>
                </a:lnTo>
                <a:close/>
              </a:path>
              <a:path fill="darkenLess" w="21600" h="21611">
                <a:moveTo>
                  <a:pt x="21600" y="21611"/>
                </a:moveTo>
                <a:lnTo>
                  <a:pt x="0" y="21611"/>
                </a:lnTo>
                <a:lnTo>
                  <a:pt x="1400" y="20211"/>
                </a:lnTo>
                <a:lnTo>
                  <a:pt x="20200" y="20211"/>
                </a:lnTo>
                <a:close/>
              </a:path>
              <a:path fill="lighten" w="21600" h="21611">
                <a:moveTo>
                  <a:pt x="0" y="216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1"/>
                </a:lnTo>
                <a:close/>
              </a:path>
              <a:path fill="darken" w="21600" h="21611">
                <a:moveTo>
                  <a:pt x="7301" y="10805"/>
                </a:moveTo>
                <a:lnTo>
                  <a:pt x="17806" y="3799"/>
                </a:lnTo>
                <a:lnTo>
                  <a:pt x="17806" y="17812"/>
                </a:lnTo>
                <a:close/>
              </a:path>
              <a:path fill="darken" w="21600" h="21611">
                <a:moveTo>
                  <a:pt x="3794" y="3799"/>
                </a:moveTo>
                <a:lnTo>
                  <a:pt x="5456" y="3799"/>
                </a:lnTo>
                <a:lnTo>
                  <a:pt x="5456" y="17812"/>
                </a:lnTo>
                <a:lnTo>
                  <a:pt x="3794" y="17812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Sorry, you´re wrong !!!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6" name="">
            <a:hlinkClick r:id="" action="ppaction://hlinkshowjump?jump=previousslide"/>
          </p:cNvPr>
          <p:cNvSpPr/>
          <p:nvPr/>
        </p:nvSpPr>
        <p:spPr>
          <a:xfrm>
            <a:off x="7543800" y="5181480"/>
            <a:ext cx="890640" cy="838440"/>
          </a:xfrm>
          <a:custGeom>
            <a:avLst/>
            <a:gdLst>
              <a:gd name="textAreaLeft" fmla="*/ 54360 w 890640"/>
              <a:gd name="textAreaRight" fmla="*/ 836280 w 89064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2944" h="21600">
                <a:moveTo>
                  <a:pt x="0" y="0"/>
                </a:moveTo>
                <a:lnTo>
                  <a:pt x="22944" y="0"/>
                </a:lnTo>
                <a:lnTo>
                  <a:pt x="22944" y="21600"/>
                </a:lnTo>
                <a:lnTo>
                  <a:pt x="0" y="21600"/>
                </a:lnTo>
                <a:close/>
              </a:path>
              <a:path fill="lightenLess" w="22944" h="21600">
                <a:moveTo>
                  <a:pt x="0" y="0"/>
                </a:moveTo>
                <a:lnTo>
                  <a:pt x="22944" y="0"/>
                </a:lnTo>
                <a:lnTo>
                  <a:pt x="21544" y="1400"/>
                </a:lnTo>
                <a:lnTo>
                  <a:pt x="1400" y="1400"/>
                </a:lnTo>
                <a:close/>
              </a:path>
              <a:path fill="darken" w="22944" h="21600">
                <a:moveTo>
                  <a:pt x="22944" y="0"/>
                </a:moveTo>
                <a:lnTo>
                  <a:pt x="22944" y="21600"/>
                </a:lnTo>
                <a:lnTo>
                  <a:pt x="21544" y="20200"/>
                </a:lnTo>
                <a:lnTo>
                  <a:pt x="21544" y="1400"/>
                </a:lnTo>
                <a:close/>
              </a:path>
              <a:path fill="darkenLess" w="22944" h="21600">
                <a:moveTo>
                  <a:pt x="229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44" y="20200"/>
                </a:lnTo>
                <a:close/>
              </a:path>
              <a:path fill="lighten" w="229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44" h="21600">
                <a:moveTo>
                  <a:pt x="4466" y="10800"/>
                </a:moveTo>
                <a:lnTo>
                  <a:pt x="18479" y="3794"/>
                </a:lnTo>
                <a:lnTo>
                  <a:pt x="18479" y="17806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600200" y="2208240"/>
          <a:ext cx="53352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208240"/>
                    <a:ext cx="5335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Sorry, you´re wrong !!!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1" name="">
            <a:hlinkClick r:id="" action="ppaction://hlinkshowjump?jump=previousslide"/>
          </p:cNvPr>
          <p:cNvSpPr/>
          <p:nvPr/>
        </p:nvSpPr>
        <p:spPr>
          <a:xfrm>
            <a:off x="7543800" y="5181480"/>
            <a:ext cx="890640" cy="838440"/>
          </a:xfrm>
          <a:custGeom>
            <a:avLst/>
            <a:gdLst>
              <a:gd name="textAreaLeft" fmla="*/ 54360 w 890640"/>
              <a:gd name="textAreaRight" fmla="*/ 836280 w 89064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2944" h="21600">
                <a:moveTo>
                  <a:pt x="0" y="0"/>
                </a:moveTo>
                <a:lnTo>
                  <a:pt x="22944" y="0"/>
                </a:lnTo>
                <a:lnTo>
                  <a:pt x="22944" y="21600"/>
                </a:lnTo>
                <a:lnTo>
                  <a:pt x="0" y="21600"/>
                </a:lnTo>
                <a:close/>
              </a:path>
              <a:path fill="lightenLess" w="22944" h="21600">
                <a:moveTo>
                  <a:pt x="0" y="0"/>
                </a:moveTo>
                <a:lnTo>
                  <a:pt x="22944" y="0"/>
                </a:lnTo>
                <a:lnTo>
                  <a:pt x="21544" y="1400"/>
                </a:lnTo>
                <a:lnTo>
                  <a:pt x="1400" y="1400"/>
                </a:lnTo>
                <a:close/>
              </a:path>
              <a:path fill="darken" w="22944" h="21600">
                <a:moveTo>
                  <a:pt x="22944" y="0"/>
                </a:moveTo>
                <a:lnTo>
                  <a:pt x="22944" y="21600"/>
                </a:lnTo>
                <a:lnTo>
                  <a:pt x="21544" y="20200"/>
                </a:lnTo>
                <a:lnTo>
                  <a:pt x="21544" y="1400"/>
                </a:lnTo>
                <a:close/>
              </a:path>
              <a:path fill="darkenLess" w="22944" h="21600">
                <a:moveTo>
                  <a:pt x="229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44" y="20200"/>
                </a:lnTo>
                <a:close/>
              </a:path>
              <a:path fill="lighten" w="229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44" h="21600">
                <a:moveTo>
                  <a:pt x="4466" y="10800"/>
                </a:moveTo>
                <a:lnTo>
                  <a:pt x="18479" y="3794"/>
                </a:lnTo>
                <a:lnTo>
                  <a:pt x="18479" y="17806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600200" y="2208240"/>
          <a:ext cx="53352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208240"/>
                    <a:ext cx="5335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2000"/>
                </a:solidFill>
                <a:latin typeface="Times New Roman"/>
              </a:rPr>
              <a:t>Wales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Welsh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990720" y="2543040"/>
            <a:ext cx="3809880" cy="26863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676520" y="190512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2000"/>
                </a:solidFill>
                <a:latin typeface="Times New Roman"/>
              </a:rPr>
              <a:t>opposite of hill/mountain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valley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990720" y="245736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2000"/>
                </a:solidFill>
                <a:latin typeface="Times New Roman"/>
              </a:rPr>
              <a:t>to put two things together to make one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o unite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2000"/>
                </a:solidFill>
                <a:latin typeface="Times New Roman"/>
              </a:rPr>
              <a:t>opposite of more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less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2000"/>
                </a:solidFill>
                <a:latin typeface="Times New Roman"/>
              </a:rPr>
              <a:t>the son of a king or queen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prince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523880" y="1828800"/>
            <a:ext cx="2743200" cy="4114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2000"/>
                </a:solidFill>
                <a:latin typeface="Times New Roman"/>
              </a:rPr>
              <a:t>noun of to travel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ravel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1T14:46:09Z</dcterms:created>
  <dc:creator>Margit Glöckner-Wenk</dc:creator>
  <dc:description/>
  <dc:language>en-US</dc:language>
  <cp:lastModifiedBy>Peter Hausladen</cp:lastModifiedBy>
  <dcterms:modified xsi:type="dcterms:W3CDTF">2003-12-02T18:50:46Z</dcterms:modified>
  <cp:revision>6</cp:revision>
  <dc:subject/>
  <dc:title>Kein Folientitel</dc:title>
</cp:coreProperties>
</file>