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942-1846-44F9-A20A-A98B7A66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8FC-6D85-4399-B012-746EAEB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155-047D-46A8-BDAF-A84766AC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FC9-5C50-4C88-B603-C88065C1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F78D-7435-4EA9-8519-4869AE8C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AF3E-AD31-4B1B-9A07-DFAB620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0008-5D1F-420F-971F-1D953CF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02FC-29CB-4C0A-99CF-8B437BF8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3A19-AED0-4153-B85B-A27D6AAC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5F27-C8A8-4591-9396-12F517C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D1CD-9632-4590-AA66-61845BE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3E3-3466-4191-A171-3676334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53F-8A87-4054-AB8F-6473221A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12E-CF1F-4475-9E48-3A3F686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D4C3-BA60-469C-9EC4-A9D56AA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2786-9953-451E-AAF6-F495BA2D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8A41-43C3-455A-A330-32F7B0C9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AD6-2992-431B-991A-9CD74DB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24E-E247-452F-8BF5-1ADA07D7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128-F92E-4B18-9B76-BEF51D81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74F-B317-4902-B00B-14039572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842-28ED-452D-B51D-5F83871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FC2-FB4B-4DB8-8D6F-35BF36B2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953-A597-43B5-9DC1-4B77161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914C-4BB3-41F4-BCC2-EF55A9B1566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E3F1-4890-4E7D-A3FB-187E5985CD8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Übersetzerprogram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r &amp; Interp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320" y="2133720"/>
            <a:ext cx="2743200" cy="8380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96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gramm in einer Programmierspr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2133720"/>
            <a:ext cx="9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9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1828800"/>
            <a:ext cx="19810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819520"/>
            <a:ext cx="19810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9920" y="2666520"/>
            <a:ext cx="99036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057400"/>
            <a:ext cx="99036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133720"/>
            <a:ext cx="1981080" cy="83808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2209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aschinen-progra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419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1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 jedem Befehl in der Programmiersprache werden in der Regel mehrere Maschinenbefehle erzeu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Übersetzungsvorga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Funktionsweise des Compil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219320"/>
            <a:ext cx="2057400" cy="190476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219320"/>
            <a:ext cx="533520" cy="1904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219320"/>
            <a:ext cx="2666880" cy="19047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1219320"/>
            <a:ext cx="16002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2437200" y="1980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ll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kt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752480"/>
            <a:ext cx="45720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05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55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1600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1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057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2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3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7874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05720" y="1787040"/>
            <a:ext cx="0" cy="24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600" y="41911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553080" y="2209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520" y="38098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80880" y="270468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09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7050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führ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 gesamten Objekt-program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2fa25"/>
                </a:solidFill>
                <a:latin typeface="Arial"/>
              </a:rPr>
              <a:t>Vor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5720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nelle Programmausfüh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ellprogramm ist vor Veränderungen geschütz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5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ach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530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grammtest u. Fehlerbehebung sind aufwendiger, da    nach jeder Korrektur erneut compiliert werden mu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*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2096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Funktionsweise des Interpre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219320"/>
            <a:ext cx="2057400" cy="190476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219320"/>
            <a:ext cx="533520" cy="1904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1219320"/>
            <a:ext cx="2438280" cy="19047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219320"/>
            <a:ext cx="18288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281320" y="1979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ll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1676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05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55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1600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1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2057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2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3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15400" y="178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067680" y="1787040"/>
            <a:ext cx="0" cy="24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8600" y="4191120"/>
            <a:ext cx="884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915400" y="2209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0880" y="3809880"/>
            <a:ext cx="852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0880" y="270468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209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050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füh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2fa25"/>
                </a:solidFill>
                <a:latin typeface="Arial"/>
              </a:rPr>
              <a:t>Vor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57200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grammtest u. Fehlerbehebung sind einfach durchzufüh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öglichkeit der Variablenabfrage u. der Programmverfolgu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5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ach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53068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rneute Übersetzung bei jedem Programmab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elltext ist nicht vor Veränderungen geschütz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9080" y="22096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16146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0718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259092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2590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3480"/>
            <a:ext cx="792504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Wie müsste ein Programmiererprogramm aufgebaut sein, damit die Vorteile beider Verfahren für den Programmierer nutzbar werden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666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5909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der Entwicklungs-, Bearbeitungs- und Testphase ist es ratsam mit einem Interpreter zu arbeit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ür den Vertrieb und die Weitergabe wird das Programm in eine ausführbare Datei (*.exe-Datei) compil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4:41:30Z</dcterms:created>
  <dc:creator>Ritzky`s Notebook</dc:creator>
  <dc:description/>
  <dc:language>en-US</dc:language>
  <cp:lastModifiedBy>Matthias Ritter</cp:lastModifiedBy>
  <dcterms:modified xsi:type="dcterms:W3CDTF">2002-03-04T17:09:58Z</dcterms:modified>
  <cp:revision>17</cp:revision>
  <dc:subject/>
  <dc:title>Übersetzerprogramme</dc:title>
</cp:coreProperties>
</file>