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439-976B-4F3A-B2B7-0807C15A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41BF-F64F-4EEB-80EE-D15BD1E0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3E9-7806-494F-83C6-BEC9742C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992-8500-4F4C-8B9A-C83BEE92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0A4-60B0-478D-83E6-AD52A269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C07F-BB79-491C-8878-E0F0BB09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ADC3-566A-474D-A24B-09E9FE0B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F6F4-E721-42B2-B13D-CF2EB413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85B8-0734-4532-8F84-8AD2CCD1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AB56-BAAB-4EBF-96CE-9ACABDDC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AE47-CF6E-47B0-B642-ACB4F50E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0FE-1951-44DB-8F4B-818F6B1F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F392-EFDC-4108-994F-289DBBC8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AB81-5B1D-4013-A8D9-F6262DF6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7165-1CF6-425F-893C-5654BC06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B46B-6FB5-4E65-92BD-4BABB66A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8F44-B313-442E-BE14-1F8661C8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C2B2-2C68-441F-BA75-0BC7105C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D0B-2DBA-4873-8838-5F3B4F39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CBB-ED4B-4F03-837D-8883959D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5C9-FAFE-4409-AA64-864207F1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220-1192-4C6B-B406-41A19198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01AD-D246-4F21-9549-A53C95F1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881-3B6E-4712-86CD-B54D57BA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4377-FB47-4F92-896A-A6929ACF8152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9779-254F-43B8-B487-CB476B1DF46F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18288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Arial Black"/>
              </a:rPr>
              <a:t>Übersetzerprogramm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mpiler &amp; Interpr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6320" y="2133720"/>
            <a:ext cx="2743200" cy="83808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96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gramm in einer Programmierspra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2133720"/>
            <a:ext cx="9907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590920"/>
            <a:ext cx="99072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1828800"/>
            <a:ext cx="198108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2819520"/>
            <a:ext cx="1981080" cy="457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9920" y="2666520"/>
            <a:ext cx="990360" cy="3812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057400"/>
            <a:ext cx="99036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2133720"/>
            <a:ext cx="1981080" cy="83808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22096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aschinen-progra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4419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911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Zu jedem Befehl in der Programmiersprache werden in der Regel mehrere Maschinenbefehle erzeug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Arial Black"/>
              </a:rPr>
              <a:t>Übersetzungsvorgang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Funktionsweise des Compil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1219320"/>
            <a:ext cx="2057400" cy="190476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219320"/>
            <a:ext cx="533520" cy="1904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1219320"/>
            <a:ext cx="2666880" cy="19047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1219320"/>
            <a:ext cx="160020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2437200" y="1980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219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ellprogra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1219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bjektprogra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1680" y="1752480"/>
            <a:ext cx="457200" cy="762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600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2057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2558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1600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1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43400" y="2057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2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3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7874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705720" y="1787040"/>
            <a:ext cx="0" cy="24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8600" y="4191120"/>
            <a:ext cx="6477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553080" y="2209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0520" y="380988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600" y="22096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80880" y="2704680"/>
            <a:ext cx="0" cy="1104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209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7050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führ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 gesamten Objekt-program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2fa25"/>
                </a:solidFill>
                <a:latin typeface="Arial"/>
              </a:rPr>
              <a:t>Vor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457200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chnelle Programmausführ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ellprogramm ist vor Veränderungen geschütz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5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Nach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530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grammtest u. Fehlerbehebung sind aufwendiger, da    nach jeder Korrektur erneut compiliert werden mu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438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*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20968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227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Arial Black"/>
              </a:rPr>
              <a:t>Funktionsweise des Interpret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1219320"/>
            <a:ext cx="2057400" cy="1904760"/>
          </a:xfrm>
          <a:prstGeom prst="rect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219320"/>
            <a:ext cx="533520" cy="1904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14800" y="1219320"/>
            <a:ext cx="2438280" cy="19047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1219320"/>
            <a:ext cx="182880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2281320" y="1979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2193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uellprogram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16765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057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558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eisung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0512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17524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20968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743200"/>
            <a:ext cx="9144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43400" y="16002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1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2057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2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259092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Anw. 3, binär codi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15400" y="1787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9067680" y="1787040"/>
            <a:ext cx="0" cy="240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8600" y="4191120"/>
            <a:ext cx="884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915400" y="22093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0880" y="3809880"/>
            <a:ext cx="8529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8600" y="2209680"/>
            <a:ext cx="0" cy="19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80880" y="2704680"/>
            <a:ext cx="0" cy="1104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2096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7050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führ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2fa25"/>
                </a:solidFill>
                <a:latin typeface="Arial"/>
              </a:rPr>
              <a:t>Vor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4572000"/>
            <a:ext cx="7620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Programmtest u. Fehlerbehebung sind einfach durchzufüh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öglichkeit der Variablenabfrage u. der Programmverfolgu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5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Nachtei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553068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Erneute Übersetzung bei jedem Programmablau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elltext ist nicht vor Veränderungen geschütz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39080" y="220968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010280" y="161460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ung v. Anw. 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07180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ung v. Anw. 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2590920"/>
            <a:ext cx="2210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Ausführung v. Anw. 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1337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25909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3480"/>
            <a:ext cx="792504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 Black"/>
              </a:rPr>
              <a:t>Wie müsste ein Programmiererprogramm aufgebaut sein, damit die Vorteile beider Verfahren für den Programmierer nutzbar werden?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6668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259092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n der Entwicklungs-, Bearbeitungs- und Testphase ist es ratsam mit einem Interpreter zu arbeit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ür den Vertrieb und die Weitergabe wird das Programm in eine ausführbare Datei (*.exe-Datei) compili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ffffff"/>
                </a:solidFill>
                <a:latin typeface="Times New Roman"/>
              </a:rPr>
              <a:t>Matthias Ritter 12/200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4:41:30Z</dcterms:created>
  <dc:creator>Ritzky`s Notebook</dc:creator>
  <dc:description/>
  <dc:language>en-US</dc:language>
  <cp:lastModifiedBy>Matthias Ritter</cp:lastModifiedBy>
  <dcterms:modified xsi:type="dcterms:W3CDTF">2002-03-04T17:09:58Z</dcterms:modified>
  <cp:revision>17</cp:revision>
  <dc:subject/>
  <dc:title>Übersetzerprogramme</dc:title>
</cp:coreProperties>
</file>