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1441-D128-438A-AB75-0B254D1DA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07C7-3617-49A8-9F85-CEFE40BC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D03B-1F39-42DF-8D65-798DB79B7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3B4A-6633-4F8C-9BAA-565A1AB1C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DD2B-7B5D-4EBB-A378-56A62FD20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B76D-DB36-4212-86C3-45C9CF02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A655-22A5-4257-A5C3-FBAD0C65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5451-1F21-428F-B3DC-B991B856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2D28-7F3D-4698-AF7E-615F8B19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13032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DFF7-D17C-4E56-9D64-C9E4DB50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3DC70-01F0-4445-AF45-A09B8054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8E41-E0F4-4C01-8C50-4275B77D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2A2C-0324-4F9C-BB3D-F348A5FF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E463-CB61-48FF-9B2E-DA02F639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A24F-AC28-424E-A09F-3E9D71A2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0AE2-48BF-4957-B9C2-0028C76E1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C034-51CF-4500-B3EA-2E424A2DE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0C51-C226-4D9C-A356-065EACBA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B290-65BB-49A0-B9CE-A4B9933D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9672-2248-4E42-BA6C-1CBF2558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13032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ABA5-066B-4F64-9836-412387A3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E936-FD8A-4B5F-9988-E2B71B12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821F-560F-4635-84B8-1BE13CC2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959F-C5D8-443B-8F15-0574032E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911A-C061-4BF2-BEA9-006A07ABBDBB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CB08-F3D3-4506-8F3D-E3148D97CE53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5120" y="182880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Übersetzerprogramm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Compiler &amp; Interpr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6320" y="2133720"/>
            <a:ext cx="2743200" cy="838080"/>
          </a:xfrm>
          <a:prstGeom prst="rect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2096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Programm in einer Programmiersprac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895480" y="2133720"/>
            <a:ext cx="990720" cy="380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2590920"/>
            <a:ext cx="990720" cy="380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1828800"/>
            <a:ext cx="1981080" cy="4572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2819520"/>
            <a:ext cx="1981080" cy="4572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9112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ompi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3848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Interpre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019920" y="2666520"/>
            <a:ext cx="990360" cy="3812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19920" y="2057400"/>
            <a:ext cx="990360" cy="380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86600" y="2133720"/>
            <a:ext cx="1981080" cy="838080"/>
          </a:xfrm>
          <a:prstGeom prst="rect">
            <a:avLst/>
          </a:prstGeom>
          <a:solidFill>
            <a:srgbClr val="2663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162920" y="220968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aschinen-program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2280" y="4419720"/>
            <a:ext cx="914400" cy="30456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41911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Zu jedem Befehl in der Programmiersprache werden in der Regel mehrere Maschinenbefehle erzeug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364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Arial Black"/>
              </a:rPr>
              <a:t>Übersetzungsvorgang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78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 Black"/>
              </a:rPr>
              <a:t>Funktionsweise des Compile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1219320"/>
            <a:ext cx="2057400" cy="1904760"/>
          </a:xfrm>
          <a:prstGeom prst="rect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95480" y="1219320"/>
            <a:ext cx="533520" cy="19047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14800" y="1219320"/>
            <a:ext cx="2666880" cy="1904760"/>
          </a:xfrm>
          <a:prstGeom prst="rect">
            <a:avLst/>
          </a:prstGeom>
          <a:solidFill>
            <a:srgbClr val="2663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238880" y="1219320"/>
            <a:ext cx="1600200" cy="19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2437200" y="1980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ompi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12193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Quellprogram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95680" y="12193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bjektprogram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81680" y="1752480"/>
            <a:ext cx="457200" cy="7621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6002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Anweisung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20574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Anweisung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25588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Anweisung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05120" y="1752480"/>
            <a:ext cx="9144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05120" y="2209680"/>
            <a:ext cx="9144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05120" y="2743200"/>
            <a:ext cx="9144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29000" y="1752480"/>
            <a:ext cx="9144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29000" y="2209680"/>
            <a:ext cx="9144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2743200"/>
            <a:ext cx="9144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43400" y="16002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Anw. 1, binär codie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43400" y="20574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Anw. 2, binär codie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259092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Anw. 3, binär codie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178740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6705720" y="1787040"/>
            <a:ext cx="0" cy="2403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228600" y="4191120"/>
            <a:ext cx="6477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553080" y="22093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80520" y="3809880"/>
            <a:ext cx="6172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28600" y="2209680"/>
            <a:ext cx="0" cy="198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80880" y="2704680"/>
            <a:ext cx="0" cy="1104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22096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270504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162920" y="12952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sführung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s gesamten Objekt-program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4572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2fa25"/>
                </a:solidFill>
                <a:latin typeface="Arial"/>
              </a:rPr>
              <a:t>Vortei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4572000"/>
            <a:ext cx="6477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schnelle Programmausführ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Quellprogramm ist vor Veränderungen geschütz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5500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Nachtei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55306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Programmtest u. Fehlerbehebung sind aufwendiger, da    nach jeder Korrektur erneut compiliert werden mu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54380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*.ex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77120" y="220968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2278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 Black"/>
              </a:rPr>
              <a:t>Funktionsweise des Interprete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152280" y="1219320"/>
            <a:ext cx="2057400" cy="1904760"/>
          </a:xfrm>
          <a:prstGeom prst="rect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95480" y="1219320"/>
            <a:ext cx="533520" cy="19047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114800" y="1219320"/>
            <a:ext cx="2438280" cy="1904760"/>
          </a:xfrm>
          <a:prstGeom prst="rect">
            <a:avLst/>
          </a:prstGeom>
          <a:solidFill>
            <a:srgbClr val="2663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010280" y="1219320"/>
            <a:ext cx="1828800" cy="19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2281320" y="19796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Interpre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12193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Quellprogram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16765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Anweisung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20574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Anweisung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5588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Anweisung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1752480"/>
            <a:ext cx="9144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05120" y="2209680"/>
            <a:ext cx="9144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05120" y="2743200"/>
            <a:ext cx="9144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29000" y="1752480"/>
            <a:ext cx="9144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2209680"/>
            <a:ext cx="9144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29000" y="2743200"/>
            <a:ext cx="9144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343400" y="16002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Anw. 1, binär codie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343400" y="20574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Anw. 2, binär codie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259092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Anw. 3, binär codie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915400" y="1787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9067680" y="1787040"/>
            <a:ext cx="0" cy="2403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228600" y="4191120"/>
            <a:ext cx="8842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8915400" y="22093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380880" y="3809880"/>
            <a:ext cx="852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28600" y="2209680"/>
            <a:ext cx="0" cy="198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80880" y="2704680"/>
            <a:ext cx="0" cy="1104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22096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270504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086600" y="1219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sführ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4572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2fa25"/>
                </a:solidFill>
                <a:latin typeface="Arial"/>
              </a:rPr>
              <a:t>Vortei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95280" y="4572000"/>
            <a:ext cx="7620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Programmtest u. Fehlerbehebung sind einfach durchzufüh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öglichkeit der Variablenabfrage u. der Programmverfolgu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5500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Nachtei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95280" y="5530680"/>
            <a:ext cx="6477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Erneute Übersetzung bei jedem Programmablau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Quelltext ist nicht vor Veränderungen geschütz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839080" y="220968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010280" y="1614600"/>
            <a:ext cx="2210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Ausführung v. Anw. 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010280" y="2071800"/>
            <a:ext cx="2210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Ausführung v. Anw. 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010280" y="2590920"/>
            <a:ext cx="2210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Ausführung v. Anw. 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53080" y="21337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553080" y="25909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3480"/>
            <a:ext cx="7925040" cy="10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Arial Black"/>
              </a:rPr>
              <a:t>Wie müsste ein Programmiererprogramm aufgebaut sein, damit die Vorteile beider Verfahren für den Programmierer nutzbar werden?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266688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19320" y="2590920"/>
            <a:ext cx="73152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n der Entwicklungs-, Bearbeitungs- und Testphase ist es ratsam mit einem Interpreter zu arbeit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Für den Vertrieb und die Weitergabe wird das Programm in eine ausführbare Datei (*.exe-Datei) compilie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5T14:41:30Z</dcterms:created>
  <dc:creator>Ritzky`s Notebook</dc:creator>
  <dc:description/>
  <dc:language>en-US</dc:language>
  <cp:lastModifiedBy>Matthias Ritter</cp:lastModifiedBy>
  <dcterms:modified xsi:type="dcterms:W3CDTF">2002-03-04T17:09:58Z</dcterms:modified>
  <cp:revision>17</cp:revision>
  <dc:subject/>
  <dc:title>Übersetzerprogramme</dc:title>
</cp:coreProperties>
</file>