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2246-D61F-4A11-8EAF-7ED62D892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8829-D2AF-4DCE-96BC-38375C56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DA9A-7090-4EF1-AA24-FC83C0696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52D1-5181-4AEB-B0F7-9E86FDCF1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4A01-3B01-4050-AFDD-F5CC5157E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DF51-CADA-4F4E-B324-E715C2BD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97F7-B704-4FC7-A6E5-2830712D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4966-E313-426A-A17B-58D5062E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8C98-47D8-49D0-AE2D-F3ABAD17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5A71-0813-4DC1-BC3B-85D9D810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6D3C-6AD0-4CDC-A71A-4AD22A53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DAD6-CDA7-478E-AB28-74F699C7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DAA3-A68E-4F3D-A418-EAF35FE7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212E-11A2-4F48-B85A-661892E2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2819-91E2-4C5E-8049-D2D493FB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4349-3FCE-4341-AB9A-4E0BAB77C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7DC34-120A-42E0-85CA-AC2F8D9B1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9B96-5D9D-4550-B700-9F717B52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84EE-34D2-4574-AF92-FE794880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C959-26BC-4A25-A613-1FB5F319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5C41-F107-4E15-AAF9-140DB2AB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0885-0046-4708-A881-6DCB3C65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BAE0-8C43-428A-A1EE-2F3D92C5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CD01-83CF-4211-AEF3-CCC8D72C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12BB-A2DA-454A-B7B3-4AD0CA3ADAF6}" type="slidenum">
              <a:rPr b="0" lang="de-DE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2C16-44CB-404E-97D3-C3D0E9DDABBE}" type="slidenum">
              <a:rPr b="0" lang="de-DE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ffcc66"/>
                </a:solidFill>
                <a:latin typeface="Times New Roman"/>
              </a:rPr>
              <a:t>Wirtschaftliches Handel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cc"/>
                </a:solidFill>
                <a:latin typeface="Times New Roman"/>
              </a:rPr>
              <a:t>privater Haushal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BD04896_" descr=""/>
          <p:cNvPicPr/>
          <p:nvPr/>
        </p:nvPicPr>
        <p:blipFill>
          <a:blip r:embed="rId1"/>
          <a:stretch/>
        </p:blipFill>
        <p:spPr>
          <a:xfrm>
            <a:off x="2306520" y="1992240"/>
            <a:ext cx="4529160" cy="2871720"/>
          </a:xfrm>
          <a:prstGeom prst="rect">
            <a:avLst/>
          </a:prstGeom>
          <a:ln w="0">
            <a:noFill/>
          </a:ln>
        </p:spPr>
      </p:pic>
      <p:pic>
        <p:nvPicPr>
          <p:cNvPr id="95" name="BD04896_" descr=""/>
          <p:cNvPicPr/>
          <p:nvPr/>
        </p:nvPicPr>
        <p:blipFill>
          <a:blip r:embed="rId2"/>
          <a:stretch/>
        </p:blipFill>
        <p:spPr>
          <a:xfrm>
            <a:off x="3048120" y="2895480"/>
            <a:ext cx="4529160" cy="2872080"/>
          </a:xfrm>
          <a:prstGeom prst="rect">
            <a:avLst/>
          </a:prstGeom>
          <a:ln w="0">
            <a:noFill/>
          </a:ln>
        </p:spPr>
      </p:pic>
      <p:pic>
        <p:nvPicPr>
          <p:cNvPr id="96" name="BD04896_" descr=""/>
          <p:cNvPicPr/>
          <p:nvPr/>
        </p:nvPicPr>
        <p:blipFill>
          <a:blip r:embed="rId3"/>
          <a:stretch/>
        </p:blipFill>
        <p:spPr>
          <a:xfrm>
            <a:off x="838080" y="3200400"/>
            <a:ext cx="452916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523880" y="1219320"/>
          <a:ext cx="6096240" cy="37368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 u="sng">
                          <a:solidFill>
                            <a:srgbClr val="ffffcc"/>
                          </a:solidFill>
                          <a:uFillTx/>
                          <a:latin typeface="Times New Roman"/>
                        </a:rPr>
                        <a:t>Einnahme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Lohn/Gehalt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.257,00 DM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Kindergel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de-DE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40,00 DM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Zinse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de-DE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00,00 DM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----------------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Summ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.197,00 DM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BD0486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3843360" cy="3414960"/>
          </a:xfrm>
          <a:prstGeom prst="rect">
            <a:avLst/>
          </a:prstGeom>
          <a:ln w="0">
            <a:noFill/>
          </a:ln>
        </p:spPr>
      </p:pic>
      <p:pic>
        <p:nvPicPr>
          <p:cNvPr id="99" name="AN02122_" descr=""/>
          <p:cNvPicPr/>
          <p:nvPr/>
        </p:nvPicPr>
        <p:blipFill>
          <a:blip r:embed="rId2"/>
          <a:stretch/>
        </p:blipFill>
        <p:spPr>
          <a:xfrm>
            <a:off x="4952880" y="2971800"/>
            <a:ext cx="3463920" cy="3468600"/>
          </a:xfrm>
          <a:prstGeom prst="rect">
            <a:avLst/>
          </a:prstGeom>
          <a:ln w="0">
            <a:noFill/>
          </a:ln>
        </p:spPr>
      </p:pic>
      <p:pic>
        <p:nvPicPr>
          <p:cNvPr id="100" name="IN01085_" descr=""/>
          <p:cNvPicPr/>
          <p:nvPr/>
        </p:nvPicPr>
        <p:blipFill>
          <a:blip r:embed="rId3"/>
          <a:stretch/>
        </p:blipFill>
        <p:spPr>
          <a:xfrm>
            <a:off x="1676520" y="3809880"/>
            <a:ext cx="2270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457200" y="533520"/>
          <a:ext cx="5562720" cy="6005520"/>
        </p:xfrm>
        <a:graphic>
          <a:graphicData uri="http://schemas.openxmlformats.org/drawingml/2006/table">
            <a:tbl>
              <a:tblPr/>
              <a:tblGrid>
                <a:gridCol w="3352680"/>
                <a:gridCol w="2210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 u="sng">
                          <a:solidFill>
                            <a:srgbClr val="ffffcc"/>
                          </a:solidFill>
                          <a:uFillTx/>
                          <a:latin typeface="Times New Roman"/>
                        </a:rPr>
                        <a:t>Ausgabe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Wohnen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.070,00 DM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ahrungsmittel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876,00 DM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erkehr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669,00 DM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ersicherungen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51,00 DM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ildung, Freizeit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41,00 DM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Hausrat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25,00 DM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Kleidung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09,00 DM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Reisen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55,00 DM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Gesundheit, Kosm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42,00 DM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----------------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Summe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.538,00 DM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BD06128_" descr=""/>
          <p:cNvPicPr/>
          <p:nvPr/>
        </p:nvPicPr>
        <p:blipFill>
          <a:blip r:embed="rId1"/>
          <a:stretch/>
        </p:blipFill>
        <p:spPr>
          <a:xfrm>
            <a:off x="809640" y="533520"/>
            <a:ext cx="3122640" cy="3504960"/>
          </a:xfrm>
          <a:prstGeom prst="rect">
            <a:avLst/>
          </a:prstGeom>
          <a:ln w="0">
            <a:noFill/>
          </a:ln>
        </p:spPr>
      </p:pic>
      <p:pic>
        <p:nvPicPr>
          <p:cNvPr id="103" name="BD04905_" descr=""/>
          <p:cNvPicPr/>
          <p:nvPr/>
        </p:nvPicPr>
        <p:blipFill>
          <a:blip r:embed="rId2"/>
          <a:stretch/>
        </p:blipFill>
        <p:spPr>
          <a:xfrm>
            <a:off x="3886200" y="3276720"/>
            <a:ext cx="4524480" cy="28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cc"/>
                </a:solidFill>
                <a:latin typeface="Times New Roman"/>
              </a:rPr>
              <a:t>Einnahmen</a:t>
            </a:r>
            <a:r>
              <a:rPr b="0" lang="de-DE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ffffcc"/>
                </a:solidFill>
                <a:latin typeface="Times New Roman"/>
              </a:rPr>
              <a:t>5.197,00 D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cc"/>
                </a:solidFill>
                <a:latin typeface="Times New Roman"/>
              </a:rPr>
              <a:t>-Ausgaben</a:t>
            </a:r>
            <a:r>
              <a:rPr b="0" lang="de-DE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ffffcc"/>
                </a:solidFill>
                <a:latin typeface="Times New Roman"/>
              </a:rPr>
              <a:t>4.538,00 D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cc"/>
                </a:solidFill>
                <a:latin typeface="Times New Roman"/>
              </a:rPr>
              <a:t>----------------------------------------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cc"/>
                </a:solidFill>
                <a:latin typeface="Times New Roman"/>
              </a:rPr>
              <a:t>Überschuss (Sparen)   659,00 D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ffcc66"/>
                </a:solidFill>
                <a:latin typeface="Times New Roman"/>
              </a:rPr>
              <a:t>Einnahmen-/Ausgabenrechnu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09480" y="3657600"/>
          <a:ext cx="8153640" cy="1563840"/>
        </p:xfrm>
        <a:graphic>
          <a:graphicData uri="http://schemas.openxmlformats.org/drawingml/2006/table">
            <a:tbl>
              <a:tblPr/>
              <a:tblGrid>
                <a:gridCol w="4077000"/>
                <a:gridCol w="4076640"/>
              </a:tblGrid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Einnahmen   5.197,00 DM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usgaben    4.538,00 DM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Sparen            659,00 DM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ffcc66"/>
                </a:solidFill>
                <a:latin typeface="Times New Roman"/>
              </a:rPr>
              <a:t>Einnahmen-/Ausgabenrechnu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9480" y="3657600"/>
          <a:ext cx="8153640" cy="1563840"/>
        </p:xfrm>
        <a:graphic>
          <a:graphicData uri="http://schemas.openxmlformats.org/drawingml/2006/table">
            <a:tbl>
              <a:tblPr/>
              <a:tblGrid>
                <a:gridCol w="4077000"/>
                <a:gridCol w="4076640"/>
              </a:tblGrid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Einnahmen   5.197,00 DM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usgaben    4.538,00 DM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c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Sparen            659,00 DM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0T17:10:41Z</dcterms:created>
  <dc:creator>Hans Peter Karl</dc:creator>
  <dc:description/>
  <dc:language>en-US</dc:language>
  <cp:lastModifiedBy>Hans Peter Karl</cp:lastModifiedBy>
  <dcterms:modified xsi:type="dcterms:W3CDTF">2000-10-11T09:47:28Z</dcterms:modified>
  <cp:revision>9</cp:revision>
  <dc:subject/>
  <dc:title>Wirtschaftliches Handeln</dc:title>
</cp:coreProperties>
</file>