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284-91E4-43F7-8314-D6CFFBE4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F18-464C-49EC-9B42-A65BD561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46A-0E30-489A-8F05-38DCDD12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888-5FDC-4F32-87FE-BC1F82BB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6750-56D4-4647-9AA7-545ABD0A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C06D-2E8D-462B-85BC-28709CFD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0F16-1391-43F7-8E91-F83A11F6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67C4-5B60-4B17-8AA0-993642F7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2148-0554-4EAB-AB9D-A41C1AD6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7BDC-ED26-4DB8-B330-55C70D6E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6783-F699-405E-AE47-1557D003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22B-55A8-4584-AE59-9574D191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3CB2-A23C-4D2A-B5A4-0C6F1A4A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E252-86A4-4C35-A450-6B5DBBAF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2DD5-93B6-4863-9123-FA52A53D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A2D4-78CE-41BC-8320-52B412BC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27AD-AC10-48E2-867E-EE8119F6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F51-D70D-4446-A583-525B5BFB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A817-BCB5-40E8-B6FA-2CE7ACF2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E8D-ADD1-4AC5-A459-1F811B4D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365-ABDA-4F6C-B335-EBBC46A3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6D8-A752-44B5-A3D7-F580C2FB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465-64B5-4023-95DA-98E7E4DA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057-4CAB-4FCD-9C51-642B833D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31AF-E6E9-42E7-94B8-E6BCC3C07DC3}" type="slidenum">
              <a:rPr b="0" lang="de-DE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02FB-D5D1-4E18-AB5D-B78C34DF120A}" type="slidenum">
              <a:rPr b="0" lang="de-DE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fcc66"/>
                </a:solidFill>
                <a:latin typeface="Times New Roman"/>
              </a:rPr>
              <a:t>Wirtschaftliches Handel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privater Haushal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BD04896_" descr=""/>
          <p:cNvPicPr/>
          <p:nvPr/>
        </p:nvPicPr>
        <p:blipFill>
          <a:blip r:embed="rId1"/>
          <a:stretch/>
        </p:blipFill>
        <p:spPr>
          <a:xfrm>
            <a:off x="2306520" y="1992240"/>
            <a:ext cx="4529160" cy="2871720"/>
          </a:xfrm>
          <a:prstGeom prst="rect">
            <a:avLst/>
          </a:prstGeom>
          <a:ln w="0">
            <a:noFill/>
          </a:ln>
        </p:spPr>
      </p:pic>
      <p:pic>
        <p:nvPicPr>
          <p:cNvPr id="95" name="BD04896_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4529160" cy="2872080"/>
          </a:xfrm>
          <a:prstGeom prst="rect">
            <a:avLst/>
          </a:prstGeom>
          <a:ln w="0">
            <a:noFill/>
          </a:ln>
        </p:spPr>
      </p:pic>
      <p:pic>
        <p:nvPicPr>
          <p:cNvPr id="96" name="BD04896_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452916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523880" y="1219320"/>
          <a:ext cx="6096240" cy="37368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Einnahm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ohn/Gehal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.257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Kindergel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40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Zins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00,00 DM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--------------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umm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.197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BD0486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843360" cy="3414960"/>
          </a:xfrm>
          <a:prstGeom prst="rect">
            <a:avLst/>
          </a:prstGeom>
          <a:ln w="0">
            <a:noFill/>
          </a:ln>
        </p:spPr>
      </p:pic>
      <p:pic>
        <p:nvPicPr>
          <p:cNvPr id="99" name="AN02122_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3463920" cy="3468600"/>
          </a:xfrm>
          <a:prstGeom prst="rect">
            <a:avLst/>
          </a:prstGeom>
          <a:ln w="0">
            <a:noFill/>
          </a:ln>
        </p:spPr>
      </p:pic>
      <p:pic>
        <p:nvPicPr>
          <p:cNvPr id="100" name="IN01085_" descr=""/>
          <p:cNvPicPr/>
          <p:nvPr/>
        </p:nvPicPr>
        <p:blipFill>
          <a:blip r:embed="rId3"/>
          <a:stretch/>
        </p:blipFill>
        <p:spPr>
          <a:xfrm>
            <a:off x="1676520" y="3809880"/>
            <a:ext cx="2270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533520"/>
          <a:ext cx="5562720" cy="6005520"/>
        </p:xfrm>
        <a:graphic>
          <a:graphicData uri="http://schemas.openxmlformats.org/drawingml/2006/table">
            <a:tbl>
              <a:tblPr/>
              <a:tblGrid>
                <a:gridCol w="3352680"/>
                <a:gridCol w="2210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Ausgab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Wohne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.070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ahrungsmittel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76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erkehr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69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ersicherunge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51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ildung, Freizei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41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ausra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5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Kleidung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09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Reise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5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Gesundheit, Kos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42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--------------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umm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.538,00 DM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D06128_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3122640" cy="3504960"/>
          </a:xfrm>
          <a:prstGeom prst="rect">
            <a:avLst/>
          </a:prstGeom>
          <a:ln w="0">
            <a:noFill/>
          </a:ln>
        </p:spPr>
      </p:pic>
      <p:pic>
        <p:nvPicPr>
          <p:cNvPr id="103" name="BD04905_" descr=""/>
          <p:cNvPicPr/>
          <p:nvPr/>
        </p:nvPicPr>
        <p:blipFill>
          <a:blip r:embed="rId2"/>
          <a:stretch/>
        </p:blipFill>
        <p:spPr>
          <a:xfrm>
            <a:off x="3886200" y="3276720"/>
            <a:ext cx="452448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Einnahmen</a:t>
            </a: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5.197,00 D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-Ausgaben</a:t>
            </a: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4.538,00 D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----------------------------------------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imes New Roman"/>
              </a:rPr>
              <a:t>Überschuss (Sparen)   659,00 D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fcc66"/>
                </a:solidFill>
                <a:latin typeface="Times New Roman"/>
              </a:rPr>
              <a:t>Einnahmen-/Ausgabenrechnu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3657600"/>
          <a:ext cx="8153640" cy="156384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innahmen   5.197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usgaben    4.538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paren            659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ffcc66"/>
                </a:solidFill>
                <a:latin typeface="Times New Roman"/>
              </a:rPr>
              <a:t>Einnahmen-/Ausgabenrechnu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3657600"/>
          <a:ext cx="8153640" cy="156384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innahmen   5.197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usgaben    4.538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 w="5760">
                      <a:solidFill>
                        <a:srgbClr val="ffff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paren            659,00 D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17:10:41Z</dcterms:created>
  <dc:creator>Hans Peter Karl</dc:creator>
  <dc:description/>
  <dc:language>en-US</dc:language>
  <cp:lastModifiedBy>Hans Peter Karl</cp:lastModifiedBy>
  <dcterms:modified xsi:type="dcterms:W3CDTF">2000-10-11T09:47:28Z</dcterms:modified>
  <cp:revision>9</cp:revision>
  <dc:subject/>
  <dc:title>Wirtschaftliches Handeln</dc:title>
</cp:coreProperties>
</file>