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C7B-0A3A-4705-9FAD-79351B0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165-D894-4DED-B57D-B8056DBB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064-07C3-4CDF-ABDD-94F9DDF5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B88-75BA-4EE0-8704-7B72CF38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AEB-1430-4BA4-96D0-3BF37919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B25-C7A5-4646-9A08-76EE4ED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620-A8BD-4C76-B718-0ED5565B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267D-6491-4251-B9F6-FDDF7E38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9F6-4935-4A5A-A49C-3D4F063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18BC-6BEB-4FD5-80B4-43E4A7DD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404C-8830-404F-9594-69AA8005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564-74F4-4D48-B160-0B220CC1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F9FE-DE84-4C0E-8C35-2F57E5D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4BA6-8D7E-4726-A154-0331AE4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FA9-72AD-41A5-B14C-D37D6E5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266D-8AE6-4A39-AA35-CD63C0BC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3644-6669-42BB-9409-A36EEE3C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334-6F23-4E12-A08D-CCFBE8C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903-FB53-486C-9ADD-C33F2F75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225-2B65-464C-8FFC-8B319F6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A83-7D49-4D67-BCE8-73309E9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E2D-FC71-4868-907B-1A37EB3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B6A-660C-4CD7-A3F7-6EE5FA4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4F1-D554-494A-A8E6-0DA18E4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58E-D8E9-476F-BE89-4349E1A2BD31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40D-FB7B-4C1B-AF4B-76BDB13B1B34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Wirtschaftliches Handel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privater Haushal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4896_" descr=""/>
          <p:cNvPicPr/>
          <p:nvPr/>
        </p:nvPicPr>
        <p:blipFill>
          <a:blip r:embed="rId1"/>
          <a:stretch/>
        </p:blipFill>
        <p:spPr>
          <a:xfrm>
            <a:off x="2306520" y="1992240"/>
            <a:ext cx="4529160" cy="2871720"/>
          </a:xfrm>
          <a:prstGeom prst="rect">
            <a:avLst/>
          </a:prstGeom>
          <a:ln w="0">
            <a:noFill/>
          </a:ln>
        </p:spPr>
      </p:pic>
      <p:pic>
        <p:nvPicPr>
          <p:cNvPr id="95" name="BD04896_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4529160" cy="2872080"/>
          </a:xfrm>
          <a:prstGeom prst="rect">
            <a:avLst/>
          </a:prstGeom>
          <a:ln w="0">
            <a:noFill/>
          </a:ln>
        </p:spPr>
      </p:pic>
      <p:pic>
        <p:nvPicPr>
          <p:cNvPr id="96" name="BD04896_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45291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23880" y="1219320"/>
          <a:ext cx="6096240" cy="3736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innah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ohn/Gehal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25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indergel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40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Zins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0,00 DM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D0486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43360" cy="3414960"/>
          </a:xfrm>
          <a:prstGeom prst="rect">
            <a:avLst/>
          </a:prstGeom>
          <a:ln w="0">
            <a:noFill/>
          </a:ln>
        </p:spPr>
      </p:pic>
      <p:pic>
        <p:nvPicPr>
          <p:cNvPr id="99" name="AN02122_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463920" cy="3468600"/>
          </a:xfrm>
          <a:prstGeom prst="rect">
            <a:avLst/>
          </a:prstGeom>
          <a:ln w="0">
            <a:noFill/>
          </a:ln>
        </p:spPr>
      </p:pic>
      <p:pic>
        <p:nvPicPr>
          <p:cNvPr id="100" name="IN01085_" descr=""/>
          <p:cNvPicPr/>
          <p:nvPr/>
        </p:nvPicPr>
        <p:blipFill>
          <a:blip r:embed="rId3"/>
          <a:stretch/>
        </p:blipFill>
        <p:spPr>
          <a:xfrm>
            <a:off x="1676520" y="380988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533520"/>
          <a:ext cx="5562720" cy="6005520"/>
        </p:xfrm>
        <a:graphic>
          <a:graphicData uri="http://schemas.openxmlformats.org/drawingml/2006/table">
            <a:tbl>
              <a:tblPr/>
              <a:tblGrid>
                <a:gridCol w="3352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Ausgab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hn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070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hrungsmitte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76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kehr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sicherung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ldung, Freizei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4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usra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leidung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is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esundheit, Kos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2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538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6128_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3122640" cy="3504960"/>
          </a:xfrm>
          <a:prstGeom prst="rect">
            <a:avLst/>
          </a:prstGeom>
          <a:ln w="0">
            <a:noFill/>
          </a:ln>
        </p:spPr>
      </p:pic>
      <p:pic>
        <p:nvPicPr>
          <p:cNvPr id="103" name="BD04905_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524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Einnahm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5.197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Ausgab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4.538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---------------------------------------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Überschuss (Sparen)   659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7:10:41Z</dcterms:created>
  <dc:creator>Hans Peter Karl</dc:creator>
  <dc:description/>
  <dc:language>en-US</dc:language>
  <cp:lastModifiedBy>Hans Peter Karl</cp:lastModifiedBy>
  <dcterms:modified xsi:type="dcterms:W3CDTF">2000-10-11T09:47:28Z</dcterms:modified>
  <cp:revision>9</cp:revision>
  <dc:subject/>
  <dc:title>Wirtschaftliches Handeln</dc:title>
</cp:coreProperties>
</file>